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03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0345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034560"/>
              <a:gd name="textAreaBottom" fmla="*/ 9034200 h 9034560"/>
            </a:gdLst>
            <a:ahLst/>
            <a:rect l="textAreaLeft" t="textAreaTop" r="textAreaRight" b="textAreaBottom"/>
            <a:pathLst>
              <a:path w="21600" h="28455">
                <a:moveTo>
                  <a:pt x="4" y="0"/>
                </a:moveTo>
                <a:arcTo wR="4" hR="4" stAng="16200000" swAng="-5400000"/>
                <a:lnTo>
                  <a:pt x="0" y="28451"/>
                </a:lnTo>
                <a:arcTo wR="4" hR="4" stAng="10800000" swAng="-5400000"/>
                <a:lnTo>
                  <a:pt x="21596" y="2845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0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4480"/>
                <a:tab algn="l" pos="6013440"/>
                <a:tab algn="l" pos="6872400"/>
                <a:tab algn="l" pos="7731000"/>
                <a:tab algn="l" pos="8589960"/>
                <a:tab algn="l" pos="9448920"/>
                <a:tab algn="l" pos="9464760"/>
                <a:tab algn="l" pos="9894960"/>
                <a:tab algn="l" pos="10325160"/>
                <a:tab algn="l" pos="10755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0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4480"/>
                <a:tab algn="l" pos="6013440"/>
                <a:tab algn="l" pos="6872400"/>
                <a:tab algn="l" pos="7731000"/>
                <a:tab algn="l" pos="8589960"/>
                <a:tab algn="l" pos="9448920"/>
                <a:tab algn="l" pos="9464760"/>
                <a:tab algn="l" pos="9894960"/>
                <a:tab algn="l" pos="10325160"/>
                <a:tab algn="l" pos="10755360"/>
              </a:tabLst>
              <a:defRPr b="0" lang="en-GB" sz="11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4480"/>
                <a:tab algn="l" pos="6013440"/>
                <a:tab algn="l" pos="6872400"/>
                <a:tab algn="l" pos="7731000"/>
                <a:tab algn="l" pos="8589960"/>
                <a:tab algn="l" pos="9448920"/>
                <a:tab algn="l" pos="9464760"/>
                <a:tab algn="l" pos="9894960"/>
                <a:tab algn="l" pos="10325160"/>
                <a:tab algn="l" pos="10755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Img"/>
          </p:nvPr>
        </p:nvSpPr>
        <p:spPr>
          <a:xfrm>
            <a:off x="1171440" y="676080"/>
            <a:ext cx="4515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4600" rIns="84600" tIns="43920" bIns="4392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685800" y="4290840"/>
            <a:ext cx="5484960" cy="4065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4"/>
          </p:nvPr>
        </p:nvSpPr>
        <p:spPr>
          <a:xfrm>
            <a:off x="-360" y="8578440"/>
            <a:ext cx="2970360" cy="4525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4480"/>
                <a:tab algn="l" pos="6013440"/>
                <a:tab algn="l" pos="6872400"/>
                <a:tab algn="l" pos="7731000"/>
                <a:tab algn="l" pos="8589960"/>
                <a:tab algn="l" pos="9448920"/>
                <a:tab algn="l" pos="9464760"/>
                <a:tab algn="l" pos="9894960"/>
                <a:tab algn="l" pos="10325160"/>
                <a:tab algn="l" pos="10755360"/>
              </a:tabLst>
              <a:defRPr b="0" lang="en-GB" sz="11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4480"/>
                <a:tab algn="l" pos="6013440"/>
                <a:tab algn="l" pos="6872400"/>
                <a:tab algn="l" pos="7731000"/>
                <a:tab algn="l" pos="8589960"/>
                <a:tab algn="l" pos="9448920"/>
                <a:tab algn="l" pos="9464760"/>
                <a:tab algn="l" pos="9894960"/>
                <a:tab algn="l" pos="10325160"/>
                <a:tab algn="l" pos="10755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5"/>
          </p:nvPr>
        </p:nvSpPr>
        <p:spPr>
          <a:xfrm>
            <a:off x="3884760" y="8578440"/>
            <a:ext cx="2970000" cy="4525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4480"/>
                <a:tab algn="l" pos="6013440"/>
                <a:tab algn="l" pos="6872400"/>
                <a:tab algn="l" pos="7731000"/>
                <a:tab algn="l" pos="8589960"/>
                <a:tab algn="l" pos="9448920"/>
                <a:tab algn="l" pos="9464760"/>
                <a:tab algn="l" pos="9894960"/>
                <a:tab algn="l" pos="10325160"/>
                <a:tab algn="l" pos="10755360"/>
              </a:tabLst>
              <a:defRPr b="0" lang="en-GB" sz="11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4480"/>
                <a:tab algn="l" pos="6013440"/>
                <a:tab algn="l" pos="6872400"/>
                <a:tab algn="l" pos="7731000"/>
                <a:tab algn="l" pos="8589960"/>
                <a:tab algn="l" pos="9448920"/>
                <a:tab algn="l" pos="9464760"/>
                <a:tab algn="l" pos="9894960"/>
                <a:tab algn="l" pos="10325160"/>
                <a:tab algn="l" pos="10755360"/>
              </a:tabLst>
            </a:pPr>
            <a:fld id="{F3FB091B-CD4F-4A3E-8FE1-E7FBF5454CE7}" type="slidenum"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79360" y="676440"/>
            <a:ext cx="4500720" cy="33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290480"/>
            <a:ext cx="5486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1440" y="676440"/>
            <a:ext cx="4515120" cy="3385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290840"/>
            <a:ext cx="5484960" cy="4065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5.1 Linear growth in required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tests: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mod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ditioddecision coverage criterion provides a linea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actical rate of growth in the number of tests required 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number of conditions in a Boolean expr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creases. For an expression with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ncoupled condition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modified conditioddecision criterion can be met with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nimum of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 1 tests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rying exactly one cond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f each of the first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ests. If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s not possible becaus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upled conditions, the criterion can be met with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ximum of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2N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ests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lecting unique tests for e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dition. Although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s greater than the number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ests required for conditioddecision coverage, it is st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ear and avoids the exponential growth of multiple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est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5.2 Object code coverage: as described in S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3.2,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modified conditioddecision criterion ensures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uch higher level of decision coverage of the object c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an either decision or conditioddecision coverage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urse, to ensure complete decision coverage of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nderlying object code, we must also taken into acco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y jumps inserted by the compiler that are not di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ceable to a single condition in the source c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5.3 Operand sensitioity: whereas the mod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ditioddecision coverage criterion is more sensitiv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erand errors than either decision or conditioddeci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verage, it is particularly sensitive to missing or extrane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erands. Operands that should affect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utcome, but cannot because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 form of trans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ror, are found directly during testing, as the crite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quires the tester to find, for each condition, two tests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hich only the operand of interest is varied and shown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nge the outcome of the overall expression. Extrane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erands that cannot independently affect the outco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e found during construction of the test set (e.g. Fig. 1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5.4 Sensitiuitg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on-equivalent functions: the mod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ditioddecision coverage criterion is more sensi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 errors in the encoding or compilation of a si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erand than decision or conditioddecision cover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sensitivity of the five control-based criteria to errors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implementation of a Boolean function can be quant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 the following manner. For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olean operand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2N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ssible combinations of the operand valu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22N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ssible Boolean functions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[14].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 a given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erands and any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stinct tests. ther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2(ZN-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other functions that are indistinguishable,i .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duce the same outcome, for the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. If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s fixed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 1, the number of indistinguishable functions gro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onentially with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1440" y="676440"/>
            <a:ext cx="4515120" cy="33858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290840"/>
            <a:ext cx="5484960" cy="4065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T,T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st is required as it is the only one that returns tr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F,T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is required as it is the only test that changes the value of only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lso changes the decision's outcome, thereby establishing the independence of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imilar 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T,T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(T,F) tests are required to show the independence of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set {(T,T), (T,F), (F,T)} satisfies MC/DC for the expression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4E1A-51E4-4FD0-8228-9FC54180B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046040"/>
            <a:ext cx="8228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5558-27D4-40C6-B4C5-D2CC8D50A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0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773000"/>
            <a:ext cx="40150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46040"/>
            <a:ext cx="40150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3520" y="4046040"/>
            <a:ext cx="40150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44AA0-9D1E-48D7-8FF7-13BF8ED4D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2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280" y="1773000"/>
            <a:ext cx="26492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1360" y="1773000"/>
            <a:ext cx="26492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046040"/>
            <a:ext cx="26492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280" y="4046040"/>
            <a:ext cx="26492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1360" y="4046040"/>
            <a:ext cx="26492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56AD-3529-43DF-8DD0-D6FB28BC01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CDC0-8035-4734-801B-CFA0442880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26E7-CA49-40CF-9579-1672F20A0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0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773000"/>
            <a:ext cx="40150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92B3-2F46-4FB3-A593-6E1B6BB41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D8EF-47BF-45D0-9BED-BB83B0304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816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A1A4-13F0-40AB-A41F-8C7DF70C4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0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773000"/>
            <a:ext cx="40150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040"/>
            <a:ext cx="40150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321F-BF00-49DA-ADD5-139EB2012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0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773000"/>
            <a:ext cx="40150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3520" y="4046040"/>
            <a:ext cx="40150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D7EE3-84C7-4BEC-BAB5-C099D8B2B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0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773000"/>
            <a:ext cx="40150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46040"/>
            <a:ext cx="8228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165B-D44C-492A-B0F1-64FB04BF1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53360"/>
            <a:ext cx="190800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08a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84720" y="6453360"/>
            <a:ext cx="3059280" cy="288720"/>
          </a:xfrm>
          <a:prstGeom prst="rect">
            <a:avLst/>
          </a:prstGeom>
          <a:solidFill>
            <a:srgbClr val="108a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24360" y="115920"/>
            <a:ext cx="2448000" cy="792000"/>
          </a:xfrm>
          <a:prstGeom prst="rect">
            <a:avLst/>
          </a:prstGeom>
          <a:solidFill>
            <a:srgbClr val="108a61"/>
          </a:solidFill>
          <a:ln w="9360">
            <a:solidFill>
              <a:srgbClr val="108a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227280" y="6454800"/>
            <a:ext cx="2808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179280" y="6454440"/>
            <a:ext cx="1952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C48BCB-44E1-4650-81F8-FF6BB220E6D2}" type="slidenum">
              <a:rPr b="0" lang="en-GB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15920"/>
            <a:ext cx="190800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08a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356000" y="115920"/>
            <a:ext cx="1728720" cy="792000"/>
          </a:xfrm>
          <a:prstGeom prst="rect">
            <a:avLst/>
          </a:prstGeom>
          <a:gradFill rotWithShape="0">
            <a:gsLst>
              <a:gs pos="0">
                <a:srgbClr val="108a6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05440" y="6453360"/>
            <a:ext cx="1979280" cy="288720"/>
          </a:xfrm>
          <a:prstGeom prst="rect">
            <a:avLst/>
          </a:prstGeom>
          <a:gradFill rotWithShape="0">
            <a:gsLst>
              <a:gs pos="0">
                <a:srgbClr val="108a6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908000" y="6453360"/>
            <a:ext cx="2232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19080">
            <a:solidFill>
              <a:srgbClr val="108a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19080">
            <a:solidFill>
              <a:srgbClr val="108a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2095560" y="189000"/>
            <a:ext cx="1971720" cy="63648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0" y="907920"/>
            <a:ext cx="8172360" cy="0"/>
          </a:xfrm>
          <a:prstGeom prst="line">
            <a:avLst/>
          </a:prstGeom>
          <a:ln w="19080">
            <a:solidFill>
              <a:srgbClr val="108a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0" y="115920"/>
            <a:ext cx="8172360" cy="0"/>
          </a:xfrm>
          <a:prstGeom prst="line">
            <a:avLst/>
          </a:prstGeom>
          <a:ln w="19080">
            <a:solidFill>
              <a:srgbClr val="108a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883640" y="44280"/>
            <a:ext cx="1009440" cy="9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" descr=""/>
          <p:cNvPicPr/>
          <p:nvPr/>
        </p:nvPicPr>
        <p:blipFill>
          <a:blip r:embed="rId3"/>
          <a:stretch/>
        </p:blipFill>
        <p:spPr>
          <a:xfrm>
            <a:off x="7980480" y="189000"/>
            <a:ext cx="695160" cy="69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2719800"/>
            <a:ext cx="878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4000" spc="-1" strike="noStrike">
                <a:solidFill>
                  <a:srgbClr val="108a61"/>
                </a:solidFill>
                <a:latin typeface="Verdana"/>
              </a:rPr>
              <a:t>MC/DC in a nutshell</a:t>
            </a:r>
            <a:endParaRPr b="0" lang="en-US" sz="40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9144000" cy="7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ristopher Ackerman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Object Code Coverage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some situations the compiler performs a translation of each conditions into a single decision (conditional jump) in the object co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minimal test set for condition/decision coverage does not provide decision coverage of the generated object code. ({1,8},{2,7},{3,6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C/DC ensures decision coverage of the underlying object code. ({2,3,4,6} or {2,3,4,7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0" b="49067"/>
          <a:stretch/>
        </p:blipFill>
        <p:spPr>
          <a:xfrm>
            <a:off x="1666800" y="2995560"/>
            <a:ext cx="2689200" cy="1513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0" t="50945" r="0" b="0"/>
          <a:stretch/>
        </p:blipFill>
        <p:spPr>
          <a:xfrm>
            <a:off x="4691160" y="2995560"/>
            <a:ext cx="2689200" cy="14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815C-94B2-4A2E-9CA9-EFCBB804EE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Advantages of MC/DC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ar growth in required tes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n expression 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coupled conditions, the modified condition/decision criterion can be met with a minimum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1 tests by varying exactly one condition of each of the firs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code coverag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C/DC criterion ensures a much higher level of decision coverage of the object code than either decision or condition/decision co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 sensitivity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raneous operands that cannot independently affect the outcome are found during construction of the test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sitivity to non-equivalent fun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B3C3-323C-4A00-A18D-FCC0096A1F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Efficiency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-313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given function of N operands and any M distinct tests, the probability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(N,M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detecting an error in an incorrect implementation of a Boolean expression with N conditions is given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3920" indent="0">
              <a:lnSpc>
                <a:spcPct val="7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3920" indent="0">
              <a:lnSpc>
                <a:spcPct val="7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3920" indent="0">
              <a:lnSpc>
                <a:spcPct val="7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3920" indent="0">
              <a:lnSpc>
                <a:spcPct val="7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3920" indent="0">
              <a:lnSpc>
                <a:spcPct val="7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3920" indent="0">
              <a:lnSpc>
                <a:spcPct val="7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3920" indent="0">
              <a:lnSpc>
                <a:spcPct val="7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3920" indent="0">
              <a:lnSpc>
                <a:spcPct val="7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3920" indent="0">
              <a:lnSpc>
                <a:spcPct val="7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3920" indent="0">
              <a:lnSpc>
                <a:spcPct val="7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3920" indent="-313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ty of finding an error increases as N incre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64000" y="2708280"/>
            <a:ext cx="4319640" cy="2714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2284560" cy="4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9507-1FD9-4C21-AE31-06A9F36EEE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Efficiency cont’d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suggests that breaking down compound conditions has a negative effect on the results of MC/DC based te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5343480" cy="34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C53E-622B-4665-B52C-9AC0DF33AC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Argument in the software industry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deral Aviation Administration’s requirement that test suites be MC/DC adequate (DO-178B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avionics domain, complex Boolean expressions are much more comm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6762600" cy="163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43865-2C0C-414C-84D6-C778A73C62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Argument in the software industry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deral Aviation Administration’s requirement that test suites be MC/DC adequ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– Too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one of our industrial partners reports that for one of its products of about 20,000 lines of  code, the MC/DC-adequate test suite requires seven weeks to run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er Argument – Significantly more eff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recent empirical study performed during the real testing of the attitude-control software for the HETE-2 (High Energy Transient Explorer) found that the test cases generated to satisfy the MC/DC coverage requirement detected important errors not detectable by functional te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7B4A-03C5-4C79-B92C-0B0BBB29E2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s lead to research work that tries to reduce testing effort throu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suite re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suite priorit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: What is the difference between MC/DC and the technique discussed in the Predicat3e Pap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per: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uch of the benefit of the MC/DC criterion lies not so much in the specific tests selected as in the requirement that at least N + 1 tests are execu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stion: Why not just randomly pick N+1 test cases th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A0AE-D52D-4DF0-9154-3F76A070CB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References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.J. Chilenski and S.P. Miller, “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plicability of Modified Condition/Decision Coverage to Software Test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”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ftware Eng. J., vol. 9, no. 5, pp. 193-200, 1994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. Richard Kuhn. “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ult classes and error detection capability of specification-based test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CM Transactions on Software Engineering and Methodology, 8(4):411--424, October 1999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nes, J. and Harrold, M. “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st-Suite Reduction and Prioritization for Modified Condition/Decision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roceedings of the IEEE International Conference on Software Maintenance ( ICSM'01), Florence, Italy, 7-9 November 2001, pp. 92--101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upuy, A. and Leveson, N. “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n empirical evaluation of the MC/DC coverage criterion on the HETE-2 satellite softwa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roceedings of the Digital Aviation Systems Conference (DASC), Philadelphia, USA, October 2000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7A54-9776-4A59-B407-80790BEA30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What is MC/DC?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76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ated to AC/DC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/DC stands f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difi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dition /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isi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ind of Predicate Coverage techn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ter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: Leaf level Boolean express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sion: Controls the program flo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idea: Each condition must be shown to independently affect the outcome of a decision, i.e. the outcome of a decision changes as a result of changing a single cond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93080" y="1700280"/>
            <a:ext cx="1779480" cy="2305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6948360" y="1557360"/>
            <a:ext cx="2016360" cy="25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90D6B-E39E-45BF-B897-2C31CE1FC1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84360" y="2852640"/>
            <a:ext cx="2664000" cy="50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1. Requirement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cision has taken all possible outcomes at least o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also say we cover both the true and the false branch (like we do in Branch Test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2925720"/>
            <a:ext cx="56880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(a) &amp; (b) | (c)) th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627280" y="3502080"/>
            <a:ext cx="50472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8720" y="3502080"/>
            <a:ext cx="43200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97440" y="4365720"/>
            <a:ext cx="756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70520" y="4365720"/>
            <a:ext cx="875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C0EB-2F7A-4327-93E1-FBF7CE2688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985000" y="2997360"/>
            <a:ext cx="43164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59080" y="2997360"/>
            <a:ext cx="432000" cy="4316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2997360"/>
            <a:ext cx="43164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2. Requirement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ondition in the decision has taken all possible outcomes at least o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ms to cover compound conditions (like Condition/Decision Covera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2997360"/>
            <a:ext cx="64087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(a)   &amp;     (b)    |    (c)) th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124000" y="3429000"/>
            <a:ext cx="287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98920" y="3429000"/>
            <a:ext cx="2174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7800" y="3759120"/>
            <a:ext cx="529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8360" y="3759120"/>
            <a:ext cx="610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995640" y="3441600"/>
            <a:ext cx="231840" cy="3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14760" y="3441600"/>
            <a:ext cx="201600" cy="3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7280" y="3430440"/>
            <a:ext cx="21744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3430440"/>
            <a:ext cx="21564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45800" y="3759120"/>
            <a:ext cx="529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36720" y="3759120"/>
            <a:ext cx="610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17440" y="3759120"/>
            <a:ext cx="529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8360" y="3759120"/>
            <a:ext cx="610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4A67-6E85-47E9-87C5-1E17881204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3. Requirement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ondition in the decision independently affects the decision’s outco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like anything we have talked about, so let’s elaborat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159080" y="4148280"/>
            <a:ext cx="2428920" cy="4316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4148280"/>
            <a:ext cx="43164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4148280"/>
            <a:ext cx="64087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(a)   &amp;     (b)    |    (c)) th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124000" y="4579920"/>
            <a:ext cx="287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98920" y="4579920"/>
            <a:ext cx="2174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7800" y="4910040"/>
            <a:ext cx="529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28360" y="4910040"/>
            <a:ext cx="610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356000" y="4581360"/>
            <a:ext cx="158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5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9800" y="4941720"/>
            <a:ext cx="529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1440" y="4941720"/>
            <a:ext cx="610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5445000"/>
            <a:ext cx="4176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value of each condition individually while keeping all other conditions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1833B-430E-4D94-9A8F-1B29660E7F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Creating MC/DC test cases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1471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 (A and B) the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 create truth table for condi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2) Extend truth table so that it indicated which test cases can be used to show the independence of each condi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444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444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3828960"/>
            <a:ext cx="1384200" cy="2048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356000" y="3755880"/>
            <a:ext cx="3768840" cy="2081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48000" y="4621320"/>
            <a:ext cx="649440" cy="485640"/>
          </a:xfrm>
          <a:prstGeom prst="rightArrow">
            <a:avLst>
              <a:gd name="adj1" fmla="val 49676"/>
              <a:gd name="adj2" fmla="val 66375"/>
            </a:avLst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D81D-A05A-4420-8684-28E2662F11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Creating test cases cont’d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27280" y="1773000"/>
            <a:ext cx="4257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independence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 1 +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independence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 1 +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ing test cases 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+ 2 +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 , T) + (T , F) + (F , 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3768840" cy="20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7E24-E4C1-433D-8E7C-677A13006E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More advanced example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8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 (A and (B or C)) then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533840" cy="3622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08720" y="2781360"/>
            <a:ext cx="324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We want to determine the MINIMAL set of te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2,3,4,6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2,3,4,7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minimal set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1,2,3,4,5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90F8-B407-4295-B5BC-DB1CB64652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141800" y="2565360"/>
            <a:ext cx="4894200" cy="3611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08a61"/>
                </a:solidFill>
                <a:latin typeface="Tahoma"/>
              </a:rPr>
              <a:t>Where does it fit in?</a:t>
            </a:r>
            <a:endParaRPr b="0" lang="en-US" sz="3200" spc="-1" strike="noStrike">
              <a:solidFill>
                <a:srgbClr val="108a61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546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C/DC criterion is much stronger than the condition/decision coverage criterion, but the number of test cases to achieve the MC/DC criterions still varies linearly with the number of conditions n in the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ch more complete coverage than condition/decision coverage, b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the same time it is not terribly costly in terms of number of test c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Fraunhofer 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C940-9DF6-44D4-925C-471B8EF002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pher Ackermann</dc:creator>
  <dc:description/>
  <dc:language>en-US</dc:language>
  <cp:lastModifiedBy>Christopher Ackermann</cp:lastModifiedBy>
  <dcterms:modified xsi:type="dcterms:W3CDTF">2006-12-07T16:20:02Z</dcterms:modified>
  <cp:revision>409</cp:revision>
  <dc:subject/>
  <dc:title>Modeling Requirements</dc:title>
</cp:coreProperties>
</file>