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D59-2D09-4051-A55A-71C4C9F1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5BA-3A3A-4518-8F59-CAA749E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6CD-386E-4088-A18D-CC03C12E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965-EB71-49D6-A5E9-12ED6244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E79-A059-499C-90A7-FB452833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48B-3F0F-4111-A536-0476458E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C461-FE99-475C-BBE8-2A0649A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AA81-9470-43F7-9851-D315B746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17C0-68B3-424C-BD22-E8885CB4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6EFB-445F-4F57-B63C-D0BFF215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1489-DCF8-4294-A5D6-1B4C3BE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443-48B4-4FFE-91DE-EBBB428E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AD98-141B-4A62-8A97-24ADE3D3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2717-153F-4CF0-8919-3D62283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5A70-9D0B-4B27-A0D5-6D0DD54F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3849-813F-4FDA-8B30-FC726474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7258-F80F-4D48-818D-475437D1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928-6647-4299-98A7-D9B50D8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D21-7B42-4AD6-B8AA-2BDF5C93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501-6A6A-4D60-95BD-E0400B25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CCA-1B41-4FE5-A909-9538605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861-7CAC-4553-84D5-4605187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605-FA92-44D0-AFA7-2E768C93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F8D-B35E-4D9D-AA29-B36E9951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06A6-0B9A-4A8A-8ACF-F1A50BF909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4D61-9219-497D-BF8C-4D6F1C92C3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in Effects Screening: A Distributed Continuous Quality Assurance Process for Monitoring Performance Degradation in Evolving Software System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2640" y="342864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emal Yilmaz, Arvind S. Krishnaz, Atif Memon, Adam Porter, Douglas C. Schmidt, Aniruddha Gokhale, Balachandran Nataraja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ented By: Walaa El-Din M. Moustaf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ractional Factorial Design Exampl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e can extend the design and estimate the effect of option D without going to a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aramond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full factorial design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ractional Factorial Design Exampl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Design Generator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pecifies the aliasing patterns used to build the desig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r this example, we select the design generator D = ABC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ractional Factorial Design Exampl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6040" y="2664000"/>
            <a:ext cx="4102200" cy="24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ractional Factorial Design Exampl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design we described above is a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resolution IV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sign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 resolution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designs, no effects involving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factors are aliased with effects involving less than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R - i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factor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ractional Factorial Design Exampl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un the experi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r binary options (with settings - or +), the main effect of option A, ME(A), i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(A) = z(A-) - z(A+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here z(A-) and z(A+) are the mean values of the observed data over all runs where option A is (-) and where option A is (+), respectively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desired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order effects can be calculated in a similar way. The interaction effect of option A and B, INT(A, B) i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= ½ (ME(B|A+) - ME(B|A-)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= ½ (ME(A|B+) - ME(A|B-)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The Experiment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CE v5.4 + TAO v1.4 + CIAO v0.4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14 binary run-time option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aramond"/>
              </a:rPr>
              <a:t>14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= 16,384 different configuration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r each task measure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ssage latency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roughput between the client and the server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The Experiment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76240" y="2066760"/>
            <a:ext cx="738180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The Full Data Set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74800" y="2479680"/>
            <a:ext cx="3313080" cy="281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68720" y="2511360"/>
            <a:ext cx="32702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Evaluating Screening Designs</a:t>
            </a:r>
            <a:endParaRPr b="1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Can screening designs correctly identify the important options discovered during the analysis of the full data set?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Evaluating Screening Design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cr32 is a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aramond"/>
              </a:rPr>
              <a:t>14 - 9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IV with design generators F = ABC, G = ABD, H = ACD, I = BCD, J = ABE, K = ACE, L = BCE, M = ADE, N = BDE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cr64 is a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aramond"/>
              </a:rPr>
              <a:t>14 - 8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IV with design generators G = ABC, H = ABD, I = ABE, J = ACDE, K = ABF, L = ACDF, M = ACEF, N = ADEF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cr128 is a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aramond"/>
              </a:rPr>
              <a:t>14 - 7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IV with design generators H = ABC, I = ABDE, J = ABDF, K = ACEF, L = ACDG, M = ABEFG, N = BCDEFG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4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Objectiv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s software systems change, developers often run regression tests to detect unintended functional side effect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QA efforts can be confounded by the enormous configuration space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ime and resource constraints severely limit the number of configurations that can be examined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Evaluating Screening Design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41400" y="2508120"/>
            <a:ext cx="3179880" cy="275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86440" y="2687760"/>
            <a:ext cx="30067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Evaluating Screening Design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21120" y="2523960"/>
            <a:ext cx="3092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Evaluating Screening Design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creening designs can detect important options at a large fraction of the cost of exhaustive testing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smaller the effect, the larger the run size needed to identify it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Estimating Performance with Screening Suites</a:t>
            </a:r>
            <a:endParaRPr b="1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estimates are generated by examining all combinations of the most important options, while defaulting the settings of the unimportant option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ake the estimates based on benchmarking either 4 (all combinations of options B and J) or 32 (all combinations of options B, J, C, I, and F) configuration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Estimating Performance with Screening Suites</a:t>
            </a:r>
            <a:endParaRPr b="1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5000" y="2406600"/>
            <a:ext cx="3530880" cy="295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68720" y="2459160"/>
            <a:ext cx="3270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Estimating Performance with Screening Suites</a:t>
            </a:r>
            <a:endParaRPr b="1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distributions of the top-5 and top-2 screening suites closely track the overall performance data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Screening Suites vs. Random Sampling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108160" y="1752480"/>
            <a:ext cx="4917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Screening Suites vs. Random Sampling</a:t>
            </a:r>
            <a:endParaRPr b="1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se graphs suggest the obvious weakness of random sampling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Dealing with Evolving System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Detect performance degradations in evolving systems quickly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0400" y="2114640"/>
            <a:ext cx="39272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Dealing with Evolving System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veloper records and problem reports indicate that problems were noticed on 12/14/03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Main Effects Screening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Screening Designs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re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Highly economica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an reveal important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low order effect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at strongly affect performance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Higher­Order Effect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Resolution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VI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design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creased the run size to 2,048 to capture the second-order effect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Higher­Order Effect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20720" y="2465280"/>
            <a:ext cx="3621240" cy="284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011560" y="2543040"/>
            <a:ext cx="32259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Higher­Order Effect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important interaction effects involve only options that are already considered important by themselve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screening design correctly identifies the 5 most important pairwise interactions at 1/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the cost of exhaustive testing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Thank you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Low Order Effect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irst-, second-, or third-order effect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-order effect is an effect caused by the simultaneous interaction of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actors.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Low Order Effects Exampl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r certain web server applications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 1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-order effect might be that performance slows considerably when logging is turned on and another might be that it also slows when few server threads are used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 2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order effect involves the interaction of two options,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e.g.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, web server performance may slow down when caching is turned off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server performs blocking reads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actorial Design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Full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actorial design involving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binary factors. Such a design exhaustively tests all combination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Fractional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actorial designs. These designs use only a carefully selected fraction (such as 1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 or 1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4) of a full factorial design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ractional Factorial Designs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ave money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o so by giving up the ability to measure some higher-order effect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ractional Factorial Design Exampl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 show how screening designs are computed, we present a hypothetical example of a performance-intensive software system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4 binary configuration options, A through D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o inter-option constraints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full configuration space therefore ha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aramond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= 16 configurations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Fractional Factorial Design Example</a:t>
            </a:r>
            <a:endParaRPr b="1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8 configuration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ill focus only on 1st-order effect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is design is referred to as a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aramond"/>
              </a:rPr>
              <a:t>4 -1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design, where 4 refers to the total number of options we will examine and the -1 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aramond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= 1/2) indicates the fraction of the full factorial over which we will collect data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2:52:30Z</dcterms:created>
  <dc:creator>Ahmed Abdelhafez</dc:creator>
  <dc:description/>
  <dc:language>en-US</dc:language>
  <cp:lastModifiedBy>CSI2120</cp:lastModifiedBy>
  <dcterms:modified xsi:type="dcterms:W3CDTF">2006-11-28T15:34:09Z</dcterms:modified>
  <cp:revision>17</cp:revision>
  <dc:subject/>
  <dc:title>Slide 1</dc:title>
</cp:coreProperties>
</file>