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wwm-intro.wav" ContentType="audio/x-wav"/>
  <Override PartName="/ppt/media/image2.png" ContentType="image/png"/>
  <Override PartName="/ppt/media/whoosh.wav" ContentType="audio/x-wav"/>
  <Override PartName="/ppt/media/image3.png" ContentType="image/png"/>
  <Override PartName="/ppt/media/wwm-question.wav" ContentType="audio/x-wav"/>
  <Override PartName="/ppt/media/image4.png" ContentType="image/png"/>
  <Override PartName="/ppt/media/image5.png" ContentType="image/png"/>
  <Override PartName="/ppt/media/typ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F698F-E5CF-4D64-9736-A5D1ABA6B6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4776D-9337-49CB-9A9A-B8D250EE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9D60B-596B-4DC5-BD38-9FB97B2D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EC80B-80F0-49DA-B39F-68FC8A9D98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6461F-D214-49E3-837B-2FC1BA9F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BB63E-C000-4656-99D4-6F74F151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A01C8-CE83-4E11-98DB-E3784EE7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92B6A-02B0-4F1E-B263-6AE1888A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D3901-6F90-4820-8677-50D72913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BBCC3-5D9E-4491-8D5A-2D689A34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0BFC6-9B06-49D4-A73E-712626F0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0B6B7-7757-40F1-B18A-9B8E2717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1175D-9B85-478E-BCEE-32CF6DC2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D5A52-BEA6-4B46-9D52-45D6E090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8EBE9-D2CD-4B8F-A8E7-AB355A79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735F9-3762-49BB-AA3C-26A971B20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770FC-CC2B-4287-92ED-A5068FAAB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310B5-D104-47A6-AD36-DE335F90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4B054-0CD5-451A-A5D2-BAE8EFA1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A7C70-82F6-40E5-A30A-C752E8F10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99CF5-7940-41F7-B833-E9169243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9EC33-B553-4AA6-9D9C-2ABFFF89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097C2-B559-4303-B115-040D446B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AB031-1486-47FD-B486-9C198C49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718A-5B49-4EED-88BA-196FDB776F84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5518-3361-4FE7-8241-62420B0D452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oftware Testing, F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F470-156C-42C8-B837-603C7145C9E6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oftware Testing, Fall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D57E-2E77-4872-80EB-210546FBBB0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wwm-intro.wav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wwm-question.wav"/><Relationship Id="rId2" Type="http://schemas.openxmlformats.org/officeDocument/2006/relationships/audio" Target="../media/type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wm-intro.wav" TargetMode="External"/><Relationship Id="rId2" Type="http://schemas.microsoft.com/office/2007/relationships/media" Target="file:///tmp/home/.config/libreoffice/4/user/gallery/wwm-intro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Taxonomy of Test Oracle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dit Agraw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: Introduction to Software Testing, Fall ‘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D1306-5E2C-4D97-BA6A-8857A220889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497254-6DE2-4C9B-9248-84FE571282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cond Generation </a:t>
            </a: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continued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ndom selection among alterna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al domain cover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endence of system state on previous test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chanism to determine whether SUT’s behavior is exp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seudo random number genera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st recover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250E7-EBAF-4109-92A5-DAEA23C73EB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E5FE11-6258-4E30-B386-A2F707EB5A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ird Generation Autom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ke into account knowledge and visi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ftware instru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-threaded t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ll back compa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other orac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D8C13-2D1C-4D58-BF85-D5B6D04185A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9FD670-6DDB-421B-AFC1-9D5CAA1D4C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ird Generation </a:t>
            </a: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continued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uristic Orac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zzy comparisons, approxim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oks for err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s additional tests based on the specific type of error encounte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AA557-D12F-4027-A7C3-E0B1787994B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4D7AC-3980-4488-924D-13DC448648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hallenges for Orac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ndependenc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letenes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difficult to achieve bo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ce fr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programs, li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ness in form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aring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uted functions, screen navigations and asynchronous event hand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peed of predi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ime of Execution of ora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E9048-380E-40A0-8EEA-09C76DA810B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8E9A5-CCCD-43C1-AC7D-DBAC15E4FC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hallenges for Oracle </a:t>
            </a: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continued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ter an oracle is, more complex it beco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rehensive oracles make up for long test cases (DART pap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it predicts, more dependent it is on S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likely for it to contain the same fa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DF68C-DF35-44AA-ABF8-1302D03F8D8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ACB8C-6132-46FD-A0A4-027183B2AA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hallenges for Oracle </a:t>
            </a: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continued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gimitate oracle – an oracle that produces accurate rather than estimated outp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tes results based on the formal spe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f formal specs are wro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few errors caus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oticeable abnormal test termin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B4845-9B21-443B-B00B-F4E194FFE84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175CBB-1228-4C1C-843D-BAA270F9EE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50627" t="11372" r="10000" b="6977"/>
          <a:stretch/>
        </p:blipFill>
        <p:spPr>
          <a:xfrm>
            <a:off x="2392200" y="304920"/>
            <a:ext cx="4618080" cy="5790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248520" y="6219720"/>
            <a:ext cx="291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An automated oracle for software 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586728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D4E96-0582-4F53-905B-C168AACD56D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5B45B4-8998-4CA4-82EC-430B079351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ORL – Input/Output Req. Lang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aphics based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timal representation between the informal requirements and the target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51250" t="11372" r="15001" b="49358"/>
          <a:stretch/>
        </p:blipFill>
        <p:spPr>
          <a:xfrm>
            <a:off x="228600" y="3200400"/>
            <a:ext cx="4114800" cy="2895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rcRect l="51250" t="51682" r="15001" b="9043"/>
          <a:stretch/>
        </p:blipFill>
        <p:spPr>
          <a:xfrm>
            <a:off x="4495680" y="3200400"/>
            <a:ext cx="4114800" cy="28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B009A-74F0-4138-8E3D-80A4B8D140B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7101D-BD0B-4086-B242-0224B3B6F9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racles for different scenari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duc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at read an input sequence and produce and output sequ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ical correspondence between I/O struc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 native file format to HTML conversions in web appl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 – CF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translates a formal specs of I/O files into an automated ora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0112F-8B68-4CC4-8D02-CC4A2E475B5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4DFBF-904D-40AD-BC2D-B48F616225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mbedded Assertion Languages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i="1" lang="en-US" sz="3000" spc="-1" strike="noStrike">
                <a:solidFill>
                  <a:srgbClr val="006633"/>
                </a:solidFill>
                <a:latin typeface="Garamond"/>
              </a:rPr>
              <a:t>[Oracles for different scenarios]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ssert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on-local asser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sserts for pre/post condition pairs with a  procedure as a wh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.g. asserts for each method that modifies the object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tate cac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aving parts or all of ‘before’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3C3D5-383B-491C-A7A2-D6E0B90F862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D935A4-8459-47DE-B01C-BCEAD7E771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otiv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comings of automated tests (as compared to human ‘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ye-ball orac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tors influencing test orac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vironmental (private, global)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(initial and present) of the 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endence on tes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kind of oracle(s) are best suited for which application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61FAA-3515-4D52-9CD6-F6C0AA8A966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28AA0-57F2-4192-9E38-7395270F2F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uxiliary vari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Quant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5228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mbedded Assertion Languages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i="1" lang="en-US" sz="3000" spc="-1" strike="noStrike">
                <a:solidFill>
                  <a:srgbClr val="006633"/>
                </a:solidFill>
                <a:latin typeface="Garamond"/>
              </a:rPr>
              <a:t>[Oracles for different scenarios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51B8B-B38F-48F7-AC03-F6018E78D6A5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534C56-EF29-4220-85D0-BFA493AE77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ead of inserting asserts within the program, checkable specs are kept separate from the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rinsic specs are written in not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ightly coupled with target programming 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ful when source-code need not be touch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xtrinsic Interface Contracts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    </a:t>
            </a:r>
            <a:r>
              <a:rPr b="0" i="1" lang="en-US" sz="3800" spc="-1" strike="noStrike">
                <a:solidFill>
                  <a:srgbClr val="006633"/>
                </a:solidFill>
                <a:latin typeface="Garamond"/>
              </a:rPr>
              <a:t>[Oracles for different scenarios]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8C7D7-C0CC-4FE0-8106-58C3BBDA78C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A790E-3D61-405B-9FE4-4E0705245B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ure Specification Languages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            </a:t>
            </a:r>
            <a:r>
              <a:rPr b="0" i="1" lang="en-US" sz="3800" spc="-1" strike="noStrike">
                <a:solidFill>
                  <a:srgbClr val="006633"/>
                </a:solidFill>
                <a:latin typeface="Garamond"/>
              </a:rPr>
              <a:t>[Oracles for different scenarios]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 with older approach: specs were no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 and object-Z are model based specification langu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intended behavior using familiar mathematical obj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ee of the constraints of the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DAA53-C805-4FFF-A755-70E2F11324A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CD2C3-E140-44DB-9830-AE5CACF543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race Checking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    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    </a:t>
            </a:r>
            <a:r>
              <a:rPr b="0" i="1" lang="en-US" sz="3800" spc="-1" strike="noStrike">
                <a:solidFill>
                  <a:srgbClr val="006633"/>
                </a:solidFill>
                <a:latin typeface="Garamond"/>
              </a:rPr>
              <a:t>[Oracles for different scenarios]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s a partial trace of ev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ch a trace can be checked by an oracle derived from formal specs of externally observable behavi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D61AA-DFEB-4BD5-A606-002B71BAD63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826239-0347-448C-AB11-960D5980E3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ypes of Oracles </a:t>
            </a:r>
            <a:br>
              <a:rPr sz="3800"/>
            </a:br>
            <a:r>
              <a:rPr b="0" i="1" lang="en-US" sz="3800" spc="-1" strike="noStrike">
                <a:solidFill>
                  <a:srgbClr val="006633"/>
                </a:solidFill>
                <a:latin typeface="Garamond"/>
              </a:rPr>
              <a:t>Categorized based on Oracle-Output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ue Ora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aithfull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roduces all relevant resul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ndependen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, processes, compilers, code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er commonality =&gt; more confidence in the correctness of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 sin(x) [problem: how is ‘all inputs’ define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A9DA8-18FF-48B3-A75A-38051382847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AAFB1-7EBC-4920-9819-445FC89B67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ypes of Oracles </a:t>
            </a: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continued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chastic Ora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stically random input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prone areas of the software are no more or less likely to be encounte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n() – pseudo random generator to select input val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32BF8-FD2D-47B9-8D45-C0015BF30F2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082A92-B6F6-4E96-B2DF-FFFFCA5217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ypes of Oracles </a:t>
            </a: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continued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uristic Ora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roduces selected results for the S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maining values are checked based on heuris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exact compari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mp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lues are selected using some criteria (not rando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 boundary values, midpoints, maxima, minim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4ECA1-8D4A-494A-A7A8-EB8866C07F2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8FA265-5418-4507-A862-CCB9747F20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ypes of Oracles </a:t>
            </a: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continued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stent Ora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s results from one test run as the Oracle for subsequent ru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aluating the effects of changes from one revision to an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C6FAB-4320-4CE5-A879-48DE14242B9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D4E082-0C49-4462-92C5-E183F22A99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14375" t="30133" r="14375" b="11689"/>
          <a:stretch/>
        </p:blipFill>
        <p:spPr>
          <a:xfrm>
            <a:off x="228600" y="1752480"/>
            <a:ext cx="8686800" cy="4267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mparis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F2AD8-7FCF-486D-8CBE-6C666FDCA60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80315-6ADA-4921-A8AF-93C539BB7B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3b812f"/>
                </a:solidFill>
                <a:latin typeface="Garamond"/>
              </a:rPr>
              <a:t>Who wants to be a Millionaire?</a:t>
            </a:r>
            <a:endParaRPr b="0" lang="en-US" sz="5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FBD23-A97C-464B-89DA-3AD6F667BAE3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D364D-35BA-4B9B-82D8-DF4039B730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wm-int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utating Automated Tests – Challenges for test orac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nerations of Automations and Orac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allenges for Orac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ypes of Orac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748B2-6889-4A3D-9DA8-0B2E4D4BAF9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81D69-602B-46F3-95AF-984DE97FD7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19320" y="3276720"/>
            <a:ext cx="3124080" cy="114300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. Heuris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00200" y="1143000"/>
            <a:ext cx="6400800" cy="99072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ich category best describes GUI Tes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4724280"/>
            <a:ext cx="3124080" cy="114300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. Transduc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4724280"/>
            <a:ext cx="3124440" cy="114300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. N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3276720"/>
            <a:ext cx="3124440" cy="114300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. Trace Che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38862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43400" y="52578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077320" y="38098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77320" y="52578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80988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525780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6094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20000" y="609300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8E814-269A-42B2-967E-9C6FB10944C6}" type="slidenum">
              <a:t>3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15BBEE-5D48-4DC2-A9F4-EE086A9798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remove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wm-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16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8220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anks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C53B9-50F4-4921-989E-FD6D975746F5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4F9D11-6CBD-48D4-A212-9E314DC3A4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utomated Tes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intervention needed after launching te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omatically sets up and/or records relevant test enviro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aluates actual against expected 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s Analysis of pass/fa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mita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ss likely to cover latent de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n’t do anything different each time it ru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acle is not ‘complete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E2A7D-7882-4217-A7BA-9B064A05DF2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2FF8C-0637-424D-AE34-7C9DB9F2E2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8080" y="457200"/>
            <a:ext cx="7439040" cy="558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C5764-A7A5-4A78-B7DF-609525C2CB00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BD1472-59D2-4DE6-A929-59EB2C810A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23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5"/>
                </p:tgtEl>
              </p:cMediaNode>
            </p:audio>
            <p:seq>
              <p:cTn id="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mited by Test Orac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dicting’ and comparing the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ying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wenty ques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th all the questions written down in advanc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s to be influenced b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am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figuration of the system enviro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F5427-FBB6-4124-B5D7-296BEC6E052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9C876-DE4A-440B-9E29-82262D216D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esting with the Orac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11874" t="22857" r="13126" b="10648"/>
          <a:stretch/>
        </p:blipFill>
        <p:spPr>
          <a:xfrm>
            <a:off x="0" y="114300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274440" y="6126120"/>
            <a:ext cx="286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Douglas Hoffman, SQM, L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F6CFF-07EA-4F1E-9D43-6E694F87DF0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214377-55D8-4CE5-BECA-966FC1DC31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Generations of Automation: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First Generation Automa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omate existing tests by creating equivalent exerci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f verifying t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rd Coded orac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ing negative test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B990D-4AE7-4CA1-9801-48AEF768176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CDCD41-2898-402F-BD40-AEE6BB910C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cond Generation Autom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omated Orac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phasis on expected results – more exhaustive input variation, cover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ration of automated test activities (load test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5F6F9-1BBB-47EE-9A5A-76F98DB6180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9C8205-C673-4689-B20D-9FA3F740D3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22:34:17Z</dcterms:created>
  <dc:creator>mudit</dc:creator>
  <dc:description/>
  <dc:language>en-US</dc:language>
  <cp:lastModifiedBy>mudit</cp:lastModifiedBy>
  <dcterms:modified xsi:type="dcterms:W3CDTF">2006-12-07T06:05:27Z</dcterms:modified>
  <cp:revision>183</cp:revision>
  <dc:subject/>
  <dc:title>Oracles</dc:title>
</cp:coreProperties>
</file>