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045-2302-4428-9A62-F87B26ED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5E3-EF1B-41DF-9574-BFAF930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D55-4FB7-4555-A63A-0424968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DC9-3513-4371-9060-9F80CAB6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8F77-10C5-4BEF-839B-345AF100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F99E-CE12-4BE1-966E-2F56493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593-786A-4919-A103-30022CD5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4A5-3800-4450-94B1-82F9760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8D71-60D7-4BB7-AFB0-6FB572F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167F-8875-4B7E-BD98-BE5CDFC8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A84A-9C14-466D-827E-651D9DF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302-F69F-44E3-80F9-DDEBC2B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25C0-3824-4FE2-8884-1E318C1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5411-3B7C-424C-BCFB-833A4E7D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108F-E8EB-4620-A85D-B94D989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7A64-52CC-4F5F-B4CC-D89C1C19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42B-B336-460A-82F6-BE085326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136-BACE-4947-A056-505C595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69E-38B9-4571-AE0F-AA8F289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2A5-ADFD-4DCB-BD2A-2711E4D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B2E-534A-4C59-8F58-AA9FD7B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F56-B7F6-45DC-88CC-6BDE088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067-1713-4A3D-B9CC-7BECD98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68D-9974-4C7D-92FB-36EED60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C26-4773-4D64-85C3-D7E7EFF05B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B68-FD07-4E97-90BE-476E17146D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b812f"/>
                </a:solidFill>
                <a:latin typeface="Garamond"/>
              </a:rPr>
              <a:t>Testing Components in the Context of a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SC 7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ath Srin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095880" cy="231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4572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Services are accessible through inter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Coverage criter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all interfaces for a component should be exercised at leas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Black box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19112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4114800"/>
            <a:ext cx="22860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114800"/>
            <a:ext cx="22860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00400" y="358128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48320" y="37339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3526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these 2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Coverage Criter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an interface against all its possible inv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5800" y="3123000"/>
            <a:ext cx="5715000" cy="2668320"/>
            <a:chOff x="685800" y="3123000"/>
            <a:chExt cx="5715000" cy="2668320"/>
          </a:xfrm>
        </p:grpSpPr>
        <p:sp>
          <p:nvSpPr>
            <p:cNvPr id="158" name=""/>
            <p:cNvSpPr/>
            <p:nvPr/>
          </p:nvSpPr>
          <p:spPr>
            <a:xfrm>
              <a:off x="2514600" y="4724280"/>
              <a:ext cx="25146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95840" y="4648320"/>
              <a:ext cx="228600" cy="152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4648320"/>
              <a:ext cx="228600" cy="152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4800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4800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327672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440" y="320040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320040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62520" y="3352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3352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327672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7040" y="3200400"/>
              <a:ext cx="2286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2320" y="3200400"/>
              <a:ext cx="2286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120" y="3352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7400" y="3352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"/>
            <p:cNvCxnSpPr>
              <a:stCxn id="171" idx="0"/>
              <a:endCxn id="159" idx="0"/>
            </p:cNvCxnSpPr>
            <p:nvPr/>
          </p:nvCxnSpPr>
          <p:spPr>
            <a:xfrm flipH="1" rot="16200000">
              <a:off x="1485720" y="3123000"/>
              <a:ext cx="1296360" cy="1753200"/>
            </a:xfrm>
            <a:prstGeom prst="curvedConnector5">
              <a:avLst>
                <a:gd name="adj1" fmla="val -17638"/>
                <a:gd name="adj2" fmla="val 49989"/>
                <a:gd name="adj3" fmla="val -1763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5" idx="3"/>
              <a:endCxn id="159" idx="0"/>
            </p:cNvCxnSpPr>
            <p:nvPr/>
          </p:nvCxnSpPr>
          <p:spPr>
            <a:xfrm flipH="1">
              <a:off x="3009600" y="3276720"/>
              <a:ext cx="2782080" cy="1372320"/>
            </a:xfrm>
            <a:prstGeom prst="curvedConnector5">
              <a:avLst>
                <a:gd name="adj1" fmla="val -8204"/>
                <a:gd name="adj2" fmla="val 26371"/>
                <a:gd name="adj3" fmla="val -8204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75" name=""/>
          <p:cNvSpPr/>
          <p:nvPr/>
        </p:nvSpPr>
        <p:spPr>
          <a:xfrm>
            <a:off x="5257800" y="4419720"/>
            <a:ext cx="35812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 Interface 1 of component 3 invocated by Interface1 of Component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 Interface 1 of Component 3 invocated by Interface 2 of component 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Dependency Test Coverage criter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events can have sequential dependencies on each other and the order in which they are triggered can result in different program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ependencies are called context depend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809880"/>
            <a:ext cx="2133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3733920"/>
            <a:ext cx="22860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733920"/>
            <a:ext cx="22860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3886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3886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88620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809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3809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962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3886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96252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886200"/>
            <a:ext cx="22860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886200"/>
            <a:ext cx="22860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038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038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2666880" y="2361960"/>
            <a:ext cx="76680" cy="297252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4" idx="0"/>
            <a:endCxn id="179" idx="0"/>
          </p:cNvCxnSpPr>
          <p:nvPr/>
        </p:nvCxnSpPr>
        <p:spPr>
          <a:xfrm flipH="1" flipV="1" rot="5400000">
            <a:off x="5295960" y="2590200"/>
            <a:ext cx="76680" cy="2363040"/>
          </a:xfrm>
          <a:prstGeom prst="curvedConnector5">
            <a:avLst>
              <a:gd name="adj1" fmla="val 400000"/>
              <a:gd name="adj2" fmla="val 49992"/>
              <a:gd name="adj3" fmla="val 4000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57200" y="502920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ll possible operational sequences in the in the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th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Dependency test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dependency exists between 2 interfaces I1 and I2 if an operation of I2 modifies the value of a variable used in an operation of  I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 I2 is said to be content dependent on I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the content dependencies in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All Def-Use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verage Notions for Context Sensitive Component Testing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467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able COTS compon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for building testable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t I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ace Pro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eable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f testing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achine Models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hese techniques involve the efforts of both the Component developer and Component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t In te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veloper Packages components with the test c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est cases may be executed on the component by using a test exec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uilt in test cases a component user can validate the behavior of the COTS function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face Prob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 users might employ this technique to understand the component functiona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unctionality can then be used as the basis for creating test ora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onent developer can reduce the effort required to determine component properties by automating certain aspects of interface prob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ceable Compon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tability is a facility that a component provides to track its internal and external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tability can be used to create test ora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C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C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in testing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for building testabl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Testing of Compon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 Testing Compon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 the component with functionality of analysis and testing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onent augmented accordingly is capable of performing some or all activities of the component user’s t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can run in 2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e Machine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discussed in the previous slides are techniques for better exchange of information between Component developer and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knowledge gained the component user has to write test cases to validate if the component will work in its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mated technique to check if a component will work in its context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e Machi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generated for testing components in their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ponent considers each component as a F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presenting a system and its context all the Finite State Machines are combined together to form a Component Based Flow Graph (CBF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e Machine Model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371600" y="82440"/>
            <a:ext cx="1143000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e Machi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CBFG test cases that are context adequate and content adequate are 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State Machine Models: The testing effort of a component can be greater than the re-development effort of the same compon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ified CBS Architect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05120"/>
            <a:ext cx="160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Build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es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1905120"/>
            <a:ext cx="1524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Tests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1905120"/>
            <a:ext cx="2895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Repository with adequately teste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581280"/>
            <a:ext cx="1905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Us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alid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5142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505320"/>
            <a:ext cx="1676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oftwar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352680"/>
            <a:ext cx="1676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ser tests the COTS in their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876560" y="38098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gression Testing of Component Syste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built using components have system components and C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mponents might evolve while COTS components remain st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S components might evolve while the system components remain st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OTS and system components can ev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components in the context of their system is not trivi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research is focusing on 'building testable components' than 'testing components in their context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gives an indication that if a component is not testable it is difficult/ impossible to test it in it in the context of it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ture research in this field might focus on making use of the ‘testable components’ to automate testing components in the context of their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Component Based Software Engineering (CBSE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pproach is based on the idea to develop software systems by selecting appropriate off-the-shelf components and then assemble them with a well-defined software archit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SE has three major fun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software from prefabricated, reusabl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use those parts in other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maintaining and customizing those parts to produce new functions and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mercial Off the shelf (COTS) compon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onent is an independent and replaceable part of a system that fulfills a clea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onent works in the context of a well defined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onent communicates with other components by its inter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veloped by different developers, using different languages and different plat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4495680"/>
            <a:ext cx="5943600" cy="2089440"/>
            <a:chOff x="1676520" y="4495680"/>
            <a:chExt cx="5943600" cy="2089440"/>
          </a:xfrm>
        </p:grpSpPr>
        <p:sp>
          <p:nvSpPr>
            <p:cNvPr id="95" name=""/>
            <p:cNvSpPr/>
            <p:nvPr/>
          </p:nvSpPr>
          <p:spPr>
            <a:xfrm>
              <a:off x="5486760" y="47242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044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676520" y="4495680"/>
              <a:ext cx="5943600" cy="2089440"/>
              <a:chOff x="1676520" y="4495680"/>
              <a:chExt cx="5943600" cy="2089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4572360" y="5638680"/>
                <a:ext cx="75960" cy="381240"/>
                <a:chOff x="4572360" y="5638680"/>
                <a:chExt cx="75960" cy="381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572360" y="56386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572360" y="5791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2360" y="59436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676520" y="4495680"/>
                <a:ext cx="5943600" cy="2089440"/>
                <a:chOff x="1676520" y="4495680"/>
                <a:chExt cx="5943600" cy="20894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172560" y="5105520"/>
                  <a:ext cx="144756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62520" y="4495680"/>
                  <a:ext cx="1447920" cy="381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62520" y="5181480"/>
                  <a:ext cx="1447920" cy="381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62520" y="6095880"/>
                  <a:ext cx="1447920" cy="381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200760" y="4723920"/>
                  <a:ext cx="76176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276720" y="5334120"/>
                  <a:ext cx="6098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276720" y="5791320"/>
                  <a:ext cx="5335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5486760" y="5715000"/>
                  <a:ext cx="6094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76520" y="5181480"/>
                  <a:ext cx="1524240" cy="55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ompon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repositor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38840" y="4572000"/>
                  <a:ext cx="1143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omponent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115160" y="5257800"/>
                  <a:ext cx="1143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omponent 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115160" y="6126120"/>
                  <a:ext cx="1143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om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48520" y="5257800"/>
                  <a:ext cx="137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Software syste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2743560" y="6019560"/>
                  <a:ext cx="533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5867640" y="5943240"/>
                  <a:ext cx="45720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905120" y="6095880"/>
                  <a:ext cx="914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sel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401160" y="6126120"/>
                  <a:ext cx="1143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assem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antages of CO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cost is re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time is re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systems can be built by reusing pre-existing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effort is reduc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724280"/>
            <a:ext cx="434340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mponent Based Systems: Architect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man’s interpretation of Component Based Syst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2971800"/>
            <a:ext cx="7238880" cy="2318760"/>
            <a:chOff x="762120" y="2971800"/>
            <a:chExt cx="7238880" cy="2318760"/>
          </a:xfrm>
        </p:grpSpPr>
        <p:sp>
          <p:nvSpPr>
            <p:cNvPr id="126" name=""/>
            <p:cNvSpPr/>
            <p:nvPr/>
          </p:nvSpPr>
          <p:spPr>
            <a:xfrm>
              <a:off x="762120" y="2971800"/>
              <a:ext cx="16002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er Builds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2971800"/>
              <a:ext cx="1447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er Tests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2320" y="3429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05520" y="2971800"/>
              <a:ext cx="28954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 Repository with </a:t>
              </a: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adequately test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647960"/>
              <a:ext cx="24386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 User uses the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77120" y="38862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26672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90920" y="4572000"/>
              <a:ext cx="16761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al Software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mponent Based Systems: A cautionary Tale-Ariane examp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ane Flight 501 crashed 30 sec after take-0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reasons for the failure of the first Ariane 5 was that a conversion to integer its software failed (overflo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was taken from Ariane 4, and had been successfully tested for Arian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riane 5 had a higher initial velocity and was heavier than Arian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he story learnt: Even adequately tested components can fail when the context in which it is used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ing Components: 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is done by the develo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Requirements not available. Instead the developer has to use Component specif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predictable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predictable interaction with other compon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text Sensitive Component Testing: Challeng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is done by the Component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vailability of source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code in various langu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ies and interactions among components is compl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6:36:57Z</dcterms:created>
  <dc:creator>Preferred Customer</dc:creator>
  <dc:description/>
  <dc:language>en-US</dc:language>
  <cp:lastModifiedBy>Preferred Customer</cp:lastModifiedBy>
  <dcterms:modified xsi:type="dcterms:W3CDTF">2006-12-12T14:16:26Z</dcterms:modified>
  <cp:revision>24</cp:revision>
  <dc:subject/>
  <dc:title>Testing Component Based Software Architecture</dc:title>
</cp:coreProperties>
</file>