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D20C-3CED-48F8-A659-02446446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87D4-3C00-4747-B387-A7DBF3EF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2F25-486E-4F80-8F3D-3CAD716C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F1B5-2552-4650-A9AA-5B4AAC24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9D20-6434-4A5F-9452-B371D472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39E6-7341-41C8-B171-D242537F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9BA1-00D7-4DBA-B970-292DA97B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850E-D6E7-491A-81C4-E37CA0DF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22A8-2A1A-4A3C-B64D-9E679E2E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9EDE-C392-4199-82DB-B4666BB0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46BF-3784-47EC-B64B-8573FF87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7C34-70C3-4984-BF3D-11A427DB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5C9E-6126-45DD-A1D8-1E04CB67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DCDC-746E-48CF-8C38-B434D5AC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8419-432A-4DB7-BDD4-C08ED87F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8CB8-657C-4AFE-8DC3-10C76DDF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7B40-FC15-4AF7-87EB-096BA24F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04E7-FF79-4F21-AB90-7F1D5660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8458-44CF-4D1D-B531-E08E5CEB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3402-D205-43B7-AE79-2443C634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95B1-2619-4538-95A6-6E87E493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0866-3A89-4D60-8CFF-0690F4B6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3C40-D49A-48DA-A6D1-D10122BF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E851-A1FE-46B3-8606-4701E87D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A208-A819-406E-8F3D-6305BD04A7E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9A8A-B40E-41DD-BCDE-7B7B498912AE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odel-based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Gramm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49320" y="1981080"/>
            <a:ext cx="766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Context-free grammars to generate test case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3162240"/>
            <a:ext cx="3264120" cy="1866960"/>
          </a:xfrm>
          <a:prstGeom prst="rect">
            <a:avLst/>
          </a:prstGeom>
          <a:ln w="9360">
            <a:solidFill>
              <a:srgbClr val="292929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495680" y="2819520"/>
            <a:ext cx="4496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29840" indent="-429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Example of TC:</a:t>
            </a: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1 + 2 * 3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Problem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The test cases may be infinitely long. Weights must be inserted in the rule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rkov Cha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Markov chains are structurally similar to finite state machine, but can be seen as probabilistic automata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arcs</a:t>
            </a: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: labeled with elements from the input domain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transition probabilities</a:t>
            </a: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: uniform if no usage information is availab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rkov Cha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855680" y="1752120"/>
            <a:ext cx="3754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input domain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: {Enter, up-arrow, down-arrow}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variables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cursor location = {“Sel”, “Ent”, “Anl”, “Prt”, “Ext”}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project selected = {“yes”, “no”}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states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{(CL = “Sel”, PD = “No”), (CL = “Sel”, PD = “Yes”), ...}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4920" y="2332080"/>
            <a:ext cx="4398840" cy="3306600"/>
          </a:xfrm>
          <a:prstGeom prst="rect">
            <a:avLst/>
          </a:prstGeom>
          <a:ln w="936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rkov Cha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6781680" cy="4852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848720" y="2362320"/>
            <a:ext cx="129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81680" y="1981080"/>
            <a:ext cx="22100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test case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invok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selec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down-arrow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down-arrow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nalyz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down-arrow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down-arrow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rkov Cha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2023920"/>
            <a:ext cx="838188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rkov Cha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Analysis of the chain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Example 1: 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Expected length and standard deviation of the input sequence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length: 20.1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standard deviation: 15.8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rkov Cha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19560" y="198108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Example 2: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Estimate the coverage of the chain states and arc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81.25% of states appear in the test after 7 input sequence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5943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rkov Cha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58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Problems with Markov Chain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Transition matrix may become very larg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The growth of the number of states and transitions impacts in the readability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Maintainability – it is hard to find all transitions that should be included to keep the model consistent when a new state is added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Stochastic Automata Net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SAN represents the system by a collection of subsystem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subsystems: </a:t>
            </a: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individual behavior (</a:t>
            </a:r>
            <a:r>
              <a:rPr b="0" i="1" lang="pt-BR" sz="2800" spc="-1" strike="noStrike">
                <a:solidFill>
                  <a:srgbClr val="292929"/>
                </a:solidFill>
                <a:latin typeface="Arial"/>
              </a:rPr>
              <a:t>local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ransitions</a:t>
            </a: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) and interdependencies (</a:t>
            </a:r>
            <a:r>
              <a:rPr b="0" i="1" lang="pt-BR" sz="2800" spc="-1" strike="noStrike">
                <a:solidFill>
                  <a:srgbClr val="292929"/>
                </a:solidFill>
                <a:latin typeface="Arial"/>
              </a:rPr>
              <a:t>synchronizing events</a:t>
            </a: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 and </a:t>
            </a:r>
            <a:r>
              <a:rPr b="0" i="1" lang="pt-BR" sz="2800" spc="-1" strike="noStrike">
                <a:solidFill>
                  <a:srgbClr val="292929"/>
                </a:solidFill>
                <a:latin typeface="Arial"/>
              </a:rPr>
              <a:t>functional rates</a:t>
            </a: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SAN may reduce the state space explosion by its modular way of modeling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Stochastic Automata Net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Definition of SAN: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 tuple (G, E, R, P, I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G = {G</a:t>
            </a:r>
            <a:r>
              <a:rPr b="0" lang="pt-BR" sz="24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, ..., G</a:t>
            </a:r>
            <a:r>
              <a:rPr b="0" lang="pt-BR" sz="2400" spc="-1" strike="noStrike" baseline="-25000">
                <a:solidFill>
                  <a:srgbClr val="292929"/>
                </a:solidFill>
                <a:latin typeface="Arial"/>
              </a:rPr>
              <a:t>m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} global states, composed by A</a:t>
            </a:r>
            <a:r>
              <a:rPr b="0" lang="pt-BR" sz="24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 x A</a:t>
            </a:r>
            <a:r>
              <a:rPr b="0" lang="pt-BR" sz="24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 x ... x A</a:t>
            </a:r>
            <a:r>
              <a:rPr b="0" lang="pt-BR" sz="24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 (A</a:t>
            </a:r>
            <a:r>
              <a:rPr b="0" lang="pt-BR" sz="2400" spc="-1" strike="noStrike" baseline="-25000">
                <a:solidFill>
                  <a:srgbClr val="292929"/>
                </a:solidFill>
                <a:latin typeface="Arial"/>
              </a:rPr>
              <a:t>i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 is an automaton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E = {E</a:t>
            </a:r>
            <a:r>
              <a:rPr b="0" lang="pt-BR" sz="24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, ..., E</a:t>
            </a:r>
            <a:r>
              <a:rPr b="0" lang="pt-BR" sz="2400" spc="-1" strike="noStrike" baseline="-25000">
                <a:solidFill>
                  <a:srgbClr val="292929"/>
                </a:solidFill>
                <a:latin typeface="Arial"/>
              </a:rPr>
              <a:t>k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} set of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vents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R = {R</a:t>
            </a:r>
            <a:r>
              <a:rPr b="0" lang="pt-BR" sz="24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, ..., R</a:t>
            </a:r>
            <a:r>
              <a:rPr b="0" lang="pt-BR" sz="2400" spc="-1" strike="noStrike" baseline="-25000">
                <a:solidFill>
                  <a:srgbClr val="292929"/>
                </a:solidFill>
                <a:latin typeface="Arial"/>
              </a:rPr>
              <a:t>k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} set of event rate functions (rate of occurrence of the event)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P = {P</a:t>
            </a:r>
            <a:r>
              <a:rPr b="0" lang="pt-BR" sz="24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, ..., P</a:t>
            </a:r>
            <a:r>
              <a:rPr b="0" lang="pt-BR" sz="2400" spc="-1" strike="noStrike" baseline="-25000">
                <a:solidFill>
                  <a:srgbClr val="292929"/>
                </a:solidFill>
                <a:latin typeface="Arial"/>
              </a:rPr>
              <a:t>k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} transition probability functions, one for each pair (event, global state)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I: set on initial state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odel-based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Finite state machin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Statechar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Gramma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Markov chai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Stochastic Automata Network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Stochastic Automata Net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343400" cy="22096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56040" y="1828440"/>
            <a:ext cx="4135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utomata: {Navigation, Status}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Navigation = {Start, Password, Menu}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Status = {Waiting, POK, PNotOK}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Event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E = {ST, QT, S, g, f}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ST = {(Start, Wait) → (Pass, Wait)}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S = {(Pass, Wait) →  (Menu, POK)}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28600" y="4227480"/>
            <a:ext cx="457200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Stochastic Automata Net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343400" cy="22096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56040" y="1828440"/>
            <a:ext cx="4135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QT = {(Pass, Wait) → (Start, Wait), (Menu, Wait) → (Start, Wait), (Menu, POK) → (Start, Wait)}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g = {(pass, wait) → (pass, PNotOk)}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f = {(pass, PNotOk) → (pass, wait)}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Initial St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I={(Start, Waiting)}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28600" y="4227480"/>
            <a:ext cx="457200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rkov Chain vs S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Test case samples generated using Markov chain and stochastic automat network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Experiment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Generation time analysi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Quality of test sui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rkov Chain vs S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560" y="502920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292929"/>
                </a:solidFill>
                <a:latin typeface="Arial"/>
              </a:rPr>
              <a:t>Simple counter navig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MC: 9 states and 24 transition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SAN: 3 automata (2 x 5 x 6) total of 60 states, 9 global reachable state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4164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rkov Chain vs S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267080" y="1676520"/>
            <a:ext cx="4724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292929"/>
                </a:solidFill>
                <a:latin typeface="Arial"/>
              </a:rPr>
              <a:t>Calendar Manag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MC: 16 states and 67 transition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SAN: 5 automata (2 x 3 x 4 x 2 x 7) total of 336 states, 16 global reachable state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4041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rkov Chain vs S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502920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292929"/>
                </a:solidFill>
                <a:latin typeface="Arial"/>
              </a:rPr>
              <a:t>Form-based Documents Edito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MC: 417 states and 2593 transition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SAN: 3 automata (2 x 2 x 2 x 3 x 3 x 10) total of 417 states, 720 global reachable state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86764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rkov Chain vs S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61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Generation tim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(simple counter navigation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843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9480" y="2338560"/>
            <a:ext cx="769644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rkov Chain vs S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61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Generation tim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(calendar manager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843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2394000"/>
            <a:ext cx="746748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rkov Chain vs S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61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Generation tim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(docs editor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843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75438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rkov Chain vs S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61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Quality of test sui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843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45820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odel-based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9040" y="1981080"/>
            <a:ext cx="6529680" cy="476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rkov Chain vs S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61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Quality of test sui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843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2433600"/>
            <a:ext cx="830592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rkov Chain vs S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61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Quality of test sui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843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2511360"/>
            <a:ext cx="822960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rkov Chain vs S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61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Quality of test sui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843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822960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rkov-based GUI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Event flow graph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Have an usage mod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Retrieve sequences of even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Given a start and final state, one could use the properties of markov chains to generate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est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Finite State Mach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Finite state machines have the state changed according to the input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They are different from event flow graph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Finite State Mach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5029200" cy="315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1066680" y="4724280"/>
          <a:ext cx="6934320" cy="1825920"/>
        </p:xfrm>
        <a:graphic>
          <a:graphicData uri="http://schemas.openxmlformats.org/drawingml/2006/table">
            <a:tbl>
              <a:tblPr/>
              <a:tblGrid>
                <a:gridCol w="1387440"/>
                <a:gridCol w="1386000"/>
                <a:gridCol w="1387440"/>
                <a:gridCol w="1386000"/>
                <a:gridCol w="1387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off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dim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bright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off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&lt;turn on&gt;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dim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&lt;turn off&gt;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&lt;incr. int.&gt;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&lt;turn off&gt;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&lt;decr. Int.&gt;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&lt;incr. int.&gt;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bright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&lt;turn off&gt;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&lt;decr. int.&gt;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6021360" y="2133720"/>
            <a:ext cx="246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Test case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: {&lt;turn on&gt;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&lt;decrease intensity&gt;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&lt;increase intensity&gt;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&lt;turn off&gt;}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Statecha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Statecharts specify state machines in a hierarchy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states</a:t>
            </a: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: AND, OR, basic stat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00200" y="3486240"/>
            <a:ext cx="5029200" cy="307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779880" y="4114800"/>
            <a:ext cx="1878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ND: {B1, B2}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OR: {b11, b12}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basic state: {A}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Statecha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44440" y="1905120"/>
            <a:ext cx="4459320" cy="48006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56040" y="1981080"/>
            <a:ext cx="405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configuration</a:t>
            </a: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t of states in which a system can be simultaneously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7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292929"/>
                </a:solidFill>
                <a:latin typeface="Arial"/>
              </a:rPr>
              <a:t>C1={CVM, OFF}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7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292929"/>
                </a:solidFill>
                <a:latin typeface="Arial"/>
              </a:rPr>
              <a:t>C2={CVM, ON, COFFEE, IDLE, MONEY, EMPTY}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7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292929"/>
                </a:solidFill>
                <a:latin typeface="Arial"/>
              </a:rPr>
              <a:t>C3={CVM, ON, COFFEE, BUSY, MONEY, EMPTY}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32040" y="96840"/>
            <a:ext cx="71578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Statechart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44440" y="1905120"/>
            <a:ext cx="4459320" cy="4800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856040" y="1981080"/>
            <a:ext cx="40593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transition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: tuple (s, l, s’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s: source, s’: target,         l: label defined as e[g]/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e: </a:t>
            </a:r>
            <a:r>
              <a:rPr b="0" i="1" lang="pt-BR" sz="2400" spc="-1" strike="noStrike">
                <a:solidFill>
                  <a:srgbClr val="292929"/>
                </a:solidFill>
                <a:latin typeface="Arial"/>
              </a:rPr>
              <a:t>trigg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g:</a:t>
            </a:r>
            <a:r>
              <a:rPr b="0" i="1" lang="pt-BR" sz="2400" spc="-1" strike="noStrike">
                <a:solidFill>
                  <a:srgbClr val="292929"/>
                </a:solidFill>
                <a:latin typeface="Arial"/>
              </a:rPr>
              <a:t> guar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a: </a:t>
            </a:r>
            <a:r>
              <a:rPr b="0" i="1" lang="pt-BR" sz="2400" spc="-1" strike="noStrike">
                <a:solidFill>
                  <a:srgbClr val="292929"/>
                </a:solidFill>
                <a:latin typeface="Arial"/>
              </a:rPr>
              <a:t>ac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t3: coffee[m&gt;0]/de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Statecha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7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292929"/>
                </a:solidFill>
                <a:latin typeface="Arial"/>
              </a:rPr>
              <a:t>Normal form specification: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292929"/>
                </a:solidFill>
                <a:latin typeface="Arial"/>
              </a:rPr>
              <a:t>C1: {CVM, OFF}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292929"/>
                </a:solidFill>
                <a:latin typeface="Arial"/>
              </a:rPr>
              <a:t>C2: {CVM, ON, COFFEE, IDLE, MONEY, EMPTY}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292929"/>
                </a:solidFill>
                <a:latin typeface="Arial"/>
              </a:rPr>
              <a:t>C3: {CVM, ON, COFFEE, BUSY, MONEY, EMPTY}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292929"/>
                </a:solidFill>
                <a:latin typeface="Arial"/>
              </a:rPr>
              <a:t>C4: {CVM, ON, COFFEE, IDLE, MONEY, NOTEMPTY}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292929"/>
                </a:solidFill>
                <a:latin typeface="Arial"/>
              </a:rPr>
              <a:t>C5: {CVM, ON, COFFEE, BUSY, MONEY, NOTEMPTY}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3822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3:36:52Z</dcterms:created>
  <dc:creator>test</dc:creator>
  <dc:description/>
  <dc:language>en-US</dc:language>
  <cp:lastModifiedBy>test</cp:lastModifiedBy>
  <dcterms:modified xsi:type="dcterms:W3CDTF">2006-12-05T13:34:00Z</dcterms:modified>
  <cp:revision>106</cp:revision>
  <dc:subject/>
  <dc:title>Model-Based Testing</dc:title>
</cp:coreProperties>
</file>