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1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422C-94FB-464D-966E-8E87F418F452}" type="slidenum">
              <a:rPr b="0" lang="ko-KR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entry in row r represents a URL that the single user represented by row r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lumn c, the set of true entries represents the set of users who have requested the sam UR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29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2" marL="1143000" indent="-228600">
              <a:spcBef>
                <a:spcPts val="2999"/>
              </a:spcBef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3" marL="1600200" indent="-228600">
              <a:spcBef>
                <a:spcPts val="29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4" marL="2057400" indent="-228600">
              <a:spcBef>
                <a:spcPts val="29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5" marL="2057400" indent="-228600">
              <a:spcBef>
                <a:spcPts val="29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6" marL="2057400" indent="-228600">
              <a:spcBef>
                <a:spcPts val="29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82440" y="82440"/>
            <a:ext cx="8979120" cy="669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158760" y="158760"/>
            <a:ext cx="8826480" cy="654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75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User-session based Testing of Web Applications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Concept Lattice Explained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3809880" cy="1674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ffb"/>
                </a:solidFill>
                <a:latin typeface="Comic Sans MS"/>
              </a:rPr>
              <a:t>Top node T</a:t>
            </a:r>
            <a:endParaRPr b="0" lang="en-US" sz="1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general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tains URLs that are requested by all user sess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ffb"/>
                </a:solidFill>
                <a:latin typeface="Comic Sans MS"/>
              </a:rPr>
              <a:t>Bottom node </a:t>
            </a:r>
            <a:r>
              <a:rPr b="0" lang="en-US" sz="1400" spc="-1" strike="noStrike">
                <a:solidFill>
                  <a:srgbClr val="114ffb"/>
                </a:solidFill>
                <a:latin typeface="Symbol"/>
                <a:ea typeface="Symbol"/>
              </a:rPr>
              <a:t></a:t>
            </a:r>
            <a:endParaRPr b="0" lang="en-US" sz="1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special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tains user sessions that requests all UR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ffb"/>
                </a:solidFill>
                <a:latin typeface="Comic Sans MS"/>
              </a:rPr>
              <a:t>Examples:</a:t>
            </a:r>
            <a:endParaRPr b="0" lang="en-US" sz="1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ntification of common URLs requested by 2 user sessio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Comic Sans MS"/>
              </a:rPr>
              <a:t>us3 and us4</a:t>
            </a:r>
            <a:endParaRPr b="0" lang="en-US" sz="1000" spc="-1" strike="noStrike">
              <a:solidFill>
                <a:srgbClr val="fc0128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ntification of user sessions that jointly request 2 UR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Comic Sans MS"/>
              </a:rPr>
              <a:t>PL and GS</a:t>
            </a:r>
            <a:endParaRPr b="0" lang="en-US" sz="1000" spc="-1" strike="noStrike">
              <a:solidFill>
                <a:srgbClr val="fc0128"/>
              </a:solidFill>
              <a:latin typeface="Comic Sans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1468440"/>
            <a:ext cx="38098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Comic Sans MS"/>
              </a:rPr>
              <a:t>Concept Analysis for Test Suite Reduction</a:t>
            </a:r>
            <a:endParaRPr b="0" lang="en-US" sz="28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Exploit lattice’s hierarchical use-case clustering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Heuristic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fy smallest set of user sessions that will cover all URLs executed by original su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Incremental Test Suite Update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97040" y="1811160"/>
            <a:ext cx="57499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Incremental Test Suite Update (2)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Comic Sans MS"/>
              </a:rPr>
              <a:t>Incremental algorithm by Godin et al.</a:t>
            </a:r>
            <a:endParaRPr b="0" lang="en-US" sz="18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eate new nodes/ed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ify existing nodes/ed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Comic Sans MS"/>
              </a:rPr>
              <a:t>Next-to-bottom nodes may rise up in the lattice</a:t>
            </a:r>
            <a:endParaRPr b="0" lang="en-US" sz="18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Comic Sans MS"/>
              </a:rPr>
              <a:t>Existing internal nodes never sink to the bottom</a:t>
            </a:r>
            <a:endParaRPr b="0" lang="en-US" sz="18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Comic Sans MS"/>
              </a:rPr>
              <a:t>Test cases are not maintained for internal nodes</a:t>
            </a:r>
            <a:endParaRPr b="0" lang="en-US" sz="18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Comic Sans MS"/>
              </a:rPr>
              <a:t>Set of next-to-bottom nodes (user sessions) form the test suite </a:t>
            </a:r>
            <a:endParaRPr b="0" lang="en-US" sz="1800" spc="-1" strike="noStrike">
              <a:solidFill>
                <a:srgbClr val="114ffb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935600" y="1219320"/>
            <a:ext cx="3235320" cy="255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42000" y="3924360"/>
            <a:ext cx="16207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Web Testing Framework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797120"/>
            <a:ext cx="77724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mpirical Evaluation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Test suite reduction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 suite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y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acle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Cost-effectiveness of incremental vs. batch concept analysi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Program coverage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Fault detection capabilitie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xperimental Setup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Bookstore Application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48 LO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85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JSP front-end, MySQL backend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123 user session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40 seeded fault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Test Suite Reduction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Metrics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st suite siz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lay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cle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77724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Incremental vs. Batch Analysis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Metric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ace co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ative sizes of files required by incremental and batch techniqu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Methodology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tch:  123 user sessions proces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remental:  100 processed first, then 23 incrementa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4641840"/>
            <a:ext cx="77724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Program Coverage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Metrics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ement cove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hod cove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Methodology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umented Java classes using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lo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tored database state before repl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Wge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replaying user sess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0080" y="4086360"/>
            <a:ext cx="768384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Two Papers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A Scalable Approach to User-session based Testing of Web Applications through Concept Analysi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concept analysis to reduce test suite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An Empirical Comparison of Test Suite Reduction Techniques for User-session-based Testing of Web Application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es concept analysis to other test suite reduction tech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Fault Detection Capability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Metric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ber of faults detec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Methodology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ually seeded 40 faults into separate copies of the appl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layed user sessions throug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00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Comic Sans MS"/>
              </a:rPr>
              <a:t>Correct version to generate expected output</a:t>
            </a:r>
            <a:endParaRPr b="0" lang="en-US" sz="1600" spc="-1" strike="noStrike">
              <a:solidFill>
                <a:srgbClr val="fc0128"/>
              </a:solidFill>
              <a:latin typeface="Comic Sans MS"/>
            </a:endParaRPr>
          </a:p>
          <a:p>
            <a:pPr lvl="2" marL="1131480" indent="-226080">
              <a:spcBef>
                <a:spcPts val="400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Comic Sans MS"/>
              </a:rPr>
              <a:t>Faulty version to generate actual output</a:t>
            </a:r>
            <a:endParaRPr b="0" lang="en-US" sz="1600" spc="-1" strike="noStrike">
              <a:solidFill>
                <a:srgbClr val="fc0128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xpected and actual outpu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4576680"/>
            <a:ext cx="77724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mpirical Comparison of</a:t>
            </a:r>
            <a:br>
              <a:rPr sz="3200"/>
            </a:b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Test Suite Reduction Techniques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Comic Sans MS"/>
              </a:rPr>
              <a:t>Empirical Comparison of </a:t>
            </a:r>
            <a:br>
              <a:rPr sz="2800"/>
            </a:br>
            <a:r>
              <a:rPr b="0" lang="en-US" sz="2800" spc="-1" strike="noStrike">
                <a:solidFill>
                  <a:srgbClr val="fc0128"/>
                </a:solidFill>
                <a:latin typeface="Comic Sans MS"/>
              </a:rPr>
              <a:t>Test Suite Reduction Techniques  </a:t>
            </a:r>
            <a:endParaRPr b="0" lang="en-US" sz="28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Compared 3 variations of </a:t>
            </a:r>
            <a:r>
              <a:rPr b="0" i="1" lang="en-US" sz="2400" spc="-1" strike="noStrike">
                <a:solidFill>
                  <a:srgbClr val="114ffb"/>
                </a:solidFill>
                <a:latin typeface="Comic Sans MS"/>
              </a:rPr>
              <a:t>Concept</a:t>
            </a: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 with 3 requirements-based reduction technique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ee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rrold, Gupta, and Soffa’s reduction (HG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Each requirements-based reduction technique satisfies program or URL coverage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ment, method, conditional,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Random and Greedy Reduction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Random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ection process continues until reduced test suite satisfies some coverage criter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Greedy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subsequent test case selected provides maximum coverage of some criter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Select us6 – maximum URL coverage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Then, select us2 – most marginal improvement for all-URL coverage criterion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HGS Reduction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Selects a representative set from the original by approximating the optimal reduced set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Requirement cardinality = # of test cases covering that requirement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Select most frequently occurring test case with lowest requirement cardinality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Example:  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requirement with cardinality 1 – G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Comic Sans MS"/>
              </a:rPr>
              <a:t>Select us2 </a:t>
            </a:r>
            <a:endParaRPr b="0" lang="en-US" sz="1600" spc="-1" strike="noStrike">
              <a:solidFill>
                <a:srgbClr val="fc0128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requirement with cardinality 2 – PL and G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lect test case that occurs most frequently in the un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Comic Sans MS"/>
              </a:rPr>
              <a:t>us6 occurs twice, us3 and us4 once</a:t>
            </a:r>
            <a:endParaRPr b="0" lang="en-US" sz="1600" spc="-1" strike="noStrike">
              <a:solidFill>
                <a:srgbClr val="fc0128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Comic Sans MS"/>
              </a:rPr>
              <a:t>Select us6</a:t>
            </a:r>
            <a:endParaRPr b="0" lang="en-US" sz="1600" spc="-1" strike="noStrike">
              <a:solidFill>
                <a:srgbClr val="fc0128"/>
              </a:solidFill>
              <a:latin typeface="Comic Sans MS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mpirical Evaluation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Test suite size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Program coverage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Fault detection effectivenes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Time cost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Space cost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xperimental Setup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Bookstore application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marL="339480" indent="-3394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Course Project Manager (CPM)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grader/group accou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ign grades, create schedules for demo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 notification emails about account creation, grade post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49183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Test Suite Size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Comic Sans MS"/>
              </a:rPr>
              <a:t>Suite Size Hypothesis</a:t>
            </a:r>
            <a:endParaRPr b="0" lang="en-US" sz="18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rger suites than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Comic Sans MS"/>
              </a:rPr>
              <a:t>HGS and Greedy</a:t>
            </a:r>
            <a:endParaRPr b="0" lang="en-US" sz="1400" spc="-1" strike="noStrike">
              <a:solidFill>
                <a:srgbClr val="fc0128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aller suites than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Comic Sans MS"/>
              </a:rPr>
              <a:t>Random</a:t>
            </a:r>
            <a:endParaRPr b="0" lang="en-US" sz="1400" spc="-1" strike="noStrike">
              <a:solidFill>
                <a:srgbClr val="fc0128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re diverse in terms of use case represent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Comic Sans MS"/>
              </a:rPr>
              <a:t>Results</a:t>
            </a:r>
            <a:endParaRPr b="0" lang="en-US" sz="18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okstore application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Comic Sans MS"/>
              </a:rPr>
              <a:t>HGS-S, HGS-C, GRD-S, GRD-C created larger suites</a:t>
            </a:r>
            <a:endParaRPr b="0" lang="en-US" sz="1400" spc="-1" strike="noStrike">
              <a:solidFill>
                <a:srgbClr val="fc0128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P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Comic Sans MS"/>
              </a:rPr>
              <a:t>Larger suites than HGS and Greedy</a:t>
            </a:r>
            <a:endParaRPr b="0" lang="en-US" sz="1400" spc="-1" strike="noStrike">
              <a:solidFill>
                <a:srgbClr val="fc0128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Comic Sans MS"/>
              </a:rPr>
              <a:t>Smaller than Random</a:t>
            </a:r>
            <a:endParaRPr b="0" lang="en-US" sz="1400" spc="-1" strike="noStrike">
              <a:solidFill>
                <a:srgbClr val="fc0128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815328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Test Suite Size (2)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432080"/>
            <a:ext cx="77724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Program Coverage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Coverage Hypothesi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 coverage 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Original suite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ss coverage tha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Suites that satisfy program-based requirements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er URL coverage tha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Greedy and HGS with URL criterion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Result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coverage comparable to (within 2% of) PRG_REQ tech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ightly less program coverage than original suite and Rand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program coverage than URL_REQ techniques, Greedy and H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Talk Outline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39480" indent="-3394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Background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-session Tes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Applying Concept Analysi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mental Reduced Test Suite Upd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pirical Evaluation (Incremental vs. Batch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Empirical Comparison of Concept Analysis to other Test Suite Reduction Technique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39480" indent="-3394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Conclusion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394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Program Coverage (2)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582560"/>
            <a:ext cx="7772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Fault Detection Effectiveness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Fault Detection Hypothesi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eater fault detection effectiveness tha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Requirements-based techniques with URL criterion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 fault detection effectiveness 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Original suite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Requirements-based techniques with program-based criteria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Result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st fault detection but low number of faults detected per test case - Random PRG_RE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 fault detection to the best PRG_REQ tech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ected more faults than HGS-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Fault Detection Effectiveness (2)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515960"/>
            <a:ext cx="77724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Time and Space Costs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03560" y="1219320"/>
            <a:ext cx="4735440" cy="25527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Comic Sans MS"/>
              </a:rPr>
              <a:t>Costs Hypothesis</a:t>
            </a:r>
            <a:endParaRPr b="0" lang="en-US" sz="18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ss space and time than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Comic Sans MS"/>
              </a:rPr>
              <a:t>HGS, Greedy, Random</a:t>
            </a:r>
            <a:endParaRPr b="0" lang="en-US" sz="1400" spc="-1" strike="noStrike">
              <a:solidFill>
                <a:srgbClr val="fc012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ace for Concept Lattice vs. space for requirement mappi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Comic Sans MS"/>
              </a:rPr>
              <a:t>Results</a:t>
            </a:r>
            <a:endParaRPr b="0" lang="en-US" sz="18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sts considerably less than PRG_REQ techniqu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llecting coverage information for each session is the clear bottleneck of requirements-based approach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Conclusions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Problems with Greedy and Random reduction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n-determinis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ated suites with wide range in size, coverage,  fault detection effectiven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Test suite reduction based on concept-analysis clustering of user sessions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hieves large reduction in test suite siz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ves oracle and replay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rves program cove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rves fault detection effectiven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Comic Sans MS"/>
              </a:rPr>
              <a:t>Chooses test cases based on use case representation</a:t>
            </a:r>
            <a:endParaRPr b="0" lang="en-US" sz="1600" spc="-1" strike="noStrike">
              <a:solidFill>
                <a:srgbClr val="fc0128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Incremental test suite reduction/update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lable approach to user-session-based testing of web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cessary for web applications that undergoes constant maintenance, evolution, and usage chan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References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Sreedevi Sampath, Valentin Mihaylov, Amie Souter, Lori Pollock </a:t>
            </a:r>
            <a:r>
              <a:rPr b="1" lang="en-US" sz="2400" spc="-1" strike="noStrike">
                <a:solidFill>
                  <a:srgbClr val="114ffb"/>
                </a:solidFill>
                <a:latin typeface="Comic Sans MS"/>
              </a:rPr>
              <a:t>"A Scalable Approach to User-session based Testing of Web Applications through Concept Analysis," </a:t>
            </a:r>
            <a:r>
              <a:rPr b="0" i="1" lang="en-US" sz="2400" spc="-1" strike="noStrike">
                <a:solidFill>
                  <a:srgbClr val="114ffb"/>
                </a:solidFill>
                <a:latin typeface="Comic Sans MS"/>
              </a:rPr>
              <a:t>Automated Software Engineering Conference (ASE)</a:t>
            </a: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, September 2004.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Sara Sprenkle, Sreedevi Sampath, Emily Gibson, Amie Souter, Lori Pollock, </a:t>
            </a:r>
            <a:r>
              <a:rPr b="1" lang="en-US" sz="2400" spc="-1" strike="noStrike">
                <a:solidFill>
                  <a:srgbClr val="114ffb"/>
                </a:solidFill>
                <a:latin typeface="Comic Sans MS"/>
              </a:rPr>
              <a:t>"An Empirical Comparison of Test Suite Reduction Techniques for User-session-based Testing of Web Applications,"</a:t>
            </a: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114ffb"/>
                </a:solidFill>
                <a:latin typeface="Comic Sans MS"/>
              </a:rPr>
              <a:t>International Conference on Software Maintenance (ICSM)</a:t>
            </a: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, September 2005. 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Comic Sans MS"/>
              </a:rPr>
              <a:t>Characteristics of Web-based Applications</a:t>
            </a:r>
            <a:endParaRPr b="0" lang="en-US" sz="28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Short time to market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Integration of numerous technologies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Dynamic generation of content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May contain millions of LOC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Extensive use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 for high reliability, continuous avail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Significant interaction with users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Changing user profiles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Frequent small maintenance changes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User-session Testing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User session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llection of user requests in the form of URL and name-value pai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User sessions are transformed into test case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logged request in a user session is changed into an HTTP request that can be sent to a web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Previous studies of user-session testing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vious results showed fault detection capabilities and cost effectiven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ll not uncover faults associated with rarely enter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ffectiveness improves as the number of sessions increases (downside: cost increases as wel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Contributions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View user sessions as use case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Apply concept analysis for test suite reduction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Perform incremental test suite update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Automate testing framework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Evaluate cost effectivenes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 suite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cove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det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Concept Analysis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Technique for clustering objects that have common discrete attributes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 of objects 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 of attributes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 relation 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Relates objects to attributes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Implemented as a Boolean-valued table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row for each object in 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column for each attribute in 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Table entry [o, a] is true if object o has attribute a, otherwise false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Concept Analysis (2)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Identifies concepts given (O, A, R) 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Concept is a tuple (O</a:t>
            </a:r>
            <a:r>
              <a:rPr b="0" lang="en-US" sz="2400" spc="-1" strike="noStrike" baseline="-25000">
                <a:solidFill>
                  <a:srgbClr val="114ffb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, A</a:t>
            </a:r>
            <a:r>
              <a:rPr b="0" lang="en-US" sz="2400" spc="-1" strike="noStrike" baseline="-25000">
                <a:solidFill>
                  <a:srgbClr val="114ffb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s form a partial or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9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 lattice represented by a DA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Node represents concept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Edge denotes the partial ordering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 element T = most general 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ontains attributes that are shared by all objects in O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tom elemen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most special 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c0128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ontains objects that have all attributes in A</a:t>
            </a:r>
            <a:endParaRPr b="0" lang="en-US" sz="1800" spc="-1" strike="noStrike">
              <a:solidFill>
                <a:srgbClr val="fc0128"/>
              </a:solidFill>
              <a:latin typeface="Comic Sans MS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4ff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Concept Analysis for Web Testing</a:t>
            </a:r>
            <a:endParaRPr b="0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1760" y="1219320"/>
            <a:ext cx="4738680" cy="2552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Comic Sans MS"/>
              </a:rPr>
              <a:t>Binary relation table</a:t>
            </a:r>
            <a:endParaRPr b="0" lang="en-US" sz="2000" spc="-1" strike="noStrike">
              <a:solidFill>
                <a:srgbClr val="114ffb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session s = obj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RL u = attribu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air (s, u) is in the relation table if s requests 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5:00:56Z</dcterms:created>
  <dc:creator>Jehan-François Pâris</dc:creator>
  <dc:description/>
  <dc:language>en-US</dc:language>
  <cp:lastModifiedBy>Yeelin Tan</cp:lastModifiedBy>
  <dcterms:modified xsi:type="dcterms:W3CDTF">2006-11-30T14:41:53Z</dcterms:modified>
  <cp:revision>1718</cp:revision>
  <dc:subject/>
  <dc:title>The Design and Implementation of a Log-Structured File System</dc:title>
</cp:coreProperties>
</file>