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5C5A0-ED14-4DB2-937D-2993C08B8F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CD66B-DEB9-4D22-B016-242767BCA1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CDBCE-8A08-46B8-A76E-E60A221074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175C5-55F8-4786-B3E1-846D7AE858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5F5A2-8157-406F-8907-D282721DCC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E497F-162C-4AF2-9DFA-6AA7F86511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579A9-A5A4-4976-8990-84CE9EBA97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14D4B-9A19-4CE4-81FB-ABD13D0401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D3FE2-7648-4391-9D57-627F04139D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23BAC-FC33-4FDC-89A9-0749078A28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AB288-A7CF-4327-8F75-1FE5CDA3E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24032-CC01-42DC-B216-FF96C6AB0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D6B1D-8406-4B9A-9B57-037B1FF08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75B77-A78C-46E0-A602-2E345A372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A1FAE-995C-45BD-9E9E-527C0EF06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6F417-7C8E-49BC-A5CE-1C7891B5C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885E1-E96C-4184-A254-B827CE14C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05B52-69D3-4B0B-B7F0-6FA42AD0D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A66D1-A38F-4499-9A66-F508CBECF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D67C4-7416-4DEA-B46B-DB68E9052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27970-6B05-41D4-AA54-E1F157D86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AD17A-BFE3-46D4-B74C-DB1E989DF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CAEAE-39D4-48F4-9146-A82C46858DCD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ppt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3143160" y="1699920"/>
            <a:ext cx="4270320" cy="21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ASPIRE: Automated Systematic Protocol Implementation Robustness Evalu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ppt02-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99640" y="918720"/>
            <a:ext cx="7272360" cy="6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000000"/>
                </a:solidFill>
                <a:latin typeface="Garamond"/>
              </a:rPr>
              <a:t>CONT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26560" y="1844640"/>
            <a:ext cx="741708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Definitions &amp; Taxonomy of Application Layer Protoc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Fault Generation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Experiments &amp; Conclu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" descr="ppt02-2"/>
          <p:cNvPicPr/>
          <p:nvPr/>
        </p:nvPicPr>
        <p:blipFill>
          <a:blip r:embed="rId1"/>
          <a:stretch/>
        </p:blipFill>
        <p:spPr>
          <a:xfrm>
            <a:off x="0" y="712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99640" y="785880"/>
            <a:ext cx="727236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Garamond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42960" y="1285920"/>
            <a:ext cx="757224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Robustness –  Ability of an implementation to handle exceptional input in the form of faulty PDUs and continue normal protocol op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Protocol implementations differ in their behavior on faulty inpu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Challenge in automated robustness protocol testing  is systematic generation of faulty inpu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Taxonomy of Application layer protocols used to design test cases for testing robust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4" descr="ppt02-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99640" y="918720"/>
            <a:ext cx="7272360" cy="6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Garamond"/>
              </a:rPr>
              <a:t>Defn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42600" y="1844640"/>
            <a:ext cx="771516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PDU : &lt;c1,…cn&gt;; ci = control fiel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Protocol Specification: Defines syntax, semantics and allowed sequences of PD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Protocol Implementation: P={Si|Si=[&lt;p1,h1,a1&gt;….&lt;pn,hn,an&gt;]}; P=set of sequences, each triple&lt;pi, hi, ai&gt; represents an action ai (send or receive) on PDU pi by host h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ppt02-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99640" y="918720"/>
            <a:ext cx="7458120" cy="6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Garamond"/>
              </a:rPr>
              <a:t>Taxonomy of Application Layer Protoc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42600" y="1844640"/>
            <a:ext cx="771516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Stateless Protocols - HTTP: State information about a client (record of transaction) is not maintained; susceptible to syntactical faulty PD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Stateful Protocols – SMTP: State information about a client until the transaction is over is maintained; susceptible to semantic faulty PD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ppt02-2"/>
          <p:cNvPicPr/>
          <p:nvPr/>
        </p:nvPicPr>
        <p:blipFill>
          <a:blip r:embed="rId1"/>
          <a:stretch/>
        </p:blipFill>
        <p:spPr>
          <a:xfrm>
            <a:off x="0" y="712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99640" y="642960"/>
            <a:ext cx="745812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Garamond"/>
              </a:rPr>
              <a:t>Fault Generation Algorith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42600" y="1356840"/>
            <a:ext cx="7715160" cy="40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Generating syntactically faulty PDUs : Maximally faulty PDUs grow exponentially in the number of fields – Pruning Strategy (pair wise testing constrain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Generating semantically faulty PDUs : Semantic faulty PDUs grow polynomially (manageable); Test case consists of a state, list of semantically faulty PDUs related to that state and sequence of correct PDUs which will drive the protocol to that s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4" descr="ppt02-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99640" y="918720"/>
            <a:ext cx="7458120" cy="6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Garamond"/>
              </a:rPr>
              <a:t>Experiments &amp; Conclu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42600" y="1500120"/>
            <a:ext cx="771516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Evaluated Hypothese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     </a:t>
            </a: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- Protocol implementations differ in their behavior  in terms of robustness to faulty PDU input for both stateful &amp; stateless protoc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     </a:t>
            </a: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- Pair wise constraint in the pruning strategy does not reduce the capacity to evaluate robustness of different implemen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ppt02-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642960" y="213840"/>
            <a:ext cx="77868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Metric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     </a:t>
            </a: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-Reduced ratio = syntactic faulty PDUs by the generation algorithm / combinatorial enum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     </a:t>
            </a: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- Robustness ratio = number of faulty inputs that were handled by implementation by continuing normal operation / total number of faulty inpu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Results show the following to prove the hypothes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Average robustness ratio is not different for syntactic faulty PDUset of all posssible faulty PD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Average robustness ratio of different implementations is different for semantic &amp; syntactic fa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4" descr="ppt02-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642960" y="213840"/>
            <a:ext cx="77868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Garamond"/>
              </a:rPr>
              <a:t>Thank Y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27T22:51:45Z</dcterms:created>
  <dc:creator>Power</dc:creator>
  <dc:description/>
  <dc:language>en-US</dc:language>
  <cp:lastModifiedBy>Deepti</cp:lastModifiedBy>
  <dcterms:modified xsi:type="dcterms:W3CDTF">2008-04-10T03:57:24Z</dcterms:modified>
  <cp:revision>11</cp:revision>
  <dc:subject/>
  <dc:title>Diapositive 1</dc:title>
</cp:coreProperties>
</file>