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70BE-85D5-4BB6-9B8D-2722DD44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/Java says ‘it can construct an execution trace indicating a possible dynamic path to the potential error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5C5-6D17-4B74-AAAC-B1CB1567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314-AA95-44EB-9224-210BDFC4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494-0431-4879-849E-FE649193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9B6-41B3-48AD-AF7A-7D43D2A4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63E-C768-4EEB-A30C-16F9726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727-B951-4421-92D1-D67C8BD1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32A-EA5B-4A8C-AC5B-167C8F76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C3C-0C92-44CB-9A5E-DCB041C7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2AF-94AE-443C-A96A-C1715C82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F14-EE1A-4C00-BDC3-9333783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5BC-08EC-43D2-BF5B-36A2AC7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3CA-4C43-4381-A8A2-63BD8C09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63B7-714B-44F2-8469-1ECD44714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Static and Dynamic Reasoning for Bug De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nis Smaragdakis and Christoph Csall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natan Reisner – April 17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JCrasher, Check ‘n‘ Crash, and DSD-Crasher on Groovy (a scripting l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ugs found with fewer te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longer total run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952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static and dynamic techniques can find more bugs with few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ime tradeoff in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r-level soundness the right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exploits use abnormal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esting and static analysis ar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oth have 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finding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guidance, many tests will be us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certifying correc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guidance, many false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combine these two approach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s on static vs. 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- and user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: ESC/Java and JCra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tatic checking ‘sound for incorrectnes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this to user-level sou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ughts on static vs. dyna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at arbitrary dis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levant dichoto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prove program corr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’ here means no undetecte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say there’s no bug, there’s no bug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find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’ here means no false al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say there’s a bug, there’s a bug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rove programs in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 vs. user-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’s a bu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-level: it is possible for the code to exhibit th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a ‘bug’ that is not language-level s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-level: a user might actually encounter the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3406680"/>
            <a:ext cx="35244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/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Static Checke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 checking – context-in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tations (similar to JML) ai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preconditions, postcondi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implify theorem prover to en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ull de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s obe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warnings (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nterexample con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it finds potential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is unsound in both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ra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JUnit tests which cras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inputs based on typ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publ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ally classifies exceptions as invalid test or actual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s are language-level sound (for incorrect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 actually crash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‘n‘ Crash: language-level soun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Combine ESC/Java and JCra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ESC/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arnings to find potential crashing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JCrasher to create and run JUnit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Focused testing + language-level sou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SD-Crasher: user-level soun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 for generating ‘normal’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Daikon on an existing test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conditions that code exhibits in all observed exec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enerated invariants as preconditions to filter ESC/Java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inputs to ‘normal’ cases eliminates user-level unsound bug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namic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ic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7:28:12Z</dcterms:created>
  <dc:creator>Elnatan and Lianna Reisner</dc:creator>
  <dc:description/>
  <dc:language>en-US</dc:language>
  <cp:lastModifiedBy>Elnatan and Lianna Reisner</cp:lastModifiedBy>
  <dcterms:modified xsi:type="dcterms:W3CDTF">2008-04-13T22:44:02Z</dcterms:modified>
  <cp:revision>2</cp:revision>
  <dc:subject/>
  <dc:title>Combining Static and Dynamic Reasoning for Bug Detection</dc:title>
</cp:coreProperties>
</file>