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230-89B7-45F2-BC37-F12D6B26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DC3-05A7-4D11-8C9E-608DA64A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CED-E79D-44C2-8B08-90B89B08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563-E5FB-4856-AF03-49B1490D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661-E92F-4C97-A100-542C2D9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33E-955B-4A8A-9268-EC53047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B69-7797-4C88-A070-4046C76C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C16-A677-417C-8A01-5B6499FB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3EA-4AE4-4D05-BAED-533DC069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7F9-0A7C-4EF7-A9D7-E5BAD903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FF8-D178-49F5-A685-34985274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121-7F30-44E0-9D6E-83EFBD17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0E3-A67B-4ABC-9D5E-1DB48647A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ftware Fault Injection for Surviv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ffrey M. Voas &amp; Anup K. Gho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ed by Alison Teo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– Execut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selected inpu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– Instrument code to determine ea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s exercis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– Determine the outcome of an unperturbed run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– Alter some variable at locati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ject a fa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– If security predicate (assertion) was violated, record locati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– Repeat steps 1-5 until coverage goals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– Use recorded locations in code as basis of further analysis (code inspection, verification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T (Fault Injection Security Too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fault injection analysis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/C+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developer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ly perturb program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nd or truncate st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 Buffer Over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other fault injection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628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cellaneous Reasons FIST is eff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attempts to overflow buf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tools only target specific, vulnerabl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ckGuard, Fuz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users to specify “security violations” for individual applications under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from predefined asser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your own assertions based on any C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able of external assertion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T Analysis was performed over a variety of network service daem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potentially exploitable locations were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violation identified in WU-FTPD was later independently discovered and reported by CERT-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A (Interface Propagation Analys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s component/subsystem fail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from worst case assumptions, observe system-w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performance is unimportant unless it affects the integrity of the entir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A uses two fault injection algorithm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agation F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agation 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agation F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upts data exiting a component to observe the types of system failures that ens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information regarding semantic interactions between components as a measure of tole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agation Acro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upts data entering a compo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s input failure to gauge component’s robus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mic human operator errors, hardware failures, or failures from other sub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ult Injection Analysis can be used in an unconventional way to test survivability in several different scenari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ftware flaws in program source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licious attac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omalous behaviour from third party softw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identifying problem components and functions automatically, drastically reduce areas that require manual analysi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of Software T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rrec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of Software T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of Software T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29200" y="159984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urviv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5"/>
          <p:cNvCxnSpPr/>
          <p:nvPr/>
        </p:nvCxnSpPr>
        <p:spPr>
          <a:xfrm flipV="1">
            <a:off x="2971440" y="3047400"/>
            <a:ext cx="1981800" cy="610200"/>
          </a:xfrm>
          <a:prstGeom prst="straightConnector1">
            <a:avLst/>
          </a:prstGeom>
          <a:ln w="6660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definitions and Testing Technique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for Fault Injection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ult Injection Security Tool (FI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face Propagation Analysis (IP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Basic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urvivability: “The ability of a system to continue to operate in the presence of faults, anomalous system behaviour, or malicious atta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ult Injection: “The process of perturbing program behaviour by corrupting a program state during program executi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Primary Threats to Surviva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F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cious Atta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malous Behaviour of Third Party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Primary Threats to Surviva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F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We don’t know where the actual error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imulate random fla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cious Atta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bject software to well-known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malous Behaviour of Third Party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ibraries and COTS components may be fla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imulate componen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Program under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State of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Input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Location 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violation predicate (assertion) f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5:15:36Z</dcterms:created>
  <dc:creator>Alison Teoh</dc:creator>
  <dc:description/>
  <dc:language>en-US</dc:language>
  <cp:lastModifiedBy>Alison Teoh</cp:lastModifiedBy>
  <dcterms:modified xsi:type="dcterms:W3CDTF">2008-05-01T08:49:53Z</dcterms:modified>
  <cp:revision>32</cp:revision>
  <dc:subject/>
  <dc:title>Slide 1</dc:title>
</cp:coreProperties>
</file>