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8246-2B68-44AA-A380-087BFAC24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program oracles useful for testing stu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ults in the original program may mask seeded faults, thoug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iable result exam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rting, planning, itineraries, S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roblems are often NP one way, CoNP th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ate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Just test for common propertie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conditions require maintaining a copy of the program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ight assertions are often adaquete, but they can get quite bul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rtions may have a performance hit, depending on the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: henceforth.  Diamond: event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061D-3A0C-4E83-87AB-C56DCCFF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CF94-F55C-406B-AEDA-D1996CC7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5C93-03A5-4383-A0F8-E4B5C367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F7D9-2595-4F1F-A91B-6EFE0297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50A1-AE47-4A2D-92BA-B7D6621B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0EEA-7983-4B73-A124-49FB5C5A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41B2-5A2F-482E-B5A4-76FDCE92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0F6E-50B5-499F-AAED-0F934990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25FC-7083-4696-B73D-62C80FD2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83DB-D56B-4FDA-A6A5-CB23B8C7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334-95FC-466B-8685-422B8CFF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7A7D-EC4D-46E6-B791-BFF68729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9ECD-D723-4927-97E6-E5CFC2993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acl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n Alf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8th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oracles, all par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sults without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if it is im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unding the results for each test case is still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cle verifies input/result p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st case is only as good as its ora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hat constitutes a resul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value of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state of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/CPU cycle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e of progra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Result Ora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 Program” ora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abl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ate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ate Testing (QuickChec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102200" cy="723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438280" y="3657600"/>
            <a:ext cx="3861000" cy="1511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76720" y="3124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rtion Ora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ndition/Postcondition Che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ght asse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specification (Pe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line specification/code (JMLUn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rtion Oracles (Peter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45820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rtion Oracles (JMLUni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7848720" cy="2666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76720" y="3276720"/>
            <a:ext cx="57150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 Ora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oral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82760" y="2895480"/>
            <a:ext cx="4851360" cy="2514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008080" y="5470560"/>
            <a:ext cx="309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00080" y="5578560"/>
            <a:ext cx="357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16280" y="57150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everal more operator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 Oracles (Uses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 operators called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king and unlocking performe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505320" y="1676520"/>
            <a:ext cx="236196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9:11:15Z</dcterms:created>
  <dc:creator>Matt Katsouros</dc:creator>
  <dc:description/>
  <dc:language>en-US</dc:language>
  <cp:lastModifiedBy>Matt Katsouros</cp:lastModifiedBy>
  <dcterms:modified xsi:type="dcterms:W3CDTF">2008-04-08T13:16:00Z</dcterms:modified>
  <cp:revision>4</cp:revision>
  <dc:subject/>
  <dc:title>Oracle Generation</dc:title>
</cp:coreProperties>
</file>