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145E-869E-401B-923C-64A98C6502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430E-4B70-4D12-8113-916F5A2AD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1C6-D697-4CB0-8BC0-4209AAEC6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927-13B5-4F03-8E73-463359C3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BD3-31B8-4587-9CEB-CAB4CC6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CC4-CBB0-49AF-9357-66D67C7C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9F5-B4C8-43E9-BCDF-A2311278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C15-2D91-43D5-838E-1EF0CD20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BC5-873F-47D1-A45E-C7AEEDEE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A00-27EC-4C43-89C8-E0FE52CE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A11-9EDA-4242-80C9-EFE79BD9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A0C-136F-4E21-8B1D-8A6AF6D5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48A-8CB9-472F-9360-B465911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95E-E1C1-4B2D-BDA7-F4E0A07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19C-63B3-4D1D-AF60-C9DEC6AC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ACA5-D8AA-43A2-8AEF-A9F8B54261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84A5-CBFE-4D7C-9CFE-307708F07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ized Object Sensi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s-to Analysis for Ja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ed By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and Bah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n Bucatansch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of these are strong concepts of 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not captured properly with old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ution is Object 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d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` - set of all object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` - set of replicas of reference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,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of new transfer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 sensitivity inclu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562360" y="182880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thi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B.x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x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thi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C.x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x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Group 53"/>
          <p:cNvGrpSpPr/>
          <p:nvPr/>
        </p:nvGrpSpPr>
        <p:grpSpPr>
          <a:xfrm>
            <a:off x="685800" y="2057400"/>
            <a:ext cx="4066560" cy="3580920"/>
            <a:chOff x="685800" y="2057400"/>
            <a:chExt cx="4066560" cy="3580920"/>
          </a:xfrm>
        </p:grpSpPr>
        <p:grpSp>
          <p:nvGrpSpPr>
            <p:cNvPr id="157" name="Group 54"/>
            <p:cNvGrpSpPr/>
            <p:nvPr/>
          </p:nvGrpSpPr>
          <p:grpSpPr>
            <a:xfrm>
              <a:off x="685800" y="2057400"/>
              <a:ext cx="4066560" cy="3580920"/>
              <a:chOff x="685800" y="2057400"/>
              <a:chExt cx="4066560" cy="3580920"/>
            </a:xfrm>
          </p:grpSpPr>
          <p:grpSp>
            <p:nvGrpSpPr>
              <p:cNvPr id="158" name="Group 55"/>
              <p:cNvGrpSpPr/>
              <p:nvPr/>
            </p:nvGrpSpPr>
            <p:grpSpPr>
              <a:xfrm>
                <a:off x="685800" y="2057400"/>
                <a:ext cx="4066560" cy="3580920"/>
                <a:chOff x="685800" y="2057400"/>
                <a:chExt cx="4066560" cy="3580920"/>
              </a:xfrm>
            </p:grpSpPr>
            <p:grpSp>
              <p:nvGrpSpPr>
                <p:cNvPr id="159" name="Group 56"/>
                <p:cNvGrpSpPr/>
                <p:nvPr/>
              </p:nvGrpSpPr>
              <p:grpSpPr>
                <a:xfrm>
                  <a:off x="685800" y="2057400"/>
                  <a:ext cx="4066560" cy="3580920"/>
                  <a:chOff x="685800" y="2057400"/>
                  <a:chExt cx="4066560" cy="3580920"/>
                </a:xfrm>
              </p:grpSpPr>
              <p:grpSp>
                <p:nvGrpSpPr>
                  <p:cNvPr id="160" name="Group 57"/>
                  <p:cNvGrpSpPr/>
                  <p:nvPr/>
                </p:nvGrpSpPr>
                <p:grpSpPr>
                  <a:xfrm>
                    <a:off x="685800" y="2057400"/>
                    <a:ext cx="4066560" cy="3580920"/>
                    <a:chOff x="685800" y="2057400"/>
                    <a:chExt cx="4066560" cy="3580920"/>
                  </a:xfrm>
                </p:grpSpPr>
                <p:cxnSp>
                  <p:nvCxnSpPr>
                    <p:cNvPr id="161" name="AutoShape 58"/>
                    <p:cNvCxnSpPr/>
                    <p:nvPr/>
                  </p:nvCxnSpPr>
                  <p:spPr>
                    <a:xfrm flipV="1">
                      <a:off x="1847880" y="2478960"/>
                      <a:ext cx="133560" cy="2819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grpSp>
                  <p:nvGrpSpPr>
                    <p:cNvPr id="162" name="Group 59"/>
                    <p:cNvGrpSpPr/>
                    <p:nvPr/>
                  </p:nvGrpSpPr>
                  <p:grpSpPr>
                    <a:xfrm>
                      <a:off x="685800" y="2057400"/>
                      <a:ext cx="4066560" cy="3580920"/>
                      <a:chOff x="685800" y="2057400"/>
                      <a:chExt cx="4066560" cy="3580920"/>
                    </a:xfrm>
                  </p:grpSpPr>
                  <p:grpSp>
                    <p:nvGrpSpPr>
                      <p:cNvPr id="163" name="Group 60"/>
                      <p:cNvGrpSpPr/>
                      <p:nvPr/>
                    </p:nvGrpSpPr>
                    <p:grpSpPr>
                      <a:xfrm>
                        <a:off x="685800" y="2057400"/>
                        <a:ext cx="4066560" cy="3580920"/>
                        <a:chOff x="685800" y="2057400"/>
                        <a:chExt cx="4066560" cy="3580920"/>
                      </a:xfrm>
                    </p:grpSpPr>
                    <p:grpSp>
                      <p:nvGrpSpPr>
                        <p:cNvPr id="164" name="Group 61"/>
                        <p:cNvGrpSpPr/>
                        <p:nvPr/>
                      </p:nvGrpSpPr>
                      <p:grpSpPr>
                        <a:xfrm>
                          <a:off x="685800" y="2057400"/>
                          <a:ext cx="4066560" cy="3580920"/>
                          <a:chOff x="685800" y="2057400"/>
                          <a:chExt cx="4066560" cy="3580920"/>
                        </a:xfrm>
                      </p:grpSpPr>
                      <p:grpSp>
                        <p:nvGrpSpPr>
                          <p:cNvPr id="165" name="Group 62"/>
                          <p:cNvGrpSpPr/>
                          <p:nvPr/>
                        </p:nvGrpSpPr>
                        <p:grpSpPr>
                          <a:xfrm>
                            <a:off x="733320" y="2057400"/>
                            <a:ext cx="1399680" cy="340200"/>
                            <a:chOff x="733320" y="2057400"/>
                            <a:chExt cx="1399680" cy="340200"/>
                          </a:xfrm>
                        </p:grpSpPr>
                        <p:grpSp>
                          <p:nvGrpSpPr>
                            <p:cNvPr id="166" name="Group 63"/>
                            <p:cNvGrpSpPr/>
                            <p:nvPr/>
                          </p:nvGrpSpPr>
                          <p:grpSpPr>
                            <a:xfrm>
                              <a:off x="733320" y="2057400"/>
                              <a:ext cx="1399680" cy="340200"/>
                              <a:chOff x="733320" y="2057400"/>
                              <a:chExt cx="1399680" cy="340200"/>
                            </a:xfrm>
                          </p:grpSpPr>
                          <p:sp>
                            <p:nvSpPr>
                              <p:cNvPr id="167" name="Rectangle 64"/>
                              <p:cNvSpPr/>
                              <p:nvPr/>
                            </p:nvSpPr>
                            <p:spPr>
                              <a:xfrm>
                                <a:off x="733320" y="2057400"/>
                                <a:ext cx="390240" cy="340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  </a:t>
                                </a: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y</a:t>
                                </a:r>
                                <a:endParaRPr b="0" lang="en-US" sz="11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8" name="Rectangle 65"/>
                              <p:cNvSpPr/>
                              <p:nvPr/>
                            </p:nvSpPr>
                            <p:spPr>
                              <a:xfrm>
                                <a:off x="1742760" y="2057400"/>
                                <a:ext cx="390240" cy="340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O1</a:t>
                                </a:r>
                                <a:endParaRPr b="0" lang="en-US" sz="11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cxnSp>
                          <p:nvCxnSpPr>
                            <p:cNvPr id="169" name="AutoShape 66"/>
                            <p:cNvCxnSpPr/>
                            <p:nvPr/>
                          </p:nvCxnSpPr>
                          <p:spPr>
                            <a:xfrm flipV="1">
                              <a:off x="1123560" y="2192760"/>
                              <a:ext cx="619920" cy="140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</p:cxnSp>
                      </p:grpSp>
                      <p:grpSp>
                        <p:nvGrpSpPr>
                          <p:cNvPr id="170" name="Group 67"/>
                          <p:cNvGrpSpPr/>
                          <p:nvPr/>
                        </p:nvGrpSpPr>
                        <p:grpSpPr>
                          <a:xfrm>
                            <a:off x="3352680" y="2057400"/>
                            <a:ext cx="1399680" cy="340200"/>
                            <a:chOff x="3352680" y="2057400"/>
                            <a:chExt cx="1399680" cy="340200"/>
                          </a:xfrm>
                        </p:grpSpPr>
                        <p:grpSp>
                          <p:nvGrpSpPr>
                            <p:cNvPr id="171" name="Group 68"/>
                            <p:cNvGrpSpPr/>
                            <p:nvPr/>
                          </p:nvGrpSpPr>
                          <p:grpSpPr>
                            <a:xfrm>
                              <a:off x="3352680" y="2057400"/>
                              <a:ext cx="1399680" cy="340200"/>
                              <a:chOff x="3352680" y="2057400"/>
                              <a:chExt cx="1399680" cy="340200"/>
                            </a:xfrm>
                          </p:grpSpPr>
                          <p:sp>
                            <p:nvSpPr>
                              <p:cNvPr id="172" name="Rectangle 69"/>
                              <p:cNvSpPr/>
                              <p:nvPr/>
                            </p:nvSpPr>
                            <p:spPr>
                              <a:xfrm>
                                <a:off x="3352680" y="2057400"/>
                                <a:ext cx="390240" cy="340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O2</a:t>
                                </a:r>
                                <a:endParaRPr b="0" lang="en-US" sz="11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3" name="Rectangle 70"/>
                              <p:cNvSpPr/>
                              <p:nvPr/>
                            </p:nvSpPr>
                            <p:spPr>
                              <a:xfrm>
                                <a:off x="4362120" y="2057400"/>
                                <a:ext cx="390240" cy="340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  </a:t>
                                </a: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z</a:t>
                                </a:r>
                                <a:endParaRPr b="0" lang="en-US" sz="11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cxnSp>
                          <p:nvCxnSpPr>
                            <p:cNvPr id="174" name="AutoShape 71"/>
                            <p:cNvCxnSpPr/>
                            <p:nvPr/>
                          </p:nvCxnSpPr>
                          <p:spPr>
                            <a:xfrm flipH="1">
                              <a:off x="3742560" y="2206440"/>
                              <a:ext cx="619920" cy="108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</p:cxnSp>
                      </p:grpSp>
                      <p:grpSp>
                        <p:nvGrpSpPr>
                          <p:cNvPr id="175" name="Group 72"/>
                          <p:cNvGrpSpPr/>
                          <p:nvPr/>
                        </p:nvGrpSpPr>
                        <p:grpSpPr>
                          <a:xfrm>
                            <a:off x="685800" y="5298120"/>
                            <a:ext cx="1399680" cy="340200"/>
                            <a:chOff x="685800" y="5298120"/>
                            <a:chExt cx="1399680" cy="340200"/>
                          </a:xfrm>
                        </p:grpSpPr>
                        <p:grpSp>
                          <p:nvGrpSpPr>
                            <p:cNvPr id="176" name="Group 73"/>
                            <p:cNvGrpSpPr/>
                            <p:nvPr/>
                          </p:nvGrpSpPr>
                          <p:grpSpPr>
                            <a:xfrm>
                              <a:off x="685800" y="5298120"/>
                              <a:ext cx="1399680" cy="340200"/>
                              <a:chOff x="685800" y="5298120"/>
                              <a:chExt cx="1399680" cy="340200"/>
                            </a:xfrm>
                          </p:grpSpPr>
                          <p:sp>
                            <p:nvSpPr>
                              <p:cNvPr id="177" name="Rectangle 74"/>
                              <p:cNvSpPr/>
                              <p:nvPr/>
                            </p:nvSpPr>
                            <p:spPr>
                              <a:xfrm>
                                <a:off x="685800" y="5298120"/>
                                <a:ext cx="390240" cy="340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  </a:t>
                                </a: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b</a:t>
                                </a:r>
                                <a:endParaRPr b="0" lang="en-US" sz="11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Rectangle 75"/>
                              <p:cNvSpPr/>
                              <p:nvPr/>
                            </p:nvSpPr>
                            <p:spPr>
                              <a:xfrm>
                                <a:off x="1695240" y="5298120"/>
                                <a:ext cx="390240" cy="340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O3</a:t>
                                </a:r>
                                <a:endParaRPr b="0" lang="en-US" sz="11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cxnSp>
                          <p:nvCxnSpPr>
                            <p:cNvPr id="179" name="AutoShape 76"/>
                            <p:cNvCxnSpPr/>
                            <p:nvPr/>
                          </p:nvCxnSpPr>
                          <p:spPr>
                            <a:xfrm flipV="1">
                              <a:off x="1076040" y="5433480"/>
                              <a:ext cx="619920" cy="140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</p:cxnSp>
                      </p:grpSp>
                      <p:grpSp>
                        <p:nvGrpSpPr>
                          <p:cNvPr id="180" name="Group 77"/>
                          <p:cNvGrpSpPr/>
                          <p:nvPr/>
                        </p:nvGrpSpPr>
                        <p:grpSpPr>
                          <a:xfrm>
                            <a:off x="3352680" y="5230080"/>
                            <a:ext cx="1399680" cy="340200"/>
                            <a:chOff x="3352680" y="5230080"/>
                            <a:chExt cx="1399680" cy="340200"/>
                          </a:xfrm>
                        </p:grpSpPr>
                        <p:grpSp>
                          <p:nvGrpSpPr>
                            <p:cNvPr id="181" name="Group 78"/>
                            <p:cNvGrpSpPr/>
                            <p:nvPr/>
                          </p:nvGrpSpPr>
                          <p:grpSpPr>
                            <a:xfrm>
                              <a:off x="3352680" y="5230080"/>
                              <a:ext cx="1399680" cy="340200"/>
                              <a:chOff x="3352680" y="5230080"/>
                              <a:chExt cx="1399680" cy="340200"/>
                            </a:xfrm>
                          </p:grpSpPr>
                          <p:sp>
                            <p:nvSpPr>
                              <p:cNvPr id="182" name="Rectangle 79"/>
                              <p:cNvSpPr/>
                              <p:nvPr/>
                            </p:nvSpPr>
                            <p:spPr>
                              <a:xfrm>
                                <a:off x="3352680" y="5230080"/>
                                <a:ext cx="390240" cy="340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O4</a:t>
                                </a:r>
                                <a:endParaRPr b="0" lang="en-US" sz="11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" name="Rectangle 80"/>
                              <p:cNvSpPr/>
                              <p:nvPr/>
                            </p:nvSpPr>
                            <p:spPr>
                              <a:xfrm>
                                <a:off x="4362120" y="5230080"/>
                                <a:ext cx="390240" cy="340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  </a:t>
                                </a:r>
                                <a:r>
                                  <a:rPr b="0" lang="en-US" sz="11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rPr>
                                  <a:t>c</a:t>
                                </a:r>
                                <a:endParaRPr b="0" lang="en-US" sz="11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cxnSp>
                          <p:nvCxnSpPr>
                            <p:cNvPr id="184" name="AutoShape 81"/>
                            <p:cNvCxnSpPr/>
                            <p:nvPr/>
                          </p:nvCxnSpPr>
                          <p:spPr>
                            <a:xfrm flipH="1">
                              <a:off x="3742560" y="5379120"/>
                              <a:ext cx="619920" cy="108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</p:cxnSp>
                      </p:grpSp>
                    </p:grpSp>
                    <p:sp>
                      <p:nvSpPr>
                        <p:cNvPr id="185" name="Rectangle 82"/>
                        <p:cNvSpPr/>
                        <p:nvPr/>
                      </p:nvSpPr>
                      <p:spPr>
                        <a:xfrm>
                          <a:off x="1247760" y="3949920"/>
                          <a:ext cx="447480" cy="3402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Calibri"/>
                            </a:rPr>
                            <a:t>B.xb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cxnSp>
                      <p:nvCxnSpPr>
                        <p:cNvPr id="186" name="AutoShape 83"/>
                        <p:cNvCxnSpPr/>
                        <p:nvPr/>
                      </p:nvCxnSpPr>
                      <p:spPr>
                        <a:xfrm flipV="1">
                          <a:off x="1571040" y="2397240"/>
                          <a:ext cx="276840" cy="155304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</p:cxnSp>
                    <p:sp>
                      <p:nvSpPr>
                        <p:cNvPr id="187" name="Rectangle 84"/>
                        <p:cNvSpPr/>
                        <p:nvPr/>
                      </p:nvSpPr>
                      <p:spPr>
                        <a:xfrm>
                          <a:off x="2476440" y="3241800"/>
                          <a:ext cx="447480" cy="3402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Calibri"/>
                            </a:rPr>
                            <a:t>A.xa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cxnSp>
                      <p:nvCxnSpPr>
                        <p:cNvPr id="188" name="AutoShape 85"/>
                        <p:cNvCxnSpPr/>
                        <p:nvPr/>
                      </p:nvCxnSpPr>
                      <p:spPr>
                        <a:xfrm flipH="1" flipV="1">
                          <a:off x="2037600" y="2396880"/>
                          <a:ext cx="562680" cy="84492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</p:cxnSp>
                    <p:sp>
                      <p:nvSpPr>
                        <p:cNvPr id="189" name="Rectangle 86"/>
                        <p:cNvSpPr/>
                        <p:nvPr/>
                      </p:nvSpPr>
                      <p:spPr>
                        <a:xfrm>
                          <a:off x="2543040" y="4113360"/>
                          <a:ext cx="447480" cy="3402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Calibri"/>
                            </a:rPr>
                            <a:t>this</a:t>
                          </a:r>
                          <a:endParaRPr b="0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cxnSp>
                      <p:nvCxnSpPr>
                        <p:cNvPr id="190" name="AutoShape 87"/>
                        <p:cNvCxnSpPr/>
                        <p:nvPr/>
                      </p:nvCxnSpPr>
                      <p:spPr>
                        <a:xfrm flipH="1">
                          <a:off x="2037960" y="4453560"/>
                          <a:ext cx="667440" cy="84492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</p:cxnSp>
                    <p:cxnSp>
                      <p:nvCxnSpPr>
                        <p:cNvPr id="191" name="AutoShape 88"/>
                        <p:cNvCxnSpPr/>
                        <p:nvPr/>
                      </p:nvCxnSpPr>
                      <p:spPr>
                        <a:xfrm>
                          <a:off x="2800440" y="4453920"/>
                          <a:ext cx="810000" cy="77688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</p:cxnSp>
                  </p:grpSp>
                  <p:sp>
                    <p:nvSpPr>
                      <p:cNvPr id="192" name="Rectangle 89"/>
                      <p:cNvSpPr/>
                      <p:nvPr/>
                    </p:nvSpPr>
                    <p:spPr>
                      <a:xfrm>
                        <a:off x="3838680" y="3854880"/>
                        <a:ext cx="475920" cy="3675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.xc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cxnSp>
                    <p:nvCxnSpPr>
                      <p:cNvPr id="193" name="AutoShape 90"/>
                      <p:cNvCxnSpPr/>
                      <p:nvPr/>
                    </p:nvCxnSpPr>
                    <p:spPr>
                      <a:xfrm flipH="1" flipV="1">
                        <a:off x="3609720" y="2396880"/>
                        <a:ext cx="381600" cy="14576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194" name="AutoShape 91"/>
                      <p:cNvCxnSpPr/>
                      <p:nvPr/>
                    </p:nvCxnSpPr>
                    <p:spPr>
                      <a:xfrm flipV="1">
                        <a:off x="2800440" y="2396880"/>
                        <a:ext cx="552960" cy="844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195" name="AutoShape 92"/>
                      <p:cNvCxnSpPr/>
                      <p:nvPr/>
                    </p:nvCxnSpPr>
                    <p:spPr>
                      <a:xfrm flipH="1" flipV="1">
                        <a:off x="3514320" y="2397240"/>
                        <a:ext cx="143280" cy="28332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</p:cxnSp>
                </p:grpSp>
              </p:grpSp>
              <p:sp>
                <p:nvSpPr>
                  <p:cNvPr id="196" name="Text Box 93"/>
                  <p:cNvSpPr/>
                  <p:nvPr/>
                </p:nvSpPr>
                <p:spPr>
                  <a:xfrm>
                    <a:off x="2038320" y="3241800"/>
                    <a:ext cx="3142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f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94"/>
                <p:cNvSpPr/>
                <p:nvPr/>
              </p:nvSpPr>
              <p:spPr>
                <a:xfrm>
                  <a:off x="1695240" y="4631040"/>
                  <a:ext cx="295200" cy="313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95"/>
              <p:cNvSpPr/>
              <p:nvPr/>
            </p:nvSpPr>
            <p:spPr>
              <a:xfrm>
                <a:off x="3143160" y="3637080"/>
                <a:ext cx="29520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96"/>
            <p:cNvSpPr/>
            <p:nvPr/>
          </p:nvSpPr>
          <p:spPr>
            <a:xfrm>
              <a:off x="3514680" y="4222440"/>
              <a:ext cx="295200" cy="3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47"/>
          <p:cNvSpPr/>
          <p:nvPr/>
        </p:nvSpPr>
        <p:spPr>
          <a:xfrm>
            <a:off x="762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er re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OOP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inguishes between different receiver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methods and variables can be handled with insensi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paramete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ized Object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dim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gree of precision in naming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21 , o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reference variables for which multiple points-to sets should be mai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and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ques for implementation and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-effect analysis (M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-U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irical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ques for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 implementation of flow- and context-insensitive analysis (Andersen’s technique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ment processing routine: processes different kinds of program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dispatch routine: models the semantics of virtual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ques for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parameterized object-sensitive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 functi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,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each statement once for every possible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gment the virtual dispatch routine to map the return variable and the formal parameters of the invoked method to the corresponding con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ques for 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ints-to set of a replic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 = {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stateme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ains only nonreplicated variables (i.e. the variables are not in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t), then analyz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ly once for one “default” con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ly, i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∉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igned only at statements of the fo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 =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 = r.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ques for 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∉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assignments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.f=p, p=l, p=l.f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.f=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We can add a nonreplicated variab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l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 and a new (context-dependent) statemen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’=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Then the points-to se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l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 is the union of the the points-to sets of all context copie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So the statements can be analyzed context-independen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and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of previous techniques to 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ecision analy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Sensitive analysis and its 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erized  Object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-effect Analysis (MO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statem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ntex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method enclo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ompute s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objects that could be modified by execu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M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the set of objects that could be modified by each contextual version of a metho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evious optimizations can be appl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-effect Analysis (MO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Content Placeholder 6" descr="Fig 7.tiff"/>
          <p:cNvPicPr/>
          <p:nvPr/>
        </p:nvPicPr>
        <p:blipFill>
          <a:blip r:embed="rId1"/>
          <a:stretch/>
        </p:blipFill>
        <p:spPr>
          <a:xfrm>
            <a:off x="2168640" y="1600200"/>
            <a:ext cx="4806720" cy="4525920"/>
          </a:xfrm>
          <a:prstGeom prst="rect">
            <a:avLst/>
          </a:prstGeom>
          <a:ln w="0">
            <a:noFill/>
          </a:ln>
        </p:spPr>
      </p:pic>
      <p:sp>
        <p:nvSpPr>
          <p:cNvPr id="220" name="Left Brace 9"/>
          <p:cNvSpPr/>
          <p:nvPr/>
        </p:nvSpPr>
        <p:spPr>
          <a:xfrm>
            <a:off x="1905120" y="3048120"/>
            <a:ext cx="304560" cy="745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745920"/>
              <a:gd name="textAreaBottom" fmla="*/ 738000 h 74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8"/>
                  <a:pt x="10800" y="735"/>
                </a:cubicBezTo>
                <a:lnTo>
                  <a:pt x="10800" y="10065"/>
                </a:lnTo>
                <a:cubicBezTo>
                  <a:pt x="10800" y="10433"/>
                  <a:pt x="5400" y="10800"/>
                  <a:pt x="0" y="10800"/>
                </a:cubicBezTo>
                <a:cubicBezTo>
                  <a:pt x="5400" y="10800"/>
                  <a:pt x="10800" y="11168"/>
                  <a:pt x="10800" y="11535"/>
                </a:cubicBezTo>
                <a:lnTo>
                  <a:pt x="10800" y="20865"/>
                </a:lnTo>
                <a:cubicBezTo>
                  <a:pt x="10800" y="2123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457200" y="3048120"/>
            <a:ext cx="152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field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rtual method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c method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eft Brace 12"/>
          <p:cNvSpPr/>
          <p:nvPr/>
        </p:nvSpPr>
        <p:spPr>
          <a:xfrm>
            <a:off x="1905120" y="38862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295280"/>
              <a:gd name="textAreaBottom" fmla="*/ 12873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 Brace 13"/>
          <p:cNvSpPr/>
          <p:nvPr/>
        </p:nvSpPr>
        <p:spPr>
          <a:xfrm>
            <a:off x="1905120" y="5257800"/>
            <a:ext cx="304560" cy="746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746280"/>
              <a:gd name="textAreaBottom" fmla="*/ 738360 h 74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8"/>
                  <a:pt x="10800" y="735"/>
                </a:cubicBezTo>
                <a:lnTo>
                  <a:pt x="10800" y="10065"/>
                </a:lnTo>
                <a:cubicBezTo>
                  <a:pt x="10800" y="10433"/>
                  <a:pt x="5400" y="10800"/>
                  <a:pt x="0" y="10800"/>
                </a:cubicBezTo>
                <a:cubicBezTo>
                  <a:pt x="5400" y="10800"/>
                  <a:pt x="10800" y="11168"/>
                  <a:pt x="10800" y="11535"/>
                </a:cubicBezTo>
                <a:lnTo>
                  <a:pt x="10800" y="20865"/>
                </a:lnTo>
                <a:cubicBezTo>
                  <a:pt x="10800" y="2123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5"/>
          <p:cNvSpPr/>
          <p:nvPr/>
        </p:nvSpPr>
        <p:spPr>
          <a:xfrm>
            <a:off x="5562720" y="4952880"/>
            <a:ext cx="15228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Curved Connector 17"/>
          <p:cNvCxnSpPr/>
          <p:nvPr/>
        </p:nvCxnSpPr>
        <p:spPr>
          <a:xfrm>
            <a:off x="5791320" y="4952520"/>
            <a:ext cx="1296000" cy="25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5560">
            <a:solidFill>
              <a:srgbClr val="c0504d"/>
            </a:solidFill>
            <a:miter/>
            <a:headEnd len="med" type="arrow" w="med"/>
          </a:ln>
        </p:spPr>
      </p:cxnSp>
      <p:sp>
        <p:nvSpPr>
          <p:cNvPr id="226" name="TextBox 21"/>
          <p:cNvSpPr/>
          <p:nvPr/>
        </p:nvSpPr>
        <p:spPr>
          <a:xfrm>
            <a:off x="7016040" y="4724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o: should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-Us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compu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ef-use associ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pairs of statement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f-use association for a memory loc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pair of statements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such tha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s a valu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subsequentl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s that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 Def-Us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procedural languages, well known methods for comput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aprocedur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sociations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erprocedur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soci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need a pointer analysis to disambiguate indirect definitions and 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ching definitions (RD) analysis needed to determine the sets of definitions that may reach a program statement (because of use of pointers), in order to identify def-use pai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 Sensitivity in Def-Us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s-to analysis must be used in order to determine which objects may be accessed by expressions of the form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.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∀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 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P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), memory loc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 is added to the DEF or USE set for the corresponding stat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MDEF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) contains definitions created in metho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 and in all direct and indirect callee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 Def-Us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Content Placeholder 3" descr="Fig 8.tiff"/>
          <p:cNvPicPr/>
          <p:nvPr/>
        </p:nvPicPr>
        <p:blipFill>
          <a:blip r:embed="rId1"/>
          <a:stretch/>
        </p:blipFill>
        <p:spPr>
          <a:xfrm>
            <a:off x="2664000" y="1600200"/>
            <a:ext cx="3816000" cy="4525920"/>
          </a:xfrm>
          <a:prstGeom prst="rect">
            <a:avLst/>
          </a:prstGeom>
          <a:ln w="0">
            <a:noFill/>
          </a:ln>
        </p:spPr>
      </p:pic>
      <p:sp>
        <p:nvSpPr>
          <p:cNvPr id="235" name="Left Brace 4"/>
          <p:cNvSpPr/>
          <p:nvPr/>
        </p:nvSpPr>
        <p:spPr>
          <a:xfrm>
            <a:off x="2362320" y="21337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066680"/>
              <a:gd name="textAreaBottom" fmla="*/ 10587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609480" y="2133720"/>
            <a:ext cx="167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 s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 and indirect DEF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ching Definitions set broken down by type of node (stat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-US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eft Brace 6"/>
          <p:cNvSpPr/>
          <p:nvPr/>
        </p:nvSpPr>
        <p:spPr>
          <a:xfrm>
            <a:off x="2362320" y="3276720"/>
            <a:ext cx="304560" cy="2133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2133360"/>
              <a:gd name="textAreaBottom" fmla="*/ 212544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5400" y="10800"/>
                  <a:pt x="0" y="10800"/>
                </a:cubicBezTo>
                <a:cubicBezTo>
                  <a:pt x="54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eft Brace 7"/>
          <p:cNvSpPr/>
          <p:nvPr/>
        </p:nvSpPr>
        <p:spPr>
          <a:xfrm>
            <a:off x="2362320" y="5486400"/>
            <a:ext cx="304560" cy="609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609480"/>
              <a:gd name="textAreaBottom" fmla="*/ 60156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erized object-sensitive points-to analysis (context depth = 1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Sens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keeps context-sensitive information for implicit parameter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and formal parameters of instance methods and constru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ObjSens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: the same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ObjSens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, but it also keeps track of return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-sensitive analysis based on the call string approach to context sensitivity, for a call string k = 1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ll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inguishes context per call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llow for comparison, the context replication is performed f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, formal parameters and return variables in instance methods and constru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3 context-sensitive analyses were built on top of an existing implementation of Andersen’s context-insensitive points-to analysis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alyses are using the optimization techniques w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ot framework was used to process Java bytecode and to build a typed intermediate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Content Placeholder 3" descr="Table 1.tiff"/>
          <p:cNvPicPr/>
          <p:nvPr/>
        </p:nvPicPr>
        <p:blipFill>
          <a:blip r:embed="rId1"/>
          <a:stretch/>
        </p:blipFill>
        <p:spPr>
          <a:xfrm>
            <a:off x="2637000" y="1600200"/>
            <a:ext cx="387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s-to Analysi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in Java to determine the set of objects pointed to by a reference variable or a reference object fie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sis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Content Placeholder 5" descr="Table 2.tiff"/>
          <p:cNvPicPr/>
          <p:nvPr/>
        </p:nvPicPr>
        <p:blipFill>
          <a:blip r:embed="rId1"/>
          <a:stretch/>
        </p:blipFill>
        <p:spPr>
          <a:xfrm>
            <a:off x="2128680" y="1600200"/>
            <a:ext cx="488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and memory cost is comparable to Andersen’s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of work is similar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s to consider all possible objects for a stateme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Even though context-sensitive analyses do more work to keep track of different contexts, they eventually end up doing less work per stateme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majority of programs, adding the return valu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es not increase co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string context-sensitive analysis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ll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chieves practical c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ll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s poor running time for larger programs, probably because it is less precise th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jSens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Analysis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jSens2, CallSite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ntages are with respect to the number of statements that modify at least one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lumn shows the percentage of the total number of statements that modify the respective number of ob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precise analyses produce a smaller percentage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Analysis Pr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Content Placeholder 3" descr="Table 3.tiff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d a framework for parameterized object-sensitive points-to analysis, and side-effect and def-use analyses based o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-sensitive analysis achieves significantly better precision than context-insensitive analysis, while remaining efficient and practi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other instantiations of the framework: more precise naming of sub-objects of composite ob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applications of points-to, side-effect, and def-use analyses in the context of software productivity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 and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-effec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-u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sensitive &amp; flow insen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 sensitive &amp; context insen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points-to 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 Oriented Progra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on (Containers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try to analyze these features using flow insensitive and context insensitive analy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 – set of all refere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– set of all objects created at object alloca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– contains all instance fields in program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ge (r,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 x 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&lt;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f&gt;,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O x F) x 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419720" cy="33418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89"/>
          <p:cNvGrpSpPr/>
          <p:nvPr/>
        </p:nvGrpSpPr>
        <p:grpSpPr>
          <a:xfrm>
            <a:off x="4724280" y="1828800"/>
            <a:ext cx="4038840" cy="3886200"/>
            <a:chOff x="4724280" y="1828800"/>
            <a:chExt cx="4038840" cy="3886200"/>
          </a:xfrm>
        </p:grpSpPr>
        <p:grpSp>
          <p:nvGrpSpPr>
            <p:cNvPr id="65" name="Group 74"/>
            <p:cNvGrpSpPr/>
            <p:nvPr/>
          </p:nvGrpSpPr>
          <p:grpSpPr>
            <a:xfrm>
              <a:off x="4811040" y="1828800"/>
              <a:ext cx="1558080" cy="433440"/>
              <a:chOff x="4811040" y="1828800"/>
              <a:chExt cx="1558080" cy="433440"/>
            </a:xfrm>
          </p:grpSpPr>
          <p:sp>
            <p:nvSpPr>
              <p:cNvPr id="66" name="Rectangle 75"/>
              <p:cNvSpPr/>
              <p:nvPr/>
            </p:nvSpPr>
            <p:spPr>
              <a:xfrm>
                <a:off x="4811040" y="1828800"/>
                <a:ext cx="487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x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76"/>
              <p:cNvSpPr/>
              <p:nvPr/>
            </p:nvSpPr>
            <p:spPr>
              <a:xfrm>
                <a:off x="5881680" y="1828800"/>
                <a:ext cx="487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O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" name="AutoShape 77"/>
              <p:cNvCxnSpPr/>
              <p:nvPr/>
            </p:nvCxnSpPr>
            <p:spPr>
              <a:xfrm flipV="1">
                <a:off x="5298120" y="2036880"/>
                <a:ext cx="583560" cy="16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Group 78"/>
            <p:cNvGrpSpPr/>
            <p:nvPr/>
          </p:nvGrpSpPr>
          <p:grpSpPr>
            <a:xfrm>
              <a:off x="7283520" y="1828800"/>
              <a:ext cx="1479600" cy="433440"/>
              <a:chOff x="7283520" y="1828800"/>
              <a:chExt cx="1479600" cy="433440"/>
            </a:xfrm>
          </p:grpSpPr>
          <p:sp>
            <p:nvSpPr>
              <p:cNvPr id="70" name="Rectangle 79"/>
              <p:cNvSpPr/>
              <p:nvPr/>
            </p:nvSpPr>
            <p:spPr>
              <a:xfrm>
                <a:off x="7283520" y="1828800"/>
                <a:ext cx="487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O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80"/>
              <p:cNvSpPr/>
              <p:nvPr/>
            </p:nvSpPr>
            <p:spPr>
              <a:xfrm>
                <a:off x="8275680" y="1828800"/>
                <a:ext cx="487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x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AutoShape 81"/>
              <p:cNvCxnSpPr/>
              <p:nvPr/>
            </p:nvCxnSpPr>
            <p:spPr>
              <a:xfrm flipH="1" flipV="1">
                <a:off x="7770600" y="2036880"/>
                <a:ext cx="505440" cy="16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73" name="Group 82"/>
            <p:cNvGrpSpPr/>
            <p:nvPr/>
          </p:nvGrpSpPr>
          <p:grpSpPr>
            <a:xfrm>
              <a:off x="4767480" y="3707640"/>
              <a:ext cx="1558080" cy="433440"/>
              <a:chOff x="4767480" y="3707640"/>
              <a:chExt cx="1558080" cy="433440"/>
            </a:xfrm>
          </p:grpSpPr>
          <p:sp>
            <p:nvSpPr>
              <p:cNvPr id="74" name="Rectangle 83"/>
              <p:cNvSpPr/>
              <p:nvPr/>
            </p:nvSpPr>
            <p:spPr>
              <a:xfrm>
                <a:off x="4767480" y="3707640"/>
                <a:ext cx="487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y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84"/>
              <p:cNvSpPr/>
              <p:nvPr/>
            </p:nvSpPr>
            <p:spPr>
              <a:xfrm>
                <a:off x="5838120" y="3707640"/>
                <a:ext cx="487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O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" name="AutoShape 85"/>
              <p:cNvCxnSpPr/>
              <p:nvPr/>
            </p:nvCxnSpPr>
            <p:spPr>
              <a:xfrm flipV="1">
                <a:off x="5254560" y="3915720"/>
                <a:ext cx="583560" cy="16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77" name="Group 86"/>
            <p:cNvGrpSpPr/>
            <p:nvPr/>
          </p:nvGrpSpPr>
          <p:grpSpPr>
            <a:xfrm>
              <a:off x="4724280" y="5281560"/>
              <a:ext cx="1558080" cy="433440"/>
              <a:chOff x="4724280" y="5281560"/>
              <a:chExt cx="1558080" cy="433440"/>
            </a:xfrm>
          </p:grpSpPr>
          <p:sp>
            <p:nvSpPr>
              <p:cNvPr id="78" name="Rectangle 87"/>
              <p:cNvSpPr/>
              <p:nvPr/>
            </p:nvSpPr>
            <p:spPr>
              <a:xfrm>
                <a:off x="4724280" y="5281560"/>
                <a:ext cx="487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y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8"/>
              <p:cNvSpPr/>
              <p:nvPr/>
            </p:nvSpPr>
            <p:spPr>
              <a:xfrm>
                <a:off x="5794920" y="5281560"/>
                <a:ext cx="487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O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" name="AutoShape 89"/>
              <p:cNvCxnSpPr/>
              <p:nvPr/>
            </p:nvCxnSpPr>
            <p:spPr>
              <a:xfrm flipV="1">
                <a:off x="5211360" y="5489640"/>
                <a:ext cx="583560" cy="16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81" name="Group 91"/>
          <p:cNvGrpSpPr/>
          <p:nvPr/>
        </p:nvGrpSpPr>
        <p:grpSpPr>
          <a:xfrm>
            <a:off x="6090840" y="2261880"/>
            <a:ext cx="2097360" cy="2730960"/>
            <a:chOff x="6090840" y="2261880"/>
            <a:chExt cx="2097360" cy="2730960"/>
          </a:xfrm>
        </p:grpSpPr>
        <p:sp>
          <p:nvSpPr>
            <p:cNvPr id="82" name="Text Box 68"/>
            <p:cNvSpPr/>
            <p:nvPr/>
          </p:nvSpPr>
          <p:spPr>
            <a:xfrm>
              <a:off x="6091200" y="2888640"/>
              <a:ext cx="20880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90"/>
            <p:cNvGrpSpPr/>
            <p:nvPr/>
          </p:nvGrpSpPr>
          <p:grpSpPr>
            <a:xfrm>
              <a:off x="6090840" y="2261880"/>
              <a:ext cx="2097360" cy="2730960"/>
              <a:chOff x="6090840" y="2261880"/>
              <a:chExt cx="2097360" cy="2730960"/>
            </a:xfrm>
          </p:grpSpPr>
          <p:sp>
            <p:nvSpPr>
              <p:cNvPr id="84" name="Rectangle 90"/>
              <p:cNvSpPr/>
              <p:nvPr/>
            </p:nvSpPr>
            <p:spPr>
              <a:xfrm>
                <a:off x="7701120" y="3708000"/>
                <a:ext cx="487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" name="AutoShape 91"/>
              <p:cNvCxnSpPr/>
              <p:nvPr/>
            </p:nvCxnSpPr>
            <p:spPr>
              <a:xfrm flipH="1" flipV="1">
                <a:off x="6369120" y="2261880"/>
                <a:ext cx="1332000" cy="155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Rectangle 92"/>
              <p:cNvSpPr/>
              <p:nvPr/>
            </p:nvSpPr>
            <p:spPr>
              <a:xfrm>
                <a:off x="7701120" y="4559400"/>
                <a:ext cx="487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thi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7" name="AutoShape 93"/>
              <p:cNvCxnSpPr/>
              <p:nvPr/>
            </p:nvCxnSpPr>
            <p:spPr>
              <a:xfrm flipH="1" flipV="1">
                <a:off x="6325200" y="4028400"/>
                <a:ext cx="1375560" cy="80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8" name="AutoShape 94"/>
              <p:cNvCxnSpPr/>
              <p:nvPr/>
            </p:nvCxnSpPr>
            <p:spPr>
              <a:xfrm flipV="1">
                <a:off x="6090840" y="2261880"/>
                <a:ext cx="1080" cy="1446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89" name="Group 96"/>
          <p:cNvGrpSpPr/>
          <p:nvPr/>
        </p:nvGrpSpPr>
        <p:grpSpPr>
          <a:xfrm>
            <a:off x="5791320" y="2057040"/>
            <a:ext cx="1514520" cy="3115080"/>
            <a:chOff x="5791320" y="2057040"/>
            <a:chExt cx="1514520" cy="3115080"/>
          </a:xfrm>
        </p:grpSpPr>
        <p:sp>
          <p:nvSpPr>
            <p:cNvPr id="90" name="Text Box 66"/>
            <p:cNvSpPr/>
            <p:nvPr/>
          </p:nvSpPr>
          <p:spPr>
            <a:xfrm>
              <a:off x="6898320" y="2338200"/>
              <a:ext cx="20880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93"/>
            <p:cNvGrpSpPr/>
            <p:nvPr/>
          </p:nvGrpSpPr>
          <p:grpSpPr>
            <a:xfrm>
              <a:off x="5791320" y="2057040"/>
              <a:ext cx="1514520" cy="3115080"/>
              <a:chOff x="5791320" y="2057040"/>
              <a:chExt cx="1514520" cy="3115080"/>
            </a:xfrm>
          </p:grpSpPr>
          <p:sp>
            <p:nvSpPr>
              <p:cNvPr id="92" name="Text Box 70"/>
              <p:cNvSpPr/>
              <p:nvPr/>
            </p:nvSpPr>
            <p:spPr>
              <a:xfrm>
                <a:off x="5791320" y="2908080"/>
                <a:ext cx="208800" cy="40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" name="AutoShape 98"/>
              <p:cNvCxnSpPr/>
              <p:nvPr/>
            </p:nvCxnSpPr>
            <p:spPr>
              <a:xfrm flipV="1">
                <a:off x="6199920" y="2057040"/>
                <a:ext cx="1106280" cy="167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Dot"/>
                <a:miter/>
                <a:tailEnd len="med" type="triangle" w="med"/>
              </a:ln>
            </p:spPr>
          </p:cxnSp>
          <p:cxnSp>
            <p:nvCxnSpPr>
              <p:cNvPr id="94" name="AutoShape 99"/>
              <p:cNvCxnSpPr/>
              <p:nvPr/>
            </p:nvCxnSpPr>
            <p:spPr>
              <a:xfrm flipV="1">
                <a:off x="5973480" y="2281680"/>
                <a:ext cx="1080" cy="289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Dot"/>
                <a:miter/>
                <a:tailEnd len="med" type="triangle" w="med"/>
              </a:ln>
            </p:spPr>
          </p:cxnSp>
        </p:grpSp>
      </p:grpSp>
      <p:grpSp>
        <p:nvGrpSpPr>
          <p:cNvPr id="95" name="Group 95"/>
          <p:cNvGrpSpPr/>
          <p:nvPr/>
        </p:nvGrpSpPr>
        <p:grpSpPr>
          <a:xfrm>
            <a:off x="6004080" y="2261880"/>
            <a:ext cx="2044440" cy="3228120"/>
            <a:chOff x="6004080" y="2261880"/>
            <a:chExt cx="2044440" cy="3228120"/>
          </a:xfrm>
        </p:grpSpPr>
        <p:grpSp>
          <p:nvGrpSpPr>
            <p:cNvPr id="96" name="Group 94"/>
            <p:cNvGrpSpPr/>
            <p:nvPr/>
          </p:nvGrpSpPr>
          <p:grpSpPr>
            <a:xfrm>
              <a:off x="6004080" y="2261880"/>
              <a:ext cx="2044440" cy="3228120"/>
              <a:chOff x="6004080" y="2261880"/>
              <a:chExt cx="2044440" cy="3228120"/>
            </a:xfrm>
          </p:grpSpPr>
          <p:grpSp>
            <p:nvGrpSpPr>
              <p:cNvPr id="97" name="Group 92"/>
              <p:cNvGrpSpPr/>
              <p:nvPr/>
            </p:nvGrpSpPr>
            <p:grpSpPr>
              <a:xfrm>
                <a:off x="6282000" y="2284920"/>
                <a:ext cx="1766520" cy="3205080"/>
                <a:chOff x="6282000" y="2284920"/>
                <a:chExt cx="1766520" cy="3205080"/>
              </a:xfrm>
            </p:grpSpPr>
            <p:cxnSp>
              <p:nvCxnSpPr>
                <p:cNvPr id="98" name="AutoShape 95"/>
                <p:cNvCxnSpPr/>
                <p:nvPr/>
              </p:nvCxnSpPr>
              <p:spPr>
                <a:xfrm flipH="1">
                  <a:off x="6282000" y="4992120"/>
                  <a:ext cx="1419120" cy="498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9" name="AutoShape 96"/>
                <p:cNvCxnSpPr/>
                <p:nvPr/>
              </p:nvCxnSpPr>
              <p:spPr>
                <a:xfrm flipH="1" flipV="1">
                  <a:off x="7619040" y="2284920"/>
                  <a:ext cx="429840" cy="1422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100" name="AutoShape 97"/>
              <p:cNvCxnSpPr/>
              <p:nvPr/>
            </p:nvCxnSpPr>
            <p:spPr>
              <a:xfrm flipV="1">
                <a:off x="6004080" y="2261880"/>
                <a:ext cx="1479600" cy="301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01" name="Text Box 100"/>
            <p:cNvSpPr/>
            <p:nvPr/>
          </p:nvSpPr>
          <p:spPr>
            <a:xfrm>
              <a:off x="6778440" y="3418200"/>
              <a:ext cx="20880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380988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00"/>
          <p:cNvGrpSpPr/>
          <p:nvPr/>
        </p:nvGrpSpPr>
        <p:grpSpPr>
          <a:xfrm>
            <a:off x="4390920" y="2362320"/>
            <a:ext cx="4019400" cy="339480"/>
            <a:chOff x="4390920" y="2362320"/>
            <a:chExt cx="4019400" cy="339480"/>
          </a:xfrm>
        </p:grpSpPr>
        <p:grpSp>
          <p:nvGrpSpPr>
            <p:cNvPr id="105" name="Group 62"/>
            <p:cNvGrpSpPr/>
            <p:nvPr/>
          </p:nvGrpSpPr>
          <p:grpSpPr>
            <a:xfrm>
              <a:off x="4390920" y="2362320"/>
              <a:ext cx="1399680" cy="339480"/>
              <a:chOff x="4390920" y="2362320"/>
              <a:chExt cx="1399680" cy="339480"/>
            </a:xfrm>
          </p:grpSpPr>
          <p:grpSp>
            <p:nvGrpSpPr>
              <p:cNvPr id="106" name="Group 63"/>
              <p:cNvGrpSpPr/>
              <p:nvPr/>
            </p:nvGrpSpPr>
            <p:grpSpPr>
              <a:xfrm>
                <a:off x="4390920" y="2362320"/>
                <a:ext cx="1399680" cy="339480"/>
                <a:chOff x="4390920" y="2362320"/>
                <a:chExt cx="1399680" cy="339480"/>
              </a:xfrm>
            </p:grpSpPr>
            <p:sp>
              <p:nvSpPr>
                <p:cNvPr id="107" name="Rectangle 64"/>
                <p:cNvSpPr/>
                <p:nvPr/>
              </p:nvSpPr>
              <p:spPr>
                <a:xfrm>
                  <a:off x="4390920" y="2362320"/>
                  <a:ext cx="390240" cy="33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5"/>
                <p:cNvSpPr/>
                <p:nvPr/>
              </p:nvSpPr>
              <p:spPr>
                <a:xfrm>
                  <a:off x="5400360" y="2362320"/>
                  <a:ext cx="390240" cy="33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O1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9" name="AutoShape 66"/>
              <p:cNvCxnSpPr/>
              <p:nvPr/>
            </p:nvCxnSpPr>
            <p:spPr>
              <a:xfrm flipV="1">
                <a:off x="4781160" y="2497320"/>
                <a:ext cx="619920" cy="14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0" name="Group 67"/>
            <p:cNvGrpSpPr/>
            <p:nvPr/>
          </p:nvGrpSpPr>
          <p:grpSpPr>
            <a:xfrm>
              <a:off x="7010640" y="2362320"/>
              <a:ext cx="1399680" cy="339480"/>
              <a:chOff x="7010640" y="2362320"/>
              <a:chExt cx="1399680" cy="339480"/>
            </a:xfrm>
          </p:grpSpPr>
          <p:grpSp>
            <p:nvGrpSpPr>
              <p:cNvPr id="111" name="Group 68"/>
              <p:cNvGrpSpPr/>
              <p:nvPr/>
            </p:nvGrpSpPr>
            <p:grpSpPr>
              <a:xfrm>
                <a:off x="7010640" y="2362320"/>
                <a:ext cx="1399680" cy="339480"/>
                <a:chOff x="7010640" y="2362320"/>
                <a:chExt cx="1399680" cy="339480"/>
              </a:xfrm>
            </p:grpSpPr>
            <p:sp>
              <p:nvSpPr>
                <p:cNvPr id="112" name="Rectangle 69"/>
                <p:cNvSpPr/>
                <p:nvPr/>
              </p:nvSpPr>
              <p:spPr>
                <a:xfrm>
                  <a:off x="7010640" y="2362320"/>
                  <a:ext cx="390240" cy="33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O2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70"/>
                <p:cNvSpPr/>
                <p:nvPr/>
              </p:nvSpPr>
              <p:spPr>
                <a:xfrm>
                  <a:off x="8020080" y="2362320"/>
                  <a:ext cx="390240" cy="33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z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14" name="AutoShape 71"/>
              <p:cNvCxnSpPr/>
              <p:nvPr/>
            </p:nvCxnSpPr>
            <p:spPr>
              <a:xfrm flipH="1">
                <a:off x="7400520" y="2511000"/>
                <a:ext cx="619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15" name="Group 104"/>
          <p:cNvGrpSpPr/>
          <p:nvPr/>
        </p:nvGrpSpPr>
        <p:grpSpPr>
          <a:xfrm>
            <a:off x="4343400" y="2701080"/>
            <a:ext cx="2305080" cy="3242520"/>
            <a:chOff x="4343400" y="2701080"/>
            <a:chExt cx="2305080" cy="3242520"/>
          </a:xfrm>
        </p:grpSpPr>
        <p:grpSp>
          <p:nvGrpSpPr>
            <p:cNvPr id="116" name="Group 102"/>
            <p:cNvGrpSpPr/>
            <p:nvPr/>
          </p:nvGrpSpPr>
          <p:grpSpPr>
            <a:xfrm>
              <a:off x="4343400" y="2701080"/>
              <a:ext cx="2305080" cy="3242520"/>
              <a:chOff x="4343400" y="2701080"/>
              <a:chExt cx="2305080" cy="3242520"/>
            </a:xfrm>
          </p:grpSpPr>
          <p:cxnSp>
            <p:nvCxnSpPr>
              <p:cNvPr id="117" name="AutoShape 58"/>
              <p:cNvCxnSpPr/>
              <p:nvPr/>
            </p:nvCxnSpPr>
            <p:spPr>
              <a:xfrm flipV="1">
                <a:off x="5505480" y="2783160"/>
                <a:ext cx="133560" cy="282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18" name="Group 101"/>
              <p:cNvGrpSpPr/>
              <p:nvPr/>
            </p:nvGrpSpPr>
            <p:grpSpPr>
              <a:xfrm>
                <a:off x="4343400" y="2701080"/>
                <a:ext cx="2305080" cy="3242520"/>
                <a:chOff x="4343400" y="2701080"/>
                <a:chExt cx="2305080" cy="3242520"/>
              </a:xfrm>
            </p:grpSpPr>
            <p:grpSp>
              <p:nvGrpSpPr>
                <p:cNvPr id="119" name="Group 72"/>
                <p:cNvGrpSpPr/>
                <p:nvPr/>
              </p:nvGrpSpPr>
              <p:grpSpPr>
                <a:xfrm>
                  <a:off x="4343400" y="5603040"/>
                  <a:ext cx="1400400" cy="340560"/>
                  <a:chOff x="4343400" y="5603040"/>
                  <a:chExt cx="1400400" cy="340560"/>
                </a:xfrm>
              </p:grpSpPr>
              <p:grpSp>
                <p:nvGrpSpPr>
                  <p:cNvPr id="120" name="Group 73"/>
                  <p:cNvGrpSpPr/>
                  <p:nvPr/>
                </p:nvGrpSpPr>
                <p:grpSpPr>
                  <a:xfrm>
                    <a:off x="4343400" y="5603040"/>
                    <a:ext cx="1400400" cy="340560"/>
                    <a:chOff x="4343400" y="5603040"/>
                    <a:chExt cx="1400400" cy="340560"/>
                  </a:xfrm>
                </p:grpSpPr>
                <p:sp>
                  <p:nvSpPr>
                    <p:cNvPr id="121" name="Rectangle 74"/>
                    <p:cNvSpPr/>
                    <p:nvPr/>
                  </p:nvSpPr>
                  <p:spPr>
                    <a:xfrm>
                      <a:off x="4343400" y="5603040"/>
                      <a:ext cx="390600" cy="340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Rectangle 75"/>
                    <p:cNvSpPr/>
                    <p:nvPr/>
                  </p:nvSpPr>
                  <p:spPr>
                    <a:xfrm>
                      <a:off x="5353200" y="5603040"/>
                      <a:ext cx="390600" cy="340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23" name="AutoShape 76"/>
                  <p:cNvCxnSpPr/>
                  <p:nvPr/>
                </p:nvCxnSpPr>
                <p:spPr>
                  <a:xfrm flipV="1">
                    <a:off x="4734000" y="5738400"/>
                    <a:ext cx="619920" cy="14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4" name="Rectangle 82"/>
                <p:cNvSpPr/>
                <p:nvPr/>
              </p:nvSpPr>
              <p:spPr>
                <a:xfrm>
                  <a:off x="4905360" y="4254480"/>
                  <a:ext cx="447480" cy="34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B.xb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5" name="AutoShape 83"/>
                <p:cNvCxnSpPr/>
                <p:nvPr/>
              </p:nvCxnSpPr>
              <p:spPr>
                <a:xfrm flipV="1">
                  <a:off x="5229000" y="2701080"/>
                  <a:ext cx="276840" cy="155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26" name="Rectangle 84"/>
                <p:cNvSpPr/>
                <p:nvPr/>
              </p:nvSpPr>
              <p:spPr>
                <a:xfrm>
                  <a:off x="6134400" y="3546360"/>
                  <a:ext cx="447480" cy="34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A.x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7" name="AutoShape 85"/>
                <p:cNvCxnSpPr/>
                <p:nvPr/>
              </p:nvCxnSpPr>
              <p:spPr>
                <a:xfrm flipH="1" flipV="1">
                  <a:off x="5695200" y="2701440"/>
                  <a:ext cx="562680" cy="845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28" name="Rectangle 86"/>
                <p:cNvSpPr/>
                <p:nvPr/>
              </p:nvSpPr>
              <p:spPr>
                <a:xfrm>
                  <a:off x="6201000" y="4417920"/>
                  <a:ext cx="447480" cy="34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thi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9" name="AutoShape 87"/>
                <p:cNvCxnSpPr/>
                <p:nvPr/>
              </p:nvCxnSpPr>
              <p:spPr>
                <a:xfrm flipH="1">
                  <a:off x="5695560" y="4758480"/>
                  <a:ext cx="667440" cy="845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0" name="Text Box 94"/>
            <p:cNvSpPr/>
            <p:nvPr/>
          </p:nvSpPr>
          <p:spPr>
            <a:xfrm>
              <a:off x="5353200" y="4935600"/>
              <a:ext cx="295200" cy="31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6"/>
          <p:cNvGrpSpPr/>
          <p:nvPr/>
        </p:nvGrpSpPr>
        <p:grpSpPr>
          <a:xfrm>
            <a:off x="5486400" y="2631600"/>
            <a:ext cx="1685520" cy="3194640"/>
            <a:chOff x="5486400" y="2631600"/>
            <a:chExt cx="1685520" cy="3194640"/>
          </a:xfrm>
        </p:grpSpPr>
        <p:grpSp>
          <p:nvGrpSpPr>
            <p:cNvPr id="132" name="Group 99"/>
            <p:cNvGrpSpPr/>
            <p:nvPr/>
          </p:nvGrpSpPr>
          <p:grpSpPr>
            <a:xfrm>
              <a:off x="5486400" y="2631600"/>
              <a:ext cx="1685520" cy="3194640"/>
              <a:chOff x="5486400" y="2631600"/>
              <a:chExt cx="1685520" cy="3194640"/>
            </a:xfrm>
          </p:grpSpPr>
          <p:sp>
            <p:nvSpPr>
              <p:cNvPr id="133" name="Arc 51"/>
              <p:cNvSpPr/>
              <p:nvPr/>
            </p:nvSpPr>
            <p:spPr>
              <a:xfrm flipV="1">
                <a:off x="5486400" y="2666880"/>
                <a:ext cx="1590840" cy="3159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rc 52"/>
              <p:cNvSpPr/>
              <p:nvPr/>
            </p:nvSpPr>
            <p:spPr>
              <a:xfrm flipH="1" flipV="1">
                <a:off x="5695200" y="2631240"/>
                <a:ext cx="1476360" cy="309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93"/>
            <p:cNvSpPr/>
            <p:nvPr/>
          </p:nvSpPr>
          <p:spPr>
            <a:xfrm>
              <a:off x="5695920" y="3546720"/>
              <a:ext cx="314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5"/>
            <p:cNvSpPr/>
            <p:nvPr/>
          </p:nvSpPr>
          <p:spPr>
            <a:xfrm>
              <a:off x="6800760" y="3941640"/>
              <a:ext cx="295200" cy="31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05"/>
          <p:cNvGrpSpPr/>
          <p:nvPr/>
        </p:nvGrpSpPr>
        <p:grpSpPr>
          <a:xfrm>
            <a:off x="6457680" y="2701080"/>
            <a:ext cx="1953000" cy="3174120"/>
            <a:chOff x="6457680" y="2701080"/>
            <a:chExt cx="1953000" cy="3174120"/>
          </a:xfrm>
        </p:grpSpPr>
        <p:grpSp>
          <p:nvGrpSpPr>
            <p:cNvPr id="138" name="Group 103"/>
            <p:cNvGrpSpPr/>
            <p:nvPr/>
          </p:nvGrpSpPr>
          <p:grpSpPr>
            <a:xfrm>
              <a:off x="6457680" y="2701080"/>
              <a:ext cx="1953000" cy="3174120"/>
              <a:chOff x="6457680" y="2701080"/>
              <a:chExt cx="1953000" cy="3174120"/>
            </a:xfrm>
          </p:grpSpPr>
          <p:grpSp>
            <p:nvGrpSpPr>
              <p:cNvPr id="139" name="Group 77"/>
              <p:cNvGrpSpPr/>
              <p:nvPr/>
            </p:nvGrpSpPr>
            <p:grpSpPr>
              <a:xfrm>
                <a:off x="7010280" y="5535000"/>
                <a:ext cx="1400400" cy="340200"/>
                <a:chOff x="7010280" y="5535000"/>
                <a:chExt cx="1400400" cy="340200"/>
              </a:xfrm>
            </p:grpSpPr>
            <p:grpSp>
              <p:nvGrpSpPr>
                <p:cNvPr id="140" name="Group 78"/>
                <p:cNvGrpSpPr/>
                <p:nvPr/>
              </p:nvGrpSpPr>
              <p:grpSpPr>
                <a:xfrm>
                  <a:off x="7010280" y="5535000"/>
                  <a:ext cx="1400400" cy="340200"/>
                  <a:chOff x="7010280" y="5535000"/>
                  <a:chExt cx="1400400" cy="340200"/>
                </a:xfrm>
              </p:grpSpPr>
              <p:sp>
                <p:nvSpPr>
                  <p:cNvPr id="141" name="Rectangle 79"/>
                  <p:cNvSpPr/>
                  <p:nvPr/>
                </p:nvSpPr>
                <p:spPr>
                  <a:xfrm>
                    <a:off x="7010280" y="5535000"/>
                    <a:ext cx="390600" cy="34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O4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80"/>
                  <p:cNvSpPr/>
                  <p:nvPr/>
                </p:nvSpPr>
                <p:spPr>
                  <a:xfrm>
                    <a:off x="8020080" y="5535000"/>
                    <a:ext cx="390600" cy="34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 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43" name="AutoShape 81"/>
                <p:cNvCxnSpPr/>
                <p:nvPr/>
              </p:nvCxnSpPr>
              <p:spPr>
                <a:xfrm flipH="1">
                  <a:off x="7400520" y="5684040"/>
                  <a:ext cx="619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144" name="AutoShape 88"/>
              <p:cNvCxnSpPr/>
              <p:nvPr/>
            </p:nvCxnSpPr>
            <p:spPr>
              <a:xfrm>
                <a:off x="6457680" y="4758480"/>
                <a:ext cx="810360" cy="776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5" name="Rectangle 89"/>
              <p:cNvSpPr/>
              <p:nvPr/>
            </p:nvSpPr>
            <p:spPr>
              <a:xfrm>
                <a:off x="7496280" y="4159080"/>
                <a:ext cx="476280" cy="36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C.x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AutoShape 90"/>
              <p:cNvCxnSpPr/>
              <p:nvPr/>
            </p:nvCxnSpPr>
            <p:spPr>
              <a:xfrm flipH="1" flipV="1">
                <a:off x="7267320" y="2701440"/>
                <a:ext cx="381600" cy="1458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7" name="AutoShape 91"/>
              <p:cNvCxnSpPr/>
              <p:nvPr/>
            </p:nvCxnSpPr>
            <p:spPr>
              <a:xfrm flipV="1">
                <a:off x="6458040" y="2701080"/>
                <a:ext cx="552960" cy="84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8" name="AutoShape 92"/>
              <p:cNvCxnSpPr/>
              <p:nvPr/>
            </p:nvCxnSpPr>
            <p:spPr>
              <a:xfrm flipH="1" flipV="1">
                <a:off x="7171920" y="2701440"/>
                <a:ext cx="143280" cy="2833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9" name="Text Box 96"/>
            <p:cNvSpPr/>
            <p:nvPr/>
          </p:nvSpPr>
          <p:spPr>
            <a:xfrm>
              <a:off x="7172280" y="4527000"/>
              <a:ext cx="295200" cy="31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2:18:35Z</dcterms:created>
  <dc:creator>Anand</dc:creator>
  <dc:description/>
  <dc:language>en-US</dc:language>
  <cp:lastModifiedBy>Dan Bucatanschi</cp:lastModifiedBy>
  <dcterms:modified xsi:type="dcterms:W3CDTF">2008-04-08T12:51:08Z</dcterms:modified>
  <cp:revision>95</cp:revision>
  <dc:subject/>
  <dc:title>Parameterized Object Sensitivity for Points-to Analysis for Java</dc:title>
</cp:coreProperties>
</file>