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95D-B97F-4572-8AF2-E52A8941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FEF-926E-4C12-924A-A7B33767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384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CC6-1C0B-4164-9034-E41EA049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784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21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784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21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24C-5D5D-4123-8AD1-FCAA2859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575-49B5-4B13-B745-21381792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0384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0384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84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521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84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521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FA3-B5CE-44A8-9DA0-077160AE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D75-DEAD-4561-ADCA-1C9E4ECF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17F-E14D-40E3-A2E0-580D212F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647-784F-40BB-A657-EAF63661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D95-6E7A-4526-AB08-E6F3B70E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384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C5B-F9EF-450D-920E-96442DB2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909-37B5-4565-B822-15D1677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68BE-35AB-4BEF-8466-69E6161579D9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etwork Security Testing Techniqu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resented By:-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achin Vador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og Review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ynamic picture of system activit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nformance with the security polic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DS sensors placed behind firewal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hange Firewall Polic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ar Dial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Unauthorized modem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ialing software can dial hundreds of numbers in short tim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Block the inbound calls to the identified number if it is not possible to remove them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ar Driv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Wireless Default Configuration is insecur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rive Tes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Just need wireless network card and testing tool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requency of test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enetration Tes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040" y="1701360"/>
            <a:ext cx="8131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It is a method of getting into the system by using the techniques used by the attacker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Specific IP addresses/ranges to be tested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Any restricted hosts (i.e., hosts, systems, subnets, not to be tested)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A list of acceptable testing techniques (e.g. social engineering, DoS, etc.) and tools (password crackers, network sniffers, etc.)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Times when testing is to be conducted (e.g., during business hours, after business hours, etc.)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Identification of a finite period for testing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IP addresses of the machines from which penetration testing will be conducted so that administrators can differentiate the legitimate penetration testing attacks from actual malicious attacks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Points of contact for the penetration testing team, the targeted systems, and the networks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Measures to prevent law enforcement being called with false alarms (created by the testing)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Handling of information collected by penetration testing team.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enetration Tes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Blue Team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Red Team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hases of Penetration Tes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246400"/>
            <a:ext cx="77724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hases of Penetration Tes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lanning Phas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oals are set. Permission is taken. No test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iscovery Phas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esting starts. Port scanning is used to identify the vulnerabilit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xecuting the attack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xploit the vulnerabilit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ceptable use guidelines (e.g., what is acceptable use of organization computing and network resource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les and responsibilities (for users, administrators, management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thentication (e.g., passwords, biometric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ailability of resources (redundancy, recovery, backup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iance (infractions, consequences and penalties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Questions 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ystem Development Life Cyc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3600" y="1981080"/>
            <a:ext cx="4275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ystem Development Life Cyc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Initiation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– the system is described in terms of its purpose, mission, and configuration.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Development and Acquisition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– the system is possibly contracted and constructed according to documented procedures and requirements.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Implementation and Installation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– the system is installed and integrated with other applications, usually on a network.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Operational and Maintenance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– the system is operated and maintained according to its mission requirements.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Disposal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– the system’s lifecycle is complete and it is deactivated and removed from the network and active use.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hen is the Network Security Testing don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t is done after system has been developed, installed and integrated during Implementation and Operational stag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6800" y="3208320"/>
            <a:ext cx="77342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and Techniques for Network Secur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Network Scann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Vulnerability Scann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assword Crack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og Review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War Dial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Wireless LAN Testing (War Driving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enetration Test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etwork Scan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can for connected host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can for services running on the host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can for which applications are running those servic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How Scanning takes place?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Ping the hosts using ICMP ECHO and Reply. Look for open TCP/UDP port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Operating system </a:t>
            </a:r>
            <a:r>
              <a:rPr b="0" i="1" lang="en-US" sz="2100" spc="-1" strike="noStrike">
                <a:solidFill>
                  <a:srgbClr val="ffffff"/>
                </a:solidFill>
                <a:latin typeface="Verdana"/>
              </a:rPr>
              <a:t>fingerprinting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Not reliable as firewalls can be configured to camouflage the operating system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etwork Scan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Vulnerabilities of IIS different from Apach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sten on the remote por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Banner Grabb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Need human to interpret the result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reparation for Penetration Test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etwork Scanning Resul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nvestigate and disconnect unauthorized hosts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Disable or remove unnecessary and vulnerable servic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Modify vulnerable hosts to restrict access to vulnerable services to a limited number of required hosts (e.g., host level firewall or TCP wrappers), and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Modify enterprise firewalls to restrict outside access to known vulnerable servic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ulnerability Scan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akes Network Scanning 1 step ahead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Maintains database of vulnerabilities in operating system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y generate more traffic that port scanner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Network based Scanners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ost based Scanner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SachinNew</cp:lastModifiedBy>
  <dcterms:modified xsi:type="dcterms:W3CDTF">2008-05-12T03:16:43Z</dcterms:modified>
  <cp:revision>13</cp:revision>
  <dc:subject/>
  <dc:title>Business 1 Template</dc:title>
</cp:coreProperties>
</file>