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ACD-52A1-4DD7-BD2D-88FA95CA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5C7-5F32-4776-AE48-06DF776C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B38-7000-4C49-ACAA-7B98EB45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4D7-0290-424C-9C55-CBDF7557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3795-CEF1-455D-8841-5E1ED989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3038-40FB-4F39-8785-0D28BB0B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37DA-846E-4671-9DAC-6669B38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390C-FC8B-4544-ACBA-742DDD13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E574-B251-468C-BE78-F20386E2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211B-A3B4-4D88-873B-40A80D33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1BED-675C-42B5-98B1-B11C7FE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8FA-93BD-4F47-A5C7-E43E4B8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31F5-3030-4216-8361-D0916FA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E498-73C2-47E7-8A03-11F33B4D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DB28-83C9-4D37-84FE-39AE450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B6E0-62D4-4347-B3FE-E6F61B89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501A-CEDF-4292-B557-E94CFFD1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3CB-3BC1-4640-AA84-0A5ED92D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6AD-9A82-4A45-8BF9-5ADA77B8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FC8-92A0-430E-BA3C-7F63836B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5E3-5B51-40A2-B9B0-97221461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1A9-1133-420D-8FE4-EC0D6185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B8F-47FF-4552-9F1E-AA9299A9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E45-EE4A-4072-ADB3-10F1FED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0F5-E0AE-4817-8ED3-8719397DA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A96C-FA6D-43E5-AC80-C2766E9B5D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TAF: An Application Framework for Design and Verification of Embedded Real-Time Softwa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80880" y="41907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o-Ann Hsiung, Shang-Wei Lin, Chih-Hao Tseng, Trong-Yen Lee, Jih-Ming Fu and Win-Bin 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ed Sequence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scheduling different tasks performed by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how a user should use the 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state-mark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y relate the sequence diagram to the corresponding state in the timed state 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Petri nets from UML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thout RTOS ( Quasi Dynamic Schedul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Single real-time kern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th RTOS (Extended Quasi Static Schedu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Schedule multiple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AF uses simple RTPN/CCPN models for scheduling purpo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ri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Petri Net (N) : &lt;P,T,Ø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TPN: &lt;N,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indicates period for RTP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- maps transition to worst-case execution time and dead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oral constraints that appear in sequence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nverted into guard constraints on arcs in generated Petri 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based ver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ore suitable ( all possible exec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f temporal property is satis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lse show the counter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tion kernel used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tate Graph Manipulator (S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State-graph mer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Dead state chec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State-reduction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ies ver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ad states, deadlocks, live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Mapping &amp; Cod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ally generate make files, header file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Iss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hen a software class is not deployed on any specific hardware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splay a list of available compatible device types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 ( 3-t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ardware abstraction 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S with middleware 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AF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473120"/>
            <a:ext cx="82296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l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vio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24 tas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45 objects were f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ICC (Autonomous Intelligent Cruise Controll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12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21 objects were f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taken to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vion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Without VERTAF : 5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Using VERTAF : 1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AI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Without VERTAF : 20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Using VERTAF : 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ICC Call Gra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AF integrates 3 different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oftware component re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rmal 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rmal 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pecification languages can be easily integrated in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advanced features like network delay, network protocols will be considered in futur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nd Verification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M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al-time Softwar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rmal 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onent 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de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AF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oor integration of functional &amp; non - functional  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ccelerate the real-time embedded software co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onent reuse, formal synthesis and formal 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ing an embedded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the classes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code based on thos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real-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temporal constrai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ver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time 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this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Model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ell-defined UML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Synthe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uarantees satisfaction of temporal &amp; spatial 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Ver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hecks if system satisfies user-given or system-defined generic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duce efficient portab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nd Verification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synthesis has two p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-end phase (m/c independ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UML modeling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Scheduling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Formal verification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 phase (m/c depend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Component mapping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Code generation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62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 Mo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the deployment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wo types of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 specified from scratch by the desig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 reuse a component from the libr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 Supported hardware compon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438280" y="4800600"/>
            <a:ext cx="40388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ed Statecha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vent-triggered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me-trigg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deadlines,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start, stop and res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82296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2:49:46Z</dcterms:created>
  <dc:creator>my_friends</dc:creator>
  <dc:description/>
  <dc:language>en-US</dc:language>
  <cp:lastModifiedBy>my_friends</cp:lastModifiedBy>
  <dcterms:modified xsi:type="dcterms:W3CDTF">2008-04-15T14:54:0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