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D48E-8BDE-4FD3-8090-49A59C8B0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7B6A-0A52-453F-A1BD-4EC81E44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52F4-16DA-4973-8091-D6A3FE62F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A2FC-D30A-413A-B6D6-E8C02B28A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2BE2-26FC-43D2-B140-B53A13ABD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865F-1843-4D8F-A51E-D2FCE7C1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5F0E-A219-464D-9CF9-66A722F8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4EFC-BD20-41DB-84FF-BD27E2A6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2151-2450-47FF-9360-7D6EA6A4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A000-0953-45DC-AD11-F4F4E92B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B448-300B-44D1-ACC4-C3650FB7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9EB6-7E2F-4DD9-9873-F4F3C0FC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3B61-BB2A-4F62-AD6F-40E9CFBC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AAC7-158E-46A1-BAA5-43DC90B2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66982-DD7C-4710-A719-9894F5B8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B14F-C329-4A94-A3B3-19953EFE1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562A-7C8F-4053-8A7C-B2D0AA6B1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3ADB-9051-4BC1-BA92-CDBF4A56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9047-D9E9-4A5C-90FA-1765943C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1DE1-9724-4F31-A71D-B192ABCD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551D-4C25-4B83-870E-7B90882C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AFC7-2195-45E1-A82B-A10B525A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F7BE-2056-4DC2-804F-DFDCC334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C80C-F378-4C8F-AB8D-6408BFFB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A9C5-82F2-4C9C-8A7C-082A50689493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0D81-17B6-4EBF-B2E4-2F387F49F291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cis.poly.edu/~ytdeng/paper/jstvr_2004.pdf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38188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  <a:ea typeface="宋体"/>
              </a:rPr>
              <a:t>A Framework for Testing Database Application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447920" y="4279680"/>
            <a:ext cx="614664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  <a:ea typeface="宋体"/>
              </a:rPr>
              <a:t>Author: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  <a:ea typeface="宋体"/>
              </a:rPr>
              <a:t>David Chays, Saikat Dan, Filippos I. Vokolos, Elaine J. Weyuker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  <a:ea typeface="宋体"/>
              </a:rPr>
              <a:t>Presenter: Liping Liu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DB stat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  <a:ea typeface="宋体"/>
              </a:rPr>
              <a:t>How to obtain DB stat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  <a:ea typeface="宋体"/>
              </a:rPr>
              <a:t>Live dat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宋体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ot reflect sufficiently wide variety of situation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宋体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ifficult to find the situations of interes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宋体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violate privacy or security constraint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  <a:ea typeface="宋体"/>
              </a:rPr>
              <a:t>Synthetic dat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Generating domain elements and gluing them together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generate interesting data that obey integrity constraint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se schema and user supplied info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-185400"/>
            <a:ext cx="82440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762120"/>
            <a:ext cx="182880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Suggest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from tester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762120"/>
            <a:ext cx="182880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DB schem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1905120"/>
            <a:ext cx="182880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App sour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5486400"/>
            <a:ext cx="182880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App exec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4419720"/>
            <a:ext cx="175284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User inpu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81280" y="5562720"/>
            <a:ext cx="175284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Outpu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477120" y="2057400"/>
            <a:ext cx="175248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DB stat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1905120"/>
            <a:ext cx="2667240" cy="761760"/>
          </a:xfrm>
          <a:prstGeom prst="rect">
            <a:avLst/>
          </a:prstGeom>
          <a:solidFill>
            <a:srgbClr val="00c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3124080"/>
            <a:ext cx="26672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19920" y="3124080"/>
            <a:ext cx="26668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4267080"/>
            <a:ext cx="26672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77120" y="4419720"/>
            <a:ext cx="175248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Resul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23880" y="2590920"/>
            <a:ext cx="0" cy="53316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3886200"/>
            <a:ext cx="0" cy="5335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523880" y="4952880"/>
            <a:ext cx="0" cy="5335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38280" y="5791320"/>
            <a:ext cx="114300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352680" y="1447920"/>
            <a:ext cx="762120" cy="45720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4876560" y="1447920"/>
            <a:ext cx="609480" cy="45720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2286000"/>
            <a:ext cx="68580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495680" y="5029200"/>
            <a:ext cx="0" cy="5335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791320" y="4648320"/>
            <a:ext cx="68580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315200" y="2590920"/>
            <a:ext cx="0" cy="53316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3886200"/>
            <a:ext cx="0" cy="5335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cxnSp>
        <p:nvCxnSpPr>
          <p:cNvPr id="224" name=""/>
          <p:cNvCxnSpPr>
            <a:stCxn id="204" idx="2"/>
            <a:endCxn id="207" idx="6"/>
          </p:cNvCxnSpPr>
          <p:nvPr/>
        </p:nvCxnSpPr>
        <p:spPr>
          <a:xfrm flipH="1" flipV="1" rot="5400000">
            <a:off x="2951640" y="894600"/>
            <a:ext cx="3848760" cy="6706440"/>
          </a:xfrm>
          <a:prstGeom prst="bentConnector4">
            <a:avLst>
              <a:gd name="adj1" fmla="val -5930"/>
              <a:gd name="adj2" fmla="val 111144"/>
            </a:avLst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5" name=""/>
          <p:cNvSpPr/>
          <p:nvPr/>
        </p:nvSpPr>
        <p:spPr>
          <a:xfrm>
            <a:off x="4495680" y="35053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95680" y="2666880"/>
            <a:ext cx="0" cy="5335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95680" y="3505320"/>
            <a:ext cx="152424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2819520" y="3505320"/>
            <a:ext cx="167616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90160" y="3267000"/>
            <a:ext cx="2442240" cy="5205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Input Generator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62680" y="1971720"/>
            <a:ext cx="23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State Generator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62320" y="433404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081840" y="3267000"/>
            <a:ext cx="2586960" cy="5205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State 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  <a:ea typeface="宋体"/>
              </a:rPr>
              <a:t>Validator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62320" y="4410000"/>
            <a:ext cx="2382840" cy="5205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Output 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  <a:ea typeface="宋体"/>
              </a:rPr>
              <a:t>Verifier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81280" y="3200400"/>
            <a:ext cx="175284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  <a:ea typeface="宋体"/>
              </a:rPr>
              <a:t>Log fi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Tool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  <a:ea typeface="宋体"/>
              </a:rPr>
              <a:t>State Generato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宋体"/>
              </a:rPr>
              <a:t>Input: DB schema, user info (suggested value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宋体"/>
              </a:rPr>
              <a:t>Populate DB stat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  <a:ea typeface="宋体"/>
              </a:rPr>
              <a:t>Input Generato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宋体"/>
              </a:rPr>
              <a:t>Input: info from State Generator, info of quer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宋体"/>
              </a:rPr>
              <a:t>Generate input data for test cas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  <a:ea typeface="宋体"/>
              </a:rPr>
              <a:t>Output Verifi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宋体"/>
              </a:rPr>
              <a:t>Input: output of test cas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宋体"/>
              </a:rPr>
              <a:t>Check with expected valu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  <a:ea typeface="宋体"/>
              </a:rPr>
              <a:t>State Validato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宋体"/>
              </a:rPr>
              <a:t>Check state after executio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tate Generator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nputs DB schema (in SQL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arses schema to derive info abou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宋体"/>
              </a:rPr>
              <a:t>A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tribut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宋体"/>
              </a:rPr>
              <a:t>T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bl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onstraints : uniqueness, not-NULL,    referential integrit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nputs additional info from user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uggested attribute values, divided into groups, similar to Category-Partition Testin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"/>
          <p:cNvGrpSpPr/>
          <p:nvPr/>
        </p:nvGrpSpPr>
        <p:grpSpPr>
          <a:xfrm>
            <a:off x="304920" y="2514240"/>
            <a:ext cx="8229600" cy="2134080"/>
            <a:chOff x="304920" y="2514240"/>
            <a:chExt cx="8229600" cy="2134080"/>
          </a:xfrm>
        </p:grpSpPr>
        <p:cxnSp>
          <p:nvCxnSpPr>
            <p:cNvPr id="240" name=""/>
            <p:cNvCxnSpPr>
              <a:stCxn id="241" idx="3"/>
              <a:endCxn id="242" idx="0"/>
            </p:cNvCxnSpPr>
            <p:nvPr/>
          </p:nvCxnSpPr>
          <p:spPr>
            <a:xfrm flipV="1">
              <a:off x="1446120" y="2742840"/>
              <a:ext cx="764280" cy="915120"/>
            </a:xfrm>
            <a:prstGeom prst="curvedConnector5">
              <a:avLst>
                <a:gd name="adj1" fmla="val 40103"/>
                <a:gd name="adj2" fmla="val 62495"/>
                <a:gd name="adj3" fmla="val 40103"/>
              </a:avLst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</p:cxnSp>
        <p:sp>
          <p:nvSpPr>
            <p:cNvPr id="241" name=""/>
            <p:cNvSpPr/>
            <p:nvPr/>
          </p:nvSpPr>
          <p:spPr>
            <a:xfrm flipV="1">
              <a:off x="304920" y="3504240"/>
              <a:ext cx="1143000" cy="30492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99"/>
                  </a:solidFill>
                  <a:latin typeface="Times New Roman"/>
                </a:rPr>
                <a:t>P   | 5 |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cxnSp>
          <p:nvCxnSpPr>
            <p:cNvPr id="243" name=""/>
            <p:cNvCxnSpPr>
              <a:stCxn id="244" idx="1"/>
              <a:endCxn id="241" idx="3"/>
            </p:cNvCxnSpPr>
            <p:nvPr/>
          </p:nvCxnSpPr>
          <p:spPr>
            <a:xfrm>
              <a:off x="874440" y="2743200"/>
              <a:ext cx="1080" cy="762480"/>
            </a:xfrm>
            <a:prstGeom prst="straightConnector1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</p:cxnSp>
        <p:cxnSp>
          <p:nvCxnSpPr>
            <p:cNvPr id="245" name=""/>
            <p:cNvCxnSpPr>
              <a:stCxn id="241" idx="1"/>
              <a:endCxn id="246" idx="3"/>
            </p:cNvCxnSpPr>
            <p:nvPr/>
          </p:nvCxnSpPr>
          <p:spPr>
            <a:xfrm>
              <a:off x="874440" y="3809880"/>
              <a:ext cx="1080" cy="838800"/>
            </a:xfrm>
            <a:prstGeom prst="straightConnector1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</p:cxnSp>
        <p:sp>
          <p:nvSpPr>
            <p:cNvPr id="247" name=""/>
            <p:cNvSpPr/>
            <p:nvPr/>
          </p:nvSpPr>
          <p:spPr>
            <a:xfrm>
              <a:off x="304920" y="3809880"/>
              <a:ext cx="1143000" cy="152280"/>
            </a:xfrm>
            <a:prstGeom prst="rect">
              <a:avLst/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2057760" y="2743200"/>
              <a:ext cx="6476760" cy="1904760"/>
              <a:chOff x="2057760" y="2743200"/>
              <a:chExt cx="6476760" cy="1904760"/>
            </a:xfrm>
          </p:grpSpPr>
          <p:sp>
            <p:nvSpPr>
              <p:cNvPr id="249" name=""/>
              <p:cNvSpPr/>
              <p:nvPr/>
            </p:nvSpPr>
            <p:spPr>
              <a:xfrm>
                <a:off x="2362320" y="3124080"/>
                <a:ext cx="5105520" cy="380880"/>
              </a:xfrm>
              <a:prstGeom prst="rect">
                <a:avLst/>
              </a:prstGeom>
              <a:solidFill>
                <a:srgbClr val="ff7c80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699"/>
                    </a:solidFill>
                    <a:latin typeface="Times New Roman"/>
                  </a:rPr>
                  <a:t>pname | F| F| F| F| F| F| F|                          </a:t>
                </a:r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362320" y="2743200"/>
                <a:ext cx="5105520" cy="380880"/>
              </a:xfrm>
              <a:prstGeom prst="rect">
                <a:avLst/>
              </a:prstGeom>
              <a:solidFill>
                <a:srgbClr val="ff7c80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699"/>
                    </a:solidFill>
                    <a:latin typeface="Times New Roman"/>
                  </a:rPr>
                  <a:t>pno     | F| F| F| F| F| F| F|                          </a:t>
                </a:r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362320" y="3886200"/>
                <a:ext cx="5105520" cy="380880"/>
              </a:xfrm>
              <a:prstGeom prst="rect">
                <a:avLst/>
              </a:prstGeom>
              <a:solidFill>
                <a:srgbClr val="ff7c80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699"/>
                    </a:solidFill>
                    <a:latin typeface="Times New Roman"/>
                  </a:rPr>
                  <a:t>weight| F| F| F| F| F| F| F|                          </a:t>
                </a:r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362320" y="3504960"/>
                <a:ext cx="5105520" cy="381240"/>
              </a:xfrm>
              <a:prstGeom prst="rect">
                <a:avLst/>
              </a:prstGeom>
              <a:solidFill>
                <a:srgbClr val="ff7c80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699"/>
                    </a:solidFill>
                    <a:latin typeface="Times New Roman"/>
                  </a:rPr>
                  <a:t>color   | F| F| F| F| F| F| F|                          </a:t>
                </a:r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057760" y="2743200"/>
                <a:ext cx="304560" cy="181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99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99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99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99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362320" y="4267080"/>
                <a:ext cx="5105520" cy="380880"/>
              </a:xfrm>
              <a:prstGeom prst="rect">
                <a:avLst/>
              </a:prstGeom>
              <a:solidFill>
                <a:srgbClr val="ff7c80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99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006699"/>
                    </a:solidFill>
                    <a:latin typeface="Times New Roman"/>
                  </a:rPr>
                  <a:t>city      | P | char | ~pr | ~un | ~nn                  </a:t>
                </a:r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362320" y="3124080"/>
                <a:ext cx="5105520" cy="3808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699"/>
                    </a:solidFill>
                    <a:latin typeface="Times New Roman"/>
                  </a:rPr>
                  <a:t>     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pname | P | char | ~pr  | ~un | ~nn</a:t>
                </a:r>
                <a:r>
                  <a:rPr b="0" lang="en-US" sz="2400" spc="-1" strike="noStrike">
                    <a:solidFill>
                      <a:srgbClr val="006699"/>
                    </a:solidFill>
                    <a:latin typeface="Times New Roman"/>
                  </a:rPr>
                  <a:t>                   </a:t>
                </a:r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362320" y="2743200"/>
                <a:ext cx="5105520" cy="380880"/>
              </a:xfrm>
              <a:prstGeom prst="rect">
                <a:avLst/>
              </a:prstGeom>
              <a:solidFill>
                <a:srgbClr val="ff7c80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699"/>
                    </a:solidFill>
                    <a:latin typeface="Times New Roman"/>
                  </a:rPr>
                  <a:t>                    </a:t>
                </a:r>
                <a:r>
                  <a:rPr b="0" lang="en-US" sz="2400" spc="-1" strike="noStrike">
                    <a:solidFill>
                      <a:srgbClr val="006699"/>
                    </a:solidFill>
                    <a:latin typeface="Times New Roman"/>
                  </a:rPr>
                  <a:t>pno      | P | char |  pr   |  un  | ~nn                                  </a:t>
                </a:r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362320" y="3886200"/>
                <a:ext cx="5105520" cy="3808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699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weight | P | dec  | ~pr  | ~un | ~nn</a:t>
                </a:r>
                <a:r>
                  <a:rPr b="0" lang="en-US" sz="2400" spc="-1" strike="noStrike">
                    <a:solidFill>
                      <a:srgbClr val="006699"/>
                    </a:solidFill>
                    <a:latin typeface="Times New Roman"/>
                  </a:rPr>
                  <a:t>                   </a:t>
                </a:r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362320" y="3504960"/>
                <a:ext cx="5105520" cy="381240"/>
              </a:xfrm>
              <a:prstGeom prst="rect">
                <a:avLst/>
              </a:prstGeom>
              <a:solidFill>
                <a:srgbClr val="ff7c80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699"/>
                    </a:solidFill>
                    <a:latin typeface="Times New Roman"/>
                  </a:rPr>
                  <a:t>   </a:t>
                </a:r>
                <a:r>
                  <a:rPr b="0" lang="en-US" sz="2400" spc="-1" strike="noStrike">
                    <a:solidFill>
                      <a:srgbClr val="006699"/>
                    </a:solidFill>
                    <a:latin typeface="Times New Roman"/>
                  </a:rPr>
                  <a:t>color    | P | char | ~pr | ~un | ~nn                  </a:t>
                </a:r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057760" y="2743200"/>
                <a:ext cx="304560" cy="144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99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99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99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001360" y="3657600"/>
                <a:ext cx="533160" cy="152280"/>
              </a:xfrm>
              <a:prstGeom prst="rightArrow">
                <a:avLst>
                  <a:gd name="adj1" fmla="val 50000"/>
                  <a:gd name="adj2" fmla="val 87530"/>
                </a:avLst>
              </a:prstGeom>
              <a:solidFill>
                <a:srgbClr val="edfad2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467840" y="3504960"/>
                <a:ext cx="533520" cy="381240"/>
              </a:xfrm>
              <a:prstGeom prst="rect">
                <a:avLst/>
              </a:prstGeom>
              <a:solidFill>
                <a:srgbClr val="ff7c80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699"/>
                    </a:solidFill>
                    <a:latin typeface="Times New Roman"/>
                  </a:rPr>
                  <a:t>cp</a:t>
                </a:r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001360" y="2895480"/>
                <a:ext cx="533160" cy="152280"/>
              </a:xfrm>
              <a:prstGeom prst="rightArrow">
                <a:avLst>
                  <a:gd name="adj1" fmla="val 50000"/>
                  <a:gd name="adj2" fmla="val 87530"/>
                </a:avLst>
              </a:prstGeom>
              <a:solidFill>
                <a:srgbClr val="edfad2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467840" y="2743200"/>
                <a:ext cx="533520" cy="380880"/>
              </a:xfrm>
              <a:prstGeom prst="rect">
                <a:avLst/>
              </a:prstGeom>
              <a:solidFill>
                <a:srgbClr val="ff7c80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699"/>
                    </a:solidFill>
                    <a:latin typeface="Times New Roman"/>
                  </a:rPr>
                  <a:t>cp</a:t>
                </a:r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001360" y="3276360"/>
                <a:ext cx="533160" cy="152640"/>
              </a:xfrm>
              <a:prstGeom prst="rightArrow">
                <a:avLst>
                  <a:gd name="adj1" fmla="val 50000"/>
                  <a:gd name="adj2" fmla="val 87323"/>
                </a:avLst>
              </a:prstGeom>
              <a:solidFill>
                <a:srgbClr val="edfad2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467840" y="3124080"/>
                <a:ext cx="533520" cy="3808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cp</a:t>
                </a:r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001360" y="4419360"/>
                <a:ext cx="533160" cy="152640"/>
              </a:xfrm>
              <a:prstGeom prst="rightArrow">
                <a:avLst>
                  <a:gd name="adj1" fmla="val 50000"/>
                  <a:gd name="adj2" fmla="val 87323"/>
                </a:avLst>
              </a:prstGeom>
              <a:solidFill>
                <a:srgbClr val="edfad2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467840" y="4267080"/>
                <a:ext cx="533520" cy="380880"/>
              </a:xfrm>
              <a:prstGeom prst="rect">
                <a:avLst/>
              </a:prstGeom>
              <a:solidFill>
                <a:srgbClr val="ff7c80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699"/>
                    </a:solidFill>
                    <a:latin typeface="Times New Roman"/>
                  </a:rPr>
                  <a:t>cp</a:t>
                </a:r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001360" y="4038480"/>
                <a:ext cx="533160" cy="152280"/>
              </a:xfrm>
              <a:prstGeom prst="rightArrow">
                <a:avLst>
                  <a:gd name="adj1" fmla="val 50000"/>
                  <a:gd name="adj2" fmla="val 87530"/>
                </a:avLst>
              </a:prstGeom>
              <a:solidFill>
                <a:srgbClr val="edfad2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467840" y="3886200"/>
                <a:ext cx="533520" cy="3808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cp</a:t>
                </a:r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grpSp>
        <p:nvGrpSpPr>
          <p:cNvPr id="269" name=""/>
          <p:cNvGrpSpPr/>
          <p:nvPr/>
        </p:nvGrpSpPr>
        <p:grpSpPr>
          <a:xfrm>
            <a:off x="76320" y="685800"/>
            <a:ext cx="8458200" cy="2209680"/>
            <a:chOff x="76320" y="685800"/>
            <a:chExt cx="8458200" cy="2209680"/>
          </a:xfrm>
        </p:grpSpPr>
        <p:cxnSp>
          <p:nvCxnSpPr>
            <p:cNvPr id="270" name=""/>
            <p:cNvCxnSpPr>
              <a:stCxn id="244" idx="3"/>
              <a:endCxn id="271" idx="0"/>
            </p:cNvCxnSpPr>
            <p:nvPr/>
          </p:nvCxnSpPr>
          <p:spPr>
            <a:xfrm flipV="1">
              <a:off x="1446120" y="914040"/>
              <a:ext cx="764280" cy="1676880"/>
            </a:xfrm>
            <a:prstGeom prst="curvedConnector5">
              <a:avLst>
                <a:gd name="adj1" fmla="val 40103"/>
                <a:gd name="adj2" fmla="val 56796"/>
                <a:gd name="adj3" fmla="val 40103"/>
              </a:avLst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</p:cxnSp>
        <p:sp>
          <p:nvSpPr>
            <p:cNvPr id="244" name=""/>
            <p:cNvSpPr/>
            <p:nvPr/>
          </p:nvSpPr>
          <p:spPr>
            <a:xfrm flipV="1">
              <a:off x="304920" y="2437560"/>
              <a:ext cx="1143000" cy="30492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99"/>
                  </a:solidFill>
                  <a:latin typeface="Times New Roman"/>
                </a:rPr>
                <a:t>S   | 4 |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320" y="121896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99"/>
                  </a:solidFill>
                  <a:latin typeface="Times New Roman"/>
                </a:rPr>
                <a:t>   </a:t>
              </a:r>
              <a:r>
                <a:rPr b="0" lang="en-US" sz="1400" spc="-1" strike="noStrike">
                  <a:solidFill>
                    <a:srgbClr val="006699"/>
                  </a:solidFill>
                  <a:latin typeface="Times New Roman"/>
                </a:rPr>
                <a:t>globalTablePointer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cxnSp>
          <p:nvCxnSpPr>
            <p:cNvPr id="273" name=""/>
            <p:cNvCxnSpPr>
              <a:stCxn id="272" idx="2"/>
              <a:endCxn id="244" idx="3"/>
            </p:cNvCxnSpPr>
            <p:nvPr/>
          </p:nvCxnSpPr>
          <p:spPr>
            <a:xfrm flipH="1">
              <a:off x="874080" y="1736280"/>
              <a:ext cx="2520" cy="702360"/>
            </a:xfrm>
            <a:prstGeom prst="straightConnector1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</p:cxnSp>
        <p:sp>
          <p:nvSpPr>
            <p:cNvPr id="274" name=""/>
            <p:cNvSpPr/>
            <p:nvPr/>
          </p:nvSpPr>
          <p:spPr>
            <a:xfrm>
              <a:off x="304920" y="2743200"/>
              <a:ext cx="1143000" cy="152280"/>
            </a:xfrm>
            <a:prstGeom prst="rect">
              <a:avLst/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2057760" y="914400"/>
              <a:ext cx="6476760" cy="1523880"/>
              <a:chOff x="2057760" y="914400"/>
              <a:chExt cx="6476760" cy="1523880"/>
            </a:xfrm>
          </p:grpSpPr>
          <p:sp>
            <p:nvSpPr>
              <p:cNvPr id="276" name=""/>
              <p:cNvSpPr/>
              <p:nvPr/>
            </p:nvSpPr>
            <p:spPr>
              <a:xfrm>
                <a:off x="2362320" y="1295280"/>
                <a:ext cx="5105520" cy="380880"/>
              </a:xfrm>
              <a:prstGeom prst="rect">
                <a:avLst/>
              </a:prstGeom>
              <a:solidFill>
                <a:srgbClr val="ff7c80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699"/>
                    </a:solidFill>
                    <a:latin typeface="Times New Roman"/>
                  </a:rPr>
                  <a:t>sname | F| F| F| F| F| F| F|                          </a:t>
                </a:r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362320" y="914400"/>
                <a:ext cx="5105520" cy="380880"/>
              </a:xfrm>
              <a:prstGeom prst="rect">
                <a:avLst/>
              </a:prstGeom>
              <a:solidFill>
                <a:srgbClr val="ff7c80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699"/>
                    </a:solidFill>
                    <a:latin typeface="Times New Roman"/>
                  </a:rPr>
                  <a:t>sno     | F| F| F| F| F| F| F|                          </a:t>
                </a:r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362320" y="2057400"/>
                <a:ext cx="5105520" cy="380880"/>
              </a:xfrm>
              <a:prstGeom prst="rect">
                <a:avLst/>
              </a:prstGeom>
              <a:solidFill>
                <a:srgbClr val="ff7c80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699"/>
                    </a:solidFill>
                    <a:latin typeface="Times New Roman"/>
                  </a:rPr>
                  <a:t>City    | F| F| F| F| F| F| F|                          </a:t>
                </a:r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362320" y="1676160"/>
                <a:ext cx="5105520" cy="381240"/>
              </a:xfrm>
              <a:prstGeom prst="rect">
                <a:avLst/>
              </a:prstGeom>
              <a:solidFill>
                <a:srgbClr val="ff7c80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699"/>
                    </a:solidFill>
                    <a:latin typeface="Times New Roman"/>
                  </a:rPr>
                  <a:t>status  | F| F| F| F| F| F| F|                          </a:t>
                </a:r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057760" y="914400"/>
                <a:ext cx="304560" cy="144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99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99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99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362320" y="1295280"/>
                <a:ext cx="5105520" cy="3808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699"/>
                    </a:solidFill>
                    <a:latin typeface="Times New Roman"/>
                  </a:rPr>
                  <a:t>               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sname   | S | char | ~pr | ~un | ~nn</a:t>
                </a:r>
                <a:r>
                  <a:rPr b="0" lang="en-US" sz="2400" spc="-1" strike="noStrike">
                    <a:solidFill>
                      <a:srgbClr val="006699"/>
                    </a:solidFill>
                    <a:latin typeface="Times New Roman"/>
                  </a:rPr>
                  <a:t>                            </a:t>
                </a:r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362320" y="914400"/>
                <a:ext cx="5105520" cy="3808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699"/>
                    </a:solidFill>
                    <a:latin typeface="Times New Roman"/>
                  </a:rPr>
                  <a:t>sno     | F| F| F| F| F| F| F|                          </a:t>
                </a:r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362320" y="2057400"/>
                <a:ext cx="5105520" cy="3808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699"/>
                    </a:solidFill>
                    <a:latin typeface="Times New Roman"/>
                  </a:rPr>
                  <a:t>City    | F| F| F| F| F| F| F|                          </a:t>
                </a:r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362320" y="1676160"/>
                <a:ext cx="5105520" cy="38124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699"/>
                    </a:solidFill>
                    <a:latin typeface="Times New Roman"/>
                  </a:rPr>
                  <a:t>status  | F| F| F| F| F| F| F|                          </a:t>
                </a:r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057760" y="914400"/>
                <a:ext cx="304560" cy="144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99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99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99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362320" y="914400"/>
                <a:ext cx="5105520" cy="380880"/>
              </a:xfrm>
              <a:prstGeom prst="rect">
                <a:avLst/>
              </a:prstGeom>
              <a:solidFill>
                <a:srgbClr val="ff7c80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699"/>
                    </a:solidFill>
                    <a:latin typeface="Times New Roman"/>
                  </a:rPr>
                  <a:t>      </a:t>
                </a:r>
                <a:r>
                  <a:rPr b="0" lang="en-US" sz="2400" spc="-1" strike="noStrike">
                    <a:solidFill>
                      <a:srgbClr val="006699"/>
                    </a:solidFill>
                    <a:latin typeface="Times New Roman"/>
                  </a:rPr>
                  <a:t>sno       </a:t>
                </a:r>
                <a:r>
                  <a:rPr b="1" lang="en-US" sz="2400" spc="-1" strike="noStrike">
                    <a:solidFill>
                      <a:srgbClr val="006699"/>
                    </a:solidFill>
                    <a:latin typeface="Times New Roman"/>
                  </a:rPr>
                  <a:t>| </a:t>
                </a:r>
                <a:r>
                  <a:rPr b="0" lang="en-US" sz="2400" spc="-1" strike="noStrike">
                    <a:solidFill>
                      <a:srgbClr val="006699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>
                    <a:solidFill>
                      <a:srgbClr val="006699"/>
                    </a:solidFill>
                    <a:latin typeface="Times New Roman"/>
                  </a:rPr>
                  <a:t> | </a:t>
                </a:r>
                <a:r>
                  <a:rPr b="0" lang="en-US" sz="2400" spc="-1" strike="noStrike">
                    <a:solidFill>
                      <a:srgbClr val="006699"/>
                    </a:solidFill>
                    <a:latin typeface="Times New Roman"/>
                  </a:rPr>
                  <a:t>char |  pr  |  un  | ~nn                   </a:t>
                </a:r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362320" y="2057400"/>
                <a:ext cx="5105520" cy="3808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699"/>
                    </a:solidFill>
                    <a:latin typeface="Times New Roman"/>
                  </a:rPr>
                  <a:t>         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city       | S | char | ~pr | ~un | ~nn</a:t>
                </a:r>
                <a:r>
                  <a:rPr b="0" lang="en-US" sz="2400" spc="-1" strike="noStrike">
                    <a:solidFill>
                      <a:srgbClr val="006699"/>
                    </a:solidFill>
                    <a:latin typeface="Times New Roman"/>
                  </a:rPr>
                  <a:t>                      </a:t>
                </a:r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362320" y="1676160"/>
                <a:ext cx="5105520" cy="381240"/>
              </a:xfrm>
              <a:prstGeom prst="rect">
                <a:avLst/>
              </a:prstGeom>
              <a:solidFill>
                <a:srgbClr val="ff7c80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6699"/>
                    </a:solidFill>
                    <a:latin typeface="Times New Roman"/>
                  </a:rPr>
                  <a:t>               </a:t>
                </a:r>
                <a:r>
                  <a:rPr b="0" lang="en-US" sz="2400" spc="-1" strike="noStrike">
                    <a:solidFill>
                      <a:srgbClr val="006699"/>
                    </a:solidFill>
                    <a:latin typeface="Times New Roman"/>
                  </a:rPr>
                  <a:t>status    | S | dec  | ~pr | ~un | ~nn                        </a:t>
                </a:r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057760" y="914400"/>
                <a:ext cx="304560" cy="144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99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99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99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cxnSp>
            <p:nvCxnSpPr>
              <p:cNvPr id="289" name=""/>
              <p:cNvCxnSpPr/>
              <p:nvPr/>
            </p:nvCxnSpPr>
            <p:spPr>
              <a:xfrm>
                <a:off x="7467480" y="1638000"/>
                <a:ext cx="1080" cy="1080"/>
              </a:xfrm>
              <a:prstGeom prst="straightConnector1">
                <a:avLst/>
              </a:prstGeom>
              <a:ln w="9360">
                <a:solidFill>
                  <a:srgbClr val="003300"/>
                </a:solidFill>
                <a:miter/>
              </a:ln>
            </p:spPr>
          </p:cxnSp>
          <p:sp>
            <p:nvSpPr>
              <p:cNvPr id="290" name=""/>
              <p:cNvSpPr/>
              <p:nvPr/>
            </p:nvSpPr>
            <p:spPr>
              <a:xfrm>
                <a:off x="8001360" y="1066680"/>
                <a:ext cx="533160" cy="152280"/>
              </a:xfrm>
              <a:prstGeom prst="rightArrow">
                <a:avLst>
                  <a:gd name="adj1" fmla="val 50000"/>
                  <a:gd name="adj2" fmla="val 87530"/>
                </a:avLst>
              </a:prstGeom>
              <a:solidFill>
                <a:srgbClr val="edfad2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467840" y="914400"/>
                <a:ext cx="533520" cy="380880"/>
              </a:xfrm>
              <a:prstGeom prst="rect">
                <a:avLst/>
              </a:prstGeom>
              <a:solidFill>
                <a:srgbClr val="ff7c80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699"/>
                    </a:solidFill>
                    <a:latin typeface="Times New Roman"/>
                  </a:rPr>
                  <a:t>cp</a:t>
                </a:r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001360" y="2209680"/>
                <a:ext cx="533160" cy="152280"/>
              </a:xfrm>
              <a:prstGeom prst="rightArrow">
                <a:avLst>
                  <a:gd name="adj1" fmla="val 50000"/>
                  <a:gd name="adj2" fmla="val 87530"/>
                </a:avLst>
              </a:prstGeom>
              <a:solidFill>
                <a:srgbClr val="edfad2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467840" y="2057400"/>
                <a:ext cx="533520" cy="3808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cp</a:t>
                </a:r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8001360" y="1447560"/>
                <a:ext cx="533160" cy="152640"/>
              </a:xfrm>
              <a:prstGeom prst="rightArrow">
                <a:avLst>
                  <a:gd name="adj1" fmla="val 50000"/>
                  <a:gd name="adj2" fmla="val 87323"/>
                </a:avLst>
              </a:prstGeom>
              <a:solidFill>
                <a:srgbClr val="edfad2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467840" y="1295280"/>
                <a:ext cx="533520" cy="3808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cp</a:t>
                </a:r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001360" y="1828800"/>
                <a:ext cx="533160" cy="152280"/>
              </a:xfrm>
              <a:prstGeom prst="rightArrow">
                <a:avLst>
                  <a:gd name="adj1" fmla="val 50000"/>
                  <a:gd name="adj2" fmla="val 87530"/>
                </a:avLst>
              </a:prstGeom>
              <a:solidFill>
                <a:srgbClr val="edfad2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467840" y="1676160"/>
                <a:ext cx="533520" cy="381240"/>
              </a:xfrm>
              <a:prstGeom prst="rect">
                <a:avLst/>
              </a:prstGeom>
              <a:solidFill>
                <a:srgbClr val="ff7c80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699"/>
                    </a:solidFill>
                    <a:latin typeface="Times New Roman"/>
                  </a:rPr>
                  <a:t>cp</a:t>
                </a:r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304920" y="4648320"/>
            <a:ext cx="8229600" cy="1446840"/>
            <a:chOff x="304920" y="4648320"/>
            <a:chExt cx="8229600" cy="1446840"/>
          </a:xfrm>
        </p:grpSpPr>
        <p:cxnSp>
          <p:nvCxnSpPr>
            <p:cNvPr id="299" name=""/>
            <p:cNvCxnSpPr>
              <a:stCxn id="246" idx="3"/>
              <a:endCxn id="300" idx="0"/>
            </p:cNvCxnSpPr>
            <p:nvPr/>
          </p:nvCxnSpPr>
          <p:spPr>
            <a:xfrm>
              <a:off x="1446120" y="4800600"/>
              <a:ext cx="764280" cy="152640"/>
            </a:xfrm>
            <a:prstGeom prst="curvedConnector2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</p:cxnSp>
        <p:sp>
          <p:nvSpPr>
            <p:cNvPr id="246" name=""/>
            <p:cNvSpPr/>
            <p:nvPr/>
          </p:nvSpPr>
          <p:spPr>
            <a:xfrm flipV="1">
              <a:off x="304920" y="4648320"/>
              <a:ext cx="1143000" cy="3045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99"/>
                  </a:solidFill>
                  <a:latin typeface="Times New Roman"/>
                </a:rPr>
                <a:t>SP | 3 |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4920" y="4952880"/>
              <a:ext cx="1143000" cy="151920"/>
            </a:xfrm>
            <a:prstGeom prst="rect">
              <a:avLst/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3520" y="556236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99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6699"/>
                  </a:solidFill>
                  <a:latin typeface="Times New Roman"/>
                </a:rPr>
                <a:t>Null</a:t>
              </a:r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cxnSp>
          <p:nvCxnSpPr>
            <p:cNvPr id="303" name=""/>
            <p:cNvCxnSpPr>
              <a:stCxn id="301" idx="2"/>
              <a:endCxn id="302" idx="0"/>
            </p:cNvCxnSpPr>
            <p:nvPr/>
          </p:nvCxnSpPr>
          <p:spPr>
            <a:xfrm>
              <a:off x="876240" y="5104800"/>
              <a:ext cx="1080" cy="457560"/>
            </a:xfrm>
            <a:prstGeom prst="straightConnector1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</p:cxnSp>
        <p:grpSp>
          <p:nvGrpSpPr>
            <p:cNvPr id="304" name=""/>
            <p:cNvGrpSpPr/>
            <p:nvPr/>
          </p:nvGrpSpPr>
          <p:grpSpPr>
            <a:xfrm>
              <a:off x="2057760" y="4952880"/>
              <a:ext cx="6476760" cy="1142280"/>
              <a:chOff x="2057760" y="4952880"/>
              <a:chExt cx="6476760" cy="1142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362320" y="5333400"/>
                <a:ext cx="5105520" cy="380880"/>
              </a:xfrm>
              <a:prstGeom prst="rect">
                <a:avLst/>
              </a:prstGeom>
              <a:solidFill>
                <a:srgbClr val="ff7c80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699"/>
                    </a:solidFill>
                    <a:latin typeface="Times New Roman"/>
                  </a:rPr>
                  <a:t>                               </a:t>
                </a:r>
                <a:r>
                  <a:rPr b="0" lang="en-US" sz="2400" spc="-1" strike="noStrike">
                    <a:solidFill>
                      <a:srgbClr val="006699"/>
                    </a:solidFill>
                    <a:latin typeface="Times New Roman"/>
                  </a:rPr>
                  <a:t>pno    |SP | char |  pr  |  un  | ~nn | foreign                                </a:t>
                </a:r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362320" y="4952880"/>
                <a:ext cx="5105520" cy="3805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                        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sno    |SP | char |  pr  |  un  | ~nn | foreign</a:t>
                </a:r>
                <a:r>
                  <a:rPr b="0" lang="en-US" sz="2400" spc="-1" strike="noStrike">
                    <a:solidFill>
                      <a:srgbClr val="006699"/>
                    </a:solidFill>
                    <a:latin typeface="Times New Roman"/>
                  </a:rPr>
                  <a:t>                         </a:t>
                </a:r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362320" y="5714640"/>
                <a:ext cx="5105520" cy="3805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699"/>
                    </a:solidFill>
                    <a:latin typeface="Times New Roman"/>
                  </a:rPr>
                  <a:t>           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qty     |SP | dec  | ~pr | ~un | ~nn</a:t>
                </a:r>
                <a:r>
                  <a:rPr b="0" lang="en-US" sz="2400" spc="-1" strike="noStrike">
                    <a:solidFill>
                      <a:srgbClr val="006699"/>
                    </a:solidFill>
                    <a:latin typeface="Times New Roman"/>
                  </a:rPr>
                  <a:t>                          </a:t>
                </a:r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57760" y="4952880"/>
                <a:ext cx="30456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99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99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99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8001360" y="5104800"/>
                <a:ext cx="533160" cy="152280"/>
              </a:xfrm>
              <a:prstGeom prst="rightArrow">
                <a:avLst>
                  <a:gd name="adj1" fmla="val 50000"/>
                  <a:gd name="adj2" fmla="val 87530"/>
                </a:avLst>
              </a:prstGeom>
              <a:solidFill>
                <a:srgbClr val="edfad2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467840" y="4952880"/>
                <a:ext cx="533520" cy="3805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cp</a:t>
                </a:r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8001360" y="5486040"/>
                <a:ext cx="533160" cy="151920"/>
              </a:xfrm>
              <a:prstGeom prst="rightArrow">
                <a:avLst>
                  <a:gd name="adj1" fmla="val 50000"/>
                  <a:gd name="adj2" fmla="val 87737"/>
                </a:avLst>
              </a:prstGeom>
              <a:solidFill>
                <a:srgbClr val="edfad2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467840" y="5333400"/>
                <a:ext cx="533520" cy="380880"/>
              </a:xfrm>
              <a:prstGeom prst="rect">
                <a:avLst/>
              </a:prstGeom>
              <a:solidFill>
                <a:srgbClr val="ff7c80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699"/>
                    </a:solidFill>
                    <a:latin typeface="Times New Roman"/>
                  </a:rPr>
                  <a:t>cp</a:t>
                </a:r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001360" y="5866920"/>
                <a:ext cx="533160" cy="151920"/>
              </a:xfrm>
              <a:prstGeom prst="rightArrow">
                <a:avLst>
                  <a:gd name="adj1" fmla="val 50000"/>
                  <a:gd name="adj2" fmla="val 87737"/>
                </a:avLst>
              </a:prstGeom>
              <a:solidFill>
                <a:srgbClr val="edfad2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467840" y="5714640"/>
                <a:ext cx="533520" cy="3805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666"/>
                    </a:solidFill>
                    <a:latin typeface="Times New Roman"/>
                  </a:rPr>
                  <a:t>cp</a:t>
                </a:r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cxnSp>
        <p:nvCxnSpPr>
          <p:cNvPr id="314" name=""/>
          <p:cNvCxnSpPr>
            <a:stCxn id="309" idx="1"/>
            <a:endCxn id="291" idx="1"/>
          </p:cNvCxnSpPr>
          <p:nvPr/>
        </p:nvCxnSpPr>
        <p:spPr>
          <a:xfrm flipH="1" rot="10800000">
            <a:off x="7466400" y="1104120"/>
            <a:ext cx="2520" cy="403956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315" name=""/>
          <p:cNvCxnSpPr>
            <a:stCxn id="311" idx="1"/>
            <a:endCxn id="262" idx="1"/>
          </p:cNvCxnSpPr>
          <p:nvPr/>
        </p:nvCxnSpPr>
        <p:spPr>
          <a:xfrm flipH="1" rot="10800000">
            <a:off x="7466400" y="2932920"/>
            <a:ext cx="2520" cy="259164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990099"/>
            </a:solidFill>
            <a:miter/>
            <a:tailEnd len="med" type="triangle" w="med"/>
          </a:ln>
        </p:spPr>
      </p:cxn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0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  <a:ea typeface="宋体"/>
              </a:rPr>
              <a:t>Data structure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" y="6275520"/>
            <a:ext cx="824400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Verdana"/>
                <a:ea typeface="宋体"/>
              </a:rPr>
              <a:t>S: supplier; P: part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  <a:ea typeface="宋体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  <a:ea typeface="宋体"/>
              </a:rPr>
              <a:t>Category Parti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1523880" y="2286000"/>
            <a:ext cx="58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Each category (column) can have a list of choices pointed to by cp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143000" y="3733920"/>
            <a:ext cx="6629400" cy="1600200"/>
            <a:chOff x="1143000" y="3733920"/>
            <a:chExt cx="6629400" cy="1600200"/>
          </a:xfrm>
        </p:grpSpPr>
        <p:sp>
          <p:nvSpPr>
            <p:cNvPr id="322" name=""/>
            <p:cNvSpPr/>
            <p:nvPr/>
          </p:nvSpPr>
          <p:spPr>
            <a:xfrm>
              <a:off x="1143000" y="3733920"/>
              <a:ext cx="533520" cy="38088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cp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743200" y="3733920"/>
              <a:ext cx="1676520" cy="457200"/>
            </a:xfrm>
            <a:prstGeom prst="rect">
              <a:avLst/>
            </a:prstGeom>
            <a:solidFill>
              <a:srgbClr val="edfad2"/>
            </a:solidFill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99"/>
                  </a:solidFill>
                  <a:latin typeface="Times New Roman"/>
                </a:rPr>
                <a:t>low</a:t>
              </a: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095880" y="3733920"/>
              <a:ext cx="1676520" cy="457200"/>
            </a:xfrm>
            <a:prstGeom prst="rect">
              <a:avLst/>
            </a:prstGeom>
            <a:solidFill>
              <a:srgbClr val="edfad2"/>
            </a:solidFill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99"/>
                  </a:solidFill>
                  <a:latin typeface="Times New Roman"/>
                </a:rPr>
                <a:t>high</a:t>
              </a: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419720" y="3733920"/>
              <a:ext cx="1676160" cy="457200"/>
            </a:xfrm>
            <a:prstGeom prst="rect">
              <a:avLst/>
            </a:prstGeom>
            <a:solidFill>
              <a:srgbClr val="edfad2"/>
            </a:solidFill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99"/>
                  </a:solidFill>
                  <a:latin typeface="Times New Roman"/>
                </a:rPr>
                <a:t>medium</a:t>
              </a: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743200" y="4191120"/>
              <a:ext cx="1676520" cy="38088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Times New Roman"/>
                </a:rPr>
                <a:t>10</a:t>
              </a:r>
              <a:r>
                <a:rPr b="0" lang="en-US" sz="1400" spc="-1" strike="noStrike">
                  <a:solidFill>
                    <a:srgbClr val="0066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43200" y="4572000"/>
              <a:ext cx="1676520" cy="38088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743200" y="4952880"/>
              <a:ext cx="1676520" cy="38124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Times New Roman"/>
                </a:rPr>
                <a:t>30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419720" y="4191120"/>
              <a:ext cx="1676160" cy="380880"/>
            </a:xfrm>
            <a:prstGeom prst="rect">
              <a:avLst/>
            </a:prstGeom>
            <a:solidFill>
              <a:srgbClr val="ff7c80"/>
            </a:solidFill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99"/>
                  </a:solidFill>
                  <a:latin typeface="Times New Roman"/>
                </a:rPr>
                <a:t>300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19720" y="4572000"/>
              <a:ext cx="1676160" cy="380880"/>
            </a:xfrm>
            <a:prstGeom prst="rect">
              <a:avLst/>
            </a:prstGeom>
            <a:solidFill>
              <a:srgbClr val="ff7c80"/>
            </a:solidFill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99"/>
                  </a:solidFill>
                  <a:latin typeface="Times New Roman"/>
                </a:rPr>
                <a:t>400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95880" y="4191120"/>
              <a:ext cx="1676520" cy="38088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Times New Roman"/>
                </a:rPr>
                <a:t>5000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95880" y="4572000"/>
              <a:ext cx="1676520" cy="38088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Times New Roman"/>
                </a:rPr>
                <a:t>6000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cxnSp>
          <p:nvCxnSpPr>
            <p:cNvPr id="333" name=""/>
            <p:cNvCxnSpPr>
              <a:endCxn id="323" idx="1"/>
            </p:cNvCxnSpPr>
            <p:nvPr/>
          </p:nvCxnSpPr>
          <p:spPr>
            <a:xfrm>
              <a:off x="1676160" y="3962160"/>
              <a:ext cx="1067400" cy="1080"/>
            </a:xfrm>
            <a:prstGeom prst="curvedConnector2">
              <a:avLst/>
            </a:prstGeom>
            <a:ln w="12600">
              <a:solidFill>
                <a:srgbClr val="006699"/>
              </a:solidFill>
              <a:miter/>
              <a:tailEnd len="sm" type="triangle" w="sm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  <a:ea typeface="宋体"/>
              </a:rPr>
              <a:t>Populated DB tabl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ester specifies table siz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ool generates tuples for inser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lect data group or NULL, guided by annotation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lect value from data group, obeying constraint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keep track of values used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utputs sequence of SQL insert statement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  <a:ea typeface="宋体"/>
              </a:rPr>
              <a:t>E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xample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6024240" y="2133720"/>
            <a:ext cx="2526120" cy="3448080"/>
            <a:chOff x="6024240" y="2133720"/>
            <a:chExt cx="2526120" cy="3448080"/>
          </a:xfrm>
        </p:grpSpPr>
        <p:sp>
          <p:nvSpPr>
            <p:cNvPr id="338" name=""/>
            <p:cNvSpPr/>
            <p:nvPr/>
          </p:nvSpPr>
          <p:spPr>
            <a:xfrm>
              <a:off x="6024240" y="2133720"/>
              <a:ext cx="2521440" cy="3448080"/>
            </a:xfrm>
            <a:prstGeom prst="rect">
              <a:avLst/>
            </a:prstGeom>
            <a:noFill/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sno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pno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qty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S1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P1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5000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S1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P2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300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S1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P3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S2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P1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6000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S2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P2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400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S2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P3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5000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S3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P1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S3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P2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300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S3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P3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S4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P1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6000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35760" y="2500200"/>
              <a:ext cx="2514600" cy="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33520" y="4876920"/>
            <a:ext cx="5257800" cy="1313640"/>
            <a:chOff x="533520" y="4876920"/>
            <a:chExt cx="5257800" cy="1313640"/>
          </a:xfrm>
        </p:grpSpPr>
        <p:sp>
          <p:nvSpPr>
            <p:cNvPr id="341" name=""/>
            <p:cNvSpPr/>
            <p:nvPr/>
          </p:nvSpPr>
          <p:spPr>
            <a:xfrm>
              <a:off x="535320" y="4876920"/>
              <a:ext cx="5255640" cy="131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pno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pname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color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weight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city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P1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NULL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blue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100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Brooklyn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P2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Seats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green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300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Florham-Park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P3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airbags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yellow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500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6699"/>
                  </a:solidFill>
                  <a:latin typeface="Times New Roman"/>
                </a:rPr>
                <a:t>Middletown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33520" y="5258160"/>
              <a:ext cx="5257800" cy="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687600" y="1523880"/>
            <a:ext cx="4357440" cy="2228400"/>
            <a:chOff x="687600" y="1523880"/>
            <a:chExt cx="4357440" cy="2228400"/>
          </a:xfrm>
        </p:grpSpPr>
        <p:grpSp>
          <p:nvGrpSpPr>
            <p:cNvPr id="344" name=""/>
            <p:cNvGrpSpPr/>
            <p:nvPr/>
          </p:nvGrpSpPr>
          <p:grpSpPr>
            <a:xfrm>
              <a:off x="687600" y="2133720"/>
              <a:ext cx="4357440" cy="1618560"/>
              <a:chOff x="687600" y="2133720"/>
              <a:chExt cx="4357440" cy="1618560"/>
            </a:xfrm>
          </p:grpSpPr>
          <p:sp>
            <p:nvSpPr>
              <p:cNvPr id="345" name=""/>
              <p:cNvSpPr/>
              <p:nvPr/>
            </p:nvSpPr>
            <p:spPr>
              <a:xfrm>
                <a:off x="687600" y="2133720"/>
                <a:ext cx="4341240" cy="1618560"/>
              </a:xfrm>
              <a:prstGeom prst="rect">
                <a:avLst/>
              </a:prstGeom>
              <a:noFill/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6699"/>
                    </a:solidFill>
                    <a:latin typeface="Times New Roman"/>
                  </a:rPr>
                  <a:t>sno</a:t>
                </a:r>
                <a:r>
                  <a:rPr b="0" lang="en-US" sz="2000" spc="-1" strike="noStrike">
                    <a:solidFill>
                      <a:srgbClr val="006699"/>
                    </a:solidFill>
                    <a:latin typeface="Times New Roman"/>
                  </a:rPr>
                  <a:t>	</a:t>
                </a:r>
                <a:r>
                  <a:rPr b="0" lang="en-US" sz="2000" spc="-1" strike="noStrike">
                    <a:solidFill>
                      <a:srgbClr val="006699"/>
                    </a:solidFill>
                    <a:latin typeface="Times New Roman"/>
                  </a:rPr>
                  <a:t>sname</a:t>
                </a:r>
                <a:r>
                  <a:rPr b="0" lang="en-US" sz="2000" spc="-1" strike="noStrike">
                    <a:solidFill>
                      <a:srgbClr val="006699"/>
                    </a:solidFill>
                    <a:latin typeface="Times New Roman"/>
                  </a:rPr>
                  <a:t>	</a:t>
                </a:r>
                <a:r>
                  <a:rPr b="0" lang="en-US" sz="2000" spc="-1" strike="noStrike">
                    <a:solidFill>
                      <a:srgbClr val="006699"/>
                    </a:solidFill>
                    <a:latin typeface="Times New Roman"/>
                  </a:rPr>
                  <a:t>status</a:t>
                </a:r>
                <a:r>
                  <a:rPr b="0" lang="en-US" sz="2000" spc="-1" strike="noStrike">
                    <a:solidFill>
                      <a:srgbClr val="006699"/>
                    </a:solidFill>
                    <a:latin typeface="Times New Roman"/>
                  </a:rPr>
                  <a:t>	</a:t>
                </a:r>
                <a:r>
                  <a:rPr b="0" lang="en-US" sz="2000" spc="-1" strike="noStrike">
                    <a:solidFill>
                      <a:srgbClr val="006699"/>
                    </a:solidFill>
                    <a:latin typeface="Times New Roman"/>
                  </a:rPr>
                  <a:t>city</a:t>
                </a:r>
                <a:endParaRPr b="0" lang="en-US" sz="2000" spc="-1" strike="noStrike">
                  <a:solidFill>
                    <a:srgbClr val="006699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6699"/>
                    </a:solidFill>
                    <a:latin typeface="Times New Roman"/>
                  </a:rPr>
                  <a:t>S1</a:t>
                </a:r>
                <a:r>
                  <a:rPr b="0" lang="en-US" sz="2000" spc="-1" strike="noStrike">
                    <a:solidFill>
                      <a:srgbClr val="006699"/>
                    </a:solidFill>
                    <a:latin typeface="Times New Roman"/>
                  </a:rPr>
                  <a:t>	</a:t>
                </a:r>
                <a:r>
                  <a:rPr b="0" lang="en-US" sz="2000" spc="-1" strike="noStrike">
                    <a:solidFill>
                      <a:srgbClr val="006699"/>
                    </a:solidFill>
                    <a:latin typeface="Times New Roman"/>
                  </a:rPr>
                  <a:t>NULL</a:t>
                </a:r>
                <a:r>
                  <a:rPr b="0" lang="en-US" sz="2000" spc="-1" strike="noStrike">
                    <a:solidFill>
                      <a:srgbClr val="006699"/>
                    </a:solidFill>
                    <a:latin typeface="Times New Roman"/>
                  </a:rPr>
                  <a:t>	</a:t>
                </a:r>
                <a:r>
                  <a:rPr b="0" lang="en-US" sz="2000" spc="-1" strike="noStrike">
                    <a:solidFill>
                      <a:srgbClr val="006699"/>
                    </a:solidFill>
                    <a:latin typeface="Times New Roman"/>
                  </a:rPr>
                  <a:t>0</a:t>
                </a:r>
                <a:r>
                  <a:rPr b="0" lang="en-US" sz="2000" spc="-1" strike="noStrike">
                    <a:solidFill>
                      <a:srgbClr val="006699"/>
                    </a:solidFill>
                    <a:latin typeface="Times New Roman"/>
                  </a:rPr>
                  <a:t>	</a:t>
                </a:r>
                <a:r>
                  <a:rPr b="0" lang="en-US" sz="2000" spc="-1" strike="noStrike">
                    <a:solidFill>
                      <a:srgbClr val="006699"/>
                    </a:solidFill>
                    <a:latin typeface="Times New Roman"/>
                  </a:rPr>
                  <a:t>Brooklyn</a:t>
                </a:r>
                <a:endParaRPr b="0" lang="en-US" sz="2000" spc="-1" strike="noStrike">
                  <a:solidFill>
                    <a:srgbClr val="006699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6699"/>
                    </a:solidFill>
                    <a:latin typeface="Times New Roman"/>
                  </a:rPr>
                  <a:t>S2</a:t>
                </a:r>
                <a:r>
                  <a:rPr b="0" lang="en-US" sz="2000" spc="-1" strike="noStrike">
                    <a:solidFill>
                      <a:srgbClr val="006699"/>
                    </a:solidFill>
                    <a:latin typeface="Times New Roman"/>
                  </a:rPr>
                  <a:t>	</a:t>
                </a:r>
                <a:r>
                  <a:rPr b="0" lang="en-US" sz="2000" spc="-1" strike="noStrike">
                    <a:solidFill>
                      <a:srgbClr val="006699"/>
                    </a:solidFill>
                    <a:latin typeface="Times New Roman"/>
                  </a:rPr>
                  <a:t>Smith</a:t>
                </a:r>
                <a:r>
                  <a:rPr b="0" lang="en-US" sz="2000" spc="-1" strike="noStrike">
                    <a:solidFill>
                      <a:srgbClr val="006699"/>
                    </a:solidFill>
                    <a:latin typeface="Times New Roman"/>
                  </a:rPr>
                  <a:t>	</a:t>
                </a:r>
                <a:r>
                  <a:rPr b="0" lang="en-US" sz="2000" spc="-1" strike="noStrike">
                    <a:solidFill>
                      <a:srgbClr val="006699"/>
                    </a:solidFill>
                    <a:latin typeface="Times New Roman"/>
                  </a:rPr>
                  <a:t>1</a:t>
                </a:r>
                <a:r>
                  <a:rPr b="0" lang="en-US" sz="2000" spc="-1" strike="noStrike">
                    <a:solidFill>
                      <a:srgbClr val="006699"/>
                    </a:solidFill>
                    <a:latin typeface="Times New Roman"/>
                  </a:rPr>
                  <a:t>	</a:t>
                </a:r>
                <a:r>
                  <a:rPr b="0" lang="en-US" sz="2000" spc="-1" strike="noStrike">
                    <a:solidFill>
                      <a:srgbClr val="006699"/>
                    </a:solidFill>
                    <a:latin typeface="Times New Roman"/>
                  </a:rPr>
                  <a:t>Florham-Park</a:t>
                </a:r>
                <a:endParaRPr b="0" lang="en-US" sz="2000" spc="-1" strike="noStrike">
                  <a:solidFill>
                    <a:srgbClr val="006699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6699"/>
                    </a:solidFill>
                    <a:latin typeface="Times New Roman"/>
                  </a:rPr>
                  <a:t>S3</a:t>
                </a:r>
                <a:r>
                  <a:rPr b="0" lang="en-US" sz="2000" spc="-1" strike="noStrike">
                    <a:solidFill>
                      <a:srgbClr val="006699"/>
                    </a:solidFill>
                    <a:latin typeface="Times New Roman"/>
                  </a:rPr>
                  <a:t>	</a:t>
                </a:r>
                <a:r>
                  <a:rPr b="0" lang="en-US" sz="2000" spc="-1" strike="noStrike">
                    <a:solidFill>
                      <a:srgbClr val="006699"/>
                    </a:solidFill>
                    <a:latin typeface="Times New Roman"/>
                  </a:rPr>
                  <a:t>Jones</a:t>
                </a:r>
                <a:r>
                  <a:rPr b="0" lang="en-US" sz="2000" spc="-1" strike="noStrike">
                    <a:solidFill>
                      <a:srgbClr val="006699"/>
                    </a:solidFill>
                    <a:latin typeface="Times New Roman"/>
                  </a:rPr>
                  <a:t>	</a:t>
                </a:r>
                <a:r>
                  <a:rPr b="0" lang="en-US" sz="2000" spc="-1" strike="noStrike">
                    <a:solidFill>
                      <a:srgbClr val="006699"/>
                    </a:solidFill>
                    <a:latin typeface="Times New Roman"/>
                  </a:rPr>
                  <a:t>NULL</a:t>
                </a:r>
                <a:r>
                  <a:rPr b="0" lang="en-US" sz="2000" spc="-1" strike="noStrike">
                    <a:solidFill>
                      <a:srgbClr val="006699"/>
                    </a:solidFill>
                    <a:latin typeface="Times New Roman"/>
                  </a:rPr>
                  <a:t>	</a:t>
                </a:r>
                <a:r>
                  <a:rPr b="0" lang="en-US" sz="2000" spc="-1" strike="noStrike">
                    <a:solidFill>
                      <a:srgbClr val="006699"/>
                    </a:solidFill>
                    <a:latin typeface="Times New Roman"/>
                  </a:rPr>
                  <a:t>London</a:t>
                </a:r>
                <a:endParaRPr b="0" lang="en-US" sz="2000" spc="-1" strike="noStrike">
                  <a:solidFill>
                    <a:srgbClr val="006699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6699"/>
                    </a:solidFill>
                    <a:latin typeface="Times New Roman"/>
                  </a:rPr>
                  <a:t>S4</a:t>
                </a:r>
                <a:r>
                  <a:rPr b="0" lang="en-US" sz="2000" spc="-1" strike="noStrike">
                    <a:solidFill>
                      <a:srgbClr val="006699"/>
                    </a:solidFill>
                    <a:latin typeface="Times New Roman"/>
                  </a:rPr>
                  <a:t>	</a:t>
                </a:r>
                <a:r>
                  <a:rPr b="0" lang="en-US" sz="2000" spc="-1" strike="noStrike">
                    <a:solidFill>
                      <a:srgbClr val="006699"/>
                    </a:solidFill>
                    <a:latin typeface="Times New Roman"/>
                  </a:rPr>
                  <a:t>Blake</a:t>
                </a:r>
                <a:r>
                  <a:rPr b="0" lang="en-US" sz="2000" spc="-1" strike="noStrike">
                    <a:solidFill>
                      <a:srgbClr val="006699"/>
                    </a:solidFill>
                    <a:latin typeface="Times New Roman"/>
                  </a:rPr>
                  <a:t>	</a:t>
                </a:r>
                <a:r>
                  <a:rPr b="0" lang="en-US" sz="2000" spc="-1" strike="noStrike">
                    <a:solidFill>
                      <a:srgbClr val="006699"/>
                    </a:solidFill>
                    <a:latin typeface="Times New Roman"/>
                  </a:rPr>
                  <a:t>NULL</a:t>
                </a:r>
                <a:r>
                  <a:rPr b="0" lang="en-US" sz="2000" spc="-1" strike="noStrike">
                    <a:solidFill>
                      <a:srgbClr val="006699"/>
                    </a:solidFill>
                    <a:latin typeface="Times New Roman"/>
                  </a:rPr>
                  <a:t>	</a:t>
                </a:r>
                <a:r>
                  <a:rPr b="0" lang="en-US" sz="2000" spc="-1" strike="noStrike">
                    <a:solidFill>
                      <a:srgbClr val="006699"/>
                    </a:solidFill>
                    <a:latin typeface="Times New Roman"/>
                  </a:rPr>
                  <a:t>Middletown</a:t>
                </a:r>
                <a:endParaRPr b="0" lang="en-US" sz="2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01640" y="2500200"/>
                <a:ext cx="4343400" cy="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2361960" y="1523880"/>
              <a:ext cx="92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6699"/>
                  </a:solidFill>
                  <a:latin typeface="Times New Roman"/>
                </a:rPr>
                <a:t>Table s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6781320" y="1523880"/>
            <a:ext cx="105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99"/>
                </a:solidFill>
                <a:latin typeface="Times New Roman"/>
              </a:rPr>
              <a:t>Table sp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437920" y="434340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99"/>
                </a:solidFill>
                <a:latin typeface="Times New Roman"/>
              </a:rPr>
              <a:t>Table p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  <a:ea typeface="宋体"/>
              </a:rPr>
              <a:t>Conclusio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  <a:ea typeface="宋体"/>
              </a:rPr>
              <a:t>Issues in testing DB applica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  <a:ea typeface="宋体"/>
              </a:rPr>
              <a:t>Framework: DB stat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  <a:ea typeface="宋体"/>
              </a:rPr>
              <a:t>Testing tool: focus on the state generator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Future work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  <a:ea typeface="宋体"/>
              </a:rPr>
              <a:t>Future work: An GENDA for testing relational database application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  <a:ea typeface="宋体"/>
              </a:rPr>
              <a:t>5 components: AGENDA Parser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  <a:ea typeface="宋体"/>
              </a:rPr>
              <a:t>Data structure -&gt;AGENDA DB; avoids memory issue; more accessibl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  <a:ea typeface="宋体"/>
              </a:rPr>
              <a:t>Interested? </a:t>
            </a:r>
            <a:r>
              <a:rPr b="0" lang="en-US" sz="3200" spc="-1" strike="noStrike" u="sng">
                <a:solidFill>
                  <a:srgbClr val="cc99ff"/>
                </a:solidFill>
                <a:uFillTx/>
                <a:latin typeface="Verdana"/>
                <a:ea typeface="宋体"/>
                <a:hlinkClick r:id="rId1"/>
              </a:rPr>
              <a:t>http://cis.poly.edu/~ytdeng/paper/jstvr_2004.pdf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  <a:ea typeface="宋体"/>
              </a:rPr>
              <a:t>Outlin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  <a:ea typeface="宋体"/>
              </a:rPr>
              <a:t>Motiva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  <a:ea typeface="宋体"/>
              </a:rPr>
              <a:t>Background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  <a:ea typeface="宋体"/>
              </a:rPr>
              <a:t>Issues in testing DB applica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  <a:ea typeface="宋体"/>
              </a:rPr>
              <a:t>Testing too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  <a:ea typeface="宋体"/>
              </a:rPr>
              <a:t>Conclus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1447920" y="2286000"/>
            <a:ext cx="5486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1536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99"/>
                </a:solidFill>
                <a:latin typeface="Verdana"/>
                <a:ea typeface="宋体"/>
              </a:rPr>
              <a:t>Thanks!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  <a:ea typeface="宋体"/>
              </a:rPr>
              <a:t>Motivatio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  <a:ea typeface="宋体"/>
              </a:rPr>
              <a:t>Important role of DB system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  <a:ea typeface="宋体"/>
              </a:rPr>
              <a:t>DB application program in semi-declarative language; many testing techniques for programs in imperative languag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  <a:ea typeface="宋体"/>
              </a:rPr>
              <a:t>Different input and output space of DB applica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  <a:ea typeface="宋体"/>
              </a:rPr>
              <a:t>Background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宋体"/>
              </a:rPr>
              <a:t>Focus on Relational DB and SQ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ata is viewed as a collection of relation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relation schem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relation (relation state)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  <a:ea typeface="宋体"/>
              </a:rPr>
              <a:t>: element of Cartesian product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宋体"/>
              </a:rPr>
              <a:t>Tables, tuples, attributes, constrain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宋体"/>
              </a:rPr>
              <a:t>Constrain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  <a:ea typeface="宋体"/>
              </a:rPr>
              <a:t>Domain Constrain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  <a:ea typeface="宋体"/>
              </a:rPr>
              <a:t>Uniqueness Constrain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  <a:ea typeface="宋体"/>
              </a:rPr>
              <a:t>not-NULL Constrain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  <a:ea typeface="宋体"/>
              </a:rPr>
              <a:t>Referential Integrity (foreign key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  <a:ea typeface="宋体"/>
              </a:rPr>
              <a:t>Semantic Integrity (general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  <a:ea typeface="宋体"/>
              </a:rPr>
              <a:t>Correctness (def)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oes the DBMS perform all operations correctly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  <a:ea typeface="宋体"/>
              </a:rPr>
              <a:t>Protect security and privacy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s the system fault-tolerant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..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oes the application program behave as intended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  <a:ea typeface="宋体"/>
              </a:rPr>
              <a:t>Issues in DB application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  <a:ea typeface="宋体"/>
              </a:rPr>
              <a:t>traditiona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mperative na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  <a:ea typeface="宋体"/>
              </a:rPr>
              <a:t>DB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eclarative na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2743200"/>
            <a:ext cx="129528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057760" y="1676520"/>
            <a:ext cx="9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inpu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81080" y="3657600"/>
            <a:ext cx="109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outpu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14600" y="2286000"/>
            <a:ext cx="0" cy="45720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3200400"/>
            <a:ext cx="0" cy="5335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743200"/>
            <a:ext cx="129528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092560" y="1666800"/>
            <a:ext cx="30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input          DB stat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091840" y="3648240"/>
            <a:ext cx="303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output        DB stat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2209680"/>
            <a:ext cx="457200" cy="5335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705720" y="2209680"/>
            <a:ext cx="457200" cy="5335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715000" y="3200400"/>
            <a:ext cx="380880" cy="5335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705720" y="3200400"/>
            <a:ext cx="380880" cy="5335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  <a:ea typeface="宋体"/>
              </a:rPr>
              <a:t>E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xample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ustomer-feature tabl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ustomer ID, feature nam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  <a:ea typeface="宋体"/>
              </a:rPr>
              <a:t>C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ustomer ID invalid-&gt; return 0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  <a:ea typeface="宋体"/>
              </a:rPr>
              <a:t>F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eature invalid-&gt; return 0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D and feature valid, feature available-&gt;return 1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  <a:ea typeface="宋体"/>
              </a:rPr>
              <a:t>F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eature not available-&gt;return 2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  <a:ea typeface="宋体"/>
              </a:rPr>
              <a:t>N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ew feature incompatible with old feature-&gt;return 3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  <a:ea typeface="宋体"/>
              </a:rPr>
              <a:t>exampl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aïve approach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I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= {customer-IDs} X {feature-names}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0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= {0,1,2,3}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More suitable approach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I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= {customer-IDs} X {feature-names}  X {database-states}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0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= {0,1,2,3} X {database-states}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DB stat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  <a:ea typeface="宋体"/>
              </a:rPr>
              <a:t>Ways to deal with DB state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  <a:ea typeface="宋体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  <a:ea typeface="宋体"/>
              </a:rPr>
              <a:t>ignor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  <a:ea typeface="宋体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  <a:ea typeface="宋体"/>
              </a:rPr>
              <a:t>as environmen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  <a:ea typeface="宋体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  <a:ea typeface="宋体"/>
              </a:rPr>
              <a:t>as part of input and output spac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  <a:ea typeface="宋体"/>
              </a:rPr>
              <a:t>Problems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  <a:ea typeface="宋体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  <a:ea typeface="宋体"/>
              </a:rPr>
              <a:t>Controllability: at desired state before execution-&gt;populate DB with appropriate dat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  <a:ea typeface="宋体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  <a:ea typeface="宋体"/>
              </a:rPr>
              <a:t>Observability: observe the state after execution-&gt;check the state of DB after executio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19:06:57Z</dcterms:created>
  <dc:creator>Liu</dc:creator>
  <dc:description/>
  <dc:language>en-US</dc:language>
  <cp:lastModifiedBy>Liu</cp:lastModifiedBy>
  <dcterms:modified xsi:type="dcterms:W3CDTF">2008-04-17T05:42:18Z</dcterms:modified>
  <cp:revision>70</cp:revision>
  <dc:subject/>
  <dc:title>A framework for Testing Database Application</dc:title>
</cp:coreProperties>
</file>