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661-B514-48A9-9739-EBC160F9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C354-9238-4A8A-8794-FD6243D0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977-B551-423B-BD24-34741652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96D8-9C15-451B-AFCA-E0BAEA80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27A-01D7-419F-9C9F-D98B1F57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BF1-6DCD-4F1C-AF1A-899D728C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3D3-7C59-483E-8B4E-88606B20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5184-1940-498D-AB2D-4AFDC134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FC92-EF94-45FC-B6BC-183812BA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C18-93F3-45E6-9FDC-D263AB81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8DBF-D8C9-43A6-A617-079D4495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27C-D0BD-473B-90EF-3DF69363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CA0C-2842-4489-951C-022090CCC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hability testing for concurrent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u Lei and Richard Ca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 Thuan Huy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-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nly care about the order of operations whose interleavings has effect on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/receiving data with another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phore/Mon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execution model: send/rece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-sequence: sequence of synchronizat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: execute all possible SYN-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ppen-before 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us the order of events, usu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extract these relations by watching an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ordered events are subjected to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vector clock b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ingle global clo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2720" y="29718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18360" y="29718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2720" y="32767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13640" y="29718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18360" y="42670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1836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2720" y="4114800"/>
            <a:ext cx="2590920" cy="99072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022720" y="3733920"/>
            <a:ext cx="2590920" cy="38088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022360" y="5257800"/>
            <a:ext cx="2590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752240" y="3541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6808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3640" y="304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96480" y="350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3856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68080" y="449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176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66960" y="5791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3962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1364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al order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24382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3048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36576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23623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29718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38880" y="29718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35812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57800" y="36576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4267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2670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48769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84" idx="3"/>
            <a:endCxn id="85" idx="7"/>
          </p:cNvCxnSpPr>
          <p:nvPr/>
        </p:nvCxnSpPr>
        <p:spPr>
          <a:xfrm flipH="1">
            <a:off x="1697040" y="2763720"/>
            <a:ext cx="34020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4" idx="5"/>
            <a:endCxn id="86" idx="1"/>
          </p:cNvCxnSpPr>
          <p:nvPr/>
        </p:nvCxnSpPr>
        <p:spPr>
          <a:xfrm>
            <a:off x="2306520" y="2763720"/>
            <a:ext cx="34020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5" idx="5"/>
            <a:endCxn id="87" idx="1"/>
          </p:cNvCxnSpPr>
          <p:nvPr/>
        </p:nvCxnSpPr>
        <p:spPr>
          <a:xfrm>
            <a:off x="1697040" y="3373200"/>
            <a:ext cx="34020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6" idx="3"/>
            <a:endCxn id="87" idx="7"/>
          </p:cNvCxnSpPr>
          <p:nvPr/>
        </p:nvCxnSpPr>
        <p:spPr>
          <a:xfrm flipH="1">
            <a:off x="2306520" y="3373200"/>
            <a:ext cx="34020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88" idx="5"/>
            <a:endCxn id="90" idx="1"/>
          </p:cNvCxnSpPr>
          <p:nvPr/>
        </p:nvCxnSpPr>
        <p:spPr>
          <a:xfrm>
            <a:off x="6954840" y="2687400"/>
            <a:ext cx="34020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9" idx="5"/>
            <a:endCxn id="91" idx="1"/>
          </p:cNvCxnSpPr>
          <p:nvPr/>
        </p:nvCxnSpPr>
        <p:spPr>
          <a:xfrm>
            <a:off x="6345000" y="3297240"/>
            <a:ext cx="34020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5"/>
            <a:endCxn id="95" idx="1"/>
          </p:cNvCxnSpPr>
          <p:nvPr/>
        </p:nvCxnSpPr>
        <p:spPr>
          <a:xfrm>
            <a:off x="4973400" y="4592520"/>
            <a:ext cx="34020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2" idx="5"/>
            <a:endCxn id="94" idx="1"/>
          </p:cNvCxnSpPr>
          <p:nvPr/>
        </p:nvCxnSpPr>
        <p:spPr>
          <a:xfrm>
            <a:off x="5583240" y="3983040"/>
            <a:ext cx="34020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88" idx="3"/>
            <a:endCxn id="89" idx="7"/>
          </p:cNvCxnSpPr>
          <p:nvPr/>
        </p:nvCxnSpPr>
        <p:spPr>
          <a:xfrm flipH="1">
            <a:off x="6344640" y="2687400"/>
            <a:ext cx="34020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0" idx="3"/>
            <a:endCxn id="91" idx="7"/>
          </p:cNvCxnSpPr>
          <p:nvPr/>
        </p:nvCxnSpPr>
        <p:spPr>
          <a:xfrm flipH="1">
            <a:off x="6954840" y="3297240"/>
            <a:ext cx="34020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3"/>
            <a:endCxn id="95" idx="7"/>
          </p:cNvCxnSpPr>
          <p:nvPr/>
        </p:nvCxnSpPr>
        <p:spPr>
          <a:xfrm flipH="1">
            <a:off x="5583240" y="4592520"/>
            <a:ext cx="34020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2" idx="3"/>
            <a:endCxn id="93" idx="7"/>
          </p:cNvCxnSpPr>
          <p:nvPr/>
        </p:nvCxnSpPr>
        <p:spPr>
          <a:xfrm flipH="1">
            <a:off x="4973040" y="3983040"/>
            <a:ext cx="34020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5564160" y="3276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4000" y="3886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6040" y="358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604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2720" y="358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640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4000" y="350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9760" y="25146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46440" y="350532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8160" y="38098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74840" y="47242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2400" y="480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94040" y="4102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1905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66040" y="187956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5334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 (RichTes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and collect a SYN-sequence s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 sequen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eac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ari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 to collect sequence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{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S = 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8120" y="2209680"/>
            <a:ext cx="312408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295280"/>
            <a:ext cx="8001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read 1         Thread 2          Thread 3          Thread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2.send(a)       x=p2.recv();      u=p3.recv()       p2.send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=p2.recv();      v=p3.recv()       p3.send(d)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3.send(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62480" y="237636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48280" y="237636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10040" y="237636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72160" y="237636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62480" y="25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47920" y="2452680"/>
            <a:ext cx="1523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48280" y="33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909680" y="351936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0120" y="236232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30280" y="234792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16000" y="28335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15640" y="321480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2960" y="32097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4440" y="228600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49120" y="336708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6560" y="37479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142640" y="4648320"/>
            <a:ext cx="1523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905120" y="5181480"/>
            <a:ext cx="761760" cy="3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1480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4724280"/>
            <a:ext cx="685800" cy="381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114440" y="4648320"/>
            <a:ext cx="1523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562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876920" y="57150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468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68680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724280"/>
            <a:ext cx="685800" cy="381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7162560" y="4648320"/>
            <a:ext cx="1523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62920" y="5562720"/>
            <a:ext cx="761760" cy="304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924320" y="5181480"/>
            <a:ext cx="762120" cy="381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715000"/>
            <a:ext cx="762120" cy="3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e condition: A receive() operation may match with different send()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e_set(r): all send events that can possibly be matched with the receive operation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c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one column for each receive event r that ha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mpty race_set(r). The numbers in each row re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: remov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n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.|race_set(r)|: match r to the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nd in race_set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8120" y="2209680"/>
            <a:ext cx="312408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295280"/>
            <a:ext cx="8001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read 1         Thread 2          Thread 3          Thread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2.send(a)       x=p2.recv();      u=p3.recv()       p2.send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=p2.recv();      v=p3.recv()       p3.send(d)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3.send(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62480" y="237636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48280" y="237636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10040" y="237636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72160" y="237636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2480" y="25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147920" y="2452680"/>
            <a:ext cx="1523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48280" y="33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909680" y="351936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20120" y="236232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30280" y="234792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16000" y="28335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15640" y="321480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72960" y="32097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44440" y="228600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120" y="336708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06560" y="37479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142640" y="4648320"/>
            <a:ext cx="1523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905120" y="5181480"/>
            <a:ext cx="761760" cy="3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7692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4724280"/>
            <a:ext cx="685800" cy="381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114440" y="4648320"/>
            <a:ext cx="1523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5562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876920" y="57150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6292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468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8680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77120" y="4724280"/>
            <a:ext cx="685800" cy="381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7162560" y="4648320"/>
            <a:ext cx="1523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2920" y="5562720"/>
            <a:ext cx="761760" cy="304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7924320" y="5181480"/>
            <a:ext cx="762120" cy="381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5715000"/>
            <a:ext cx="762120" cy="3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629400" y="2209680"/>
          <a:ext cx="1828800" cy="207000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459360" y="25146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e_set(r1) = {s1,s2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9360" y="281952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e_set(r3) = {s3,s4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 of synchronization objects: semaphores, monitors, send, rece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/record the execution using the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dification to thread sched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ble to other operating systems and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: Do not visit a SYN-sequence tw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ing a list of visited SYN-sequence is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: only include variants that obeys a specific set of rules. Proven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still visit all SYN-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tart from any SYN-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inexpensive to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isting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ha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34800" y="2205000"/>
            <a:ext cx="8475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35120" y="1766880"/>
            <a:ext cx="76755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method for reacha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s the execution of every SYN-seqence exactly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require keeping a list of all visited SYN-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erforms existing partial order reduction based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latform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urrent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non-independent exec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thread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difficult to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deterministic interleavings/irreproduc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breakdown because problems come from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3962520"/>
            <a:ext cx="7696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read1             Thread2              Thread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.send(1)           t.send(2)            x = t.recv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t.recv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 x -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aches to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stic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all possible interleavings (how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subset of interleavings and force execution to 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deterministic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repeatedly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but inefficient, problems may appear at only extreme conditions at customers’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ix-based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test deterministically at th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by nondeterminstic r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checking/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modeling language PROM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all possible states of a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ull LTL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er state explos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 order reduction to relie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for very critical portion of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network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PathF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verification tool developed by NASA Ames Research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re easier to use S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e ALL possible execution paths of a java program without reco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visit all possible states of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every state for violations of assertions/ /properties/exceptions/deadlocks/live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lot of heuristics and optimization to work with big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iSo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/C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utest-j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currency-aware version of junit developed at Ric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errors in auxiliary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new invariants to check threading relate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nsert delays at critical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cord and playback specific interle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ol to test concurrent java programs developed by IBM Haifa Research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out recompiling/new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s existing 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s heuristic sleep() and yield() instructions to expos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multipl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chability tes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refix-based testin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02:02:20Z</dcterms:created>
  <dc:creator>Thuan Huynh</dc:creator>
  <dc:description/>
  <dc:language>en-US</dc:language>
  <cp:lastModifiedBy>Thuan Huynh</cp:lastModifiedBy>
  <dcterms:modified xsi:type="dcterms:W3CDTF">2008-04-15T13:23:56Z</dcterms:modified>
  <cp:revision>259</cp:revision>
  <dc:subject/>
  <dc:title>Testing concurrent software</dc:title>
</cp:coreProperties>
</file>