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19F-736F-4A03-A8E7-8526B188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492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2E8-3A62-4A95-98E1-3655CE11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49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49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4C6-1481-40E4-8021-ECE170B9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49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49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49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BF9-8F7D-4CDB-B4E2-8A192E2D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585-755C-4B7F-8863-CA13B803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74D-0C8F-45F6-8F80-6A99206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DD1-5ABE-4CE3-8756-0B920643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C94-CEB9-4EFE-B891-FA5BD0E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0A2-EDB9-44AF-BB97-104A97E7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49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2BD-3F00-42D3-B495-BDD3AF2D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49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E5F-1B1A-42F0-82B9-66A83CAE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492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DF4-83CB-4B34-BA81-D990665F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 Narrow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plexity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©D.Moshkovits</a:t>
            </a:r>
            <a:endParaRPr b="0" lang="en-US" sz="9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ED0-6CA5-463A-90EF-BA64ED53C1C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0" y="-360"/>
            <a:ext cx="769608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Comic Sans MS"/>
              </a:rPr>
              <a:t>Where Can We Draw The Line?</a:t>
            </a:r>
            <a:endParaRPr b="0" lang="en-US" sz="40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 the Hardness of Satisfiability Proble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D62-DD61-4F9A-8C44-39B335C743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Graph Construction: Example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429360" y="2809080"/>
            <a:ext cx="76428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98" name=""/>
          <p:cNvSpPr/>
          <p:nvPr/>
        </p:nvSpPr>
        <p:spPr>
          <a:xfrm>
            <a:off x="5022720" y="3342240"/>
            <a:ext cx="69912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99" name=""/>
          <p:cNvSpPr/>
          <p:nvPr/>
        </p:nvSpPr>
        <p:spPr>
          <a:xfrm>
            <a:off x="2213640" y="3723480"/>
            <a:ext cx="70812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 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00" name=""/>
          <p:cNvSpPr/>
          <p:nvPr/>
        </p:nvSpPr>
        <p:spPr>
          <a:xfrm>
            <a:off x="2364120" y="5018760"/>
            <a:ext cx="73800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01" name=""/>
          <p:cNvSpPr/>
          <p:nvPr/>
        </p:nvSpPr>
        <p:spPr>
          <a:xfrm>
            <a:off x="3890520" y="5552280"/>
            <a:ext cx="68184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 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cxnSp>
        <p:nvCxnSpPr>
          <p:cNvPr id="102" name=""/>
          <p:cNvCxnSpPr>
            <a:stCxn id="99" idx="6"/>
            <a:endCxn id="98" idx="2"/>
          </p:cNvCxnSpPr>
          <p:nvPr/>
        </p:nvCxnSpPr>
        <p:spPr>
          <a:xfrm flipV="1">
            <a:off x="2935440" y="3666240"/>
            <a:ext cx="208512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104" idx="1"/>
            <a:endCxn id="97" idx="5"/>
          </p:cNvCxnSpPr>
          <p:nvPr/>
        </p:nvCxnSpPr>
        <p:spPr>
          <a:xfrm flipH="1" flipV="1">
            <a:off x="4081320" y="3365280"/>
            <a:ext cx="1361160" cy="1289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0" idx="6"/>
            <a:endCxn id="104" idx="2"/>
          </p:cNvCxnSpPr>
          <p:nvPr/>
        </p:nvCxnSpPr>
        <p:spPr>
          <a:xfrm flipV="1">
            <a:off x="3114720" y="4885920"/>
            <a:ext cx="2210400" cy="457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371600" y="1981080"/>
            <a:ext cx="6095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z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)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04" name=""/>
          <p:cNvSpPr/>
          <p:nvPr/>
        </p:nvSpPr>
        <p:spPr>
          <a:xfrm>
            <a:off x="5325480" y="4561560"/>
            <a:ext cx="75528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cxnSp>
        <p:nvCxnSpPr>
          <p:cNvPr id="107" name=""/>
          <p:cNvCxnSpPr>
            <a:stCxn id="98" idx="4"/>
            <a:endCxn id="101" idx="7"/>
          </p:cNvCxnSpPr>
          <p:nvPr/>
        </p:nvCxnSpPr>
        <p:spPr>
          <a:xfrm flipH="1">
            <a:off x="4474800" y="3990600"/>
            <a:ext cx="897840" cy="1654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1" idx="1"/>
            <a:endCxn id="99" idx="5"/>
          </p:cNvCxnSpPr>
          <p:nvPr/>
        </p:nvCxnSpPr>
        <p:spPr>
          <a:xfrm flipH="1" flipV="1">
            <a:off x="2820240" y="4279680"/>
            <a:ext cx="1167480" cy="1365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7" idx="3"/>
            <a:endCxn id="100" idx="0"/>
          </p:cNvCxnSpPr>
          <p:nvPr/>
        </p:nvCxnSpPr>
        <p:spPr>
          <a:xfrm flipH="1">
            <a:off x="2733480" y="3365280"/>
            <a:ext cx="808560" cy="1654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7"/>
            <a:endCxn id="98" idx="3"/>
          </p:cNvCxnSpPr>
          <p:nvPr/>
        </p:nvCxnSpPr>
        <p:spPr>
          <a:xfrm flipV="1">
            <a:off x="2995200" y="3898080"/>
            <a:ext cx="2134440" cy="121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4" idx="3"/>
            <a:endCxn id="101" idx="6"/>
          </p:cNvCxnSpPr>
          <p:nvPr/>
        </p:nvCxnSpPr>
        <p:spPr>
          <a:xfrm flipH="1">
            <a:off x="4585680" y="5118120"/>
            <a:ext cx="856440" cy="759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7E5-4C2E-46D8-A291-DAB803D4A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Observation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f the graph contains a path from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it also contains a path from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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f there’s an edg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there’s also an edge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(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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63E-41D3-4A76-B7EA-2B8B99D55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unsatisfiabl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ff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exists a variabl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such th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is a path from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is a path from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341-98F1-4008-B9F0-FD7158B34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rectness (1)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ppose there are path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.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.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some variabl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there’s also a satisfying assignment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x)=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similarly for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x)=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51160" y="5171040"/>
            <a:ext cx="5866560" cy="649800"/>
            <a:chOff x="1451160" y="5171040"/>
            <a:chExt cx="5866560" cy="649800"/>
          </a:xfrm>
        </p:grpSpPr>
        <p:sp>
          <p:nvSpPr>
            <p:cNvPr id="121" name=""/>
            <p:cNvSpPr/>
            <p:nvPr/>
          </p:nvSpPr>
          <p:spPr>
            <a:xfrm>
              <a:off x="6553440" y="5171040"/>
              <a:ext cx="76428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1160" y="5171040"/>
              <a:ext cx="70812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 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520" y="5257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.  .  .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cxnSp>
          <p:nvCxnSpPr>
            <p:cNvPr id="124" name=""/>
            <p:cNvCxnSpPr>
              <a:stCxn id="122" idx="6"/>
            </p:cNvCxnSpPr>
            <p:nvPr/>
          </p:nvCxnSpPr>
          <p:spPr>
            <a:xfrm flipV="1">
              <a:off x="2173320" y="5486040"/>
              <a:ext cx="722520" cy="10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endCxn id="121" idx="2"/>
            </p:cNvCxnSpPr>
            <p:nvPr/>
          </p:nvCxnSpPr>
          <p:spPr>
            <a:xfrm>
              <a:off x="5866920" y="5486400"/>
              <a:ext cx="677160" cy="10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26" name=""/>
          <p:cNvSpPr/>
          <p:nvPr/>
        </p:nvSpPr>
        <p:spPr>
          <a:xfrm>
            <a:off x="3184560" y="5171040"/>
            <a:ext cx="75060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27" name=""/>
          <p:cNvSpPr/>
          <p:nvPr/>
        </p:nvSpPr>
        <p:spPr>
          <a:xfrm>
            <a:off x="4571640" y="5171040"/>
            <a:ext cx="716400" cy="64980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cxnSp>
        <p:nvCxnSpPr>
          <p:cNvPr id="130" name=""/>
          <p:cNvCxnSpPr>
            <a:stCxn id="126" idx="6"/>
            <a:endCxn id="127" idx="2"/>
          </p:cNvCxnSpPr>
          <p:nvPr/>
        </p:nvCxnSpPr>
        <p:spPr>
          <a:xfrm>
            <a:off x="3935520" y="5495400"/>
            <a:ext cx="63720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289548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ccff"/>
                </a:solidFill>
                <a:latin typeface="Symbol"/>
                <a:ea typeface="Symbol"/>
              </a:rPr>
              <a:t></a:t>
            </a: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false!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464-DA65-45B2-8D26-F0853670C6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rectness (2)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ppose there are no such path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struct an assignment as follow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442240" y="3189960"/>
            <a:ext cx="3867120" cy="3393000"/>
            <a:chOff x="2442240" y="3189960"/>
            <a:chExt cx="3867120" cy="3393000"/>
          </a:xfrm>
        </p:grpSpPr>
        <p:sp>
          <p:nvSpPr>
            <p:cNvPr id="135" name=""/>
            <p:cNvSpPr/>
            <p:nvPr/>
          </p:nvSpPr>
          <p:spPr>
            <a:xfrm>
              <a:off x="3657960" y="3189960"/>
              <a:ext cx="76428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1320" y="3723480"/>
              <a:ext cx="69912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y 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42240" y="4104360"/>
              <a:ext cx="70812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 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2720" y="5399640"/>
              <a:ext cx="73800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9120" y="5933160"/>
              <a:ext cx="68184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z 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cxnSp>
          <p:nvCxnSpPr>
            <p:cNvPr id="140" name=""/>
            <p:cNvCxnSpPr>
              <a:stCxn id="137" idx="6"/>
              <a:endCxn id="136" idx="2"/>
            </p:cNvCxnSpPr>
            <p:nvPr/>
          </p:nvCxnSpPr>
          <p:spPr>
            <a:xfrm flipV="1">
              <a:off x="3164040" y="4047840"/>
              <a:ext cx="2085120" cy="38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42" idx="1"/>
              <a:endCxn id="135" idx="5"/>
            </p:cNvCxnSpPr>
            <p:nvPr/>
          </p:nvCxnSpPr>
          <p:spPr>
            <a:xfrm flipH="1" flipV="1">
              <a:off x="4309920" y="3745800"/>
              <a:ext cx="1361160" cy="1289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8" idx="6"/>
              <a:endCxn id="142" idx="2"/>
            </p:cNvCxnSpPr>
            <p:nvPr/>
          </p:nvCxnSpPr>
          <p:spPr>
            <a:xfrm flipV="1">
              <a:off x="3343320" y="5266800"/>
              <a:ext cx="2210400" cy="457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5554080" y="4942440"/>
              <a:ext cx="755280" cy="64980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cxnSp>
          <p:nvCxnSpPr>
            <p:cNvPr id="144" name=""/>
            <p:cNvCxnSpPr>
              <a:stCxn id="136" idx="4"/>
              <a:endCxn id="139" idx="7"/>
            </p:cNvCxnSpPr>
            <p:nvPr/>
          </p:nvCxnSpPr>
          <p:spPr>
            <a:xfrm flipH="1">
              <a:off x="4703400" y="4371480"/>
              <a:ext cx="897840" cy="1654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39" idx="1"/>
              <a:endCxn id="137" idx="5"/>
            </p:cNvCxnSpPr>
            <p:nvPr/>
          </p:nvCxnSpPr>
          <p:spPr>
            <a:xfrm flipH="1" flipV="1">
              <a:off x="3048840" y="4660560"/>
              <a:ext cx="1167480" cy="13658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35" idx="3"/>
              <a:endCxn id="138" idx="0"/>
            </p:cNvCxnSpPr>
            <p:nvPr/>
          </p:nvCxnSpPr>
          <p:spPr>
            <a:xfrm flipH="1">
              <a:off x="2962080" y="3746160"/>
              <a:ext cx="808560" cy="1654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38" idx="7"/>
              <a:endCxn id="136" idx="3"/>
            </p:cNvCxnSpPr>
            <p:nvPr/>
          </p:nvCxnSpPr>
          <p:spPr>
            <a:xfrm flipV="1">
              <a:off x="3223800" y="4279320"/>
              <a:ext cx="2134440" cy="1213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3"/>
              <a:endCxn id="139" idx="6"/>
            </p:cNvCxnSpPr>
            <p:nvPr/>
          </p:nvCxnSpPr>
          <p:spPr>
            <a:xfrm flipH="1">
              <a:off x="4814280" y="5499000"/>
              <a:ext cx="856440" cy="759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49" name=""/>
          <p:cNvSpPr/>
          <p:nvPr/>
        </p:nvSpPr>
        <p:spPr>
          <a:xfrm>
            <a:off x="2438280" y="4113720"/>
            <a:ext cx="685800" cy="649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50532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ick an unassigned literal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ith no path fro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4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 assign it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713760"/>
            <a:ext cx="685800" cy="649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5923440"/>
            <a:ext cx="685800" cy="649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32004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sign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all reachable vertices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4495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sign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ir negations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921760"/>
            <a:ext cx="757080" cy="11667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933080"/>
            <a:ext cx="757080" cy="649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90280"/>
            <a:ext cx="757080" cy="649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5562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peat until all vertices are assigned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2FB-FD98-4868-BED6-D0B91DB9CB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rectness</a:t>
            </a:r>
            <a:r>
              <a:rPr b="0" lang="he-IL" sz="4400" spc="-1" strike="noStrike">
                <a:solidFill>
                  <a:srgbClr val="9999ff"/>
                </a:solidFill>
                <a:latin typeface="Comic Sans MS"/>
                <a:ea typeface="Arial"/>
              </a:rPr>
              <a:t> </a:t>
            </a:r>
            <a:r>
              <a:rPr b="0" lang="en-US" sz="4400" spc="-1" strike="noStrike">
                <a:solidFill>
                  <a:srgbClr val="9999ff"/>
                </a:solidFill>
                <a:latin typeface="Comic Sans MS"/>
                <a:ea typeface="Arial"/>
              </a:rPr>
              <a:t>(2)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 algorithm is well defin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f there were a path from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oth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there would have been a path from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from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98E-681A-423D-AD6E-34579C619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formula is unsatisfiable iff there are no paths of the form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.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.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CD7-A991-4236-943D-CE76B54A97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2SAT is in P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get the following efficient algorithm for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S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each variable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ind if there is a path from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vice-vers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ject if any of these tests succeede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ccept otherwi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  <a:ea typeface="Arial"/>
              </a:rPr>
              <a:t>2SAT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1EA-B9E8-41A9-B912-F8453C716E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Max2SAT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Instance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 goal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ble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decide if there is an assignment satisfying at least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s clau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876920"/>
            <a:ext cx="1981440" cy="155700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z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)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419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99ff"/>
                </a:solidFill>
                <a:latin typeface="Comic Sans MS"/>
              </a:rPr>
              <a:t>Example: a 2CNF formula</a:t>
            </a:r>
            <a:endParaRPr b="0" lang="en-US" sz="18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4CB-D7F4-4FAA-94E0-299351E728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Max2SAT is in NPC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ax2SAT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NP-Complet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ax2S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clearly in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N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’ll show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3SAT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ffccff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ax2S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86480" y="4168800"/>
            <a:ext cx="7219440" cy="1441800"/>
            <a:chOff x="1086480" y="4168800"/>
            <a:chExt cx="7219440" cy="1441800"/>
          </a:xfrm>
        </p:grpSpPr>
        <p:sp>
          <p:nvSpPr>
            <p:cNvPr id="172" name=""/>
            <p:cNvSpPr/>
            <p:nvPr/>
          </p:nvSpPr>
          <p:spPr>
            <a:xfrm>
              <a:off x="1086480" y="4503960"/>
              <a:ext cx="2467080" cy="459720"/>
            </a:xfrm>
            <a:prstGeom prst="rect">
              <a:avLst/>
            </a:prstGeom>
            <a:solidFill>
              <a:srgbClr val="ff00ff"/>
            </a:solidFill>
            <a:ln w="19080">
              <a:solidFill>
                <a:srgbClr val="ffff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(..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..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..)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…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(..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..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..) 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64960" y="4503960"/>
              <a:ext cx="1933560" cy="45972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ffff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(..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..)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…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(..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..) 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14800" y="4168800"/>
              <a:ext cx="1190520" cy="1019520"/>
            </a:xfrm>
            <a:prstGeom prst="rightArrow">
              <a:avLst>
                <a:gd name="adj1" fmla="val 50000"/>
                <a:gd name="adj2" fmla="val 2919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91520" y="5029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99ff"/>
                  </a:solidFill>
                  <a:latin typeface="Comic Sans MS"/>
                </a:rPr>
                <a:t>K</a:t>
              </a:r>
              <a:endParaRPr b="0" lang="en-US" sz="32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324480" y="228600"/>
            <a:ext cx="2590920" cy="304920"/>
          </a:xfrm>
          <a:prstGeom prst="rightArrowCallout">
            <a:avLst>
              <a:gd name="adj1" fmla="val 29586"/>
              <a:gd name="adj2" fmla="val 43750"/>
              <a:gd name="adj3" fmla="val 152435"/>
              <a:gd name="adj4" fmla="val 7430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PAP 186-187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AA1-771C-4146-8B16-659039A034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show variants of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SA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check if they are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NP-har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Over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n resul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2S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Max2S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33E-2AF5-45DB-BBAB-FB4B9DFB2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Gadgets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x,y,z,w) =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z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w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y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z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x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x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w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y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w)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z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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w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ery satisfying assignment for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(x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cc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z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an be extended into an assignment that satisfi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exact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the claus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assignments can satisfy at most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the claus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 rot="575400">
            <a:off x="236196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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80" name=""/>
          <p:cNvSpPr/>
          <p:nvPr/>
        </p:nvSpPr>
        <p:spPr>
          <a:xfrm rot="567600">
            <a:off x="2092320" y="383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Webdings"/>
                <a:ea typeface="Webdings"/>
              </a:rPr>
              <a:t></a:t>
            </a:r>
            <a:endParaRPr b="0" lang="en-US" sz="28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81" name=""/>
          <p:cNvSpPr/>
          <p:nvPr/>
        </p:nvSpPr>
        <p:spPr>
          <a:xfrm rot="575400">
            <a:off x="1726920" y="6138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Webdings"/>
                <a:ea typeface="Webdings"/>
              </a:rPr>
              <a:t></a:t>
            </a:r>
            <a:endParaRPr b="0" lang="en-US" sz="40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82" name=""/>
          <p:cNvSpPr/>
          <p:nvPr/>
        </p:nvSpPr>
        <p:spPr>
          <a:xfrm rot="571800">
            <a:off x="1630080" y="53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Webdings"/>
                <a:ea typeface="Webdings"/>
              </a:rPr>
              <a:t>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83" name=""/>
          <p:cNvSpPr/>
          <p:nvPr/>
        </p:nvSpPr>
        <p:spPr>
          <a:xfrm rot="20466600">
            <a:off x="5493600" y="773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</a:t>
            </a:r>
            <a:endParaRPr b="0" lang="en-US" sz="28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1066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Webdings"/>
                <a:ea typeface="Webdings"/>
              </a:rPr>
              <a:t></a:t>
            </a:r>
            <a:endParaRPr b="0" lang="en-US" sz="20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1752480"/>
            <a:ext cx="3429000" cy="609840"/>
          </a:xfrm>
          <a:prstGeom prst="wedgeRoundRectCallout">
            <a:avLst>
              <a:gd name="adj1" fmla="val -72500"/>
              <a:gd name="adj2" fmla="val 47134"/>
              <a:gd name="adj3" fmla="val 1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y checking.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1D1-7DA8-4B2A-8BC1-EB57388843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  <a:ea typeface="Arial"/>
              </a:rPr>
              <a:t>The Construction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each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replace th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th clause of th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3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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with a corresponding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,w</a:t>
            </a:r>
            <a:r>
              <a:rPr b="0" lang="en-US" sz="3200" spc="-1" strike="noStrike" baseline="-25000">
                <a:solidFill>
                  <a:srgbClr val="ffcc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get a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x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K=7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495680"/>
            <a:ext cx="4038480" cy="1828800"/>
          </a:xfrm>
          <a:prstGeom prst="cloudCallout">
            <a:avLst>
              <a:gd name="adj1" fmla="val -59314"/>
              <a:gd name="adj2" fmla="val -6362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ke sure this construction is poly-time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7BA-C08B-4A61-A103-015C0AB6B9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ry satisfying assignment for th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3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 can be extended into an assignment that satisfie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7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lau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7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lauses of th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 are satisfied, each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ha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atisfied clauses, so the original formula is satisfi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D73-4371-4618-93DF-00485FCCF2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rollary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3SAT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ffccff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ax2S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ax2SAT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N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Max2S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NP-Complet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3DC-9D09-4438-B498-74701D02B1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’ve seen that checking if a given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CN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ormula is satisfiable i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Polynomial-time decidab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f every clause contains up to </a:t>
            </a: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tera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NP-ha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f each clause may contain more than </a:t>
            </a: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tera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’ve also seen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Max2SA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NP-har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286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ff"/>
                </a:solidFill>
                <a:latin typeface="Webdings"/>
                <a:ea typeface="Webdings"/>
              </a:rPr>
              <a:t></a:t>
            </a:r>
            <a:endParaRPr b="0" lang="en-US" sz="96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C4A-8B5E-4430-9615-50E90517AD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pecial case of a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NP-har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roblem may be polynomial time decidab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optimization version of a polynomial-time decidable problem may be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NP-har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049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ff"/>
                </a:solidFill>
                <a:latin typeface="Webdings"/>
                <a:ea typeface="Webdings"/>
              </a:rPr>
              <a:t></a:t>
            </a:r>
            <a:endParaRPr b="0" lang="en-US" sz="96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0B1-198C-408A-AF52-AAB84D51F9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What Do We Know?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ing if a propositional calculus formula is satisfiable (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 i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NP-ha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673000" y="4351680"/>
            <a:ext cx="3656160" cy="459720"/>
          </a:xfrm>
          <a:prstGeom prst="rect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(x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x))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(x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y)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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962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Comic Sans MS"/>
              </a:rPr>
              <a:t>Example: propositional calculus formula</a:t>
            </a:r>
            <a:endParaRPr b="0" lang="en-US" sz="18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31B-F420-4966-9FB3-DD569AB4A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What Do We Know?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concentrated on a special case: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754000" y="4351680"/>
            <a:ext cx="349452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(..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.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....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.)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(..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.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....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.) 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962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structure of CNF formulas</a:t>
            </a:r>
            <a:endParaRPr b="0" lang="en-US" sz="18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8DE-A9C8-4241-8B5B-3227D1E85C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What Do We Know?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1905120"/>
            <a:ext cx="0" cy="3962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8288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imal number of literals per clause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10552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44956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8862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5105520"/>
            <a:ext cx="533520" cy="761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248520" y="1752480"/>
            <a:ext cx="2133360" cy="1015920"/>
            <a:chOff x="6248520" y="1752480"/>
            <a:chExt cx="2133360" cy="1015920"/>
          </a:xfrm>
        </p:grpSpPr>
        <p:sp>
          <p:nvSpPr>
            <p:cNvPr id="67" name=""/>
            <p:cNvSpPr/>
            <p:nvPr/>
          </p:nvSpPr>
          <p:spPr>
            <a:xfrm>
              <a:off x="6248520" y="1752480"/>
              <a:ext cx="2133360" cy="10159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P-hard</a:t>
              </a:r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72040" y="1828440"/>
              <a:ext cx="456840" cy="3812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2040" y="2285640"/>
              <a:ext cx="456840" cy="38124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352680" y="2057400"/>
            <a:ext cx="533520" cy="24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733920"/>
            <a:ext cx="2819520" cy="990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ll explore this!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53B-F8E4-4404-A010-5DEEF32F9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2SAT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Instance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-CN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mula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ble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decide if 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satisfi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8769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z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)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8098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99ff"/>
                </a:solidFill>
                <a:latin typeface="Comic Sans MS"/>
              </a:rPr>
              <a:t>Example: a 2CNF formula</a:t>
            </a:r>
            <a:endParaRPr b="0" lang="en-US" sz="18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465-9D05-4868-940D-C9018B27E1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2SAT is in P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2SAT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polynomial-time decidab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We’ll show how to solve this problem efficiently using path searches in graph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"/>
            <a:ext cx="2590920" cy="304920"/>
          </a:xfrm>
          <a:prstGeom prst="rightArrowCallout">
            <a:avLst>
              <a:gd name="adj1" fmla="val 29586"/>
              <a:gd name="adj2" fmla="val 43750"/>
              <a:gd name="adj3" fmla="val 152435"/>
              <a:gd name="adj4" fmla="val 7430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PAP 184-185</a:t>
            </a:r>
            <a:endParaRPr b="0" lang="en-US" sz="24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230-954C-4177-8F96-64B210D306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Searching in Graphs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graph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G=(V,E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two vertices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s,t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finding if there is a path from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polynomial-time decidab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Use some search algorithm (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DF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BF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r>
              <a:rPr b="0" lang="he-I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CA4-3B46-4734-82CC-8EE7DF498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Comic Sans MS"/>
              </a:rPr>
              <a:t>Graph Construction</a:t>
            </a:r>
            <a:endParaRPr b="0" lang="en-US" sz="44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ertex for each variable and a negation of a vari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ge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ff there exists a clause equivalent to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ff"/>
                </a:solidFill>
                <a:latin typeface="Symbol"/>
                <a:ea typeface="Symbol"/>
              </a:rPr>
              <a:t>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733640" y="4190400"/>
            <a:ext cx="1962720" cy="1133640"/>
            <a:chOff x="4733640" y="4190400"/>
            <a:chExt cx="1962720" cy="1133640"/>
          </a:xfrm>
        </p:grpSpPr>
        <p:cxnSp>
          <p:nvCxnSpPr>
            <p:cNvPr id="84" name=""/>
            <p:cNvCxnSpPr>
              <a:stCxn id="85" idx="2"/>
              <a:endCxn id="86" idx="7"/>
            </p:cNvCxnSpPr>
            <p:nvPr/>
          </p:nvCxnSpPr>
          <p:spPr>
            <a:xfrm flipH="1">
              <a:off x="4733640" y="4190760"/>
              <a:ext cx="829440" cy="4482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87" name=""/>
            <p:cNvCxnSpPr>
              <a:stCxn id="85" idx="4"/>
              <a:endCxn id="88" idx="0"/>
            </p:cNvCxnSpPr>
            <p:nvPr/>
          </p:nvCxnSpPr>
          <p:spPr>
            <a:xfrm flipH="1">
              <a:off x="5485680" y="4419720"/>
              <a:ext cx="305640" cy="3052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89" name=""/>
            <p:cNvCxnSpPr>
              <a:stCxn id="90" idx="2"/>
              <a:endCxn id="88" idx="6"/>
            </p:cNvCxnSpPr>
            <p:nvPr/>
          </p:nvCxnSpPr>
          <p:spPr>
            <a:xfrm flipH="1">
              <a:off x="5714640" y="4800240"/>
              <a:ext cx="915120" cy="1530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91" name=""/>
            <p:cNvCxnSpPr>
              <a:stCxn id="92" idx="7"/>
              <a:endCxn id="90" idx="3"/>
            </p:cNvCxnSpPr>
            <p:nvPr/>
          </p:nvCxnSpPr>
          <p:spPr>
            <a:xfrm flipV="1">
              <a:off x="6486480" y="4961880"/>
              <a:ext cx="210240" cy="3625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93" name=""/>
            <p:cNvCxnSpPr>
              <a:stCxn id="90" idx="1"/>
              <a:endCxn id="85" idx="6"/>
            </p:cNvCxnSpPr>
            <p:nvPr/>
          </p:nvCxnSpPr>
          <p:spPr>
            <a:xfrm flipH="1" flipV="1">
              <a:off x="6019560" y="4190400"/>
              <a:ext cx="676800" cy="4482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4343400" y="3962520"/>
            <a:ext cx="2743200" cy="1904760"/>
            <a:chOff x="4343400" y="3962520"/>
            <a:chExt cx="2743200" cy="1904760"/>
          </a:xfrm>
        </p:grpSpPr>
        <p:sp>
          <p:nvSpPr>
            <p:cNvPr id="85" name=""/>
            <p:cNvSpPr/>
            <p:nvPr/>
          </p:nvSpPr>
          <p:spPr>
            <a:xfrm>
              <a:off x="5562720" y="3962520"/>
              <a:ext cx="457200" cy="4572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4572000"/>
              <a:ext cx="457200" cy="4572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5257800"/>
              <a:ext cx="457200" cy="4572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7800" y="4724280"/>
              <a:ext cx="457200" cy="4572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3400" y="4572000"/>
              <a:ext cx="457200" cy="4572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8320" y="5410080"/>
              <a:ext cx="457200" cy="4572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(Hebrew)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lex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C2D-71D2-44D2-B522-85D5966370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6:49:19Z</dcterms:created>
  <dc:creator>דנה מושקוביץ</dc:creator>
  <dc:description/>
  <dc:language>en-US</dc:language>
  <cp:lastModifiedBy>PDW</cp:lastModifiedBy>
  <dcterms:modified xsi:type="dcterms:W3CDTF">2006-05-04T04:50:10Z</dcterms:modified>
  <cp:revision>130</cp:revision>
  <dc:subject/>
  <dc:title>SAT </dc:title>
</cp:coreProperties>
</file>