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.wmf" ContentType="image/x-wmf"/>
  <Override PartName="/ppt/media/image2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D4CF-2415-43F7-90AB-816E8FBB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F3D2-AA42-4459-90BF-08E7EA60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D7D3-F824-4E84-8996-51FA0D08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13F-63CF-4AEB-B4DF-AD006905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5C8-F6E4-4517-A931-DBA97A9B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F9C-F45C-4FB7-A8EC-23640518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B749-44E3-47A4-942E-E32F572E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8CC3-0C49-46E7-8351-96F31BAF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D3F-A8C4-4CB6-A8B9-A3557F83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F1D-90F2-4449-B6FB-5AFC53C4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E74-7D5C-44E7-B251-41E2728B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F01-13CD-44C8-96BC-11E4DDDC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4FF5-58B2-4675-A4EF-20073C11A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tinctive Image Featur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m Scale-Invariant Keypoi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L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12920" y="981000"/>
            <a:ext cx="3871800" cy="930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309840" y="2874960"/>
            <a:ext cx="1909800" cy="841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276720" y="4653000"/>
            <a:ext cx="2447640" cy="787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021800" y="1268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34480" y="3160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45640" y="488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ing edge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a point has large principal curvature across the edge but a small one in the perpendicular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incipal curvatures can be calculated from a Hessia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igenvalues of H are proportional to the principal curvatures, so two eigenvalues shouldn’t diff too 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27655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064720" cy="62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entation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an orientation to each keypoint, the keypoint descriptor can be represented relative to this orientation and therefore achieve invariance to image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magnitude and orientation on the Gaussian smoothed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42920" y="4597560"/>
            <a:ext cx="74883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entation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stogram is formed by quantizing the orientations into 36 bi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aks in the histogram correspond to the orientations of the patc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same scale and location, there could be multiple keypoints with different orient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ature descrip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853272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ature descrip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16*16 p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*4 sub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bins in each sub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*4*8=128 dimensions in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44680" y="447840"/>
            <a:ext cx="8054640" cy="55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3454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: object recog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FT features of training images are extracted and st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query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 SIFT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nearest neighbor inde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keypoints, Geometry 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 instance recognition (matchin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909800"/>
            <a:ext cx="91076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45658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70320" y="274680"/>
            <a:ext cx="42033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39960" y="274680"/>
            <a:ext cx="726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A-S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on 41*41 p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*39*39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PCA to project it to 20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S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almost equally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successful feature (probably the most successful paper in computer vi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t of heuristics, the parameters are optimized based on a small and specific dataset. Different tasks should have different parameter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local image descriptors (Winder et al 2007): tuning parameters given their datas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a universal objective func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n: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object detection, the keypoint localization process can indicate which locations and scales to consider when searching for objects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“uniform regions may be quite informative when detecting some types of ojbects , but SIFT ignore th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region detectors compari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mon: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ther one could go directly to a surface representation of a scene based on SIFT features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4560" y="1484280"/>
            <a:ext cx="8569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ing by stable, robust and distinctive local fe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F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e Invariant Feature Transform;  transform image data into scale-invariant coordinates relative to loca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e-space extrema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point loc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entation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point descri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ale-space extrema de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points, whose surrounding patches (with some scale) are distin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pproximation to the scale-normalized Laplacian of Gauss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00360" y="3429000"/>
            <a:ext cx="3959280" cy="525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59280" y="4253040"/>
            <a:ext cx="3240000" cy="68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908000" y="5589720"/>
            <a:ext cx="590400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84440" y="316080"/>
            <a:ext cx="4975200" cy="2536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95640" y="3114720"/>
            <a:ext cx="3960720" cy="340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88680" y="4581360"/>
            <a:ext cx="271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 and minima i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*3*3 neighbor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point loc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till a lot of points, some of them are not good en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cations of keypoints may be not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ing edg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0:29:25Z</dcterms:created>
  <dc:creator>Gavin</dc:creator>
  <dc:description/>
  <dc:language>en-US</dc:language>
  <cp:lastModifiedBy>Gavin</cp:lastModifiedBy>
  <dcterms:modified xsi:type="dcterms:W3CDTF">2009-02-24T21:52:16Z</dcterms:modified>
  <cp:revision>56</cp:revision>
  <dc:subject/>
  <dc:title>SIFT</dc:title>
</cp:coreProperties>
</file>