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9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13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35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30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14.png" ContentType="image/png"/>
  <Override PartName="/ppt/media/image10.jpeg" ContentType="image/jpeg"/>
  <Override PartName="/ppt/media/image80.png" ContentType="image/png"/>
  <Override PartName="/ppt/media/image15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1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.png" ContentType="image/png"/>
  <Override PartName="/ppt/media/image82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6F75-9AA7-46E9-862E-A4D2DA9BE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DFEC-3131-4624-93D7-429B8651A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16000" y="3031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33" name="Text Box 3"/>
          <p:cNvSpPr/>
          <p:nvPr/>
        </p:nvSpPr>
        <p:spPr>
          <a:xfrm>
            <a:off x="503280" y="4267080"/>
            <a:ext cx="58514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9F40-003A-490D-8587-2A2A79AAC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16000" y="3031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36" name="Text Box 3"/>
          <p:cNvSpPr/>
          <p:nvPr/>
        </p:nvSpPr>
        <p:spPr>
          <a:xfrm>
            <a:off x="503280" y="4267080"/>
            <a:ext cx="58514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D640-A6CA-4AE9-A149-A8FD56B7F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16000" y="3031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39" name="Text Box 3"/>
          <p:cNvSpPr/>
          <p:nvPr/>
        </p:nvSpPr>
        <p:spPr>
          <a:xfrm>
            <a:off x="503280" y="4267080"/>
            <a:ext cx="58514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646C-15F6-48E0-9EF1-0649FF7F3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3600" y="3031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342" name="Text Box 3"/>
          <p:cNvSpPr/>
          <p:nvPr/>
        </p:nvSpPr>
        <p:spPr>
          <a:xfrm>
            <a:off x="503280" y="4314960"/>
            <a:ext cx="585468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0A1F-C6B9-49E8-921E-9AE2E7AD4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16000" y="3031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45" name="Text Box 3"/>
          <p:cNvSpPr/>
          <p:nvPr/>
        </p:nvSpPr>
        <p:spPr>
          <a:xfrm>
            <a:off x="503280" y="4267080"/>
            <a:ext cx="58514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C56F-96FE-4C1D-B0AF-CED708608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3600" y="3031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348" name="Text Box 3"/>
          <p:cNvSpPr/>
          <p:nvPr/>
        </p:nvSpPr>
        <p:spPr>
          <a:xfrm>
            <a:off x="503280" y="4314960"/>
            <a:ext cx="585468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DABE-D6F3-4A50-B95B-1D6D568C2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3600" y="3031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351" name="Text Box 3"/>
          <p:cNvSpPr/>
          <p:nvPr/>
        </p:nvSpPr>
        <p:spPr>
          <a:xfrm>
            <a:off x="503280" y="4314960"/>
            <a:ext cx="585468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329-FA84-495E-A7CC-B101EF3A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656-A052-401C-8FFB-3FC20D0A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69B-7AD0-405C-A5AA-ADB28C59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2EF-45C2-4F7C-BB81-9E4457EE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68E-91B9-4B2C-949F-41C82F3F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557-1DFB-4AA5-B7DD-4AEFB107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BD2-2442-4395-BDF9-4429FD51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BAE-77ED-4029-BEC6-E3A87290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E3E-C60D-4BFA-873E-0FB4EAEF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2FD-69D6-4F08-92BE-224D7115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FEF-B4BA-451F-AC4B-C9DB3500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8C3-246D-450D-82DD-F54FFAC7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ECB8-3427-4C9C-9996-F62740845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s.berkeley.edu/~efros/research/synthesis.html" TargetMode="External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e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 that repeats with var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separate what repeats and what stays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as repeated trials of a random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ability distribution stays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each trial is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st Tex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ixel independent, identically distributed (ii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of constant int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ian noise patt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kled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xture Discrimination is then Stat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ets of s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y come from the same random pro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est Texture Discri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hist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intensities into discrete ran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 how many pixels in each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14400" y="4267080"/>
            <a:ext cx="45720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905120" y="5181480"/>
            <a:ext cx="4572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895480" y="4038480"/>
            <a:ext cx="53352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114800" y="4800600"/>
            <a:ext cx="53352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7238880" y="5105520"/>
            <a:ext cx="53352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62120" y="6477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676520" y="6477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781680" y="6477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5-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2"/>
          <p:cNvSpPr/>
          <p:nvPr/>
        </p:nvSpPr>
        <p:spPr>
          <a:xfrm>
            <a:off x="5029200" y="6172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3"/>
          <p:cNvSpPr/>
          <p:nvPr/>
        </p:nvSpPr>
        <p:spPr>
          <a:xfrm>
            <a:off x="5486400" y="6172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5943600" y="61722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743200" y="6477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-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3809880" y="6477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/why to comp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st comparison is SSD, many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view probabilis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gram is a set of samples from a probability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any samples it approximates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probability samples drawn from same distribution.  Ie., is difference greater than expected when two samples come from same distrib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90720" y="57913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:\iccv99\rocks_label.jpg"/>
          <p:cNvPicPr/>
          <p:nvPr/>
        </p:nvPicPr>
        <p:blipFill>
          <a:blip r:embed="rId1"/>
          <a:srcRect l="11004" t="8969" r="10467" b="8477"/>
          <a:stretch/>
        </p:blipFill>
        <p:spPr>
          <a:xfrm>
            <a:off x="914400" y="4495680"/>
            <a:ext cx="2233440" cy="194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S:\iccv99\rocks_histos.jpg"/>
          <p:cNvPicPr/>
          <p:nvPr/>
        </p:nvPicPr>
        <p:blipFill>
          <a:blip r:embed="rId2"/>
          <a:srcRect l="10962" t="4904" r="7633" b="8186"/>
          <a:stretch/>
        </p:blipFill>
        <p:spPr>
          <a:xfrm>
            <a:off x="3809880" y="2362320"/>
            <a:ext cx="3962520" cy="2698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S:\iccv99\rocks_image.jpg"/>
          <p:cNvPicPr/>
          <p:nvPr/>
        </p:nvPicPr>
        <p:blipFill>
          <a:blip r:embed="rId3"/>
          <a:srcRect l="11023" t="8857" r="10948" b="8589"/>
          <a:stretch/>
        </p:blipFill>
        <p:spPr>
          <a:xfrm>
            <a:off x="914400" y="2347920"/>
            <a:ext cx="2224080" cy="19494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2389320" y="2585880"/>
            <a:ext cx="446040" cy="446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65400" y="3144960"/>
            <a:ext cx="446040" cy="44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494000" y="3703680"/>
            <a:ext cx="447480" cy="447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2843280" y="2743200"/>
            <a:ext cx="966600" cy="84240"/>
          </a:xfrm>
          <a:prstGeom prst="line">
            <a:avLst/>
          </a:prstGeom>
          <a:ln w="255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>
            <a:off x="2629080" y="3375000"/>
            <a:ext cx="1180800" cy="282600"/>
          </a:xfrm>
          <a:prstGeom prst="line">
            <a:avLst/>
          </a:prstGeom>
          <a:ln w="255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1943280" y="3932280"/>
            <a:ext cx="1866600" cy="639720"/>
          </a:xfrm>
          <a:prstGeom prst="line">
            <a:avLst/>
          </a:prstGeom>
          <a:ln w="255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499840" y="2571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295000" y="3102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1579320" y="3695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90720" y="1523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-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8087040" y="3017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8064720" y="3946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7"/>
              <p:cNvSpPr txBox="1"/>
              <p:nvPr/>
            </p:nvSpPr>
            <p:spPr>
              <a:xfrm>
                <a:off x="7543800" y="2895480"/>
                <a:ext cx="581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8"/>
              <p:cNvSpPr txBox="1"/>
              <p:nvPr/>
            </p:nvSpPr>
            <p:spPr>
              <a:xfrm>
                <a:off x="7543800" y="3809880"/>
                <a:ext cx="581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9"/>
              <p:cNvSpPr txBox="1"/>
              <p:nvPr/>
            </p:nvSpPr>
            <p:spPr>
              <a:xfrm>
                <a:off x="3429000" y="5105520"/>
                <a:ext cx="518148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9" name="Text Box 20"/>
          <p:cNvSpPr/>
          <p:nvPr/>
        </p:nvSpPr>
        <p:spPr>
          <a:xfrm>
            <a:off x="914400" y="304920"/>
            <a:ext cx="7620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 square distance between texton histogra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3276720" y="6400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li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Complex Discr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gram comparison is very li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ixel is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happens at a tiny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utput of filters of different sc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gin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17440" y="2251080"/>
            <a:ext cx="801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gray-level statistics: characterized by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-order gray-level statistics: described by co-occur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correlation function I(i,j)*I(-i,-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pectrum of I(i,j) is square of magnitude of Four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pectrum of a function is Fourier trans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uto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methods use Fourier transform (in polar repres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syth &amp; Po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31640" y="1638360"/>
            <a:ext cx="8178840" cy="5073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890640" y="717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305920" cy="570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991920" y="171756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detectors find differences in overall int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intensity is only simplest dif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72360" y="5146560"/>
            <a:ext cx="40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lides from David Jac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ight Fil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scale is good, since we don’t know right scale a prior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st to compare with naïve Bay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image on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F1, F2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image two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G1, G2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image one and two have same tex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F1,G1,F2,G2, …|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1,G1|S)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2,G2|S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ight Fil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re independent the b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image, output of one filter should be independent of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ur comparison assumes indepen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elets seem to be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of Gaussian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57200" y="3262320"/>
            <a:ext cx="2529000" cy="252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7543800" y="3276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6095880" y="32767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3352680" y="3262320"/>
            <a:ext cx="2529000" cy="25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5"/>
          <a:stretch/>
        </p:blipFill>
        <p:spPr>
          <a:xfrm>
            <a:off x="7848720" y="4876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6477120" y="4862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ots and Oriented Ba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Malik and Peron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391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530520" cy="1765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522440" y="3048120"/>
            <a:ext cx="7621560" cy="3047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1904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3809880"/>
            <a:ext cx="7620120" cy="3048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7621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4419720" y="4648320"/>
                <a:ext cx="429552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ymmetric: 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tisymmetric: 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−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bor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3200400" y="1600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4"/>
          <a:stretch/>
        </p:blipFill>
        <p:spPr>
          <a:xfrm>
            <a:off x="838080" y="3733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5"/>
          <a:stretch/>
        </p:blipFill>
        <p:spPr>
          <a:xfrm>
            <a:off x="2057400" y="3733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6"/>
          <a:stretch/>
        </p:blipFill>
        <p:spPr>
          <a:xfrm>
            <a:off x="3276720" y="3733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7"/>
          <a:stretch/>
        </p:blipFill>
        <p:spPr>
          <a:xfrm>
            <a:off x="838080" y="259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8"/>
          <a:stretch/>
        </p:blipFill>
        <p:spPr>
          <a:xfrm>
            <a:off x="2057400" y="259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9"/>
          <a:stretch/>
        </p:blipFill>
        <p:spPr>
          <a:xfrm>
            <a:off x="3200400" y="259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10"/>
          <a:stretch/>
        </p:blipFill>
        <p:spPr>
          <a:xfrm>
            <a:off x="838080" y="47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"/>
          <p:cNvPicPr/>
          <p:nvPr/>
        </p:nvPicPr>
        <p:blipFill>
          <a:blip r:embed="rId11"/>
          <a:stretch/>
        </p:blipFill>
        <p:spPr>
          <a:xfrm>
            <a:off x="2057400" y="47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"/>
          <p:cNvPicPr/>
          <p:nvPr/>
        </p:nvPicPr>
        <p:blipFill>
          <a:blip r:embed="rId12"/>
          <a:stretch/>
        </p:blipFill>
        <p:spPr>
          <a:xfrm>
            <a:off x="3276720" y="4724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6"/>
          <p:cNvSpPr/>
          <p:nvPr/>
        </p:nvSpPr>
        <p:spPr>
          <a:xfrm>
            <a:off x="4872960" y="2184480"/>
            <a:ext cx="3981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bor filters at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s and spatial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row shows anti-symmetr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 odd) filters, bottom row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metric (or even) fil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bor filters are examples of Wave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two bases for im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xels are localized in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are localized in frequ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lets are a little of bo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for measuring frequency lo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ov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tures local dependen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ixel depends on neighborh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, 1D first ord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p1, p2, …pn) = P(p1)*P(p2|p1)*P(p3|p2,p1)*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P(p1)*P(p2|p1)*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(p3|p2)*P(p4|p3)*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rder Markov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ixel is like neighbor to left + noise with some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capture a much wider range of phenom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imple"/>
          <p:cNvPicPr/>
          <p:nvPr/>
        </p:nvPicPr>
        <p:blipFill>
          <a:blip r:embed="rId1"/>
          <a:stretch/>
        </p:blipFill>
        <p:spPr>
          <a:xfrm>
            <a:off x="45720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752480" y="2666880"/>
            <a:ext cx="6098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ov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-8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ov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rando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model at tim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ov assum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each state is dependent only on the previou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85480" indent="-56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cy given by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al prob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ove is actually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st-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kov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85760" indent="-7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’th-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kov ch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Edittex"/>
          <p:cNvPicPr/>
          <p:nvPr/>
        </p:nvPicPr>
        <p:blipFill>
          <a:blip r:embed="rId1"/>
          <a:stretch/>
        </p:blipFill>
        <p:spPr>
          <a:xfrm>
            <a:off x="1828800" y="2835360"/>
            <a:ext cx="457200" cy="288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2895480" y="2666880"/>
            <a:ext cx="6098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038480" y="2666880"/>
            <a:ext cx="6098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6324480" y="2666880"/>
            <a:ext cx="6098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9" descr="Edittex"/>
          <p:cNvPicPr/>
          <p:nvPr/>
        </p:nvPicPr>
        <p:blipFill>
          <a:blip r:embed="rId2"/>
          <a:stretch/>
        </p:blipFill>
        <p:spPr>
          <a:xfrm>
            <a:off x="2962440" y="2830680"/>
            <a:ext cx="477720" cy="29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Edittex"/>
          <p:cNvPicPr/>
          <p:nvPr/>
        </p:nvPicPr>
        <p:blipFill>
          <a:blip r:embed="rId3"/>
          <a:stretch/>
        </p:blipFill>
        <p:spPr>
          <a:xfrm>
            <a:off x="4105440" y="2819520"/>
            <a:ext cx="477720" cy="311040"/>
          </a:xfrm>
          <a:prstGeom prst="rect">
            <a:avLst/>
          </a:prstGeom>
          <a:ln w="0">
            <a:noFill/>
          </a:ln>
        </p:spPr>
      </p:pic>
      <p:sp>
        <p:nvSpPr>
          <p:cNvPr id="168" name="Line 11"/>
          <p:cNvSpPr/>
          <p:nvPr/>
        </p:nvSpPr>
        <p:spPr>
          <a:xfrm>
            <a:off x="24382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35812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47242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5181480" y="2666880"/>
            <a:ext cx="6098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5" descr="Edittex"/>
          <p:cNvPicPr/>
          <p:nvPr/>
        </p:nvPicPr>
        <p:blipFill>
          <a:blip r:embed="rId4"/>
          <a:stretch/>
        </p:blipFill>
        <p:spPr>
          <a:xfrm>
            <a:off x="5248440" y="2830680"/>
            <a:ext cx="477720" cy="290520"/>
          </a:xfrm>
          <a:prstGeom prst="rect">
            <a:avLst/>
          </a:prstGeom>
          <a:ln w="0">
            <a:noFill/>
          </a:ln>
        </p:spPr>
      </p:pic>
      <p:sp>
        <p:nvSpPr>
          <p:cNvPr id="173" name="Line 16"/>
          <p:cNvSpPr/>
          <p:nvPr/>
        </p:nvSpPr>
        <p:spPr>
          <a:xfrm>
            <a:off x="58672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7" descr="Edittex"/>
          <p:cNvPicPr/>
          <p:nvPr/>
        </p:nvPicPr>
        <p:blipFill>
          <a:blip r:embed="rId5"/>
          <a:stretch/>
        </p:blipFill>
        <p:spPr>
          <a:xfrm>
            <a:off x="6391440" y="2819520"/>
            <a:ext cx="477720" cy="311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Edittex"/>
          <p:cNvPicPr/>
          <p:nvPr/>
        </p:nvPicPr>
        <p:blipFill>
          <a:blip r:embed="rId6"/>
          <a:stretch/>
        </p:blipFill>
        <p:spPr>
          <a:xfrm>
            <a:off x="5337000" y="1522440"/>
            <a:ext cx="2054520" cy="230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Edittex"/>
          <p:cNvPicPr/>
          <p:nvPr/>
        </p:nvPicPr>
        <p:blipFill>
          <a:blip r:embed="rId7"/>
          <a:stretch/>
        </p:blipFill>
        <p:spPr>
          <a:xfrm>
            <a:off x="1515960" y="2131920"/>
            <a:ext cx="312840" cy="230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Edittex"/>
          <p:cNvPicPr/>
          <p:nvPr/>
        </p:nvPicPr>
        <p:blipFill>
          <a:blip r:embed="rId8"/>
          <a:stretch/>
        </p:blipFill>
        <p:spPr>
          <a:xfrm>
            <a:off x="2895480" y="4724280"/>
            <a:ext cx="1952640" cy="42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Edittex"/>
          <p:cNvPicPr/>
          <p:nvPr/>
        </p:nvPicPr>
        <p:blipFill>
          <a:blip r:embed="rId9"/>
          <a:stretch/>
        </p:blipFill>
        <p:spPr>
          <a:xfrm>
            <a:off x="2133720" y="6248520"/>
            <a:ext cx="38844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33520" y="9907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rkov random field (MRF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ation of Markov chains to two or more dimen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order MR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that pix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kes a certain value given the values of neighbo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4952880" y="2743200"/>
            <a:ext cx="1371600" cy="1371600"/>
            <a:chOff x="4952880" y="2743200"/>
            <a:chExt cx="1371600" cy="1371600"/>
          </a:xfrm>
        </p:grpSpPr>
        <p:sp>
          <p:nvSpPr>
            <p:cNvPr id="182" name="Rectangle 5"/>
            <p:cNvSpPr/>
            <p:nvPr/>
          </p:nvSpPr>
          <p:spPr>
            <a:xfrm>
              <a:off x="4952880" y="32004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6"/>
            <p:cNvSpPr/>
            <p:nvPr/>
          </p:nvSpPr>
          <p:spPr>
            <a:xfrm>
              <a:off x="5410080" y="36576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5410080" y="32004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8"/>
            <p:cNvSpPr/>
            <p:nvPr/>
          </p:nvSpPr>
          <p:spPr>
            <a:xfrm>
              <a:off x="5410080" y="27432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5867280" y="32004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0"/>
          <p:cNvGrpSpPr/>
          <p:nvPr/>
        </p:nvGrpSpPr>
        <p:grpSpPr>
          <a:xfrm>
            <a:off x="685800" y="4038480"/>
            <a:ext cx="7772400" cy="2667240"/>
            <a:chOff x="685800" y="4038480"/>
            <a:chExt cx="7772400" cy="2667240"/>
          </a:xfrm>
        </p:grpSpPr>
        <p:sp>
          <p:nvSpPr>
            <p:cNvPr id="188" name="Rectangle 11"/>
            <p:cNvSpPr/>
            <p:nvPr/>
          </p:nvSpPr>
          <p:spPr>
            <a:xfrm>
              <a:off x="22860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2"/>
            <p:cNvSpPr/>
            <p:nvPr/>
          </p:nvSpPr>
          <p:spPr>
            <a:xfrm>
              <a:off x="1828800" y="4876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3"/>
            <p:cNvSpPr/>
            <p:nvPr/>
          </p:nvSpPr>
          <p:spPr>
            <a:xfrm>
              <a:off x="2286000" y="4876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4"/>
            <p:cNvSpPr/>
            <p:nvPr/>
          </p:nvSpPr>
          <p:spPr>
            <a:xfrm>
              <a:off x="2743200" y="4876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5"/>
            <p:cNvSpPr/>
            <p:nvPr/>
          </p:nvSpPr>
          <p:spPr>
            <a:xfrm>
              <a:off x="27432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6"/>
            <p:cNvSpPr/>
            <p:nvPr/>
          </p:nvSpPr>
          <p:spPr>
            <a:xfrm>
              <a:off x="18288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7"/>
            <p:cNvSpPr/>
            <p:nvPr/>
          </p:nvSpPr>
          <p:spPr>
            <a:xfrm>
              <a:off x="2286000" y="5791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8"/>
            <p:cNvSpPr/>
            <p:nvPr/>
          </p:nvSpPr>
          <p:spPr>
            <a:xfrm>
              <a:off x="2743200" y="5791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9"/>
            <p:cNvSpPr/>
            <p:nvPr/>
          </p:nvSpPr>
          <p:spPr>
            <a:xfrm>
              <a:off x="1828800" y="5791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50292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1"/>
            <p:cNvSpPr/>
            <p:nvPr/>
          </p:nvSpPr>
          <p:spPr>
            <a:xfrm>
              <a:off x="4572000" y="4876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22"/>
            <p:cNvSpPr/>
            <p:nvPr/>
          </p:nvSpPr>
          <p:spPr>
            <a:xfrm>
              <a:off x="5029200" y="4876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23"/>
            <p:cNvSpPr/>
            <p:nvPr/>
          </p:nvSpPr>
          <p:spPr>
            <a:xfrm>
              <a:off x="5486400" y="4876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24"/>
            <p:cNvSpPr/>
            <p:nvPr/>
          </p:nvSpPr>
          <p:spPr>
            <a:xfrm>
              <a:off x="54864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25"/>
            <p:cNvSpPr/>
            <p:nvPr/>
          </p:nvSpPr>
          <p:spPr>
            <a:xfrm>
              <a:off x="45720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26"/>
            <p:cNvSpPr/>
            <p:nvPr/>
          </p:nvSpPr>
          <p:spPr>
            <a:xfrm>
              <a:off x="5029200" y="5791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5486400" y="5791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4572000" y="5791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41148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5029200" y="4419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>
              <a:off x="5943600" y="5334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>
              <a:off x="5029200" y="6248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33"/>
            <p:cNvSpPr/>
            <p:nvPr/>
          </p:nvSpPr>
          <p:spPr>
            <a:xfrm>
              <a:off x="685800" y="4038480"/>
              <a:ext cx="7772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igher order MRF’s have larger neighborhoo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Picture 34" descr="Edittex"/>
          <p:cNvPicPr/>
          <p:nvPr/>
        </p:nvPicPr>
        <p:blipFill>
          <a:blip r:embed="rId1"/>
          <a:stretch/>
        </p:blipFill>
        <p:spPr>
          <a:xfrm>
            <a:off x="2033640" y="3360600"/>
            <a:ext cx="215748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ture Synthesis </a:t>
            </a:r>
            <a:r>
              <a:rPr b="0" lang="en-US" sz="3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[Efros &amp; Leung, ICCV 99]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pply 2D version of text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447920" y="2590920"/>
            <a:ext cx="6400440" cy="3619080"/>
            <a:chOff x="1447920" y="2590920"/>
            <a:chExt cx="6400440" cy="3619080"/>
          </a:xfrm>
        </p:grpSpPr>
        <p:pic>
          <p:nvPicPr>
            <p:cNvPr id="215" name="Picture 5" descr=""/>
            <p:cNvPicPr/>
            <p:nvPr/>
          </p:nvPicPr>
          <p:blipFill>
            <a:blip r:embed="rId2"/>
            <a:stretch/>
          </p:blipFill>
          <p:spPr>
            <a:xfrm>
              <a:off x="1447920" y="4153320"/>
              <a:ext cx="2835000" cy="20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6" descr=""/>
            <p:cNvPicPr/>
            <p:nvPr/>
          </p:nvPicPr>
          <p:blipFill>
            <a:blip r:embed="rId3"/>
            <a:stretch/>
          </p:blipFill>
          <p:spPr>
            <a:xfrm>
              <a:off x="2242800" y="2926080"/>
              <a:ext cx="1316160" cy="87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7" descr=""/>
            <p:cNvPicPr/>
            <p:nvPr/>
          </p:nvPicPr>
          <p:blipFill>
            <a:blip r:embed="rId4"/>
            <a:stretch/>
          </p:blipFill>
          <p:spPr>
            <a:xfrm>
              <a:off x="5013360" y="4153320"/>
              <a:ext cx="2835000" cy="20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8" descr=""/>
            <p:cNvPicPr/>
            <p:nvPr/>
          </p:nvPicPr>
          <p:blipFill>
            <a:blip r:embed="rId5"/>
            <a:stretch/>
          </p:blipFill>
          <p:spPr>
            <a:xfrm>
              <a:off x="5832000" y="2934000"/>
              <a:ext cx="1272240" cy="8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Freeform 9"/>
            <p:cNvSpPr/>
            <p:nvPr/>
          </p:nvSpPr>
          <p:spPr>
            <a:xfrm>
              <a:off x="2768400" y="3861000"/>
              <a:ext cx="325800" cy="236160"/>
            </a:xfrm>
            <a:custGeom>
              <a:avLst/>
              <a:gdLst/>
              <a:ahLst/>
              <a:rect l="l" t="t" r="r" b="b"/>
              <a:pathLst>
                <a:path w="1051" h="1051">
                  <a:moveTo>
                    <a:pt x="787" y="0"/>
                  </a:moveTo>
                  <a:lnTo>
                    <a:pt x="263" y="0"/>
                  </a:lnTo>
                  <a:lnTo>
                    <a:pt x="263" y="787"/>
                  </a:lnTo>
                  <a:lnTo>
                    <a:pt x="0" y="787"/>
                  </a:lnTo>
                  <a:lnTo>
                    <a:pt x="525" y="1050"/>
                  </a:lnTo>
                  <a:lnTo>
                    <a:pt x="1050" y="787"/>
                  </a:lnTo>
                  <a:lnTo>
                    <a:pt x="787" y="787"/>
                  </a:lnTo>
                  <a:lnTo>
                    <a:pt x="787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6333840" y="3884040"/>
              <a:ext cx="325800" cy="226440"/>
            </a:xfrm>
            <a:custGeom>
              <a:avLst/>
              <a:gdLst/>
              <a:ahLst/>
              <a:rect l="l" t="t" r="r" b="b"/>
              <a:pathLst>
                <a:path w="1051" h="1006">
                  <a:moveTo>
                    <a:pt x="787" y="0"/>
                  </a:moveTo>
                  <a:lnTo>
                    <a:pt x="263" y="0"/>
                  </a:lnTo>
                  <a:lnTo>
                    <a:pt x="263" y="754"/>
                  </a:lnTo>
                  <a:lnTo>
                    <a:pt x="0" y="754"/>
                  </a:lnTo>
                  <a:lnTo>
                    <a:pt x="525" y="1005"/>
                  </a:lnTo>
                  <a:lnTo>
                    <a:pt x="1050" y="754"/>
                  </a:lnTo>
                  <a:lnTo>
                    <a:pt x="787" y="754"/>
                  </a:lnTo>
                  <a:lnTo>
                    <a:pt x="787" y="0"/>
                  </a:lnTo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2505600" y="2590920"/>
              <a:ext cx="182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2"/>
            <p:cNvSpPr/>
            <p:nvPr/>
          </p:nvSpPr>
          <p:spPr>
            <a:xfrm>
              <a:off x="6056280" y="25909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Object 2"/>
          <p:cNvGraphicFramePr/>
          <p:nvPr/>
        </p:nvGraphicFramePr>
        <p:xfrm>
          <a:off x="1338120" y="1271520"/>
          <a:ext cx="17100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8120" y="1271520"/>
                    <a:ext cx="1710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224560" cy="9144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5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ynthesizing One Pix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147680" y="3100320"/>
            <a:ext cx="2205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61000"/>
              </a:lnSpc>
              <a:spcBef>
                <a:spcPts val="513"/>
              </a:spcBef>
              <a:tabLst>
                <a:tab algn="l" pos="0"/>
                <a:tab algn="l" pos="771480"/>
                <a:tab algn="l" pos="1542960"/>
                <a:tab algn="l" pos="1940040"/>
                <a:tab algn="l" pos="20527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ample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4648320" y="2438280"/>
            <a:ext cx="1519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2138400" y="2343240"/>
            <a:ext cx="299880" cy="376200"/>
          </a:xfrm>
          <a:custGeom>
            <a:avLst/>
            <a:gdLst>
              <a:gd name="textAreaLeft" fmla="*/ 360 w 299880"/>
              <a:gd name="textAreaRight" fmla="*/ 299520 w 299880"/>
              <a:gd name="textAreaTop" fmla="*/ 360 h 376200"/>
              <a:gd name="textAreaBottom" fmla="*/ 375840 h 376200"/>
            </a:gdLst>
            <a:ahLst/>
            <a:rect l="textAreaLeft" t="textAreaTop" r="textAreaRight" b="textAreaBottom"/>
            <a:pathLst>
              <a:path w="21600" h="27091">
                <a:moveTo>
                  <a:pt x="113" y="0"/>
                </a:moveTo>
                <a:arcTo wR="113" hR="113" stAng="16200000" swAng="-5400000"/>
                <a:lnTo>
                  <a:pt x="0" y="26978"/>
                </a:lnTo>
                <a:arcTo wR="113" hR="113" stAng="10800000" swAng="-5400000"/>
                <a:lnTo>
                  <a:pt x="21487" y="27091"/>
                </a:lnTo>
                <a:arcTo wR="113" hR="113" stAng="5400000" swAng="-5400000"/>
                <a:lnTo>
                  <a:pt x="21600" y="113"/>
                </a:lnTo>
                <a:arcTo wR="113" hR="113" stAng="0" swAng="-5400000"/>
                <a:close/>
              </a:path>
            </a:pathLst>
          </a:cu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990800" y="1657440"/>
            <a:ext cx="299880" cy="376200"/>
          </a:xfrm>
          <a:custGeom>
            <a:avLst/>
            <a:gdLst>
              <a:gd name="textAreaLeft" fmla="*/ 360 w 299880"/>
              <a:gd name="textAreaRight" fmla="*/ 299520 w 299880"/>
              <a:gd name="textAreaTop" fmla="*/ 360 h 376200"/>
              <a:gd name="textAreaBottom" fmla="*/ 375840 h 376200"/>
            </a:gdLst>
            <a:ahLst/>
            <a:rect l="textAreaLeft" t="textAreaTop" r="textAreaRight" b="textAreaBottom"/>
            <a:pathLst>
              <a:path w="21600" h="27091">
                <a:moveTo>
                  <a:pt x="113" y="0"/>
                </a:moveTo>
                <a:arcTo wR="113" hR="113" stAng="16200000" swAng="-5400000"/>
                <a:lnTo>
                  <a:pt x="0" y="26978"/>
                </a:lnTo>
                <a:arcTo wR="113" hR="113" stAng="10800000" swAng="-5400000"/>
                <a:lnTo>
                  <a:pt x="21487" y="27091"/>
                </a:lnTo>
                <a:arcTo wR="113" hR="113" stAng="5400000" swAng="-5400000"/>
                <a:lnTo>
                  <a:pt x="21600" y="113"/>
                </a:lnTo>
                <a:arcTo wR="113" hR="113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5257800" y="3633840"/>
            <a:ext cx="2538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61000"/>
              </a:lnSpc>
              <a:spcBef>
                <a:spcPts val="513"/>
              </a:spcBef>
              <a:tabLst>
                <a:tab algn="l" pos="0"/>
                <a:tab algn="l" pos="771480"/>
                <a:tab algn="l" pos="1542960"/>
                <a:tab algn="l" pos="1940040"/>
                <a:tab algn="l" pos="20527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rate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4272120"/>
            <a:ext cx="8534520" cy="23572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lvl="1" marL="5716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                                                               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all the windows in the image that match the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ider only pixels in the neighborhood that are already fille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synthesiz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ick one matching window a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sign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be the center pixel of that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1757520" y="2114640"/>
            <a:ext cx="299880" cy="376200"/>
          </a:xfrm>
          <a:custGeom>
            <a:avLst/>
            <a:gdLst>
              <a:gd name="textAreaLeft" fmla="*/ 360 w 299880"/>
              <a:gd name="textAreaRight" fmla="*/ 299520 w 299880"/>
              <a:gd name="textAreaTop" fmla="*/ 360 h 376200"/>
              <a:gd name="textAreaBottom" fmla="*/ 375840 h 376200"/>
            </a:gdLst>
            <a:ahLst/>
            <a:rect l="textAreaLeft" t="textAreaTop" r="textAreaRight" b="textAreaBottom"/>
            <a:pathLst>
              <a:path w="21600" h="27091">
                <a:moveTo>
                  <a:pt x="113" y="0"/>
                </a:moveTo>
                <a:arcTo wR="113" hR="113" stAng="16200000" swAng="-5400000"/>
                <a:lnTo>
                  <a:pt x="0" y="26978"/>
                </a:lnTo>
                <a:arcTo wR="113" hR="113" stAng="10800000" swAng="-5400000"/>
                <a:lnTo>
                  <a:pt x="21487" y="27091"/>
                </a:lnTo>
                <a:arcTo wR="113" hR="113" stAng="5400000" swAng="-5400000"/>
                <a:lnTo>
                  <a:pt x="21600" y="113"/>
                </a:lnTo>
                <a:arcTo wR="113" hR="113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3357720" y="26020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3209040" y="195732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Object 13"/>
          <p:cNvGraphicFramePr/>
          <p:nvPr/>
        </p:nvGraphicFramePr>
        <p:xfrm>
          <a:off x="5415120" y="1143000"/>
          <a:ext cx="2485800" cy="24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5120" y="1143000"/>
                    <a:ext cx="24858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AutoShape 14"/>
          <p:cNvSpPr/>
          <p:nvPr/>
        </p:nvSpPr>
        <p:spPr>
          <a:xfrm>
            <a:off x="5872320" y="2643120"/>
            <a:ext cx="223560" cy="223920"/>
          </a:xfrm>
          <a:custGeom>
            <a:avLst/>
            <a:gdLst>
              <a:gd name="textAreaLeft" fmla="*/ 360 w 223560"/>
              <a:gd name="textAreaRight" fmla="*/ 223200 w 223560"/>
              <a:gd name="textAreaTop" fmla="*/ 360 h 223920"/>
              <a:gd name="textAreaBottom" fmla="*/ 223560 h 223920"/>
            </a:gdLst>
            <a:ahLst/>
            <a:rect l="textAreaLeft" t="textAreaTop" r="textAreaRight" b="textAreaBottom"/>
            <a:pathLst>
              <a:path w="21600" h="21635">
                <a:moveTo>
                  <a:pt x="152" y="0"/>
                </a:moveTo>
                <a:arcTo wR="152" hR="152" stAng="16200000" swAng="-5400000"/>
                <a:lnTo>
                  <a:pt x="0" y="21483"/>
                </a:lnTo>
                <a:arcTo wR="152" hR="152" stAng="10800000" swAng="-5400000"/>
                <a:lnTo>
                  <a:pt x="21448" y="21635"/>
                </a:lnTo>
                <a:arcTo wR="152" hR="152" stAng="5400000" swAng="-5400000"/>
                <a:lnTo>
                  <a:pt x="21600" y="152"/>
                </a:lnTo>
                <a:arcTo wR="152" hR="152" stAng="0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5186520" y="2033640"/>
            <a:ext cx="1519200" cy="1442880"/>
          </a:xfrm>
          <a:prstGeom prst="roundRect">
            <a:avLst>
              <a:gd name="adj" fmla="val 106"/>
            </a:avLst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568840" y="25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324480" y="6858000"/>
            <a:ext cx="381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18" descr="Edittex"/>
          <p:cNvPicPr/>
          <p:nvPr/>
        </p:nvPicPr>
        <p:blipFill>
          <a:blip r:embed="rId5"/>
          <a:stretch/>
        </p:blipFill>
        <p:spPr>
          <a:xfrm>
            <a:off x="2133720" y="4419720"/>
            <a:ext cx="5029200" cy="2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415120" y="1143000"/>
            <a:ext cx="2485800" cy="24145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6440" y="76320"/>
            <a:ext cx="8224920" cy="9144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5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ally Synthesizing One Pix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1528920" y="1676520"/>
            <a:ext cx="1334880" cy="136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" name="Text Box 5"/>
          <p:cNvSpPr/>
          <p:nvPr/>
        </p:nvSpPr>
        <p:spPr>
          <a:xfrm>
            <a:off x="1300320" y="3129120"/>
            <a:ext cx="2205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61000"/>
              </a:lnSpc>
              <a:spcBef>
                <a:spcPts val="513"/>
              </a:spcBef>
              <a:tabLst>
                <a:tab algn="l" pos="0"/>
                <a:tab algn="l" pos="771480"/>
                <a:tab algn="l" pos="1542960"/>
                <a:tab algn="l" pos="1940040"/>
                <a:tab algn="l" pos="20527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ample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4648320" y="2666880"/>
            <a:ext cx="1519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438280" y="2443320"/>
            <a:ext cx="300240" cy="376200"/>
          </a:xfrm>
          <a:custGeom>
            <a:avLst/>
            <a:gdLst>
              <a:gd name="textAreaLeft" fmla="*/ 360 w 300240"/>
              <a:gd name="textAreaRight" fmla="*/ 299880 w 300240"/>
              <a:gd name="textAreaTop" fmla="*/ 360 h 376200"/>
              <a:gd name="textAreaBottom" fmla="*/ 375840 h 376200"/>
            </a:gdLst>
            <a:ahLst/>
            <a:rect l="textAreaLeft" t="textAreaTop" r="textAreaRight" b="textAreaBottom"/>
            <a:pathLst>
              <a:path w="21600" h="27058">
                <a:moveTo>
                  <a:pt x="113" y="0"/>
                </a:moveTo>
                <a:arcTo wR="113" hR="113" stAng="16200000" swAng="-5400000"/>
                <a:lnTo>
                  <a:pt x="0" y="26945"/>
                </a:lnTo>
                <a:arcTo wR="113" hR="113" stAng="10800000" swAng="-5400000"/>
                <a:lnTo>
                  <a:pt x="21487" y="27058"/>
                </a:lnTo>
                <a:arcTo wR="113" hR="113" stAng="5400000" swAng="-5400000"/>
                <a:lnTo>
                  <a:pt x="21600" y="113"/>
                </a:lnTo>
                <a:arcTo wR="113" hR="113" stAng="0" swAng="-5400000"/>
                <a:close/>
              </a:path>
            </a:pathLst>
          </a:cu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2214720" y="1757520"/>
            <a:ext cx="299880" cy="376200"/>
          </a:xfrm>
          <a:custGeom>
            <a:avLst/>
            <a:gdLst>
              <a:gd name="textAreaLeft" fmla="*/ 360 w 299880"/>
              <a:gd name="textAreaRight" fmla="*/ 299520 w 299880"/>
              <a:gd name="textAreaTop" fmla="*/ 360 h 376200"/>
              <a:gd name="textAreaBottom" fmla="*/ 375840 h 376200"/>
            </a:gdLst>
            <a:ahLst/>
            <a:rect l="textAreaLeft" t="textAreaTop" r="textAreaRight" b="textAreaBottom"/>
            <a:pathLst>
              <a:path w="21600" h="27091">
                <a:moveTo>
                  <a:pt x="113" y="0"/>
                </a:moveTo>
                <a:arcTo wR="113" hR="113" stAng="16200000" swAng="-5400000"/>
                <a:lnTo>
                  <a:pt x="0" y="26978"/>
                </a:lnTo>
                <a:arcTo wR="113" hR="113" stAng="10800000" swAng="-5400000"/>
                <a:lnTo>
                  <a:pt x="21487" y="27091"/>
                </a:lnTo>
                <a:arcTo wR="113" hR="113" stAng="5400000" swAng="-5400000"/>
                <a:lnTo>
                  <a:pt x="21600" y="113"/>
                </a:lnTo>
                <a:arcTo wR="113" hR="113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3352680" y="27781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228600" y="4038120"/>
            <a:ext cx="9367920" cy="2357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1523880" y="2057400"/>
            <a:ext cx="300240" cy="376200"/>
          </a:xfrm>
          <a:custGeom>
            <a:avLst/>
            <a:gdLst>
              <a:gd name="textAreaLeft" fmla="*/ 360 w 300240"/>
              <a:gd name="textAreaRight" fmla="*/ 299880 w 300240"/>
              <a:gd name="textAreaTop" fmla="*/ 360 h 376200"/>
              <a:gd name="textAreaBottom" fmla="*/ 375840 h 376200"/>
            </a:gdLst>
            <a:ahLst/>
            <a:rect l="textAreaLeft" t="textAreaTop" r="textAreaRight" b="textAreaBottom"/>
            <a:pathLst>
              <a:path w="21600" h="27058">
                <a:moveTo>
                  <a:pt x="113" y="0"/>
                </a:moveTo>
                <a:arcTo wR="113" hR="113" stAng="16200000" swAng="-5400000"/>
                <a:lnTo>
                  <a:pt x="0" y="26945"/>
                </a:lnTo>
                <a:arcTo wR="113" hR="113" stAng="10800000" swAng="-5400000"/>
                <a:lnTo>
                  <a:pt x="21487" y="27058"/>
                </a:lnTo>
                <a:arcTo wR="113" hR="113" stAng="5400000" swAng="-5400000"/>
                <a:lnTo>
                  <a:pt x="21600" y="113"/>
                </a:lnTo>
                <a:arcTo wR="113" hR="113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52280" y="4191120"/>
            <a:ext cx="86868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xact neighbourhood match might not be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 we find th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e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atches using SSD error and randomly choose between them, preferring better matches with higher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204360" y="213372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14"/>
          <p:cNvSpPr/>
          <p:nvPr/>
        </p:nvSpPr>
        <p:spPr>
          <a:xfrm>
            <a:off x="4648320" y="2438280"/>
            <a:ext cx="1519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5257800" y="3633840"/>
            <a:ext cx="2538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61000"/>
              </a:lnSpc>
              <a:spcBef>
                <a:spcPts val="513"/>
              </a:spcBef>
              <a:tabLst>
                <a:tab algn="l" pos="0"/>
                <a:tab algn="l" pos="771480"/>
                <a:tab algn="l" pos="1542960"/>
                <a:tab algn="l" pos="1940040"/>
                <a:tab algn="l" pos="20527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rated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16"/>
          <p:cNvSpPr/>
          <p:nvPr/>
        </p:nvSpPr>
        <p:spPr>
          <a:xfrm>
            <a:off x="5872320" y="2643120"/>
            <a:ext cx="223560" cy="223920"/>
          </a:xfrm>
          <a:custGeom>
            <a:avLst/>
            <a:gdLst>
              <a:gd name="textAreaLeft" fmla="*/ 360 w 223560"/>
              <a:gd name="textAreaRight" fmla="*/ 223200 w 223560"/>
              <a:gd name="textAreaTop" fmla="*/ 360 h 223920"/>
              <a:gd name="textAreaBottom" fmla="*/ 223560 h 223920"/>
            </a:gdLst>
            <a:ahLst/>
            <a:rect l="textAreaLeft" t="textAreaTop" r="textAreaRight" b="textAreaBottom"/>
            <a:pathLst>
              <a:path w="21600" h="21635">
                <a:moveTo>
                  <a:pt x="152" y="0"/>
                </a:moveTo>
                <a:arcTo wR="152" hR="152" stAng="16200000" swAng="-5400000"/>
                <a:lnTo>
                  <a:pt x="0" y="21483"/>
                </a:lnTo>
                <a:arcTo wR="152" hR="152" stAng="10800000" swAng="-5400000"/>
                <a:lnTo>
                  <a:pt x="21448" y="21635"/>
                </a:lnTo>
                <a:arcTo wR="152" hR="152" stAng="5400000" swAng="-5400000"/>
                <a:lnTo>
                  <a:pt x="21600" y="152"/>
                </a:lnTo>
                <a:arcTo wR="152" hR="152" stAng="0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7"/>
          <p:cNvSpPr/>
          <p:nvPr/>
        </p:nvSpPr>
        <p:spPr>
          <a:xfrm>
            <a:off x="5186520" y="2033640"/>
            <a:ext cx="1519200" cy="1442880"/>
          </a:xfrm>
          <a:prstGeom prst="roundRect">
            <a:avLst>
              <a:gd name="adj" fmla="val 106"/>
            </a:avLst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5568840" y="25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6440" y="152280"/>
            <a:ext cx="8224920" cy="7574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5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owing Tex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228600" y="4038120"/>
            <a:ext cx="9367920" cy="2357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28600" y="42670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rting from the initial image,  “grow” the texture one pixel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start"/>
          <p:cNvPicPr/>
          <p:nvPr/>
        </p:nvPicPr>
        <p:blipFill>
          <a:blip r:embed="rId1"/>
          <a:stretch/>
        </p:blipFill>
        <p:spPr>
          <a:xfrm>
            <a:off x="380880" y="1295280"/>
            <a:ext cx="2440080" cy="2492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3"/>
          <p:cNvPicPr/>
          <p:nvPr/>
        </p:nvPicPr>
        <p:blipFill>
          <a:blip r:embed="rId2"/>
          <a:stretch/>
        </p:blipFill>
        <p:spPr>
          <a:xfrm>
            <a:off x="3340080" y="1295280"/>
            <a:ext cx="2451240" cy="2489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5"/>
          <p:cNvPicPr/>
          <p:nvPr/>
        </p:nvPicPr>
        <p:blipFill>
          <a:blip r:embed="rId3"/>
          <a:stretch/>
        </p:blipFill>
        <p:spPr>
          <a:xfrm>
            <a:off x="6311880" y="1295280"/>
            <a:ext cx="2451240" cy="24894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8"/>
          <p:cNvSpPr/>
          <p:nvPr/>
        </p:nvSpPr>
        <p:spPr>
          <a:xfrm>
            <a:off x="2971800" y="2438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5867280" y="2438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 Size Controls Regu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2819520" y="160668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76320" y="4282920"/>
            <a:ext cx="3047760" cy="2422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3"/>
          <a:stretch/>
        </p:blipFill>
        <p:spPr>
          <a:xfrm>
            <a:off x="2971800" y="4282920"/>
            <a:ext cx="3048120" cy="2422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"/>
          <p:cNvPicPr/>
          <p:nvPr/>
        </p:nvPicPr>
        <p:blipFill>
          <a:blip r:embed="rId4"/>
          <a:stretch/>
        </p:blipFill>
        <p:spPr>
          <a:xfrm>
            <a:off x="5867280" y="4284720"/>
            <a:ext cx="3048120" cy="2421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5"/>
          <a:stretch/>
        </p:blipFill>
        <p:spPr>
          <a:xfrm>
            <a:off x="5867280" y="1995480"/>
            <a:ext cx="3048120" cy="2424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"/>
          <p:cNvPicPr/>
          <p:nvPr/>
        </p:nvPicPr>
        <p:blipFill>
          <a:blip r:embed="rId6"/>
          <a:stretch/>
        </p:blipFill>
        <p:spPr>
          <a:xfrm>
            <a:off x="990720" y="2286000"/>
            <a:ext cx="1066680" cy="10652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3809880" y="2590920"/>
            <a:ext cx="838440" cy="7617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809880" y="2590920"/>
            <a:ext cx="60984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3809880" y="2590920"/>
            <a:ext cx="457200" cy="4572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3809880" y="2590920"/>
            <a:ext cx="30492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3"/>
          <p:cNvSpPr/>
          <p:nvPr/>
        </p:nvSpPr>
        <p:spPr>
          <a:xfrm flipH="1">
            <a:off x="1371240" y="2895480"/>
            <a:ext cx="2590920" cy="15242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4"/>
          <p:cNvSpPr/>
          <p:nvPr/>
        </p:nvSpPr>
        <p:spPr>
          <a:xfrm>
            <a:off x="4038480" y="3048120"/>
            <a:ext cx="0" cy="13716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5"/>
          <p:cNvSpPr/>
          <p:nvPr/>
        </p:nvSpPr>
        <p:spPr>
          <a:xfrm>
            <a:off x="4267080" y="3200400"/>
            <a:ext cx="1828800" cy="1219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6"/>
          <p:cNvSpPr/>
          <p:nvPr/>
        </p:nvSpPr>
        <p:spPr>
          <a:xfrm>
            <a:off x="4648320" y="2971800"/>
            <a:ext cx="1371600" cy="15228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re Synthesis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76320" y="53028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380880" y="1368360"/>
            <a:ext cx="2133720" cy="2109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3"/>
          <a:stretch/>
        </p:blipFill>
        <p:spPr>
          <a:xfrm>
            <a:off x="2438280" y="1368360"/>
            <a:ext cx="2132280" cy="2095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4497480" y="1368360"/>
            <a:ext cx="2131920" cy="2095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5"/>
          <a:stretch/>
        </p:blipFill>
        <p:spPr>
          <a:xfrm>
            <a:off x="6553080" y="1368360"/>
            <a:ext cx="2133720" cy="2097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"/>
          <p:cNvPicPr/>
          <p:nvPr/>
        </p:nvPicPr>
        <p:blipFill>
          <a:blip r:embed="rId6"/>
          <a:stretch/>
        </p:blipFill>
        <p:spPr>
          <a:xfrm>
            <a:off x="228600" y="3578400"/>
            <a:ext cx="838080" cy="603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"/>
          <p:cNvPicPr/>
          <p:nvPr/>
        </p:nvPicPr>
        <p:blipFill>
          <a:blip r:embed="rId7"/>
          <a:stretch/>
        </p:blipFill>
        <p:spPr>
          <a:xfrm>
            <a:off x="914400" y="4264200"/>
            <a:ext cx="2438280" cy="1755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"/>
          <p:cNvPicPr/>
          <p:nvPr/>
        </p:nvPicPr>
        <p:blipFill>
          <a:blip r:embed="rId8"/>
          <a:stretch/>
        </p:blipFill>
        <p:spPr>
          <a:xfrm>
            <a:off x="3505320" y="4264200"/>
            <a:ext cx="2438280" cy="1753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"/>
          <p:cNvPicPr/>
          <p:nvPr/>
        </p:nvPicPr>
        <p:blipFill>
          <a:blip r:embed="rId9"/>
          <a:stretch/>
        </p:blipFill>
        <p:spPr>
          <a:xfrm>
            <a:off x="6095880" y="4264200"/>
            <a:ext cx="2370240" cy="17524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2"/>
          <p:cNvSpPr/>
          <p:nvPr/>
        </p:nvSpPr>
        <p:spPr>
          <a:xfrm>
            <a:off x="1225080" y="350532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4572000" y="377028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re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762120" y="3241800"/>
            <a:ext cx="3423960" cy="33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2057400" y="1609560"/>
            <a:ext cx="1062000" cy="1025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"/>
          <p:cNvPicPr/>
          <p:nvPr/>
        </p:nvPicPr>
        <p:blipFill>
          <a:blip r:embed="rId3"/>
          <a:stretch/>
        </p:blipFill>
        <p:spPr>
          <a:xfrm>
            <a:off x="4952880" y="3203640"/>
            <a:ext cx="3500640" cy="3346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4"/>
          <a:stretch/>
        </p:blipFill>
        <p:spPr>
          <a:xfrm>
            <a:off x="6110280" y="1581120"/>
            <a:ext cx="1062000" cy="1014480"/>
          </a:xfrm>
          <a:prstGeom prst="rect">
            <a:avLst/>
          </a:prstGeom>
          <a:ln w="0">
            <a:noFill/>
          </a:ln>
        </p:spPr>
      </p:pic>
      <p:sp>
        <p:nvSpPr>
          <p:cNvPr id="299" name="Freeform 7"/>
          <p:cNvSpPr/>
          <p:nvPr/>
        </p:nvSpPr>
        <p:spPr>
          <a:xfrm>
            <a:off x="6491160" y="2735280"/>
            <a:ext cx="376200" cy="385920"/>
          </a:xfrm>
          <a:custGeom>
            <a:avLst/>
            <a:gdLst/>
            <a:ahLst/>
            <a:rect l="l" t="t" r="r" b="b"/>
            <a:pathLst>
              <a:path w="1051" h="1077">
                <a:moveTo>
                  <a:pt x="788" y="0"/>
                </a:moveTo>
                <a:lnTo>
                  <a:pt x="263" y="0"/>
                </a:lnTo>
                <a:lnTo>
                  <a:pt x="263" y="807"/>
                </a:lnTo>
                <a:lnTo>
                  <a:pt x="0" y="807"/>
                </a:lnTo>
                <a:lnTo>
                  <a:pt x="525" y="1076"/>
                </a:lnTo>
                <a:lnTo>
                  <a:pt x="1050" y="807"/>
                </a:lnTo>
                <a:lnTo>
                  <a:pt x="788" y="807"/>
                </a:lnTo>
                <a:lnTo>
                  <a:pt x="788" y="0"/>
                </a:lnTo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8"/>
          <p:cNvSpPr/>
          <p:nvPr/>
        </p:nvSpPr>
        <p:spPr>
          <a:xfrm>
            <a:off x="2460600" y="2766960"/>
            <a:ext cx="376200" cy="385920"/>
          </a:xfrm>
          <a:custGeom>
            <a:avLst/>
            <a:gdLst/>
            <a:ahLst/>
            <a:rect l="l" t="t" r="r" b="b"/>
            <a:pathLst>
              <a:path w="1051" h="1077">
                <a:moveTo>
                  <a:pt x="788" y="0"/>
                </a:moveTo>
                <a:lnTo>
                  <a:pt x="263" y="0"/>
                </a:lnTo>
                <a:lnTo>
                  <a:pt x="263" y="806"/>
                </a:lnTo>
                <a:lnTo>
                  <a:pt x="0" y="806"/>
                </a:lnTo>
                <a:lnTo>
                  <a:pt x="525" y="1076"/>
                </a:lnTo>
                <a:lnTo>
                  <a:pt x="1050" y="806"/>
                </a:lnTo>
                <a:lnTo>
                  <a:pt x="788" y="806"/>
                </a:lnTo>
                <a:lnTo>
                  <a:pt x="788" y="0"/>
                </a:lnTo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5591160" y="1157400"/>
            <a:ext cx="2073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646200"/>
                <a:tab algn="l" pos="1292400"/>
                <a:tab algn="l" pos="1633680"/>
                <a:tab algn="l" pos="1728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uminum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1666800" y="1187280"/>
            <a:ext cx="1698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646200"/>
                <a:tab algn="l" pos="1292400"/>
                <a:tab algn="l" pos="13683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tile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ilur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4876920" y="2971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914400" y="2998800"/>
            <a:ext cx="3173400" cy="31734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5715000" y="1143000"/>
            <a:ext cx="1447920" cy="1197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4"/>
          <a:stretch/>
        </p:blipFill>
        <p:spPr>
          <a:xfrm>
            <a:off x="1828800" y="11732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7"/>
          <p:cNvSpPr/>
          <p:nvPr/>
        </p:nvSpPr>
        <p:spPr>
          <a:xfrm>
            <a:off x="2209680" y="2514600"/>
            <a:ext cx="376200" cy="376200"/>
          </a:xfrm>
          <a:custGeom>
            <a:avLst/>
            <a:gdLst/>
            <a:ahLst/>
            <a:rect l="l" t="t" r="r" b="b"/>
            <a:pathLst>
              <a:path w="1051" h="1051">
                <a:moveTo>
                  <a:pt x="787" y="0"/>
                </a:moveTo>
                <a:lnTo>
                  <a:pt x="263" y="0"/>
                </a:lnTo>
                <a:lnTo>
                  <a:pt x="263" y="787"/>
                </a:lnTo>
                <a:lnTo>
                  <a:pt x="0" y="787"/>
                </a:lnTo>
                <a:lnTo>
                  <a:pt x="525" y="1050"/>
                </a:lnTo>
                <a:lnTo>
                  <a:pt x="1050" y="787"/>
                </a:lnTo>
                <a:lnTo>
                  <a:pt x="787" y="787"/>
                </a:lnTo>
                <a:lnTo>
                  <a:pt x="787" y="0"/>
                </a:lnTo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8"/>
          <p:cNvSpPr/>
          <p:nvPr/>
        </p:nvSpPr>
        <p:spPr>
          <a:xfrm>
            <a:off x="6248520" y="2514600"/>
            <a:ext cx="376200" cy="376200"/>
          </a:xfrm>
          <a:custGeom>
            <a:avLst/>
            <a:gdLst/>
            <a:ahLst/>
            <a:rect l="l" t="t" r="r" b="b"/>
            <a:pathLst>
              <a:path w="1051" h="1051">
                <a:moveTo>
                  <a:pt x="787" y="0"/>
                </a:moveTo>
                <a:lnTo>
                  <a:pt x="263" y="0"/>
                </a:lnTo>
                <a:lnTo>
                  <a:pt x="263" y="787"/>
                </a:lnTo>
                <a:lnTo>
                  <a:pt x="0" y="787"/>
                </a:lnTo>
                <a:lnTo>
                  <a:pt x="525" y="1050"/>
                </a:lnTo>
                <a:lnTo>
                  <a:pt x="1050" y="787"/>
                </a:lnTo>
                <a:lnTo>
                  <a:pt x="787" y="787"/>
                </a:lnTo>
                <a:lnTo>
                  <a:pt x="787" y="0"/>
                </a:lnTo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1372320" y="617220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wing garb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5182200" y="61722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batim cop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imple-edge1"/>
          <p:cNvPicPr/>
          <p:nvPr/>
        </p:nvPicPr>
        <p:blipFill>
          <a:blip r:embed="rId1"/>
          <a:stretch/>
        </p:blipFill>
        <p:spPr>
          <a:xfrm>
            <a:off x="0" y="1220760"/>
            <a:ext cx="4570560" cy="342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imple-edge2"/>
          <p:cNvPicPr/>
          <p:nvPr/>
        </p:nvPicPr>
        <p:blipFill>
          <a:blip r:embed="rId2"/>
          <a:stretch/>
        </p:blipFill>
        <p:spPr>
          <a:xfrm>
            <a:off x="4573440" y="1219320"/>
            <a:ext cx="45705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mage-Based Text 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73120" y="1387440"/>
            <a:ext cx="2386080" cy="2360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3786120" y="1373040"/>
            <a:ext cx="2386080" cy="2360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3"/>
          <a:stretch/>
        </p:blipFill>
        <p:spPr>
          <a:xfrm>
            <a:off x="6300720" y="1373040"/>
            <a:ext cx="2386080" cy="2360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"/>
          <p:cNvPicPr/>
          <p:nvPr/>
        </p:nvPicPr>
        <p:blipFill>
          <a:blip r:embed="rId4"/>
          <a:stretch/>
        </p:blipFill>
        <p:spPr>
          <a:xfrm>
            <a:off x="561960" y="3884760"/>
            <a:ext cx="2416320" cy="25160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3757680" y="3886200"/>
            <a:ext cx="2414520" cy="2514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"/>
          <p:cNvPicPr/>
          <p:nvPr/>
        </p:nvPicPr>
        <p:blipFill>
          <a:blip r:embed="rId6"/>
          <a:stretch/>
        </p:blipFill>
        <p:spPr>
          <a:xfrm>
            <a:off x="6272280" y="3886200"/>
            <a:ext cx="2414520" cy="251460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9"/>
          <p:cNvSpPr/>
          <p:nvPr/>
        </p:nvSpPr>
        <p:spPr>
          <a:xfrm>
            <a:off x="3124080" y="49528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124080" y="23623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nthesis with Gabor filter Represen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ergen and He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868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54372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dependencies in Filter Outpu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responds at one scale, often does at other s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responds at one orientation, often doesn’t at orthogonal ori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 using wavelets and Markov model for dependenc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onet and Vi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illa and Simonce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4868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83944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texture as generated from random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e by seeing whether statistics of two processes seem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hesize by generating image with same stat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s: 1) Discrimination/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591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200400" y="6400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reem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1739880"/>
            <a:ext cx="83059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xtur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exture boundary detection. Seg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Shape from tex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26" descr="E:\class\figures\barrels.gif"/>
          <p:cNvPicPr/>
          <p:nvPr/>
        </p:nvPicPr>
        <p:blipFill>
          <a:blip r:embed="rId1"/>
          <a:stretch/>
        </p:blipFill>
        <p:spPr>
          <a:xfrm>
            <a:off x="1952640" y="-14400"/>
            <a:ext cx="4753080" cy="6248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28"/>
          <p:cNvSpPr/>
          <p:nvPr/>
        </p:nvSpPr>
        <p:spPr>
          <a:xfrm>
            <a:off x="1594440" y="6400800"/>
            <a:ext cx="65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in the spacing of the barrels (Gibson 195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26" descr="E:\class\figures\corridor.gif"/>
          <p:cNvPicPr/>
          <p:nvPr/>
        </p:nvPicPr>
        <p:blipFill>
          <a:blip r:embed="rId1"/>
          <a:stretch/>
        </p:blipFill>
        <p:spPr>
          <a:xfrm>
            <a:off x="1428840" y="1650960"/>
            <a:ext cx="6286320" cy="3554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27"/>
          <p:cNvSpPr/>
          <p:nvPr/>
        </p:nvSpPr>
        <p:spPr>
          <a:xfrm>
            <a:off x="677520" y="5486400"/>
            <a:ext cx="77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re gradient associated to converging lines (Gibson195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6:21:58Z</dcterms:created>
  <dc:creator>Cornelia Fermueller</dc:creator>
  <dc:description/>
  <dc:language>en-US</dc:language>
  <cp:lastModifiedBy>John Aloimonos</cp:lastModifiedBy>
  <dcterms:modified xsi:type="dcterms:W3CDTF">2014-11-15T22:30:31Z</dcterms:modified>
  <cp:revision>8</cp:revision>
  <dc:subject/>
  <dc:title>Texture</dc:title>
</cp:coreProperties>
</file>