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9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13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35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4.png" ContentType="image/png"/>
  <Override PartName="/ppt/media/image10.jpeg" ContentType="image/jpeg"/>
  <Override PartName="/ppt/media/image80.png" ContentType="image/png"/>
  <Override PartName="/ppt/media/image15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.png" ContentType="image/png"/>
  <Override PartName="/ppt/media/image82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DAAD-D612-4E76-ADD5-515A9CFBD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BE40-4613-46CC-8A32-D276DBC31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16000" y="3031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33" name="Text Box 3"/>
          <p:cNvSpPr/>
          <p:nvPr/>
        </p:nvSpPr>
        <p:spPr>
          <a:xfrm>
            <a:off x="503280" y="4267080"/>
            <a:ext cx="5851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1511-B8CD-4257-A174-F21ADE85D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16000" y="3031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36" name="Text Box 3"/>
          <p:cNvSpPr/>
          <p:nvPr/>
        </p:nvSpPr>
        <p:spPr>
          <a:xfrm>
            <a:off x="503280" y="4267080"/>
            <a:ext cx="5851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6441-EF3F-4D12-925B-DA66A2A82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16000" y="3031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39" name="Text Box 3"/>
          <p:cNvSpPr/>
          <p:nvPr/>
        </p:nvSpPr>
        <p:spPr>
          <a:xfrm>
            <a:off x="503280" y="4267080"/>
            <a:ext cx="5851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F545-11E3-45AA-B0FA-20FB5F4BF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3600" y="3031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342" name="Text Box 3"/>
          <p:cNvSpPr/>
          <p:nvPr/>
        </p:nvSpPr>
        <p:spPr>
          <a:xfrm>
            <a:off x="503280" y="4314960"/>
            <a:ext cx="58546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B51-72BE-4848-84B2-6C57241E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16000" y="3031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45" name="Text Box 3"/>
          <p:cNvSpPr/>
          <p:nvPr/>
        </p:nvSpPr>
        <p:spPr>
          <a:xfrm>
            <a:off x="503280" y="4267080"/>
            <a:ext cx="5851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ED2-C293-441D-B3FD-36B0ADA67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3600" y="3031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348" name="Text Box 3"/>
          <p:cNvSpPr/>
          <p:nvPr/>
        </p:nvSpPr>
        <p:spPr>
          <a:xfrm>
            <a:off x="503280" y="4314960"/>
            <a:ext cx="58546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8DC2-232A-4D0F-B4F5-F2DD1188F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3600" y="3031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351" name="Text Box 3"/>
          <p:cNvSpPr/>
          <p:nvPr/>
        </p:nvSpPr>
        <p:spPr>
          <a:xfrm>
            <a:off x="503280" y="4314960"/>
            <a:ext cx="58546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E1C-DD11-4A6A-B5EC-A563A847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717-ECC0-4732-94A4-480CD7AD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239-C650-4F9C-A86F-C1AF1291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D55-4820-4795-B61A-00B2A3D0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AE1-5520-4EC0-85BC-9AAF0AF3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21C-2F74-4BBD-BECB-113AF1BC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9EF-C110-4BC8-87B7-62A7FA98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EE3-9B67-4315-9C9D-8D206AD9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2AF-F850-4825-9301-A65C95A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6F9-B4B7-4220-B4F2-841581B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3C4-DE92-409F-927A-E27257E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FE2-BFA6-49E6-A0CD-18916097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79D-F1E9-43EC-B897-277192B39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s.berkeley.edu/~efros/research/synthesis.html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e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repeats with var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eparate what repeats and what stay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as repeated trials of a random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st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each trial is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st Tex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ixel independent, identically distributed (ii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of constant int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noise pat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kled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xture Discrimination is then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ets of s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y come from the same random pro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st Texture Discri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hist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ensities into discrete ran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how many pixels in each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14400" y="4267080"/>
            <a:ext cx="4572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905120" y="5181480"/>
            <a:ext cx="4572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895480" y="4038480"/>
            <a:ext cx="53352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114800" y="4800600"/>
            <a:ext cx="53352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7238880" y="5105520"/>
            <a:ext cx="5335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62120" y="6477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676520" y="6477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781680" y="6477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5-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502920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3"/>
          <p:cNvSpPr/>
          <p:nvPr/>
        </p:nvSpPr>
        <p:spPr>
          <a:xfrm>
            <a:off x="548640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594360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743200" y="6477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-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3809880" y="6477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/why to 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comparison is SSD, many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view probabilis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gram is a set of samples from a probability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any samples it approximates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probability samples drawn from same distribution.  Ie., is difference greater than expected when two samples come from same distrib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90720" y="57913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:\iccv99\rocks_label.jpg"/>
          <p:cNvPicPr/>
          <p:nvPr/>
        </p:nvPicPr>
        <p:blipFill>
          <a:blip r:embed="rId1"/>
          <a:srcRect l="11004" t="8969" r="10467" b="8477"/>
          <a:stretch/>
        </p:blipFill>
        <p:spPr>
          <a:xfrm>
            <a:off x="914400" y="4495680"/>
            <a:ext cx="223344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S:\iccv99\rocks_histos.jpg"/>
          <p:cNvPicPr/>
          <p:nvPr/>
        </p:nvPicPr>
        <p:blipFill>
          <a:blip r:embed="rId2"/>
          <a:srcRect l="10962" t="4904" r="7633" b="8186"/>
          <a:stretch/>
        </p:blipFill>
        <p:spPr>
          <a:xfrm>
            <a:off x="3809880" y="2362320"/>
            <a:ext cx="3962520" cy="269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S:\iccv99\rocks_image.jpg"/>
          <p:cNvPicPr/>
          <p:nvPr/>
        </p:nvPicPr>
        <p:blipFill>
          <a:blip r:embed="rId3"/>
          <a:srcRect l="11023" t="8857" r="10948" b="8589"/>
          <a:stretch/>
        </p:blipFill>
        <p:spPr>
          <a:xfrm>
            <a:off x="914400" y="2347920"/>
            <a:ext cx="2224080" cy="1949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389320" y="2585880"/>
            <a:ext cx="446040" cy="446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65400" y="3144960"/>
            <a:ext cx="446040" cy="44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494000" y="3703680"/>
            <a:ext cx="447480" cy="44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2843280" y="2743200"/>
            <a:ext cx="966600" cy="8424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2629080" y="3375000"/>
            <a:ext cx="1180800" cy="28260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1943280" y="3932280"/>
            <a:ext cx="1866600" cy="63972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499840" y="2571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295000" y="3102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579320" y="3695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90720" y="1523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-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8087040" y="3017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8064720" y="3946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7"/>
              <p:cNvSpPr txBox="1"/>
              <p:nvPr/>
            </p:nvSpPr>
            <p:spPr>
              <a:xfrm>
                <a:off x="7543800" y="2895480"/>
                <a:ext cx="58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8"/>
              <p:cNvSpPr txBox="1"/>
              <p:nvPr/>
            </p:nvSpPr>
            <p:spPr>
              <a:xfrm>
                <a:off x="7543800" y="3809880"/>
                <a:ext cx="58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9"/>
              <p:cNvSpPr txBox="1"/>
              <p:nvPr/>
            </p:nvSpPr>
            <p:spPr>
              <a:xfrm>
                <a:off x="3429000" y="5105520"/>
                <a:ext cx="51814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Text Box 20"/>
          <p:cNvSpPr/>
          <p:nvPr/>
        </p:nvSpPr>
        <p:spPr>
          <a:xfrm>
            <a:off x="914400" y="30492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 square distance between texton histogra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276720" y="6400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l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omplex Discr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gram comparison is very li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ixel is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happens at a tiny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utput of filters of different s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17440" y="2251080"/>
            <a:ext cx="801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gray-level statistics: characterized by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order gray-level statistics: described by co-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correlation function I(i,j)*I(-i,-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pectrum of I(i,j) is square of magnitude of Fou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pectrum of a function is Fourier trans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uto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methods use Fourier transform (in polar repres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syth &amp; Po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31640" y="1638360"/>
            <a:ext cx="8178840" cy="5073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890640" y="717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305920" cy="570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991920" y="171756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detectors find differences in overall int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intensity is only simplest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72360" y="514656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lides from David Jac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ight Fil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scale is good, since we don’t know right scale a prio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st to compare with naïve Bay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image on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1, F2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image tw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G1, G2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image one and two have same tex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F1,G1,F2,G2, …|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1,G1|S)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2,G2|S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ight Fil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re independent the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image, output of one filter should be independent of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ur comparison assumes in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s seem to be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of Gaussian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57200" y="3262320"/>
            <a:ext cx="2529000" cy="25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7543800" y="3276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6095880" y="32767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3352680" y="3262320"/>
            <a:ext cx="252900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7848720" y="4876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6477120" y="4862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ots and Oriented Ba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Malik and Peron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530520" cy="1765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522440" y="3048120"/>
            <a:ext cx="7621560" cy="3047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190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7620120" cy="3048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621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419720" y="4648320"/>
                <a:ext cx="429552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ymmetric: 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tisymmetric: 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bor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3200400" y="1600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4"/>
          <a:stretch/>
        </p:blipFill>
        <p:spPr>
          <a:xfrm>
            <a:off x="83808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5"/>
          <a:stretch/>
        </p:blipFill>
        <p:spPr>
          <a:xfrm>
            <a:off x="205740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6"/>
          <a:stretch/>
        </p:blipFill>
        <p:spPr>
          <a:xfrm>
            <a:off x="327672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7"/>
          <a:stretch/>
        </p:blipFill>
        <p:spPr>
          <a:xfrm>
            <a:off x="83808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8"/>
          <a:stretch/>
        </p:blipFill>
        <p:spPr>
          <a:xfrm>
            <a:off x="205740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9"/>
          <a:stretch/>
        </p:blipFill>
        <p:spPr>
          <a:xfrm>
            <a:off x="320040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10"/>
          <a:stretch/>
        </p:blipFill>
        <p:spPr>
          <a:xfrm>
            <a:off x="838080" y="47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"/>
          <p:cNvPicPr/>
          <p:nvPr/>
        </p:nvPicPr>
        <p:blipFill>
          <a:blip r:embed="rId11"/>
          <a:stretch/>
        </p:blipFill>
        <p:spPr>
          <a:xfrm>
            <a:off x="2057400" y="47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"/>
          <p:cNvPicPr/>
          <p:nvPr/>
        </p:nvPicPr>
        <p:blipFill>
          <a:blip r:embed="rId12"/>
          <a:stretch/>
        </p:blipFill>
        <p:spPr>
          <a:xfrm>
            <a:off x="3276720" y="4724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6"/>
          <p:cNvSpPr/>
          <p:nvPr/>
        </p:nvSpPr>
        <p:spPr>
          <a:xfrm>
            <a:off x="4872960" y="2184480"/>
            <a:ext cx="398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bor filters at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s and spatia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row shows anti-symmetr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odd) filters, bottom row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 (or even) fil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bor filters are examples of Wave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two bases for im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xels are localized i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are localized in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s are a little of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measuring frequency lo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ures local dependen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ixel depends on neighborh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, 1D first ord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p1, p2, …pn) = P(p1)*P(p2|p1)*P(p3|p2,p1)*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P(p1)*P(p2|p1)*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(p3|p2)*P(p4|p3)*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der Markov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ixel is like neighbor to left + noise with some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pture a much wider range of phenom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imple"/>
          <p:cNvPicPr/>
          <p:nvPr/>
        </p:nvPicPr>
        <p:blipFill>
          <a:blip r:embed="rId1"/>
          <a:stretch/>
        </p:blipFill>
        <p:spPr>
          <a:xfrm>
            <a:off x="45720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752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ov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ando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odel at tim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ov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ach state is dependent only on the previou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85480" indent="-5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y given by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is actually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-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ov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’th-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ov ch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Edittex"/>
          <p:cNvPicPr/>
          <p:nvPr/>
        </p:nvPicPr>
        <p:blipFill>
          <a:blip r:embed="rId1"/>
          <a:stretch/>
        </p:blipFill>
        <p:spPr>
          <a:xfrm>
            <a:off x="1828800" y="2835360"/>
            <a:ext cx="457200" cy="28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2895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038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324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9" descr="Edittex"/>
          <p:cNvPicPr/>
          <p:nvPr/>
        </p:nvPicPr>
        <p:blipFill>
          <a:blip r:embed="rId2"/>
          <a:stretch/>
        </p:blipFill>
        <p:spPr>
          <a:xfrm>
            <a:off x="2962440" y="2830680"/>
            <a:ext cx="477720" cy="29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Edittex"/>
          <p:cNvPicPr/>
          <p:nvPr/>
        </p:nvPicPr>
        <p:blipFill>
          <a:blip r:embed="rId3"/>
          <a:stretch/>
        </p:blipFill>
        <p:spPr>
          <a:xfrm>
            <a:off x="4105440" y="2819520"/>
            <a:ext cx="477720" cy="311040"/>
          </a:xfrm>
          <a:prstGeom prst="rect">
            <a:avLst/>
          </a:prstGeom>
          <a:ln w="0">
            <a:noFill/>
          </a:ln>
        </p:spPr>
      </p:pic>
      <p:sp>
        <p:nvSpPr>
          <p:cNvPr id="168" name="Line 11"/>
          <p:cNvSpPr/>
          <p:nvPr/>
        </p:nvSpPr>
        <p:spPr>
          <a:xfrm>
            <a:off x="24382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35812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47242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181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5" descr="Edittex"/>
          <p:cNvPicPr/>
          <p:nvPr/>
        </p:nvPicPr>
        <p:blipFill>
          <a:blip r:embed="rId4"/>
          <a:stretch/>
        </p:blipFill>
        <p:spPr>
          <a:xfrm>
            <a:off x="5248440" y="2830680"/>
            <a:ext cx="477720" cy="290520"/>
          </a:xfrm>
          <a:prstGeom prst="rect">
            <a:avLst/>
          </a:prstGeom>
          <a:ln w="0">
            <a:noFill/>
          </a:ln>
        </p:spPr>
      </p:pic>
      <p:sp>
        <p:nvSpPr>
          <p:cNvPr id="173" name="Line 16"/>
          <p:cNvSpPr/>
          <p:nvPr/>
        </p:nvSpPr>
        <p:spPr>
          <a:xfrm>
            <a:off x="58672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7" descr="Edittex"/>
          <p:cNvPicPr/>
          <p:nvPr/>
        </p:nvPicPr>
        <p:blipFill>
          <a:blip r:embed="rId5"/>
          <a:stretch/>
        </p:blipFill>
        <p:spPr>
          <a:xfrm>
            <a:off x="6391440" y="2819520"/>
            <a:ext cx="477720" cy="311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Edittex"/>
          <p:cNvPicPr/>
          <p:nvPr/>
        </p:nvPicPr>
        <p:blipFill>
          <a:blip r:embed="rId6"/>
          <a:stretch/>
        </p:blipFill>
        <p:spPr>
          <a:xfrm>
            <a:off x="5337000" y="1522440"/>
            <a:ext cx="2054520" cy="230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Edittex"/>
          <p:cNvPicPr/>
          <p:nvPr/>
        </p:nvPicPr>
        <p:blipFill>
          <a:blip r:embed="rId7"/>
          <a:stretch/>
        </p:blipFill>
        <p:spPr>
          <a:xfrm>
            <a:off x="1515960" y="2131920"/>
            <a:ext cx="312840" cy="2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Edittex"/>
          <p:cNvPicPr/>
          <p:nvPr/>
        </p:nvPicPr>
        <p:blipFill>
          <a:blip r:embed="rId8"/>
          <a:stretch/>
        </p:blipFill>
        <p:spPr>
          <a:xfrm>
            <a:off x="2895480" y="4724280"/>
            <a:ext cx="1952640" cy="42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Edittex"/>
          <p:cNvPicPr/>
          <p:nvPr/>
        </p:nvPicPr>
        <p:blipFill>
          <a:blip r:embed="rId9"/>
          <a:stretch/>
        </p:blipFill>
        <p:spPr>
          <a:xfrm>
            <a:off x="2133720" y="6248520"/>
            <a:ext cx="38844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33520" y="9907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rkov random field (MRF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ation of Markov chains to two or more dimen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order MR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that pix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s a certain value given the values of neighbo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4952880" y="2743200"/>
            <a:ext cx="1371600" cy="1371600"/>
            <a:chOff x="4952880" y="2743200"/>
            <a:chExt cx="1371600" cy="1371600"/>
          </a:xfrm>
        </p:grpSpPr>
        <p:sp>
          <p:nvSpPr>
            <p:cNvPr id="182" name="Rectangle 5"/>
            <p:cNvSpPr/>
            <p:nvPr/>
          </p:nvSpPr>
          <p:spPr>
            <a:xfrm>
              <a:off x="4952880" y="32004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6"/>
            <p:cNvSpPr/>
            <p:nvPr/>
          </p:nvSpPr>
          <p:spPr>
            <a:xfrm>
              <a:off x="5410080" y="36576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5410080" y="32004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8"/>
            <p:cNvSpPr/>
            <p:nvPr/>
          </p:nvSpPr>
          <p:spPr>
            <a:xfrm>
              <a:off x="5410080" y="2743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5867280" y="32004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685800" y="4038480"/>
            <a:ext cx="7772400" cy="2667240"/>
            <a:chOff x="685800" y="4038480"/>
            <a:chExt cx="7772400" cy="2667240"/>
          </a:xfrm>
        </p:grpSpPr>
        <p:sp>
          <p:nvSpPr>
            <p:cNvPr id="188" name="Rectangle 11"/>
            <p:cNvSpPr/>
            <p:nvPr/>
          </p:nvSpPr>
          <p:spPr>
            <a:xfrm>
              <a:off x="22860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2"/>
            <p:cNvSpPr/>
            <p:nvPr/>
          </p:nvSpPr>
          <p:spPr>
            <a:xfrm>
              <a:off x="18288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3"/>
            <p:cNvSpPr/>
            <p:nvPr/>
          </p:nvSpPr>
          <p:spPr>
            <a:xfrm>
              <a:off x="22860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4"/>
            <p:cNvSpPr/>
            <p:nvPr/>
          </p:nvSpPr>
          <p:spPr>
            <a:xfrm>
              <a:off x="27432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5"/>
            <p:cNvSpPr/>
            <p:nvPr/>
          </p:nvSpPr>
          <p:spPr>
            <a:xfrm>
              <a:off x="27432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6"/>
            <p:cNvSpPr/>
            <p:nvPr/>
          </p:nvSpPr>
          <p:spPr>
            <a:xfrm>
              <a:off x="18288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7"/>
            <p:cNvSpPr/>
            <p:nvPr/>
          </p:nvSpPr>
          <p:spPr>
            <a:xfrm>
              <a:off x="22860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27432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18288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50292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45720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2"/>
            <p:cNvSpPr/>
            <p:nvPr/>
          </p:nvSpPr>
          <p:spPr>
            <a:xfrm>
              <a:off x="50292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23"/>
            <p:cNvSpPr/>
            <p:nvPr/>
          </p:nvSpPr>
          <p:spPr>
            <a:xfrm>
              <a:off x="54864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4"/>
            <p:cNvSpPr/>
            <p:nvPr/>
          </p:nvSpPr>
          <p:spPr>
            <a:xfrm>
              <a:off x="54864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45720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6"/>
            <p:cNvSpPr/>
            <p:nvPr/>
          </p:nvSpPr>
          <p:spPr>
            <a:xfrm>
              <a:off x="50292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54864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45720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41148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5029200" y="4419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59436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5029200" y="6248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685800" y="403848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gher order MRF’s have larger neighborho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34" descr="Edittex"/>
          <p:cNvPicPr/>
          <p:nvPr/>
        </p:nvPicPr>
        <p:blipFill>
          <a:blip r:embed="rId1"/>
          <a:stretch/>
        </p:blipFill>
        <p:spPr>
          <a:xfrm>
            <a:off x="2033640" y="3360600"/>
            <a:ext cx="21574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ure Synthesis </a:t>
            </a:r>
            <a:r>
              <a:rPr b="0" lang="en-US" sz="3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[Efros &amp; Leung, ICCV 99]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pply 2D version of text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447920" y="2590920"/>
            <a:ext cx="6400440" cy="3619080"/>
            <a:chOff x="1447920" y="2590920"/>
            <a:chExt cx="6400440" cy="3619080"/>
          </a:xfrm>
        </p:grpSpPr>
        <p:pic>
          <p:nvPicPr>
            <p:cNvPr id="215" name="Picture 5" descr=""/>
            <p:cNvPicPr/>
            <p:nvPr/>
          </p:nvPicPr>
          <p:blipFill>
            <a:blip r:embed="rId2"/>
            <a:stretch/>
          </p:blipFill>
          <p:spPr>
            <a:xfrm>
              <a:off x="1447920" y="4153320"/>
              <a:ext cx="2835000" cy="20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6" descr=""/>
            <p:cNvPicPr/>
            <p:nvPr/>
          </p:nvPicPr>
          <p:blipFill>
            <a:blip r:embed="rId3"/>
            <a:stretch/>
          </p:blipFill>
          <p:spPr>
            <a:xfrm>
              <a:off x="2242800" y="2926080"/>
              <a:ext cx="1316160" cy="87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7" descr=""/>
            <p:cNvPicPr/>
            <p:nvPr/>
          </p:nvPicPr>
          <p:blipFill>
            <a:blip r:embed="rId4"/>
            <a:stretch/>
          </p:blipFill>
          <p:spPr>
            <a:xfrm>
              <a:off x="5013360" y="4153320"/>
              <a:ext cx="2835000" cy="20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8" descr=""/>
            <p:cNvPicPr/>
            <p:nvPr/>
          </p:nvPicPr>
          <p:blipFill>
            <a:blip r:embed="rId5"/>
            <a:stretch/>
          </p:blipFill>
          <p:spPr>
            <a:xfrm>
              <a:off x="5832000" y="2934000"/>
              <a:ext cx="1272240" cy="8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Freeform 9"/>
            <p:cNvSpPr/>
            <p:nvPr/>
          </p:nvSpPr>
          <p:spPr>
            <a:xfrm>
              <a:off x="2768400" y="3861000"/>
              <a:ext cx="325800" cy="236160"/>
            </a:xfrm>
            <a:custGeom>
              <a:avLst/>
              <a:gdLst/>
              <a:ahLst/>
              <a:rect l="l" t="t" r="r" b="b"/>
              <a:pathLst>
                <a:path w="1051" h="1051">
                  <a:moveTo>
                    <a:pt x="787" y="0"/>
                  </a:moveTo>
                  <a:lnTo>
                    <a:pt x="263" y="0"/>
                  </a:lnTo>
                  <a:lnTo>
                    <a:pt x="263" y="787"/>
                  </a:lnTo>
                  <a:lnTo>
                    <a:pt x="0" y="787"/>
                  </a:lnTo>
                  <a:lnTo>
                    <a:pt x="525" y="1050"/>
                  </a:lnTo>
                  <a:lnTo>
                    <a:pt x="1050" y="787"/>
                  </a:lnTo>
                  <a:lnTo>
                    <a:pt x="787" y="787"/>
                  </a:lnTo>
                  <a:lnTo>
                    <a:pt x="787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6333840" y="3884040"/>
              <a:ext cx="325800" cy="226440"/>
            </a:xfrm>
            <a:custGeom>
              <a:avLst/>
              <a:gdLst/>
              <a:ahLst/>
              <a:rect l="l" t="t" r="r" b="b"/>
              <a:pathLst>
                <a:path w="1051" h="1006">
                  <a:moveTo>
                    <a:pt x="787" y="0"/>
                  </a:moveTo>
                  <a:lnTo>
                    <a:pt x="263" y="0"/>
                  </a:lnTo>
                  <a:lnTo>
                    <a:pt x="263" y="754"/>
                  </a:lnTo>
                  <a:lnTo>
                    <a:pt x="0" y="754"/>
                  </a:lnTo>
                  <a:lnTo>
                    <a:pt x="525" y="1005"/>
                  </a:lnTo>
                  <a:lnTo>
                    <a:pt x="1050" y="754"/>
                  </a:lnTo>
                  <a:lnTo>
                    <a:pt x="787" y="754"/>
                  </a:lnTo>
                  <a:lnTo>
                    <a:pt x="787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2505600" y="2590920"/>
              <a:ext cx="182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2"/>
            <p:cNvSpPr/>
            <p:nvPr/>
          </p:nvSpPr>
          <p:spPr>
            <a:xfrm>
              <a:off x="6056280" y="25909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2"/>
          <p:cNvGraphicFramePr/>
          <p:nvPr/>
        </p:nvGraphicFramePr>
        <p:xfrm>
          <a:off x="1338120" y="1271520"/>
          <a:ext cx="17100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1271520"/>
                    <a:ext cx="1710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224560" cy="914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5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ynthesizing One Pix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147680" y="3100320"/>
            <a:ext cx="2205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771480"/>
                <a:tab algn="l" pos="1542960"/>
                <a:tab algn="l" pos="1940040"/>
                <a:tab algn="l" pos="2052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ampl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4648320" y="2438280"/>
            <a:ext cx="1519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138400" y="2343240"/>
            <a:ext cx="299880" cy="376200"/>
          </a:xfrm>
          <a:custGeom>
            <a:avLst/>
            <a:gdLst>
              <a:gd name="textAreaLeft" fmla="*/ 360 w 299880"/>
              <a:gd name="textAreaRight" fmla="*/ 299520 w 29988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91">
                <a:moveTo>
                  <a:pt x="113" y="0"/>
                </a:moveTo>
                <a:arcTo wR="113" hR="113" stAng="16200000" swAng="-5400000"/>
                <a:lnTo>
                  <a:pt x="0" y="26978"/>
                </a:lnTo>
                <a:arcTo wR="113" hR="113" stAng="10800000" swAng="-5400000"/>
                <a:lnTo>
                  <a:pt x="21487" y="27091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990800" y="1657440"/>
            <a:ext cx="299880" cy="376200"/>
          </a:xfrm>
          <a:custGeom>
            <a:avLst/>
            <a:gdLst>
              <a:gd name="textAreaLeft" fmla="*/ 360 w 299880"/>
              <a:gd name="textAreaRight" fmla="*/ 299520 w 29988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91">
                <a:moveTo>
                  <a:pt x="113" y="0"/>
                </a:moveTo>
                <a:arcTo wR="113" hR="113" stAng="16200000" swAng="-5400000"/>
                <a:lnTo>
                  <a:pt x="0" y="26978"/>
                </a:lnTo>
                <a:arcTo wR="113" hR="113" stAng="10800000" swAng="-5400000"/>
                <a:lnTo>
                  <a:pt x="21487" y="27091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257800" y="3633840"/>
            <a:ext cx="2538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771480"/>
                <a:tab algn="l" pos="1542960"/>
                <a:tab algn="l" pos="1940040"/>
                <a:tab algn="l" pos="2052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t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4272120"/>
            <a:ext cx="8534520" cy="2357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5716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                                       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all the windows in the image that match 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ider only pixels in the neighborhood that are already fill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ynthesiz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ick one matching window a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be the center pixel of that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1757520" y="2114640"/>
            <a:ext cx="299880" cy="376200"/>
          </a:xfrm>
          <a:custGeom>
            <a:avLst/>
            <a:gdLst>
              <a:gd name="textAreaLeft" fmla="*/ 360 w 299880"/>
              <a:gd name="textAreaRight" fmla="*/ 299520 w 29988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91">
                <a:moveTo>
                  <a:pt x="113" y="0"/>
                </a:moveTo>
                <a:arcTo wR="113" hR="113" stAng="16200000" swAng="-5400000"/>
                <a:lnTo>
                  <a:pt x="0" y="26978"/>
                </a:lnTo>
                <a:arcTo wR="113" hR="113" stAng="10800000" swAng="-5400000"/>
                <a:lnTo>
                  <a:pt x="21487" y="27091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3357720" y="26020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209040" y="19573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13"/>
          <p:cNvGraphicFramePr/>
          <p:nvPr/>
        </p:nvGraphicFramePr>
        <p:xfrm>
          <a:off x="5415120" y="1143000"/>
          <a:ext cx="248580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5120" y="1143000"/>
                    <a:ext cx="24858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AutoShape 14"/>
          <p:cNvSpPr/>
          <p:nvPr/>
        </p:nvSpPr>
        <p:spPr>
          <a:xfrm>
            <a:off x="5872320" y="2643120"/>
            <a:ext cx="223560" cy="223920"/>
          </a:xfrm>
          <a:custGeom>
            <a:avLst/>
            <a:gdLst>
              <a:gd name="textAreaLeft" fmla="*/ 360 w 223560"/>
              <a:gd name="textAreaRight" fmla="*/ 223200 w 223560"/>
              <a:gd name="textAreaTop" fmla="*/ 360 h 223920"/>
              <a:gd name="textAreaBottom" fmla="*/ 223560 h 223920"/>
            </a:gdLst>
            <a:ahLst/>
            <a:rect l="textAreaLeft" t="textAreaTop" r="textAreaRight" b="textAreaBottom"/>
            <a:pathLst>
              <a:path w="21600" h="21635">
                <a:moveTo>
                  <a:pt x="152" y="0"/>
                </a:moveTo>
                <a:arcTo wR="152" hR="152" stAng="16200000" swAng="-5400000"/>
                <a:lnTo>
                  <a:pt x="0" y="21483"/>
                </a:lnTo>
                <a:arcTo wR="152" hR="152" stAng="10800000" swAng="-5400000"/>
                <a:lnTo>
                  <a:pt x="21448" y="21635"/>
                </a:lnTo>
                <a:arcTo wR="152" hR="152" stAng="5400000" swAng="-5400000"/>
                <a:lnTo>
                  <a:pt x="21600" y="152"/>
                </a:lnTo>
                <a:arcTo wR="152" hR="152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5186520" y="2033640"/>
            <a:ext cx="1519200" cy="1442880"/>
          </a:xfrm>
          <a:prstGeom prst="roundRect">
            <a:avLst>
              <a:gd name="adj" fmla="val 106"/>
            </a:avLst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568840" y="25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324480" y="685800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18" descr="Edittex"/>
          <p:cNvPicPr/>
          <p:nvPr/>
        </p:nvPicPr>
        <p:blipFill>
          <a:blip r:embed="rId5"/>
          <a:stretch/>
        </p:blipFill>
        <p:spPr>
          <a:xfrm>
            <a:off x="2133720" y="4419720"/>
            <a:ext cx="5029200" cy="2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415120" y="1143000"/>
            <a:ext cx="2485800" cy="24145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6440" y="76320"/>
            <a:ext cx="8224920" cy="914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5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ally Synthesizing One Pix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1528920" y="1676520"/>
            <a:ext cx="1334880" cy="13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Text Box 5"/>
          <p:cNvSpPr/>
          <p:nvPr/>
        </p:nvSpPr>
        <p:spPr>
          <a:xfrm>
            <a:off x="1300320" y="3129120"/>
            <a:ext cx="2205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771480"/>
                <a:tab algn="l" pos="1542960"/>
                <a:tab algn="l" pos="1940040"/>
                <a:tab algn="l" pos="2052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ampl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4648320" y="2666880"/>
            <a:ext cx="1519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438280" y="2443320"/>
            <a:ext cx="300240" cy="376200"/>
          </a:xfrm>
          <a:custGeom>
            <a:avLst/>
            <a:gdLst>
              <a:gd name="textAreaLeft" fmla="*/ 360 w 300240"/>
              <a:gd name="textAreaRight" fmla="*/ 299880 w 30024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58">
                <a:moveTo>
                  <a:pt x="113" y="0"/>
                </a:moveTo>
                <a:arcTo wR="113" hR="113" stAng="16200000" swAng="-5400000"/>
                <a:lnTo>
                  <a:pt x="0" y="26945"/>
                </a:lnTo>
                <a:arcTo wR="113" hR="113" stAng="10800000" swAng="-5400000"/>
                <a:lnTo>
                  <a:pt x="21487" y="27058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2214720" y="1757520"/>
            <a:ext cx="299880" cy="376200"/>
          </a:xfrm>
          <a:custGeom>
            <a:avLst/>
            <a:gdLst>
              <a:gd name="textAreaLeft" fmla="*/ 360 w 299880"/>
              <a:gd name="textAreaRight" fmla="*/ 299520 w 29988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91">
                <a:moveTo>
                  <a:pt x="113" y="0"/>
                </a:moveTo>
                <a:arcTo wR="113" hR="113" stAng="16200000" swAng="-5400000"/>
                <a:lnTo>
                  <a:pt x="0" y="26978"/>
                </a:lnTo>
                <a:arcTo wR="113" hR="113" stAng="10800000" swAng="-5400000"/>
                <a:lnTo>
                  <a:pt x="21487" y="27091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3352680" y="27781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228600" y="4038120"/>
            <a:ext cx="9367920" cy="2357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1523880" y="2057400"/>
            <a:ext cx="300240" cy="376200"/>
          </a:xfrm>
          <a:custGeom>
            <a:avLst/>
            <a:gdLst>
              <a:gd name="textAreaLeft" fmla="*/ 360 w 300240"/>
              <a:gd name="textAreaRight" fmla="*/ 299880 w 30024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58">
                <a:moveTo>
                  <a:pt x="113" y="0"/>
                </a:moveTo>
                <a:arcTo wR="113" hR="113" stAng="16200000" swAng="-5400000"/>
                <a:lnTo>
                  <a:pt x="0" y="26945"/>
                </a:lnTo>
                <a:arcTo wR="113" hR="113" stAng="10800000" swAng="-5400000"/>
                <a:lnTo>
                  <a:pt x="21487" y="27058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52280" y="4191120"/>
            <a:ext cx="8686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xact neighbourhood match might not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 we find 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e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tches using SSD error and randomly choose between them, preferring better matches with higher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204360" y="21337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14"/>
          <p:cNvSpPr/>
          <p:nvPr/>
        </p:nvSpPr>
        <p:spPr>
          <a:xfrm>
            <a:off x="4648320" y="2438280"/>
            <a:ext cx="1519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257800" y="3633840"/>
            <a:ext cx="2538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771480"/>
                <a:tab algn="l" pos="1542960"/>
                <a:tab algn="l" pos="1940040"/>
                <a:tab algn="l" pos="2052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t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5872320" y="2643120"/>
            <a:ext cx="223560" cy="223920"/>
          </a:xfrm>
          <a:custGeom>
            <a:avLst/>
            <a:gdLst>
              <a:gd name="textAreaLeft" fmla="*/ 360 w 223560"/>
              <a:gd name="textAreaRight" fmla="*/ 223200 w 223560"/>
              <a:gd name="textAreaTop" fmla="*/ 360 h 223920"/>
              <a:gd name="textAreaBottom" fmla="*/ 223560 h 223920"/>
            </a:gdLst>
            <a:ahLst/>
            <a:rect l="textAreaLeft" t="textAreaTop" r="textAreaRight" b="textAreaBottom"/>
            <a:pathLst>
              <a:path w="21600" h="21635">
                <a:moveTo>
                  <a:pt x="152" y="0"/>
                </a:moveTo>
                <a:arcTo wR="152" hR="152" stAng="16200000" swAng="-5400000"/>
                <a:lnTo>
                  <a:pt x="0" y="21483"/>
                </a:lnTo>
                <a:arcTo wR="152" hR="152" stAng="10800000" swAng="-5400000"/>
                <a:lnTo>
                  <a:pt x="21448" y="21635"/>
                </a:lnTo>
                <a:arcTo wR="152" hR="152" stAng="5400000" swAng="-5400000"/>
                <a:lnTo>
                  <a:pt x="21600" y="152"/>
                </a:lnTo>
                <a:arcTo wR="152" hR="152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7"/>
          <p:cNvSpPr/>
          <p:nvPr/>
        </p:nvSpPr>
        <p:spPr>
          <a:xfrm>
            <a:off x="5186520" y="2033640"/>
            <a:ext cx="1519200" cy="1442880"/>
          </a:xfrm>
          <a:prstGeom prst="roundRect">
            <a:avLst>
              <a:gd name="adj" fmla="val 106"/>
            </a:avLst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5568840" y="25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6440" y="152280"/>
            <a:ext cx="8224920" cy="7574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5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owing Tex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228600" y="4038120"/>
            <a:ext cx="9367920" cy="2357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28600" y="42670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rting from the initial image,  “grow” the texture one pixel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start"/>
          <p:cNvPicPr/>
          <p:nvPr/>
        </p:nvPicPr>
        <p:blipFill>
          <a:blip r:embed="rId1"/>
          <a:stretch/>
        </p:blipFill>
        <p:spPr>
          <a:xfrm>
            <a:off x="380880" y="1295280"/>
            <a:ext cx="2440080" cy="2492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3"/>
          <p:cNvPicPr/>
          <p:nvPr/>
        </p:nvPicPr>
        <p:blipFill>
          <a:blip r:embed="rId2"/>
          <a:stretch/>
        </p:blipFill>
        <p:spPr>
          <a:xfrm>
            <a:off x="3340080" y="1295280"/>
            <a:ext cx="2451240" cy="2489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5"/>
          <p:cNvPicPr/>
          <p:nvPr/>
        </p:nvPicPr>
        <p:blipFill>
          <a:blip r:embed="rId3"/>
          <a:stretch/>
        </p:blipFill>
        <p:spPr>
          <a:xfrm>
            <a:off x="6311880" y="1295280"/>
            <a:ext cx="2451240" cy="24894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2971800" y="2438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5867280" y="2438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 Size Controls Reg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2819520" y="160668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76320" y="4282920"/>
            <a:ext cx="3047760" cy="2422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2971800" y="4282920"/>
            <a:ext cx="3048120" cy="2422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4"/>
          <a:stretch/>
        </p:blipFill>
        <p:spPr>
          <a:xfrm>
            <a:off x="5867280" y="4284720"/>
            <a:ext cx="3048120" cy="2421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5"/>
          <a:stretch/>
        </p:blipFill>
        <p:spPr>
          <a:xfrm>
            <a:off x="5867280" y="1995480"/>
            <a:ext cx="3048120" cy="2424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6"/>
          <a:stretch/>
        </p:blipFill>
        <p:spPr>
          <a:xfrm>
            <a:off x="990720" y="22860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3809880" y="2590920"/>
            <a:ext cx="838440" cy="7617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809880" y="2590920"/>
            <a:ext cx="60984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3809880" y="25909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3809880" y="2590920"/>
            <a:ext cx="30492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3"/>
          <p:cNvSpPr/>
          <p:nvPr/>
        </p:nvSpPr>
        <p:spPr>
          <a:xfrm flipH="1">
            <a:off x="1371240" y="2895480"/>
            <a:ext cx="2590920" cy="15242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4038480" y="3048120"/>
            <a:ext cx="0" cy="13716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267080" y="3200400"/>
            <a:ext cx="1828800" cy="1219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4648320" y="2971800"/>
            <a:ext cx="1371600" cy="15228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Synthesis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6320" y="53028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380880" y="1368360"/>
            <a:ext cx="2133720" cy="2109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3"/>
          <a:stretch/>
        </p:blipFill>
        <p:spPr>
          <a:xfrm>
            <a:off x="2438280" y="1368360"/>
            <a:ext cx="2132280" cy="2095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4497480" y="1368360"/>
            <a:ext cx="2131920" cy="2095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5"/>
          <a:stretch/>
        </p:blipFill>
        <p:spPr>
          <a:xfrm>
            <a:off x="6553080" y="1368360"/>
            <a:ext cx="2133720" cy="2097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6"/>
          <a:stretch/>
        </p:blipFill>
        <p:spPr>
          <a:xfrm>
            <a:off x="228600" y="3578400"/>
            <a:ext cx="838080" cy="603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"/>
          <p:cNvPicPr/>
          <p:nvPr/>
        </p:nvPicPr>
        <p:blipFill>
          <a:blip r:embed="rId7"/>
          <a:stretch/>
        </p:blipFill>
        <p:spPr>
          <a:xfrm>
            <a:off x="914400" y="4264200"/>
            <a:ext cx="2438280" cy="1755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"/>
          <p:cNvPicPr/>
          <p:nvPr/>
        </p:nvPicPr>
        <p:blipFill>
          <a:blip r:embed="rId8"/>
          <a:stretch/>
        </p:blipFill>
        <p:spPr>
          <a:xfrm>
            <a:off x="3505320" y="4264200"/>
            <a:ext cx="2438280" cy="1753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"/>
          <p:cNvPicPr/>
          <p:nvPr/>
        </p:nvPicPr>
        <p:blipFill>
          <a:blip r:embed="rId9"/>
          <a:stretch/>
        </p:blipFill>
        <p:spPr>
          <a:xfrm>
            <a:off x="6095880" y="4264200"/>
            <a:ext cx="2370240" cy="17524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2"/>
          <p:cNvSpPr/>
          <p:nvPr/>
        </p:nvSpPr>
        <p:spPr>
          <a:xfrm>
            <a:off x="1225080" y="3505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4572000" y="377028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762120" y="3241800"/>
            <a:ext cx="3423960" cy="33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2057400" y="1609560"/>
            <a:ext cx="1062000" cy="1025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3"/>
          <a:stretch/>
        </p:blipFill>
        <p:spPr>
          <a:xfrm>
            <a:off x="4952880" y="3203640"/>
            <a:ext cx="3500640" cy="3346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4"/>
          <a:stretch/>
        </p:blipFill>
        <p:spPr>
          <a:xfrm>
            <a:off x="6110280" y="1581120"/>
            <a:ext cx="1062000" cy="1014480"/>
          </a:xfrm>
          <a:prstGeom prst="rect">
            <a:avLst/>
          </a:prstGeom>
          <a:ln w="0">
            <a:noFill/>
          </a:ln>
        </p:spPr>
      </p:pic>
      <p:sp>
        <p:nvSpPr>
          <p:cNvPr id="299" name="Freeform 7"/>
          <p:cNvSpPr/>
          <p:nvPr/>
        </p:nvSpPr>
        <p:spPr>
          <a:xfrm>
            <a:off x="6491160" y="2735280"/>
            <a:ext cx="376200" cy="385920"/>
          </a:xfrm>
          <a:custGeom>
            <a:avLst/>
            <a:gdLst/>
            <a:ahLst/>
            <a:rect l="l" t="t" r="r" b="b"/>
            <a:pathLst>
              <a:path w="1051" h="1077">
                <a:moveTo>
                  <a:pt x="788" y="0"/>
                </a:moveTo>
                <a:lnTo>
                  <a:pt x="263" y="0"/>
                </a:lnTo>
                <a:lnTo>
                  <a:pt x="263" y="807"/>
                </a:lnTo>
                <a:lnTo>
                  <a:pt x="0" y="807"/>
                </a:lnTo>
                <a:lnTo>
                  <a:pt x="525" y="1076"/>
                </a:lnTo>
                <a:lnTo>
                  <a:pt x="1050" y="807"/>
                </a:lnTo>
                <a:lnTo>
                  <a:pt x="788" y="807"/>
                </a:lnTo>
                <a:lnTo>
                  <a:pt x="788" y="0"/>
                </a:lnTo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2460600" y="2766960"/>
            <a:ext cx="376200" cy="385920"/>
          </a:xfrm>
          <a:custGeom>
            <a:avLst/>
            <a:gdLst/>
            <a:ahLst/>
            <a:rect l="l" t="t" r="r" b="b"/>
            <a:pathLst>
              <a:path w="1051" h="1077">
                <a:moveTo>
                  <a:pt x="788" y="0"/>
                </a:moveTo>
                <a:lnTo>
                  <a:pt x="263" y="0"/>
                </a:lnTo>
                <a:lnTo>
                  <a:pt x="263" y="806"/>
                </a:lnTo>
                <a:lnTo>
                  <a:pt x="0" y="806"/>
                </a:lnTo>
                <a:lnTo>
                  <a:pt x="525" y="1076"/>
                </a:lnTo>
                <a:lnTo>
                  <a:pt x="1050" y="806"/>
                </a:lnTo>
                <a:lnTo>
                  <a:pt x="788" y="806"/>
                </a:lnTo>
                <a:lnTo>
                  <a:pt x="788" y="0"/>
                </a:lnTo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5591160" y="1157400"/>
            <a:ext cx="207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646200"/>
                <a:tab algn="l" pos="129240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uminum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666800" y="1187280"/>
            <a:ext cx="1698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646200"/>
                <a:tab algn="l" pos="1292400"/>
                <a:tab algn="l" pos="13683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til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ilur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914400" y="299880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5715000" y="1143000"/>
            <a:ext cx="1447920" cy="1197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4"/>
          <a:stretch/>
        </p:blipFill>
        <p:spPr>
          <a:xfrm>
            <a:off x="1828800" y="11732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7"/>
          <p:cNvSpPr/>
          <p:nvPr/>
        </p:nvSpPr>
        <p:spPr>
          <a:xfrm>
            <a:off x="2209680" y="2514600"/>
            <a:ext cx="376200" cy="376200"/>
          </a:xfrm>
          <a:custGeom>
            <a:avLst/>
            <a:gdLst/>
            <a:ahLst/>
            <a:rect l="l" t="t" r="r" b="b"/>
            <a:pathLst>
              <a:path w="1051" h="1051">
                <a:moveTo>
                  <a:pt x="787" y="0"/>
                </a:moveTo>
                <a:lnTo>
                  <a:pt x="263" y="0"/>
                </a:lnTo>
                <a:lnTo>
                  <a:pt x="263" y="787"/>
                </a:lnTo>
                <a:lnTo>
                  <a:pt x="0" y="787"/>
                </a:lnTo>
                <a:lnTo>
                  <a:pt x="525" y="1050"/>
                </a:lnTo>
                <a:lnTo>
                  <a:pt x="1050" y="787"/>
                </a:lnTo>
                <a:lnTo>
                  <a:pt x="787" y="787"/>
                </a:lnTo>
                <a:lnTo>
                  <a:pt x="787" y="0"/>
                </a:lnTo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8"/>
          <p:cNvSpPr/>
          <p:nvPr/>
        </p:nvSpPr>
        <p:spPr>
          <a:xfrm>
            <a:off x="6248520" y="2514600"/>
            <a:ext cx="376200" cy="376200"/>
          </a:xfrm>
          <a:custGeom>
            <a:avLst/>
            <a:gdLst/>
            <a:ahLst/>
            <a:rect l="l" t="t" r="r" b="b"/>
            <a:pathLst>
              <a:path w="1051" h="1051">
                <a:moveTo>
                  <a:pt x="787" y="0"/>
                </a:moveTo>
                <a:lnTo>
                  <a:pt x="263" y="0"/>
                </a:lnTo>
                <a:lnTo>
                  <a:pt x="263" y="787"/>
                </a:lnTo>
                <a:lnTo>
                  <a:pt x="0" y="787"/>
                </a:lnTo>
                <a:lnTo>
                  <a:pt x="525" y="1050"/>
                </a:lnTo>
                <a:lnTo>
                  <a:pt x="1050" y="787"/>
                </a:lnTo>
                <a:lnTo>
                  <a:pt x="787" y="787"/>
                </a:lnTo>
                <a:lnTo>
                  <a:pt x="787" y="0"/>
                </a:lnTo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372320" y="617220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ing garb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82200" y="61722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batim cop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imple-edge1"/>
          <p:cNvPicPr/>
          <p:nvPr/>
        </p:nvPicPr>
        <p:blipFill>
          <a:blip r:embed="rId1"/>
          <a:stretch/>
        </p:blipFill>
        <p:spPr>
          <a:xfrm>
            <a:off x="0" y="1220760"/>
            <a:ext cx="4570560" cy="342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imple-edge2"/>
          <p:cNvPicPr/>
          <p:nvPr/>
        </p:nvPicPr>
        <p:blipFill>
          <a:blip r:embed="rId2"/>
          <a:stretch/>
        </p:blipFill>
        <p:spPr>
          <a:xfrm>
            <a:off x="4573440" y="1219320"/>
            <a:ext cx="45705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mage-Based Text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73120" y="1387440"/>
            <a:ext cx="2386080" cy="236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3786120" y="1373040"/>
            <a:ext cx="2386080" cy="2360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3"/>
          <a:stretch/>
        </p:blipFill>
        <p:spPr>
          <a:xfrm>
            <a:off x="6300720" y="1373040"/>
            <a:ext cx="2386080" cy="2360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"/>
          <p:cNvPicPr/>
          <p:nvPr/>
        </p:nvPicPr>
        <p:blipFill>
          <a:blip r:embed="rId4"/>
          <a:stretch/>
        </p:blipFill>
        <p:spPr>
          <a:xfrm>
            <a:off x="561960" y="3884760"/>
            <a:ext cx="2416320" cy="2516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3757680" y="3886200"/>
            <a:ext cx="2414520" cy="2514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"/>
          <p:cNvPicPr/>
          <p:nvPr/>
        </p:nvPicPr>
        <p:blipFill>
          <a:blip r:embed="rId6"/>
          <a:stretch/>
        </p:blipFill>
        <p:spPr>
          <a:xfrm>
            <a:off x="6272280" y="3886200"/>
            <a:ext cx="2414520" cy="25146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9"/>
          <p:cNvSpPr/>
          <p:nvPr/>
        </p:nvSpPr>
        <p:spPr>
          <a:xfrm>
            <a:off x="3124080" y="4952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124080" y="2362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hesis with Gabor filter Represen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ergen and He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86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54372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dependencies in Filter Outp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responds at one scale, often does at other 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responds at one orientation, often doesn’t at orthogonal ori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using wavelets and Markov model for dependen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onet and Vi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lla and Simonce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486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3944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exture as generated from random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e by seeing whether statistics of two processes seem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hesize by generating image with same stat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: 1) Discrimination/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59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200400" y="6400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ree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1739880"/>
            <a:ext cx="83059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ur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exture boundary detection. Seg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hape from tex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26" descr="E:\class\figures\barrels.gif"/>
          <p:cNvPicPr/>
          <p:nvPr/>
        </p:nvPicPr>
        <p:blipFill>
          <a:blip r:embed="rId1"/>
          <a:stretch/>
        </p:blipFill>
        <p:spPr>
          <a:xfrm>
            <a:off x="1952640" y="-14400"/>
            <a:ext cx="4753080" cy="6248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28"/>
          <p:cNvSpPr/>
          <p:nvPr/>
        </p:nvSpPr>
        <p:spPr>
          <a:xfrm>
            <a:off x="1594440" y="6400800"/>
            <a:ext cx="65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in the spacing of the barrels (Gibson 19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26" descr="E:\class\figures\corridor.gif"/>
          <p:cNvPicPr/>
          <p:nvPr/>
        </p:nvPicPr>
        <p:blipFill>
          <a:blip r:embed="rId1"/>
          <a:stretch/>
        </p:blipFill>
        <p:spPr>
          <a:xfrm>
            <a:off x="1428840" y="1650960"/>
            <a:ext cx="6286320" cy="3554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27"/>
          <p:cNvSpPr/>
          <p:nvPr/>
        </p:nvSpPr>
        <p:spPr>
          <a:xfrm>
            <a:off x="677520" y="548640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 gradient associated to converging lines (Gibson19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6:21:58Z</dcterms:created>
  <dc:creator>Cornelia Fermueller</dc:creator>
  <dc:description/>
  <dc:language>en-US</dc:language>
  <cp:lastModifiedBy>John Aloimonos</cp:lastModifiedBy>
  <dcterms:modified xsi:type="dcterms:W3CDTF">2014-11-15T22:30:31Z</dcterms:modified>
  <cp:revision>8</cp:revision>
  <dc:subject/>
  <dc:title>Texture</dc:title>
</cp:coreProperties>
</file>