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4683-5D06-46CE-9047-57CA81B8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5EF7-0235-469F-84E7-F0A6B324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F3FA-EC69-4F3F-8B1D-553EB864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4A8A-A8E9-4C3B-9073-AC87725F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458C-CC57-4E1A-9827-98DBA0E2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471A-32FF-41F1-9275-8C80515E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C8ED-CF31-4AFB-8243-5142C9F5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AC63-F812-41F9-B9B4-1902EC99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77F3-1406-4B45-9056-5C5EF269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20F8-F8B1-468A-BF39-FA960071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0D26-C81A-45B4-B34B-B248818D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377C-9B92-4DDA-A1D6-9506515E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E15C-AF30-482B-B7AC-F661A6BB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347A-F225-4529-9DD1-EC2C356E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2AFA-4D65-4DCF-BCC8-45C9FBC0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686C-4291-42BD-B0F1-79C5B13D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5B49-A8E0-4C04-8C28-B317441A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2199-0B43-4A93-9338-F4E44270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3507-6792-4A3A-A19E-50128C04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BCF2-449F-4D86-B0DA-9A4DD5A7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73BC-D129-40D6-8B19-AB126FF9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81BA-1932-437A-B3B0-85673836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F049-F5EC-4669-98F3-E491F9FE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1759-FE9B-4AC8-B892-B30B02FD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EE86-8C57-4C9E-A148-BE5696E7C5AD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9D33-E407-43BF-B44C-487B445B029A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tp://ftp.cs.umd.edu/pub/hcil/Reports-Abstracts-Bibliography/99-23html/99-23.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15235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ser-Centered Desig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mposium and Open Ho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31,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ison Druin, Session Cha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09680" y="3657600"/>
            <a:ext cx="7621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thods, Challenges, and Rewards of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ser-Centered Desig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essage Board for Family Communic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ilary Hutchin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ng Children as Design Partners </a:t>
            </a:r>
            <a:br>
              <a:rPr sz="2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ene Chipm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ALACH Project: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arching Oral Histories of the Holocau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agobert Soerg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idStory: The Impact of Zooming Technologies on Children’s Storytell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llison Dru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s Session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ying design method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citing technologie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llenges for the futur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ease hold questions until the end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a panel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ser-Centered Desig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oks…companies…standards… conferences…workshops…labs…   academic program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so called “human-centered design” “experience-centered design” “goal-directed design” “co-design”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Roles of Us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s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ign Partn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mensions of Each Ro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ser Ro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752480" y="1600200"/>
          <a:ext cx="2238480" cy="23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223848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419720" y="1600200"/>
          <a:ext cx="2238120" cy="23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1600200"/>
                    <a:ext cx="223812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52480" y="4191120"/>
          <a:ext cx="2238480" cy="232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191120"/>
                    <a:ext cx="223848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419720" y="4191120"/>
          <a:ext cx="2238120" cy="232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4191120"/>
                    <a:ext cx="223812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4343400" y="4114800"/>
            <a:ext cx="2362320" cy="243828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1523880"/>
            <a:ext cx="2362320" cy="243864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1523880"/>
            <a:ext cx="2361960" cy="243864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4114800"/>
            <a:ext cx="2361960" cy="243828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ser Ro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need…a flexible relationship with users and to explore ideas throughout the technology lifecy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NT/DESIGN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multiple goals for inqui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need a limited relationship with u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dapted From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uin, A. (In Press). The Role of Children in the Design of New Technology.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BI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ftp://ftp.cs.umd.edu/pub/hcil/Reports-Abstracts-Bibliography/99-23html/99-23.html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s ar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, context, and challenge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ser-Centered Design Challeng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gious” dif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-it-yourselfer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s can be “costly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yers are not always us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lls” have to come d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ser-Centered Rewards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Be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 costly mistak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appropriate techn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ign process can be a learning to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02:00:13Z</dcterms:created>
  <dc:creator>allisond</dc:creator>
  <dc:description/>
  <dc:language>en-US</dc:language>
  <cp:lastModifiedBy>tharris</cp:lastModifiedBy>
  <dcterms:modified xsi:type="dcterms:W3CDTF">2002-06-04T18:18:23Z</dcterms:modified>
  <cp:revision>10</cp:revision>
  <dc:subject/>
  <dc:title>User-Centered Desig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7738314</vt:r8>
  </property>
  <property fmtid="{D5CDD505-2E9C-101B-9397-08002B2CF9AE}" pid="3" name="_AuthorEmailDisplayName">
    <vt:lpwstr>Druin, Allison</vt:lpwstr>
  </property>
  <property fmtid="{D5CDD505-2E9C-101B-9397-08002B2CF9AE}" pid="4" name="_EmailSubject">
    <vt:lpwstr>Here's one of my talks...</vt:lpwstr>
  </property>
</Properties>
</file>