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6D2B-3EEF-4A38-A981-74D9E7F3D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3859-D15B-44F3-A67C-108C0A561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43B3-EDDE-4130-9612-D10492E14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1D79-5176-4630-A8B4-19CBD3819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78FA-D3E4-40D6-865E-7E00ADAEF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F80B-8F99-42DD-9173-DA22F5F22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B411-2ED3-49B7-AF71-BF302974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5D26-2FB6-4D67-B0E9-48061137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C585-91A8-4BC5-A3E8-79A91AB4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4F08-3F32-4588-8440-4BC56C04B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43AD-1119-4ECD-B118-BA5F78821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319C-735A-47F2-B1D7-5003DC583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52880" y="1962000"/>
            <a:ext cx="4259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3366"/>
                </a:solidFill>
                <a:latin typeface="Arial"/>
              </a:rPr>
              <a:t>University of Maryland, Human-Computer Interaction Laboratory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082000" y="6027840"/>
            <a:ext cx="914400" cy="685800"/>
          </a:xfrm>
          <a:prstGeom prst="rect">
            <a:avLst/>
          </a:prstGeom>
          <a:ln w="0">
            <a:noFill/>
          </a:ln>
        </p:spPr>
      </p:pic>
      <p:grpSp>
        <p:nvGrpSpPr>
          <p:cNvPr id="2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3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3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6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8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dt" idx="1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ftr" idx="2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Num" idx="3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24A0D-FEFB-4E1E-B95E-8E29F6282FAB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8082000" y="602784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Welcome to the 19</a:t>
            </a:r>
            <a:r>
              <a:rPr b="1" lang="en-US" sz="32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Annual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HCIL Symposium &amp; Open House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eve Halper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an, College of Computer, Mathematical and Physical Scien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njamin B. Bederson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rector, HCI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270 SOH Attendees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120600" y="1670040"/>
            <a:ext cx="4571640" cy="3647520"/>
            <a:chOff x="120600" y="1670040"/>
            <a:chExt cx="4571640" cy="3647520"/>
          </a:xfrm>
        </p:grpSpPr>
        <p:graphicFrame>
          <p:nvGraphicFramePr>
            <p:cNvPr id="636" name=""/>
            <p:cNvGraphicFramePr/>
            <p:nvPr/>
          </p:nvGraphicFramePr>
          <p:xfrm>
            <a:off x="614880" y="1953000"/>
            <a:ext cx="3454560" cy="33296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3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4880" y="1953000"/>
                      <a:ext cx="3454560" cy="332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38" name=""/>
            <p:cNvSpPr/>
            <p:nvPr/>
          </p:nvSpPr>
          <p:spPr>
            <a:xfrm>
              <a:off x="3269160" y="2375280"/>
              <a:ext cx="1423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aculty/Staff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0%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593360" y="1670040"/>
              <a:ext cx="1422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%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20600" y="2486880"/>
              <a:ext cx="1422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dustry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6%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28600" y="4736880"/>
              <a:ext cx="1422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overnment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%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963160" y="4627080"/>
              <a:ext cx="1425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udents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3%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240080" y="3006720"/>
            <a:ext cx="2090880" cy="38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bt Associates, Inc.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vanced Network &amp; Services, Inc.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gilent Technologies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ppalachian Regional Commission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pplied Speech Resources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&amp;T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ntu Inc.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itterest Pill Publications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rowse3D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elera Genomics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enter for Disease Control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evronTexaco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ildren's National Medical Center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uter Sciences Corporation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sultant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SEsolutions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UNY - Brooklyn College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RPA / IXO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partment of Defense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vgen nv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covery Communications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ling College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uke Energy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uke University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ducation Week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ctronic Ink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Montgomery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um One Communications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allaudet University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eorge Mason University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eorge Washington University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eorgetown University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ansie.com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ealthMark Multimedia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ughes Network Systems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BM TJ Watson Research Center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689440" y="2281320"/>
            <a:ext cx="2151360" cy="303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S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MG &amp; Company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ohns Hopkins University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oint Warfare Analysis Center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cDonald Bradley, Inc.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rck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ind*Link International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IT Media Lab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ntgomery Blair High School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ntgomery County Government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ASA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ational Cancer Institute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ational Center for Health Statistics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ational Library of Medicine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w Jersey Institute of Technology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IST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ldus Information Technology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gilvy PR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nn State York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tomac Tech Journal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uarry Integrated Communications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alInterface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GS Associates, Inc.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obert W. Deutsch Foundation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utgers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University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pient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vannah College of Art and Design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ool of Nursing, UMB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otfire, Inc.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192800" y="2170080"/>
            <a:ext cx="1951200" cy="385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. Mary's College of Maryland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nford University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wim Design Consultants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Continuity Project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Gimbal Group, Inc.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Johns Hopkins Univeristy Press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MITRE Corporation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National Academies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itan Systems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wson University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ufts University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.S. Bureau of Labor Statistics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.S. Census Bureau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.S. Department of Labor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BS Warburg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MAB School of Nursing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Mass Lowell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MBC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MBI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MD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MD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MUC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ited States Naval Academy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iveristy of New Mexico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iveristy of Virginia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iversity of Massachusetts Lowell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iversity of Michigan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iversity of North Carolina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iversity of Virginia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SDA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serWorks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aken Systems Inc.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rginia Commonwealth University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rginia Tech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Today’s Topics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809280" y="2367000"/>
            <a:ext cx="3902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r-Centered Desig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essage Board for Famili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hildren as Design Partner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ALACH: Holocaust Oral Histori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hildren’s Storytell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formation Seek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igital Libraries for Childre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ews Audio Acces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ternational Children’s Digital Libra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cess to Foreign Language Collection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863600" y="2367000"/>
            <a:ext cx="41547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formation Understand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isualizing Millions of Item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eb-Based Survey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mulation in Engineer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ime Series Dat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ioinformatics Visualiz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owsing Large Tre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ata Monitoring with Treemap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teractive Web Map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0" y="68400"/>
            <a:ext cx="8996400" cy="6713280"/>
            <a:chOff x="0" y="68400"/>
            <a:chExt cx="8996400" cy="6713280"/>
          </a:xfrm>
        </p:grpSpPr>
        <p:sp>
          <p:nvSpPr>
            <p:cNvPr id="650" name=""/>
            <p:cNvSpPr/>
            <p:nvPr/>
          </p:nvSpPr>
          <p:spPr>
            <a:xfrm>
              <a:off x="3152880" y="1962000"/>
              <a:ext cx="4259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3366"/>
                  </a:solidFill>
                  <a:latin typeface="Arial"/>
                </a:rPr>
                <a:t>University of Maryland, Human-Computer Interaction Laboratory</a:t>
              </a:r>
              <a:endParaRPr b="0" lang="en-US" sz="11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pic>
          <p:nvPicPr>
            <p:cNvPr id="651" name="" descr=""/>
            <p:cNvPicPr/>
            <p:nvPr/>
          </p:nvPicPr>
          <p:blipFill>
            <a:blip r:embed="rId1"/>
            <a:stretch/>
          </p:blipFill>
          <p:spPr>
            <a:xfrm>
              <a:off x="8082000" y="6027840"/>
              <a:ext cx="914400" cy="685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2" name=""/>
            <p:cNvGrpSpPr/>
            <p:nvPr/>
          </p:nvGrpSpPr>
          <p:grpSpPr>
            <a:xfrm>
              <a:off x="0" y="68400"/>
              <a:ext cx="8915400" cy="6713280"/>
              <a:chOff x="0" y="68400"/>
              <a:chExt cx="8915400" cy="6713280"/>
            </a:xfrm>
          </p:grpSpPr>
          <p:grpSp>
            <p:nvGrpSpPr>
              <p:cNvPr id="653" name=""/>
              <p:cNvGrpSpPr/>
              <p:nvPr/>
            </p:nvGrpSpPr>
            <p:grpSpPr>
              <a:xfrm>
                <a:off x="0" y="68400"/>
                <a:ext cx="647640" cy="6713280"/>
                <a:chOff x="0" y="68400"/>
                <a:chExt cx="647640" cy="671328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0" y="6672240"/>
                  <a:ext cx="647640" cy="0"/>
                </a:xfrm>
                <a:prstGeom prst="line">
                  <a:avLst/>
                </a:prstGeom>
                <a:ln w="93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0" y="6729480"/>
                  <a:ext cx="647640" cy="0"/>
                </a:xfrm>
                <a:prstGeom prst="line">
                  <a:avLst/>
                </a:prstGeom>
                <a:ln w="381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0" y="678168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0" y="6529320"/>
                  <a:ext cx="647640" cy="0"/>
                </a:xfrm>
                <a:prstGeom prst="line">
                  <a:avLst/>
                </a:prstGeom>
                <a:ln w="2844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0" y="6453360"/>
                  <a:ext cx="647640" cy="0"/>
                </a:xfrm>
                <a:prstGeom prst="line">
                  <a:avLst/>
                </a:prstGeom>
                <a:ln w="1260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0" y="660096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0" y="5819760"/>
                  <a:ext cx="647640" cy="0"/>
                </a:xfrm>
                <a:prstGeom prst="line">
                  <a:avLst/>
                </a:prstGeom>
                <a:ln w="93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0" y="5776920"/>
                  <a:ext cx="647640" cy="0"/>
                </a:xfrm>
                <a:prstGeom prst="line">
                  <a:avLst/>
                </a:prstGeom>
                <a:ln w="381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0" y="638172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0" y="6181560"/>
                  <a:ext cx="647640" cy="0"/>
                </a:xfrm>
                <a:prstGeom prst="line">
                  <a:avLst/>
                </a:prstGeom>
                <a:ln w="2844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0" y="6053040"/>
                  <a:ext cx="647640" cy="0"/>
                </a:xfrm>
                <a:prstGeom prst="line">
                  <a:avLst/>
                </a:prstGeom>
                <a:ln w="1260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0" y="6348240"/>
                  <a:ext cx="647640" cy="0"/>
                </a:xfrm>
                <a:prstGeom prst="line">
                  <a:avLst/>
                </a:prstGeom>
                <a:ln w="93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0" y="5853240"/>
                  <a:ext cx="647640" cy="0"/>
                </a:xfrm>
                <a:prstGeom prst="line">
                  <a:avLst/>
                </a:prstGeom>
                <a:ln w="1260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0" y="5938920"/>
                  <a:ext cx="647640" cy="0"/>
                </a:xfrm>
                <a:prstGeom prst="line">
                  <a:avLst/>
                </a:prstGeom>
                <a:ln w="1260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0" y="625320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0" y="6219720"/>
                  <a:ext cx="647640" cy="0"/>
                </a:xfrm>
                <a:prstGeom prst="line">
                  <a:avLst/>
                </a:prstGeom>
                <a:ln w="93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0" y="5572080"/>
                  <a:ext cx="647640" cy="0"/>
                </a:xfrm>
                <a:prstGeom prst="line">
                  <a:avLst/>
                </a:prstGeom>
                <a:ln w="93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0" y="5629320"/>
                  <a:ext cx="647640" cy="0"/>
                </a:xfrm>
                <a:prstGeom prst="line">
                  <a:avLst/>
                </a:prstGeom>
                <a:ln w="381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0" y="568152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0" y="5429160"/>
                  <a:ext cx="647640" cy="0"/>
                </a:xfrm>
                <a:prstGeom prst="line">
                  <a:avLst/>
                </a:prstGeom>
                <a:ln w="2844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0" y="5353200"/>
                  <a:ext cx="647640" cy="0"/>
                </a:xfrm>
                <a:prstGeom prst="line">
                  <a:avLst/>
                </a:prstGeom>
                <a:ln w="1260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0" y="550080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0" y="4719600"/>
                  <a:ext cx="647640" cy="0"/>
                </a:xfrm>
                <a:prstGeom prst="line">
                  <a:avLst/>
                </a:prstGeom>
                <a:ln w="93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0" y="4676760"/>
                  <a:ext cx="647640" cy="0"/>
                </a:xfrm>
                <a:prstGeom prst="line">
                  <a:avLst/>
                </a:prstGeom>
                <a:ln w="381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0" y="528156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0" y="5081760"/>
                  <a:ext cx="647640" cy="0"/>
                </a:xfrm>
                <a:prstGeom prst="line">
                  <a:avLst/>
                </a:prstGeom>
                <a:ln w="2844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0" y="4952880"/>
                  <a:ext cx="647640" cy="0"/>
                </a:xfrm>
                <a:prstGeom prst="line">
                  <a:avLst/>
                </a:prstGeom>
                <a:ln w="1260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0" y="5248440"/>
                  <a:ext cx="647640" cy="0"/>
                </a:xfrm>
                <a:prstGeom prst="line">
                  <a:avLst/>
                </a:prstGeom>
                <a:ln w="93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0" y="4753080"/>
                  <a:ext cx="647640" cy="0"/>
                </a:xfrm>
                <a:prstGeom prst="line">
                  <a:avLst/>
                </a:prstGeom>
                <a:ln w="1260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0" y="4838760"/>
                  <a:ext cx="647640" cy="0"/>
                </a:xfrm>
                <a:prstGeom prst="line">
                  <a:avLst/>
                </a:prstGeom>
                <a:ln w="1260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0" y="515304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0" y="5119560"/>
                  <a:ext cx="647640" cy="0"/>
                </a:xfrm>
                <a:prstGeom prst="line">
                  <a:avLst/>
                </a:prstGeom>
                <a:ln w="93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0" y="4494240"/>
                  <a:ext cx="647640" cy="0"/>
                </a:xfrm>
                <a:prstGeom prst="line">
                  <a:avLst/>
                </a:prstGeom>
                <a:ln w="2844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0" y="4365720"/>
                  <a:ext cx="647640" cy="0"/>
                </a:xfrm>
                <a:prstGeom prst="line">
                  <a:avLst/>
                </a:prstGeom>
                <a:ln w="1260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0" y="4251240"/>
                  <a:ext cx="647640" cy="0"/>
                </a:xfrm>
                <a:prstGeom prst="line">
                  <a:avLst/>
                </a:prstGeom>
                <a:ln w="1260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0" y="456552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0" y="4532400"/>
                  <a:ext cx="647640" cy="0"/>
                </a:xfrm>
                <a:prstGeom prst="line">
                  <a:avLst/>
                </a:prstGeom>
                <a:ln w="93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0" y="4054320"/>
                  <a:ext cx="647640" cy="0"/>
                </a:xfrm>
                <a:prstGeom prst="line">
                  <a:avLst/>
                </a:prstGeom>
                <a:ln w="93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0" y="4111560"/>
                  <a:ext cx="647640" cy="0"/>
                </a:xfrm>
                <a:prstGeom prst="line">
                  <a:avLst/>
                </a:prstGeom>
                <a:ln w="381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0" y="416412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0" y="3911760"/>
                  <a:ext cx="647640" cy="0"/>
                </a:xfrm>
                <a:prstGeom prst="line">
                  <a:avLst/>
                </a:prstGeom>
                <a:ln w="2844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0" y="3835440"/>
                  <a:ext cx="647640" cy="0"/>
                </a:xfrm>
                <a:prstGeom prst="line">
                  <a:avLst/>
                </a:prstGeom>
                <a:ln w="1260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0" y="398304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0" y="376380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0" y="3564000"/>
                  <a:ext cx="647640" cy="0"/>
                </a:xfrm>
                <a:prstGeom prst="line">
                  <a:avLst/>
                </a:prstGeom>
                <a:ln w="2844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0" y="3730680"/>
                  <a:ext cx="647640" cy="0"/>
                </a:xfrm>
                <a:prstGeom prst="line">
                  <a:avLst/>
                </a:prstGeom>
                <a:ln w="93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0" y="363528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0" y="3602160"/>
                  <a:ext cx="647640" cy="0"/>
                </a:xfrm>
                <a:prstGeom prst="line">
                  <a:avLst/>
                </a:prstGeom>
                <a:ln w="93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0" y="3381480"/>
                  <a:ext cx="647640" cy="0"/>
                </a:xfrm>
                <a:prstGeom prst="line">
                  <a:avLst/>
                </a:prstGeom>
                <a:ln w="93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0" y="3438360"/>
                  <a:ext cx="647640" cy="0"/>
                </a:xfrm>
                <a:prstGeom prst="line">
                  <a:avLst/>
                </a:prstGeom>
                <a:ln w="381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0" y="349092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0" y="3238560"/>
                  <a:ext cx="647640" cy="0"/>
                </a:xfrm>
                <a:prstGeom prst="line">
                  <a:avLst/>
                </a:prstGeom>
                <a:ln w="2844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0" y="3162240"/>
                  <a:ext cx="647640" cy="0"/>
                </a:xfrm>
                <a:prstGeom prst="line">
                  <a:avLst/>
                </a:prstGeom>
                <a:ln w="1260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0" y="330984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0" y="2529000"/>
                  <a:ext cx="647640" cy="0"/>
                </a:xfrm>
                <a:prstGeom prst="line">
                  <a:avLst/>
                </a:prstGeom>
                <a:ln w="93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0" y="2486160"/>
                  <a:ext cx="647640" cy="0"/>
                </a:xfrm>
                <a:prstGeom prst="line">
                  <a:avLst/>
                </a:prstGeom>
                <a:ln w="381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0" y="309096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0" y="2890800"/>
                  <a:ext cx="647640" cy="0"/>
                </a:xfrm>
                <a:prstGeom prst="line">
                  <a:avLst/>
                </a:prstGeom>
                <a:ln w="2844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0" y="2762280"/>
                  <a:ext cx="647640" cy="0"/>
                </a:xfrm>
                <a:prstGeom prst="line">
                  <a:avLst/>
                </a:prstGeom>
                <a:ln w="1260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0" y="3057480"/>
                  <a:ext cx="647640" cy="0"/>
                </a:xfrm>
                <a:prstGeom prst="line">
                  <a:avLst/>
                </a:prstGeom>
                <a:ln w="93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0" y="2562120"/>
                  <a:ext cx="647640" cy="0"/>
                </a:xfrm>
                <a:prstGeom prst="line">
                  <a:avLst/>
                </a:prstGeom>
                <a:ln w="1260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0" y="2647800"/>
                  <a:ext cx="647640" cy="0"/>
                </a:xfrm>
                <a:prstGeom prst="line">
                  <a:avLst/>
                </a:prstGeom>
                <a:ln w="1260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0" y="296244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0" y="2928960"/>
                  <a:ext cx="647640" cy="0"/>
                </a:xfrm>
                <a:prstGeom prst="line">
                  <a:avLst/>
                </a:prstGeom>
                <a:ln w="93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0" y="2281320"/>
                  <a:ext cx="647640" cy="0"/>
                </a:xfrm>
                <a:prstGeom prst="line">
                  <a:avLst/>
                </a:prstGeom>
                <a:ln w="93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0" y="2338560"/>
                  <a:ext cx="647640" cy="0"/>
                </a:xfrm>
                <a:prstGeom prst="line">
                  <a:avLst/>
                </a:prstGeom>
                <a:ln w="381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0" y="239076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0" y="2138400"/>
                  <a:ext cx="647640" cy="0"/>
                </a:xfrm>
                <a:prstGeom prst="line">
                  <a:avLst/>
                </a:prstGeom>
                <a:ln w="2844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0" y="220968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0" y="1612800"/>
                  <a:ext cx="647640" cy="0"/>
                </a:xfrm>
                <a:prstGeom prst="line">
                  <a:avLst/>
                </a:prstGeom>
                <a:ln w="93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0" y="1569960"/>
                  <a:ext cx="647640" cy="0"/>
                </a:xfrm>
                <a:prstGeom prst="line">
                  <a:avLst/>
                </a:prstGeom>
                <a:ln w="381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0" y="1974960"/>
                  <a:ext cx="647640" cy="0"/>
                </a:xfrm>
                <a:prstGeom prst="line">
                  <a:avLst/>
                </a:prstGeom>
                <a:ln w="2844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0" y="1846440"/>
                  <a:ext cx="647640" cy="0"/>
                </a:xfrm>
                <a:prstGeom prst="line">
                  <a:avLst/>
                </a:prstGeom>
                <a:ln w="1260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0" y="1646280"/>
                  <a:ext cx="647640" cy="0"/>
                </a:xfrm>
                <a:prstGeom prst="line">
                  <a:avLst/>
                </a:prstGeom>
                <a:ln w="1260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0" y="1731960"/>
                  <a:ext cx="647640" cy="0"/>
                </a:xfrm>
                <a:prstGeom prst="line">
                  <a:avLst/>
                </a:prstGeom>
                <a:ln w="1260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0" y="204624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0" y="2013120"/>
                  <a:ext cx="647640" cy="0"/>
                </a:xfrm>
                <a:prstGeom prst="line">
                  <a:avLst/>
                </a:prstGeom>
                <a:ln w="93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0" y="1365120"/>
                  <a:ext cx="647640" cy="0"/>
                </a:xfrm>
                <a:prstGeom prst="line">
                  <a:avLst/>
                </a:prstGeom>
                <a:ln w="93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0" y="1422360"/>
                  <a:ext cx="647640" cy="0"/>
                </a:xfrm>
                <a:prstGeom prst="line">
                  <a:avLst/>
                </a:prstGeom>
                <a:ln w="381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0" y="147492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0" y="1222200"/>
                  <a:ext cx="647640" cy="0"/>
                </a:xfrm>
                <a:prstGeom prst="line">
                  <a:avLst/>
                </a:prstGeom>
                <a:ln w="2844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0" y="129384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0" y="1139760"/>
                  <a:ext cx="647640" cy="0"/>
                </a:xfrm>
                <a:prstGeom prst="line">
                  <a:avLst/>
                </a:prstGeom>
                <a:ln w="1260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0" y="1025640"/>
                  <a:ext cx="647640" cy="0"/>
                </a:xfrm>
                <a:prstGeom prst="line">
                  <a:avLst/>
                </a:prstGeom>
                <a:ln w="1260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0" y="828720"/>
                  <a:ext cx="647640" cy="0"/>
                </a:xfrm>
                <a:prstGeom prst="line">
                  <a:avLst/>
                </a:prstGeom>
                <a:ln w="93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0" y="885960"/>
                  <a:ext cx="647640" cy="0"/>
                </a:xfrm>
                <a:prstGeom prst="line">
                  <a:avLst/>
                </a:prstGeom>
                <a:ln w="381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0" y="93816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0" y="685800"/>
                  <a:ext cx="647640" cy="0"/>
                </a:xfrm>
                <a:prstGeom prst="line">
                  <a:avLst/>
                </a:prstGeom>
                <a:ln w="2844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0" y="609480"/>
                  <a:ext cx="647640" cy="0"/>
                </a:xfrm>
                <a:prstGeom prst="line">
                  <a:avLst/>
                </a:prstGeom>
                <a:ln w="1260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0" y="75708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0" y="53820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0" y="504720"/>
                  <a:ext cx="647640" cy="0"/>
                </a:xfrm>
                <a:prstGeom prst="line">
                  <a:avLst/>
                </a:prstGeom>
                <a:ln w="93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0" y="40968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0" y="111240"/>
                  <a:ext cx="647640" cy="0"/>
                </a:xfrm>
                <a:prstGeom prst="line">
                  <a:avLst/>
                </a:prstGeom>
                <a:ln w="93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0" y="68400"/>
                  <a:ext cx="647640" cy="0"/>
                </a:xfrm>
                <a:prstGeom prst="line">
                  <a:avLst/>
                </a:prstGeom>
                <a:ln w="381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0" y="144360"/>
                  <a:ext cx="647640" cy="0"/>
                </a:xfrm>
                <a:prstGeom prst="line">
                  <a:avLst/>
                </a:prstGeom>
                <a:ln w="1260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0" y="230040"/>
                  <a:ext cx="647640" cy="0"/>
                </a:xfrm>
                <a:prstGeom prst="line">
                  <a:avLst/>
                </a:prstGeom>
                <a:ln w="1260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0" y="320760"/>
                  <a:ext cx="647640" cy="0"/>
                </a:xfrm>
                <a:prstGeom prst="line">
                  <a:avLst/>
                </a:prstGeom>
                <a:ln w="381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2" name=""/>
              <p:cNvGrpSpPr/>
              <p:nvPr/>
            </p:nvGrpSpPr>
            <p:grpSpPr>
              <a:xfrm>
                <a:off x="635040" y="325440"/>
                <a:ext cx="8280360" cy="1782720"/>
                <a:chOff x="635040" y="325440"/>
                <a:chExt cx="8280360" cy="1782720"/>
              </a:xfrm>
            </p:grpSpPr>
            <p:sp>
              <p:nvSpPr>
                <p:cNvPr id="753" name=""/>
                <p:cNvSpPr/>
                <p:nvPr/>
              </p:nvSpPr>
              <p:spPr>
                <a:xfrm>
                  <a:off x="884160" y="325440"/>
                  <a:ext cx="496800" cy="1450800"/>
                </a:xfrm>
                <a:prstGeom prst="rect">
                  <a:avLst/>
                </a:prstGeom>
                <a:solidFill>
                  <a:srgbClr val="cc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635040" y="457200"/>
                  <a:ext cx="5662440" cy="77760"/>
                </a:xfrm>
                <a:prstGeom prst="rect">
                  <a:avLst/>
                </a:prstGeom>
                <a:solidFill>
                  <a:srgbClr val="0033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7300800" y="1770120"/>
                  <a:ext cx="1474920" cy="338040"/>
                </a:xfrm>
                <a:prstGeom prst="rect">
                  <a:avLst/>
                </a:prstGeom>
                <a:solidFill>
                  <a:srgbClr val="cc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3252960" y="1922400"/>
                  <a:ext cx="5662440" cy="77760"/>
                </a:xfrm>
                <a:prstGeom prst="rect">
                  <a:avLst/>
                </a:prstGeom>
                <a:solidFill>
                  <a:srgbClr val="0033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SOH Roadmap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9am: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     Presentation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Noon:    Eat with Lunch Bunches (&amp; cake!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1:30pm: Final Presentation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3:30pm: Open House with Live Demo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njoy the presentation slides, tech reports, video, etc. in your bag.  “Leonardo’s Laptop” will be mailed to you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206680" y="5865840"/>
            <a:ext cx="248796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lease don’t forget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e survey!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Human-Computer Interaction (HCI)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93" name="" descr="We have a winner!"/>
          <p:cNvPicPr/>
          <p:nvPr/>
        </p:nvPicPr>
        <p:blipFill>
          <a:blip r:embed="rId1"/>
          <a:stretch/>
        </p:blipFill>
        <p:spPr>
          <a:xfrm>
            <a:off x="873000" y="2508120"/>
            <a:ext cx="4670640" cy="160344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Stupid Messages 101"/>
          <p:cNvPicPr/>
          <p:nvPr/>
        </p:nvPicPr>
        <p:blipFill>
          <a:blip r:embed="rId2"/>
          <a:stretch/>
        </p:blipFill>
        <p:spPr>
          <a:xfrm>
            <a:off x="4145040" y="4389480"/>
            <a:ext cx="4597200" cy="14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Human-Computer Interaction Laboratory (HCIL)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95240" y="24429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Interdisciplinary research team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puter Sci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sycholog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formation Stud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dministered within UMIACS, 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e Institute for Advanced Computer Studi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0" y="68400"/>
            <a:ext cx="8996400" cy="6713280"/>
            <a:chOff x="0" y="68400"/>
            <a:chExt cx="8996400" cy="6713280"/>
          </a:xfrm>
        </p:grpSpPr>
        <p:sp>
          <p:nvSpPr>
            <p:cNvPr id="298" name=""/>
            <p:cNvSpPr/>
            <p:nvPr/>
          </p:nvSpPr>
          <p:spPr>
            <a:xfrm>
              <a:off x="3152880" y="1962000"/>
              <a:ext cx="4259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3366"/>
                  </a:solidFill>
                  <a:latin typeface="Arial"/>
                </a:rPr>
                <a:t>University of Maryland, Human-Computer Interaction Laboratory</a:t>
              </a:r>
              <a:endParaRPr b="0" lang="en-US" sz="11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pic>
          <p:nvPicPr>
            <p:cNvPr id="299" name="" descr=""/>
            <p:cNvPicPr/>
            <p:nvPr/>
          </p:nvPicPr>
          <p:blipFill>
            <a:blip r:embed="rId1"/>
            <a:stretch/>
          </p:blipFill>
          <p:spPr>
            <a:xfrm>
              <a:off x="8082000" y="6027840"/>
              <a:ext cx="914400" cy="685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0" name=""/>
            <p:cNvGrpSpPr/>
            <p:nvPr/>
          </p:nvGrpSpPr>
          <p:grpSpPr>
            <a:xfrm>
              <a:off x="0" y="68400"/>
              <a:ext cx="8915400" cy="6713280"/>
              <a:chOff x="0" y="68400"/>
              <a:chExt cx="8915400" cy="6713280"/>
            </a:xfrm>
          </p:grpSpPr>
          <p:grpSp>
            <p:nvGrpSpPr>
              <p:cNvPr id="301" name=""/>
              <p:cNvGrpSpPr/>
              <p:nvPr/>
            </p:nvGrpSpPr>
            <p:grpSpPr>
              <a:xfrm>
                <a:off x="0" y="68400"/>
                <a:ext cx="647640" cy="6713280"/>
                <a:chOff x="0" y="68400"/>
                <a:chExt cx="647640" cy="671328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0" y="6672240"/>
                  <a:ext cx="647640" cy="0"/>
                </a:xfrm>
                <a:prstGeom prst="line">
                  <a:avLst/>
                </a:prstGeom>
                <a:ln w="93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0" y="6729480"/>
                  <a:ext cx="647640" cy="0"/>
                </a:xfrm>
                <a:prstGeom prst="line">
                  <a:avLst/>
                </a:prstGeom>
                <a:ln w="381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0" y="678168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0" y="6529320"/>
                  <a:ext cx="647640" cy="0"/>
                </a:xfrm>
                <a:prstGeom prst="line">
                  <a:avLst/>
                </a:prstGeom>
                <a:ln w="2844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0" y="6453360"/>
                  <a:ext cx="647640" cy="0"/>
                </a:xfrm>
                <a:prstGeom prst="line">
                  <a:avLst/>
                </a:prstGeom>
                <a:ln w="1260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0" y="660096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0" y="5819760"/>
                  <a:ext cx="647640" cy="0"/>
                </a:xfrm>
                <a:prstGeom prst="line">
                  <a:avLst/>
                </a:prstGeom>
                <a:ln w="93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0" y="5776920"/>
                  <a:ext cx="647640" cy="0"/>
                </a:xfrm>
                <a:prstGeom prst="line">
                  <a:avLst/>
                </a:prstGeom>
                <a:ln w="381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0" y="638172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0" y="6181560"/>
                  <a:ext cx="647640" cy="0"/>
                </a:xfrm>
                <a:prstGeom prst="line">
                  <a:avLst/>
                </a:prstGeom>
                <a:ln w="2844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0" y="6053040"/>
                  <a:ext cx="647640" cy="0"/>
                </a:xfrm>
                <a:prstGeom prst="line">
                  <a:avLst/>
                </a:prstGeom>
                <a:ln w="1260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0" y="6348240"/>
                  <a:ext cx="647640" cy="0"/>
                </a:xfrm>
                <a:prstGeom prst="line">
                  <a:avLst/>
                </a:prstGeom>
                <a:ln w="93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0" y="5853240"/>
                  <a:ext cx="647640" cy="0"/>
                </a:xfrm>
                <a:prstGeom prst="line">
                  <a:avLst/>
                </a:prstGeom>
                <a:ln w="1260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0" y="5938920"/>
                  <a:ext cx="647640" cy="0"/>
                </a:xfrm>
                <a:prstGeom prst="line">
                  <a:avLst/>
                </a:prstGeom>
                <a:ln w="1260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0" y="625320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0" y="6219720"/>
                  <a:ext cx="647640" cy="0"/>
                </a:xfrm>
                <a:prstGeom prst="line">
                  <a:avLst/>
                </a:prstGeom>
                <a:ln w="93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0" y="5572080"/>
                  <a:ext cx="647640" cy="0"/>
                </a:xfrm>
                <a:prstGeom prst="line">
                  <a:avLst/>
                </a:prstGeom>
                <a:ln w="93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0" y="5629320"/>
                  <a:ext cx="647640" cy="0"/>
                </a:xfrm>
                <a:prstGeom prst="line">
                  <a:avLst/>
                </a:prstGeom>
                <a:ln w="381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0" y="568152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0" y="5429160"/>
                  <a:ext cx="647640" cy="0"/>
                </a:xfrm>
                <a:prstGeom prst="line">
                  <a:avLst/>
                </a:prstGeom>
                <a:ln w="2844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0" y="5353200"/>
                  <a:ext cx="647640" cy="0"/>
                </a:xfrm>
                <a:prstGeom prst="line">
                  <a:avLst/>
                </a:prstGeom>
                <a:ln w="1260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0" y="550080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0" y="4719600"/>
                  <a:ext cx="647640" cy="0"/>
                </a:xfrm>
                <a:prstGeom prst="line">
                  <a:avLst/>
                </a:prstGeom>
                <a:ln w="93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0" y="4676760"/>
                  <a:ext cx="647640" cy="0"/>
                </a:xfrm>
                <a:prstGeom prst="line">
                  <a:avLst/>
                </a:prstGeom>
                <a:ln w="381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0" y="528156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0" y="5081760"/>
                  <a:ext cx="647640" cy="0"/>
                </a:xfrm>
                <a:prstGeom prst="line">
                  <a:avLst/>
                </a:prstGeom>
                <a:ln w="2844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0" y="4952880"/>
                  <a:ext cx="647640" cy="0"/>
                </a:xfrm>
                <a:prstGeom prst="line">
                  <a:avLst/>
                </a:prstGeom>
                <a:ln w="1260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0" y="5248440"/>
                  <a:ext cx="647640" cy="0"/>
                </a:xfrm>
                <a:prstGeom prst="line">
                  <a:avLst/>
                </a:prstGeom>
                <a:ln w="93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0" y="4753080"/>
                  <a:ext cx="647640" cy="0"/>
                </a:xfrm>
                <a:prstGeom prst="line">
                  <a:avLst/>
                </a:prstGeom>
                <a:ln w="1260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0" y="4838760"/>
                  <a:ext cx="647640" cy="0"/>
                </a:xfrm>
                <a:prstGeom prst="line">
                  <a:avLst/>
                </a:prstGeom>
                <a:ln w="1260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0" y="515304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0" y="5119560"/>
                  <a:ext cx="647640" cy="0"/>
                </a:xfrm>
                <a:prstGeom prst="line">
                  <a:avLst/>
                </a:prstGeom>
                <a:ln w="93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0" y="4494240"/>
                  <a:ext cx="647640" cy="0"/>
                </a:xfrm>
                <a:prstGeom prst="line">
                  <a:avLst/>
                </a:prstGeom>
                <a:ln w="2844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0" y="4365720"/>
                  <a:ext cx="647640" cy="0"/>
                </a:xfrm>
                <a:prstGeom prst="line">
                  <a:avLst/>
                </a:prstGeom>
                <a:ln w="1260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0" y="4251240"/>
                  <a:ext cx="647640" cy="0"/>
                </a:xfrm>
                <a:prstGeom prst="line">
                  <a:avLst/>
                </a:prstGeom>
                <a:ln w="1260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0" y="456552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0" y="4532400"/>
                  <a:ext cx="647640" cy="0"/>
                </a:xfrm>
                <a:prstGeom prst="line">
                  <a:avLst/>
                </a:prstGeom>
                <a:ln w="93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0" y="4054320"/>
                  <a:ext cx="647640" cy="0"/>
                </a:xfrm>
                <a:prstGeom prst="line">
                  <a:avLst/>
                </a:prstGeom>
                <a:ln w="93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0" y="4111560"/>
                  <a:ext cx="647640" cy="0"/>
                </a:xfrm>
                <a:prstGeom prst="line">
                  <a:avLst/>
                </a:prstGeom>
                <a:ln w="381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0" y="416412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0" y="3911760"/>
                  <a:ext cx="647640" cy="0"/>
                </a:xfrm>
                <a:prstGeom prst="line">
                  <a:avLst/>
                </a:prstGeom>
                <a:ln w="2844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0" y="3835440"/>
                  <a:ext cx="647640" cy="0"/>
                </a:xfrm>
                <a:prstGeom prst="line">
                  <a:avLst/>
                </a:prstGeom>
                <a:ln w="1260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0" y="398304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0" y="376380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0" y="3564000"/>
                  <a:ext cx="647640" cy="0"/>
                </a:xfrm>
                <a:prstGeom prst="line">
                  <a:avLst/>
                </a:prstGeom>
                <a:ln w="2844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0" y="3730680"/>
                  <a:ext cx="647640" cy="0"/>
                </a:xfrm>
                <a:prstGeom prst="line">
                  <a:avLst/>
                </a:prstGeom>
                <a:ln w="93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0" y="363528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0" y="3602160"/>
                  <a:ext cx="647640" cy="0"/>
                </a:xfrm>
                <a:prstGeom prst="line">
                  <a:avLst/>
                </a:prstGeom>
                <a:ln w="93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0" y="3381480"/>
                  <a:ext cx="647640" cy="0"/>
                </a:xfrm>
                <a:prstGeom prst="line">
                  <a:avLst/>
                </a:prstGeom>
                <a:ln w="93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0" y="3438360"/>
                  <a:ext cx="647640" cy="0"/>
                </a:xfrm>
                <a:prstGeom prst="line">
                  <a:avLst/>
                </a:prstGeom>
                <a:ln w="381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0" y="349092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0" y="3238560"/>
                  <a:ext cx="647640" cy="0"/>
                </a:xfrm>
                <a:prstGeom prst="line">
                  <a:avLst/>
                </a:prstGeom>
                <a:ln w="2844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0" y="3162240"/>
                  <a:ext cx="647640" cy="0"/>
                </a:xfrm>
                <a:prstGeom prst="line">
                  <a:avLst/>
                </a:prstGeom>
                <a:ln w="1260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0" y="330984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0" y="2529000"/>
                  <a:ext cx="647640" cy="0"/>
                </a:xfrm>
                <a:prstGeom prst="line">
                  <a:avLst/>
                </a:prstGeom>
                <a:ln w="93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0" y="2486160"/>
                  <a:ext cx="647640" cy="0"/>
                </a:xfrm>
                <a:prstGeom prst="line">
                  <a:avLst/>
                </a:prstGeom>
                <a:ln w="381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0" y="309096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0" y="2890800"/>
                  <a:ext cx="647640" cy="0"/>
                </a:xfrm>
                <a:prstGeom prst="line">
                  <a:avLst/>
                </a:prstGeom>
                <a:ln w="2844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0" y="2762280"/>
                  <a:ext cx="647640" cy="0"/>
                </a:xfrm>
                <a:prstGeom prst="line">
                  <a:avLst/>
                </a:prstGeom>
                <a:ln w="1260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0" y="3057480"/>
                  <a:ext cx="647640" cy="0"/>
                </a:xfrm>
                <a:prstGeom prst="line">
                  <a:avLst/>
                </a:prstGeom>
                <a:ln w="93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0" y="2562120"/>
                  <a:ext cx="647640" cy="0"/>
                </a:xfrm>
                <a:prstGeom prst="line">
                  <a:avLst/>
                </a:prstGeom>
                <a:ln w="1260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0" y="2647800"/>
                  <a:ext cx="647640" cy="0"/>
                </a:xfrm>
                <a:prstGeom prst="line">
                  <a:avLst/>
                </a:prstGeom>
                <a:ln w="1260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0" y="296244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0" y="2928960"/>
                  <a:ext cx="647640" cy="0"/>
                </a:xfrm>
                <a:prstGeom prst="line">
                  <a:avLst/>
                </a:prstGeom>
                <a:ln w="93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0" y="2281320"/>
                  <a:ext cx="647640" cy="0"/>
                </a:xfrm>
                <a:prstGeom prst="line">
                  <a:avLst/>
                </a:prstGeom>
                <a:ln w="93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0" y="2338560"/>
                  <a:ext cx="647640" cy="0"/>
                </a:xfrm>
                <a:prstGeom prst="line">
                  <a:avLst/>
                </a:prstGeom>
                <a:ln w="381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0" y="239076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0" y="2138400"/>
                  <a:ext cx="647640" cy="0"/>
                </a:xfrm>
                <a:prstGeom prst="line">
                  <a:avLst/>
                </a:prstGeom>
                <a:ln w="2844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0" y="220968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0" y="1612800"/>
                  <a:ext cx="647640" cy="0"/>
                </a:xfrm>
                <a:prstGeom prst="line">
                  <a:avLst/>
                </a:prstGeom>
                <a:ln w="93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0" y="1569960"/>
                  <a:ext cx="647640" cy="0"/>
                </a:xfrm>
                <a:prstGeom prst="line">
                  <a:avLst/>
                </a:prstGeom>
                <a:ln w="381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0" y="1974960"/>
                  <a:ext cx="647640" cy="0"/>
                </a:xfrm>
                <a:prstGeom prst="line">
                  <a:avLst/>
                </a:prstGeom>
                <a:ln w="2844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0" y="1846440"/>
                  <a:ext cx="647640" cy="0"/>
                </a:xfrm>
                <a:prstGeom prst="line">
                  <a:avLst/>
                </a:prstGeom>
                <a:ln w="1260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0" y="1646280"/>
                  <a:ext cx="647640" cy="0"/>
                </a:xfrm>
                <a:prstGeom prst="line">
                  <a:avLst/>
                </a:prstGeom>
                <a:ln w="1260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0" y="1731960"/>
                  <a:ext cx="647640" cy="0"/>
                </a:xfrm>
                <a:prstGeom prst="line">
                  <a:avLst/>
                </a:prstGeom>
                <a:ln w="1260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0" y="204624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0" y="2013120"/>
                  <a:ext cx="647640" cy="0"/>
                </a:xfrm>
                <a:prstGeom prst="line">
                  <a:avLst/>
                </a:prstGeom>
                <a:ln w="93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0" y="1365120"/>
                  <a:ext cx="647640" cy="0"/>
                </a:xfrm>
                <a:prstGeom prst="line">
                  <a:avLst/>
                </a:prstGeom>
                <a:ln w="93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0" y="1422360"/>
                  <a:ext cx="647640" cy="0"/>
                </a:xfrm>
                <a:prstGeom prst="line">
                  <a:avLst/>
                </a:prstGeom>
                <a:ln w="381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0" y="147492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0" y="1222200"/>
                  <a:ext cx="647640" cy="0"/>
                </a:xfrm>
                <a:prstGeom prst="line">
                  <a:avLst/>
                </a:prstGeom>
                <a:ln w="2844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0" y="129384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0" y="1139760"/>
                  <a:ext cx="647640" cy="0"/>
                </a:xfrm>
                <a:prstGeom prst="line">
                  <a:avLst/>
                </a:prstGeom>
                <a:ln w="1260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0" y="1025640"/>
                  <a:ext cx="647640" cy="0"/>
                </a:xfrm>
                <a:prstGeom prst="line">
                  <a:avLst/>
                </a:prstGeom>
                <a:ln w="1260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0" y="828720"/>
                  <a:ext cx="647640" cy="0"/>
                </a:xfrm>
                <a:prstGeom prst="line">
                  <a:avLst/>
                </a:prstGeom>
                <a:ln w="93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0" y="885960"/>
                  <a:ext cx="647640" cy="0"/>
                </a:xfrm>
                <a:prstGeom prst="line">
                  <a:avLst/>
                </a:prstGeom>
                <a:ln w="381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0" y="93816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0" y="685800"/>
                  <a:ext cx="647640" cy="0"/>
                </a:xfrm>
                <a:prstGeom prst="line">
                  <a:avLst/>
                </a:prstGeom>
                <a:ln w="2844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0" y="609480"/>
                  <a:ext cx="647640" cy="0"/>
                </a:xfrm>
                <a:prstGeom prst="line">
                  <a:avLst/>
                </a:prstGeom>
                <a:ln w="1260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0" y="75708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0" y="53820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0" y="504720"/>
                  <a:ext cx="647640" cy="0"/>
                </a:xfrm>
                <a:prstGeom prst="line">
                  <a:avLst/>
                </a:prstGeom>
                <a:ln w="93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0" y="40968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0" y="111240"/>
                  <a:ext cx="647640" cy="0"/>
                </a:xfrm>
                <a:prstGeom prst="line">
                  <a:avLst/>
                </a:prstGeom>
                <a:ln w="93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0" y="68400"/>
                  <a:ext cx="647640" cy="0"/>
                </a:xfrm>
                <a:prstGeom prst="line">
                  <a:avLst/>
                </a:prstGeom>
                <a:ln w="381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0" y="144360"/>
                  <a:ext cx="647640" cy="0"/>
                </a:xfrm>
                <a:prstGeom prst="line">
                  <a:avLst/>
                </a:prstGeom>
                <a:ln w="1260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0" y="230040"/>
                  <a:ext cx="647640" cy="0"/>
                </a:xfrm>
                <a:prstGeom prst="line">
                  <a:avLst/>
                </a:prstGeom>
                <a:ln w="1260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0" y="320760"/>
                  <a:ext cx="647640" cy="0"/>
                </a:xfrm>
                <a:prstGeom prst="line">
                  <a:avLst/>
                </a:prstGeom>
                <a:ln w="381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635040" y="325440"/>
                <a:ext cx="8280360" cy="1782720"/>
                <a:chOff x="635040" y="325440"/>
                <a:chExt cx="8280360" cy="178272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884160" y="325440"/>
                  <a:ext cx="496800" cy="1450800"/>
                </a:xfrm>
                <a:prstGeom prst="rect">
                  <a:avLst/>
                </a:prstGeom>
                <a:solidFill>
                  <a:srgbClr val="cc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635040" y="457200"/>
                  <a:ext cx="5662440" cy="77760"/>
                </a:xfrm>
                <a:prstGeom prst="rect">
                  <a:avLst/>
                </a:prstGeom>
                <a:solidFill>
                  <a:srgbClr val="0033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7300800" y="1770120"/>
                  <a:ext cx="1474920" cy="338040"/>
                </a:xfrm>
                <a:prstGeom prst="rect">
                  <a:avLst/>
                </a:prstGeom>
                <a:solidFill>
                  <a:srgbClr val="cc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3252960" y="1922400"/>
                  <a:ext cx="5662440" cy="77760"/>
                </a:xfrm>
                <a:prstGeom prst="rect">
                  <a:avLst/>
                </a:prstGeom>
                <a:solidFill>
                  <a:srgbClr val="0033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User interfaces and …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ign, implement &amp; evaluate new interface technolog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ork closely with us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llaborate with government and industr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cientific metho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novate with a range of technolog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raphics, robotics, speech, PDAs, input devices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isualization, collaboration, information retrieval, children/family applications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0" y="68400"/>
            <a:ext cx="8996400" cy="6713280"/>
            <a:chOff x="0" y="68400"/>
            <a:chExt cx="8996400" cy="6713280"/>
          </a:xfrm>
        </p:grpSpPr>
        <p:sp>
          <p:nvSpPr>
            <p:cNvPr id="408" name=""/>
            <p:cNvSpPr/>
            <p:nvPr/>
          </p:nvSpPr>
          <p:spPr>
            <a:xfrm>
              <a:off x="3152880" y="1962000"/>
              <a:ext cx="4259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3366"/>
                  </a:solidFill>
                  <a:latin typeface="Arial"/>
                </a:rPr>
                <a:t>University of Maryland, Human-Computer Interaction Laboratory</a:t>
              </a:r>
              <a:endParaRPr b="0" lang="en-US" sz="11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pic>
          <p:nvPicPr>
            <p:cNvPr id="409" name="" descr=""/>
            <p:cNvPicPr/>
            <p:nvPr/>
          </p:nvPicPr>
          <p:blipFill>
            <a:blip r:embed="rId1"/>
            <a:stretch/>
          </p:blipFill>
          <p:spPr>
            <a:xfrm>
              <a:off x="8082000" y="6027840"/>
              <a:ext cx="914400" cy="685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0" name=""/>
            <p:cNvGrpSpPr/>
            <p:nvPr/>
          </p:nvGrpSpPr>
          <p:grpSpPr>
            <a:xfrm>
              <a:off x="0" y="68400"/>
              <a:ext cx="8915400" cy="6713280"/>
              <a:chOff x="0" y="68400"/>
              <a:chExt cx="8915400" cy="6713280"/>
            </a:xfrm>
          </p:grpSpPr>
          <p:grpSp>
            <p:nvGrpSpPr>
              <p:cNvPr id="411" name=""/>
              <p:cNvGrpSpPr/>
              <p:nvPr/>
            </p:nvGrpSpPr>
            <p:grpSpPr>
              <a:xfrm>
                <a:off x="0" y="68400"/>
                <a:ext cx="647640" cy="6713280"/>
                <a:chOff x="0" y="68400"/>
                <a:chExt cx="647640" cy="671328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0" y="6672240"/>
                  <a:ext cx="647640" cy="0"/>
                </a:xfrm>
                <a:prstGeom prst="line">
                  <a:avLst/>
                </a:prstGeom>
                <a:ln w="93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0" y="6729480"/>
                  <a:ext cx="647640" cy="0"/>
                </a:xfrm>
                <a:prstGeom prst="line">
                  <a:avLst/>
                </a:prstGeom>
                <a:ln w="381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0" y="678168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0" y="6529320"/>
                  <a:ext cx="647640" cy="0"/>
                </a:xfrm>
                <a:prstGeom prst="line">
                  <a:avLst/>
                </a:prstGeom>
                <a:ln w="2844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0" y="6453360"/>
                  <a:ext cx="647640" cy="0"/>
                </a:xfrm>
                <a:prstGeom prst="line">
                  <a:avLst/>
                </a:prstGeom>
                <a:ln w="1260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0" y="660096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0" y="5819760"/>
                  <a:ext cx="647640" cy="0"/>
                </a:xfrm>
                <a:prstGeom prst="line">
                  <a:avLst/>
                </a:prstGeom>
                <a:ln w="93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0" y="5776920"/>
                  <a:ext cx="647640" cy="0"/>
                </a:xfrm>
                <a:prstGeom prst="line">
                  <a:avLst/>
                </a:prstGeom>
                <a:ln w="381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0" y="638172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0" y="6181560"/>
                  <a:ext cx="647640" cy="0"/>
                </a:xfrm>
                <a:prstGeom prst="line">
                  <a:avLst/>
                </a:prstGeom>
                <a:ln w="2844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0" y="6053040"/>
                  <a:ext cx="647640" cy="0"/>
                </a:xfrm>
                <a:prstGeom prst="line">
                  <a:avLst/>
                </a:prstGeom>
                <a:ln w="1260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0" y="6348240"/>
                  <a:ext cx="647640" cy="0"/>
                </a:xfrm>
                <a:prstGeom prst="line">
                  <a:avLst/>
                </a:prstGeom>
                <a:ln w="93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0" y="5853240"/>
                  <a:ext cx="647640" cy="0"/>
                </a:xfrm>
                <a:prstGeom prst="line">
                  <a:avLst/>
                </a:prstGeom>
                <a:ln w="1260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0" y="5938920"/>
                  <a:ext cx="647640" cy="0"/>
                </a:xfrm>
                <a:prstGeom prst="line">
                  <a:avLst/>
                </a:prstGeom>
                <a:ln w="1260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0" y="625320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0" y="6219720"/>
                  <a:ext cx="647640" cy="0"/>
                </a:xfrm>
                <a:prstGeom prst="line">
                  <a:avLst/>
                </a:prstGeom>
                <a:ln w="93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0" y="5572080"/>
                  <a:ext cx="647640" cy="0"/>
                </a:xfrm>
                <a:prstGeom prst="line">
                  <a:avLst/>
                </a:prstGeom>
                <a:ln w="93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0" y="5629320"/>
                  <a:ext cx="647640" cy="0"/>
                </a:xfrm>
                <a:prstGeom prst="line">
                  <a:avLst/>
                </a:prstGeom>
                <a:ln w="381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0" y="568152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0" y="5429160"/>
                  <a:ext cx="647640" cy="0"/>
                </a:xfrm>
                <a:prstGeom prst="line">
                  <a:avLst/>
                </a:prstGeom>
                <a:ln w="2844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0" y="5353200"/>
                  <a:ext cx="647640" cy="0"/>
                </a:xfrm>
                <a:prstGeom prst="line">
                  <a:avLst/>
                </a:prstGeom>
                <a:ln w="1260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0" y="550080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0" y="4719600"/>
                  <a:ext cx="647640" cy="0"/>
                </a:xfrm>
                <a:prstGeom prst="line">
                  <a:avLst/>
                </a:prstGeom>
                <a:ln w="93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0" y="4676760"/>
                  <a:ext cx="647640" cy="0"/>
                </a:xfrm>
                <a:prstGeom prst="line">
                  <a:avLst/>
                </a:prstGeom>
                <a:ln w="381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0" y="528156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0" y="5081760"/>
                  <a:ext cx="647640" cy="0"/>
                </a:xfrm>
                <a:prstGeom prst="line">
                  <a:avLst/>
                </a:prstGeom>
                <a:ln w="2844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0" y="4952880"/>
                  <a:ext cx="647640" cy="0"/>
                </a:xfrm>
                <a:prstGeom prst="line">
                  <a:avLst/>
                </a:prstGeom>
                <a:ln w="1260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0" y="5248440"/>
                  <a:ext cx="647640" cy="0"/>
                </a:xfrm>
                <a:prstGeom prst="line">
                  <a:avLst/>
                </a:prstGeom>
                <a:ln w="93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0" y="4753080"/>
                  <a:ext cx="647640" cy="0"/>
                </a:xfrm>
                <a:prstGeom prst="line">
                  <a:avLst/>
                </a:prstGeom>
                <a:ln w="1260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0" y="4838760"/>
                  <a:ext cx="647640" cy="0"/>
                </a:xfrm>
                <a:prstGeom prst="line">
                  <a:avLst/>
                </a:prstGeom>
                <a:ln w="1260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0" y="515304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0" y="5119560"/>
                  <a:ext cx="647640" cy="0"/>
                </a:xfrm>
                <a:prstGeom prst="line">
                  <a:avLst/>
                </a:prstGeom>
                <a:ln w="93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0" y="4494240"/>
                  <a:ext cx="647640" cy="0"/>
                </a:xfrm>
                <a:prstGeom prst="line">
                  <a:avLst/>
                </a:prstGeom>
                <a:ln w="2844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0" y="4365720"/>
                  <a:ext cx="647640" cy="0"/>
                </a:xfrm>
                <a:prstGeom prst="line">
                  <a:avLst/>
                </a:prstGeom>
                <a:ln w="1260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0" y="4251240"/>
                  <a:ext cx="647640" cy="0"/>
                </a:xfrm>
                <a:prstGeom prst="line">
                  <a:avLst/>
                </a:prstGeom>
                <a:ln w="1260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0" y="456552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0" y="4532400"/>
                  <a:ext cx="647640" cy="0"/>
                </a:xfrm>
                <a:prstGeom prst="line">
                  <a:avLst/>
                </a:prstGeom>
                <a:ln w="93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0" y="4054320"/>
                  <a:ext cx="647640" cy="0"/>
                </a:xfrm>
                <a:prstGeom prst="line">
                  <a:avLst/>
                </a:prstGeom>
                <a:ln w="93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0" y="4111560"/>
                  <a:ext cx="647640" cy="0"/>
                </a:xfrm>
                <a:prstGeom prst="line">
                  <a:avLst/>
                </a:prstGeom>
                <a:ln w="381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0" y="416412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0" y="3911760"/>
                  <a:ext cx="647640" cy="0"/>
                </a:xfrm>
                <a:prstGeom prst="line">
                  <a:avLst/>
                </a:prstGeom>
                <a:ln w="2844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0" y="3835440"/>
                  <a:ext cx="647640" cy="0"/>
                </a:xfrm>
                <a:prstGeom prst="line">
                  <a:avLst/>
                </a:prstGeom>
                <a:ln w="1260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0" y="398304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0" y="376380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0" y="3564000"/>
                  <a:ext cx="647640" cy="0"/>
                </a:xfrm>
                <a:prstGeom prst="line">
                  <a:avLst/>
                </a:prstGeom>
                <a:ln w="2844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0" y="3730680"/>
                  <a:ext cx="647640" cy="0"/>
                </a:xfrm>
                <a:prstGeom prst="line">
                  <a:avLst/>
                </a:prstGeom>
                <a:ln w="93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0" y="363528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0" y="3602160"/>
                  <a:ext cx="647640" cy="0"/>
                </a:xfrm>
                <a:prstGeom prst="line">
                  <a:avLst/>
                </a:prstGeom>
                <a:ln w="93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0" y="3381480"/>
                  <a:ext cx="647640" cy="0"/>
                </a:xfrm>
                <a:prstGeom prst="line">
                  <a:avLst/>
                </a:prstGeom>
                <a:ln w="93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0" y="3438360"/>
                  <a:ext cx="647640" cy="0"/>
                </a:xfrm>
                <a:prstGeom prst="line">
                  <a:avLst/>
                </a:prstGeom>
                <a:ln w="381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0" y="349092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0" y="3238560"/>
                  <a:ext cx="647640" cy="0"/>
                </a:xfrm>
                <a:prstGeom prst="line">
                  <a:avLst/>
                </a:prstGeom>
                <a:ln w="2844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0" y="3162240"/>
                  <a:ext cx="647640" cy="0"/>
                </a:xfrm>
                <a:prstGeom prst="line">
                  <a:avLst/>
                </a:prstGeom>
                <a:ln w="1260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0" y="330984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0" y="2529000"/>
                  <a:ext cx="647640" cy="0"/>
                </a:xfrm>
                <a:prstGeom prst="line">
                  <a:avLst/>
                </a:prstGeom>
                <a:ln w="93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0" y="2486160"/>
                  <a:ext cx="647640" cy="0"/>
                </a:xfrm>
                <a:prstGeom prst="line">
                  <a:avLst/>
                </a:prstGeom>
                <a:ln w="381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0" y="309096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0" y="2890800"/>
                  <a:ext cx="647640" cy="0"/>
                </a:xfrm>
                <a:prstGeom prst="line">
                  <a:avLst/>
                </a:prstGeom>
                <a:ln w="2844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0" y="2762280"/>
                  <a:ext cx="647640" cy="0"/>
                </a:xfrm>
                <a:prstGeom prst="line">
                  <a:avLst/>
                </a:prstGeom>
                <a:ln w="1260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0" y="3057480"/>
                  <a:ext cx="647640" cy="0"/>
                </a:xfrm>
                <a:prstGeom prst="line">
                  <a:avLst/>
                </a:prstGeom>
                <a:ln w="93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0" y="2562120"/>
                  <a:ext cx="647640" cy="0"/>
                </a:xfrm>
                <a:prstGeom prst="line">
                  <a:avLst/>
                </a:prstGeom>
                <a:ln w="1260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0" y="2647800"/>
                  <a:ext cx="647640" cy="0"/>
                </a:xfrm>
                <a:prstGeom prst="line">
                  <a:avLst/>
                </a:prstGeom>
                <a:ln w="1260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0" y="296244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0" y="2928960"/>
                  <a:ext cx="647640" cy="0"/>
                </a:xfrm>
                <a:prstGeom prst="line">
                  <a:avLst/>
                </a:prstGeom>
                <a:ln w="93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0" y="2281320"/>
                  <a:ext cx="647640" cy="0"/>
                </a:xfrm>
                <a:prstGeom prst="line">
                  <a:avLst/>
                </a:prstGeom>
                <a:ln w="93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0" y="2338560"/>
                  <a:ext cx="647640" cy="0"/>
                </a:xfrm>
                <a:prstGeom prst="line">
                  <a:avLst/>
                </a:prstGeom>
                <a:ln w="381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0" y="239076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0" y="2138400"/>
                  <a:ext cx="647640" cy="0"/>
                </a:xfrm>
                <a:prstGeom prst="line">
                  <a:avLst/>
                </a:prstGeom>
                <a:ln w="2844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0" y="220968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0" y="1612800"/>
                  <a:ext cx="647640" cy="0"/>
                </a:xfrm>
                <a:prstGeom prst="line">
                  <a:avLst/>
                </a:prstGeom>
                <a:ln w="93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0" y="1569960"/>
                  <a:ext cx="647640" cy="0"/>
                </a:xfrm>
                <a:prstGeom prst="line">
                  <a:avLst/>
                </a:prstGeom>
                <a:ln w="381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0" y="1974960"/>
                  <a:ext cx="647640" cy="0"/>
                </a:xfrm>
                <a:prstGeom prst="line">
                  <a:avLst/>
                </a:prstGeom>
                <a:ln w="2844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0" y="1846440"/>
                  <a:ext cx="647640" cy="0"/>
                </a:xfrm>
                <a:prstGeom prst="line">
                  <a:avLst/>
                </a:prstGeom>
                <a:ln w="1260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0" y="1646280"/>
                  <a:ext cx="647640" cy="0"/>
                </a:xfrm>
                <a:prstGeom prst="line">
                  <a:avLst/>
                </a:prstGeom>
                <a:ln w="1260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0" y="1731960"/>
                  <a:ext cx="647640" cy="0"/>
                </a:xfrm>
                <a:prstGeom prst="line">
                  <a:avLst/>
                </a:prstGeom>
                <a:ln w="1260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0" y="204624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0" y="2013120"/>
                  <a:ext cx="647640" cy="0"/>
                </a:xfrm>
                <a:prstGeom prst="line">
                  <a:avLst/>
                </a:prstGeom>
                <a:ln w="93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0" y="1365120"/>
                  <a:ext cx="647640" cy="0"/>
                </a:xfrm>
                <a:prstGeom prst="line">
                  <a:avLst/>
                </a:prstGeom>
                <a:ln w="93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0" y="1422360"/>
                  <a:ext cx="647640" cy="0"/>
                </a:xfrm>
                <a:prstGeom prst="line">
                  <a:avLst/>
                </a:prstGeom>
                <a:ln w="381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0" y="147492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0" y="1222200"/>
                  <a:ext cx="647640" cy="0"/>
                </a:xfrm>
                <a:prstGeom prst="line">
                  <a:avLst/>
                </a:prstGeom>
                <a:ln w="2844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0" y="129384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0" y="1139760"/>
                  <a:ext cx="647640" cy="0"/>
                </a:xfrm>
                <a:prstGeom prst="line">
                  <a:avLst/>
                </a:prstGeom>
                <a:ln w="1260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0" y="1025640"/>
                  <a:ext cx="647640" cy="0"/>
                </a:xfrm>
                <a:prstGeom prst="line">
                  <a:avLst/>
                </a:prstGeom>
                <a:ln w="1260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0" y="828720"/>
                  <a:ext cx="647640" cy="0"/>
                </a:xfrm>
                <a:prstGeom prst="line">
                  <a:avLst/>
                </a:prstGeom>
                <a:ln w="93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0" y="885960"/>
                  <a:ext cx="647640" cy="0"/>
                </a:xfrm>
                <a:prstGeom prst="line">
                  <a:avLst/>
                </a:prstGeom>
                <a:ln w="381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0" y="93816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0" y="685800"/>
                  <a:ext cx="647640" cy="0"/>
                </a:xfrm>
                <a:prstGeom prst="line">
                  <a:avLst/>
                </a:prstGeom>
                <a:ln w="2844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0" y="609480"/>
                  <a:ext cx="647640" cy="0"/>
                </a:xfrm>
                <a:prstGeom prst="line">
                  <a:avLst/>
                </a:prstGeom>
                <a:ln w="1260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0" y="75708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0" y="53820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0" y="504720"/>
                  <a:ext cx="647640" cy="0"/>
                </a:xfrm>
                <a:prstGeom prst="line">
                  <a:avLst/>
                </a:prstGeom>
                <a:ln w="93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0" y="40968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0" y="111240"/>
                  <a:ext cx="647640" cy="0"/>
                </a:xfrm>
                <a:prstGeom prst="line">
                  <a:avLst/>
                </a:prstGeom>
                <a:ln w="93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0" y="68400"/>
                  <a:ext cx="647640" cy="0"/>
                </a:xfrm>
                <a:prstGeom prst="line">
                  <a:avLst/>
                </a:prstGeom>
                <a:ln w="381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0" y="144360"/>
                  <a:ext cx="647640" cy="0"/>
                </a:xfrm>
                <a:prstGeom prst="line">
                  <a:avLst/>
                </a:prstGeom>
                <a:ln w="1260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0" y="230040"/>
                  <a:ext cx="647640" cy="0"/>
                </a:xfrm>
                <a:prstGeom prst="line">
                  <a:avLst/>
                </a:prstGeom>
                <a:ln w="1260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0" y="320760"/>
                  <a:ext cx="647640" cy="0"/>
                </a:xfrm>
                <a:prstGeom prst="line">
                  <a:avLst/>
                </a:prstGeom>
                <a:ln w="381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0" name=""/>
              <p:cNvGrpSpPr/>
              <p:nvPr/>
            </p:nvGrpSpPr>
            <p:grpSpPr>
              <a:xfrm>
                <a:off x="635040" y="325440"/>
                <a:ext cx="8280360" cy="1782720"/>
                <a:chOff x="635040" y="325440"/>
                <a:chExt cx="8280360" cy="1782720"/>
              </a:xfrm>
            </p:grpSpPr>
            <p:sp>
              <p:nvSpPr>
                <p:cNvPr id="511" name=""/>
                <p:cNvSpPr/>
                <p:nvPr/>
              </p:nvSpPr>
              <p:spPr>
                <a:xfrm>
                  <a:off x="884160" y="325440"/>
                  <a:ext cx="496800" cy="1450800"/>
                </a:xfrm>
                <a:prstGeom prst="rect">
                  <a:avLst/>
                </a:prstGeom>
                <a:solidFill>
                  <a:srgbClr val="cc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635040" y="457200"/>
                  <a:ext cx="5662440" cy="77760"/>
                </a:xfrm>
                <a:prstGeom prst="rect">
                  <a:avLst/>
                </a:prstGeom>
                <a:solidFill>
                  <a:srgbClr val="0033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7300800" y="1770120"/>
                  <a:ext cx="1474920" cy="338040"/>
                </a:xfrm>
                <a:prstGeom prst="rect">
                  <a:avLst/>
                </a:prstGeom>
                <a:solidFill>
                  <a:srgbClr val="cc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3252960" y="1922400"/>
                  <a:ext cx="5662440" cy="77760"/>
                </a:xfrm>
                <a:prstGeom prst="rect">
                  <a:avLst/>
                </a:prstGeom>
                <a:solidFill>
                  <a:srgbClr val="0033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HCIL Members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mputer Sci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aculty: Vic Basili, Ben Bederson, Allison Druin, Jean-Daniel Fekete, Jim Hendler, Ben Shneiderma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taff: Allison Farber, Jesse Grosjean, Trina Harris, Daqing He, Rebecca Hwa, Sabrina Liao, Catherine Plaisant, Glenda Revelle, Anne Rose, Yoshifumi Takayam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tudents: Steve Betten, Jim Blowitski, Irina Ceaparu, Hilary Hutchinson, Gene Chipman, Lance Good, Harry Hochheiser, Juan Pablo Hourcade, Hyunmo Kang, Bongshin Lee, Jaime Montemayor, Jinwook Seo, Sante Simms, Bongwon Su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0" y="68400"/>
            <a:ext cx="8996400" cy="6713280"/>
            <a:chOff x="0" y="68400"/>
            <a:chExt cx="8996400" cy="6713280"/>
          </a:xfrm>
        </p:grpSpPr>
        <p:sp>
          <p:nvSpPr>
            <p:cNvPr id="518" name=""/>
            <p:cNvSpPr/>
            <p:nvPr/>
          </p:nvSpPr>
          <p:spPr>
            <a:xfrm>
              <a:off x="3152880" y="1962000"/>
              <a:ext cx="4259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3366"/>
                  </a:solidFill>
                  <a:latin typeface="Arial"/>
                </a:rPr>
                <a:t>University of Maryland, Human-Computer Interaction Laboratory</a:t>
              </a:r>
              <a:endParaRPr b="0" lang="en-US" sz="11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8082000" y="6027840"/>
              <a:ext cx="914400" cy="685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0" name=""/>
            <p:cNvGrpSpPr/>
            <p:nvPr/>
          </p:nvGrpSpPr>
          <p:grpSpPr>
            <a:xfrm>
              <a:off x="0" y="68400"/>
              <a:ext cx="8915400" cy="6713280"/>
              <a:chOff x="0" y="68400"/>
              <a:chExt cx="8915400" cy="6713280"/>
            </a:xfrm>
          </p:grpSpPr>
          <p:grpSp>
            <p:nvGrpSpPr>
              <p:cNvPr id="521" name=""/>
              <p:cNvGrpSpPr/>
              <p:nvPr/>
            </p:nvGrpSpPr>
            <p:grpSpPr>
              <a:xfrm>
                <a:off x="0" y="68400"/>
                <a:ext cx="647640" cy="6713280"/>
                <a:chOff x="0" y="68400"/>
                <a:chExt cx="647640" cy="671328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0" y="6672240"/>
                  <a:ext cx="647640" cy="0"/>
                </a:xfrm>
                <a:prstGeom prst="line">
                  <a:avLst/>
                </a:prstGeom>
                <a:ln w="93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0" y="6729480"/>
                  <a:ext cx="647640" cy="0"/>
                </a:xfrm>
                <a:prstGeom prst="line">
                  <a:avLst/>
                </a:prstGeom>
                <a:ln w="381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0" y="678168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0" y="6529320"/>
                  <a:ext cx="647640" cy="0"/>
                </a:xfrm>
                <a:prstGeom prst="line">
                  <a:avLst/>
                </a:prstGeom>
                <a:ln w="2844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0" y="6453360"/>
                  <a:ext cx="647640" cy="0"/>
                </a:xfrm>
                <a:prstGeom prst="line">
                  <a:avLst/>
                </a:prstGeom>
                <a:ln w="1260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0" y="660096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0" y="5819760"/>
                  <a:ext cx="647640" cy="0"/>
                </a:xfrm>
                <a:prstGeom prst="line">
                  <a:avLst/>
                </a:prstGeom>
                <a:ln w="93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0" y="5776920"/>
                  <a:ext cx="647640" cy="0"/>
                </a:xfrm>
                <a:prstGeom prst="line">
                  <a:avLst/>
                </a:prstGeom>
                <a:ln w="381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0" y="638172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0" y="6181560"/>
                  <a:ext cx="647640" cy="0"/>
                </a:xfrm>
                <a:prstGeom prst="line">
                  <a:avLst/>
                </a:prstGeom>
                <a:ln w="2844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0" y="6053040"/>
                  <a:ext cx="647640" cy="0"/>
                </a:xfrm>
                <a:prstGeom prst="line">
                  <a:avLst/>
                </a:prstGeom>
                <a:ln w="1260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0" y="6348240"/>
                  <a:ext cx="647640" cy="0"/>
                </a:xfrm>
                <a:prstGeom prst="line">
                  <a:avLst/>
                </a:prstGeom>
                <a:ln w="93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0" y="5853240"/>
                  <a:ext cx="647640" cy="0"/>
                </a:xfrm>
                <a:prstGeom prst="line">
                  <a:avLst/>
                </a:prstGeom>
                <a:ln w="1260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0" y="5938920"/>
                  <a:ext cx="647640" cy="0"/>
                </a:xfrm>
                <a:prstGeom prst="line">
                  <a:avLst/>
                </a:prstGeom>
                <a:ln w="1260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0" y="625320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0" y="6219720"/>
                  <a:ext cx="647640" cy="0"/>
                </a:xfrm>
                <a:prstGeom prst="line">
                  <a:avLst/>
                </a:prstGeom>
                <a:ln w="93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0" y="5572080"/>
                  <a:ext cx="647640" cy="0"/>
                </a:xfrm>
                <a:prstGeom prst="line">
                  <a:avLst/>
                </a:prstGeom>
                <a:ln w="93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0" y="5629320"/>
                  <a:ext cx="647640" cy="0"/>
                </a:xfrm>
                <a:prstGeom prst="line">
                  <a:avLst/>
                </a:prstGeom>
                <a:ln w="381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0" y="568152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0" y="5429160"/>
                  <a:ext cx="647640" cy="0"/>
                </a:xfrm>
                <a:prstGeom prst="line">
                  <a:avLst/>
                </a:prstGeom>
                <a:ln w="2844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0" y="5353200"/>
                  <a:ext cx="647640" cy="0"/>
                </a:xfrm>
                <a:prstGeom prst="line">
                  <a:avLst/>
                </a:prstGeom>
                <a:ln w="1260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0" y="550080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0" y="4719600"/>
                  <a:ext cx="647640" cy="0"/>
                </a:xfrm>
                <a:prstGeom prst="line">
                  <a:avLst/>
                </a:prstGeom>
                <a:ln w="93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0" y="4676760"/>
                  <a:ext cx="647640" cy="0"/>
                </a:xfrm>
                <a:prstGeom prst="line">
                  <a:avLst/>
                </a:prstGeom>
                <a:ln w="381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0" y="528156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0" y="5081760"/>
                  <a:ext cx="647640" cy="0"/>
                </a:xfrm>
                <a:prstGeom prst="line">
                  <a:avLst/>
                </a:prstGeom>
                <a:ln w="2844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0" y="4952880"/>
                  <a:ext cx="647640" cy="0"/>
                </a:xfrm>
                <a:prstGeom prst="line">
                  <a:avLst/>
                </a:prstGeom>
                <a:ln w="1260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0" y="5248440"/>
                  <a:ext cx="647640" cy="0"/>
                </a:xfrm>
                <a:prstGeom prst="line">
                  <a:avLst/>
                </a:prstGeom>
                <a:ln w="93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0" y="4753080"/>
                  <a:ext cx="647640" cy="0"/>
                </a:xfrm>
                <a:prstGeom prst="line">
                  <a:avLst/>
                </a:prstGeom>
                <a:ln w="1260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0" y="4838760"/>
                  <a:ext cx="647640" cy="0"/>
                </a:xfrm>
                <a:prstGeom prst="line">
                  <a:avLst/>
                </a:prstGeom>
                <a:ln w="1260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0" y="515304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0" y="5119560"/>
                  <a:ext cx="647640" cy="0"/>
                </a:xfrm>
                <a:prstGeom prst="line">
                  <a:avLst/>
                </a:prstGeom>
                <a:ln w="93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0" y="4494240"/>
                  <a:ext cx="647640" cy="0"/>
                </a:xfrm>
                <a:prstGeom prst="line">
                  <a:avLst/>
                </a:prstGeom>
                <a:ln w="2844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0" y="4365720"/>
                  <a:ext cx="647640" cy="0"/>
                </a:xfrm>
                <a:prstGeom prst="line">
                  <a:avLst/>
                </a:prstGeom>
                <a:ln w="1260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0" y="4251240"/>
                  <a:ext cx="647640" cy="0"/>
                </a:xfrm>
                <a:prstGeom prst="line">
                  <a:avLst/>
                </a:prstGeom>
                <a:ln w="1260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0" y="456552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0" y="4532400"/>
                  <a:ext cx="647640" cy="0"/>
                </a:xfrm>
                <a:prstGeom prst="line">
                  <a:avLst/>
                </a:prstGeom>
                <a:ln w="93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0" y="4054320"/>
                  <a:ext cx="647640" cy="0"/>
                </a:xfrm>
                <a:prstGeom prst="line">
                  <a:avLst/>
                </a:prstGeom>
                <a:ln w="93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0" y="4111560"/>
                  <a:ext cx="647640" cy="0"/>
                </a:xfrm>
                <a:prstGeom prst="line">
                  <a:avLst/>
                </a:prstGeom>
                <a:ln w="381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0" y="416412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0" y="3911760"/>
                  <a:ext cx="647640" cy="0"/>
                </a:xfrm>
                <a:prstGeom prst="line">
                  <a:avLst/>
                </a:prstGeom>
                <a:ln w="2844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0" y="3835440"/>
                  <a:ext cx="647640" cy="0"/>
                </a:xfrm>
                <a:prstGeom prst="line">
                  <a:avLst/>
                </a:prstGeom>
                <a:ln w="1260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0" y="398304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0" y="376380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0" y="3564000"/>
                  <a:ext cx="647640" cy="0"/>
                </a:xfrm>
                <a:prstGeom prst="line">
                  <a:avLst/>
                </a:prstGeom>
                <a:ln w="2844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0" y="3730680"/>
                  <a:ext cx="647640" cy="0"/>
                </a:xfrm>
                <a:prstGeom prst="line">
                  <a:avLst/>
                </a:prstGeom>
                <a:ln w="93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0" y="363528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0" y="3602160"/>
                  <a:ext cx="647640" cy="0"/>
                </a:xfrm>
                <a:prstGeom prst="line">
                  <a:avLst/>
                </a:prstGeom>
                <a:ln w="93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0" y="3381480"/>
                  <a:ext cx="647640" cy="0"/>
                </a:xfrm>
                <a:prstGeom prst="line">
                  <a:avLst/>
                </a:prstGeom>
                <a:ln w="93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0" y="3438360"/>
                  <a:ext cx="647640" cy="0"/>
                </a:xfrm>
                <a:prstGeom prst="line">
                  <a:avLst/>
                </a:prstGeom>
                <a:ln w="381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0" y="349092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0" y="3238560"/>
                  <a:ext cx="647640" cy="0"/>
                </a:xfrm>
                <a:prstGeom prst="line">
                  <a:avLst/>
                </a:prstGeom>
                <a:ln w="2844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0" y="3162240"/>
                  <a:ext cx="647640" cy="0"/>
                </a:xfrm>
                <a:prstGeom prst="line">
                  <a:avLst/>
                </a:prstGeom>
                <a:ln w="1260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0" y="330984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0" y="2529000"/>
                  <a:ext cx="647640" cy="0"/>
                </a:xfrm>
                <a:prstGeom prst="line">
                  <a:avLst/>
                </a:prstGeom>
                <a:ln w="93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0" y="2486160"/>
                  <a:ext cx="647640" cy="0"/>
                </a:xfrm>
                <a:prstGeom prst="line">
                  <a:avLst/>
                </a:prstGeom>
                <a:ln w="381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0" y="309096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0" y="2890800"/>
                  <a:ext cx="647640" cy="0"/>
                </a:xfrm>
                <a:prstGeom prst="line">
                  <a:avLst/>
                </a:prstGeom>
                <a:ln w="2844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0" y="2762280"/>
                  <a:ext cx="647640" cy="0"/>
                </a:xfrm>
                <a:prstGeom prst="line">
                  <a:avLst/>
                </a:prstGeom>
                <a:ln w="1260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0" y="3057480"/>
                  <a:ext cx="647640" cy="0"/>
                </a:xfrm>
                <a:prstGeom prst="line">
                  <a:avLst/>
                </a:prstGeom>
                <a:ln w="93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0" y="2562120"/>
                  <a:ext cx="647640" cy="0"/>
                </a:xfrm>
                <a:prstGeom prst="line">
                  <a:avLst/>
                </a:prstGeom>
                <a:ln w="1260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0" y="2647800"/>
                  <a:ext cx="647640" cy="0"/>
                </a:xfrm>
                <a:prstGeom prst="line">
                  <a:avLst/>
                </a:prstGeom>
                <a:ln w="1260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0" y="296244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0" y="2928960"/>
                  <a:ext cx="647640" cy="0"/>
                </a:xfrm>
                <a:prstGeom prst="line">
                  <a:avLst/>
                </a:prstGeom>
                <a:ln w="93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0" y="2281320"/>
                  <a:ext cx="647640" cy="0"/>
                </a:xfrm>
                <a:prstGeom prst="line">
                  <a:avLst/>
                </a:prstGeom>
                <a:ln w="93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0" y="2338560"/>
                  <a:ext cx="647640" cy="0"/>
                </a:xfrm>
                <a:prstGeom prst="line">
                  <a:avLst/>
                </a:prstGeom>
                <a:ln w="381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0" y="239076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0" y="2138400"/>
                  <a:ext cx="647640" cy="0"/>
                </a:xfrm>
                <a:prstGeom prst="line">
                  <a:avLst/>
                </a:prstGeom>
                <a:ln w="2844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0" y="220968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0" y="1612800"/>
                  <a:ext cx="647640" cy="0"/>
                </a:xfrm>
                <a:prstGeom prst="line">
                  <a:avLst/>
                </a:prstGeom>
                <a:ln w="93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0" y="1569960"/>
                  <a:ext cx="647640" cy="0"/>
                </a:xfrm>
                <a:prstGeom prst="line">
                  <a:avLst/>
                </a:prstGeom>
                <a:ln w="381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0" y="1974960"/>
                  <a:ext cx="647640" cy="0"/>
                </a:xfrm>
                <a:prstGeom prst="line">
                  <a:avLst/>
                </a:prstGeom>
                <a:ln w="2844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0" y="1846440"/>
                  <a:ext cx="647640" cy="0"/>
                </a:xfrm>
                <a:prstGeom prst="line">
                  <a:avLst/>
                </a:prstGeom>
                <a:ln w="1260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0" y="1646280"/>
                  <a:ext cx="647640" cy="0"/>
                </a:xfrm>
                <a:prstGeom prst="line">
                  <a:avLst/>
                </a:prstGeom>
                <a:ln w="1260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0" y="1731960"/>
                  <a:ext cx="647640" cy="0"/>
                </a:xfrm>
                <a:prstGeom prst="line">
                  <a:avLst/>
                </a:prstGeom>
                <a:ln w="1260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0" y="204624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0" y="2013120"/>
                  <a:ext cx="647640" cy="0"/>
                </a:xfrm>
                <a:prstGeom prst="line">
                  <a:avLst/>
                </a:prstGeom>
                <a:ln w="93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0" y="1365120"/>
                  <a:ext cx="647640" cy="0"/>
                </a:xfrm>
                <a:prstGeom prst="line">
                  <a:avLst/>
                </a:prstGeom>
                <a:ln w="93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0" y="1422360"/>
                  <a:ext cx="647640" cy="0"/>
                </a:xfrm>
                <a:prstGeom prst="line">
                  <a:avLst/>
                </a:prstGeom>
                <a:ln w="381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0" y="147492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0" y="1222200"/>
                  <a:ext cx="647640" cy="0"/>
                </a:xfrm>
                <a:prstGeom prst="line">
                  <a:avLst/>
                </a:prstGeom>
                <a:ln w="2844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0" y="129384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0" y="1139760"/>
                  <a:ext cx="647640" cy="0"/>
                </a:xfrm>
                <a:prstGeom prst="line">
                  <a:avLst/>
                </a:prstGeom>
                <a:ln w="1260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0" y="1025640"/>
                  <a:ext cx="647640" cy="0"/>
                </a:xfrm>
                <a:prstGeom prst="line">
                  <a:avLst/>
                </a:prstGeom>
                <a:ln w="1260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0" y="828720"/>
                  <a:ext cx="647640" cy="0"/>
                </a:xfrm>
                <a:prstGeom prst="line">
                  <a:avLst/>
                </a:prstGeom>
                <a:ln w="93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0" y="885960"/>
                  <a:ext cx="647640" cy="0"/>
                </a:xfrm>
                <a:prstGeom prst="line">
                  <a:avLst/>
                </a:prstGeom>
                <a:ln w="381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0" y="93816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0" y="685800"/>
                  <a:ext cx="647640" cy="0"/>
                </a:xfrm>
                <a:prstGeom prst="line">
                  <a:avLst/>
                </a:prstGeom>
                <a:ln w="2844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0" y="609480"/>
                  <a:ext cx="647640" cy="0"/>
                </a:xfrm>
                <a:prstGeom prst="line">
                  <a:avLst/>
                </a:prstGeom>
                <a:ln w="1260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0" y="75708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0" y="53820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0" y="504720"/>
                  <a:ext cx="647640" cy="0"/>
                </a:xfrm>
                <a:prstGeom prst="line">
                  <a:avLst/>
                </a:prstGeom>
                <a:ln w="93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0" y="409680"/>
                  <a:ext cx="647640" cy="0"/>
                </a:xfrm>
                <a:prstGeom prst="line">
                  <a:avLst/>
                </a:prstGeom>
                <a:ln w="1908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0" y="111240"/>
                  <a:ext cx="647640" cy="0"/>
                </a:xfrm>
                <a:prstGeom prst="line">
                  <a:avLst/>
                </a:prstGeom>
                <a:ln w="93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0" y="68400"/>
                  <a:ext cx="647640" cy="0"/>
                </a:xfrm>
                <a:prstGeom prst="line">
                  <a:avLst/>
                </a:prstGeom>
                <a:ln w="381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0" y="144360"/>
                  <a:ext cx="647640" cy="0"/>
                </a:xfrm>
                <a:prstGeom prst="line">
                  <a:avLst/>
                </a:prstGeom>
                <a:ln w="1260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0" y="230040"/>
                  <a:ext cx="647640" cy="0"/>
                </a:xfrm>
                <a:prstGeom prst="line">
                  <a:avLst/>
                </a:prstGeom>
                <a:ln w="1260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0" y="320760"/>
                  <a:ext cx="647640" cy="0"/>
                </a:xfrm>
                <a:prstGeom prst="line">
                  <a:avLst/>
                </a:prstGeom>
                <a:ln w="38160">
                  <a:solidFill>
                    <a:srgbClr val="e3e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0" name=""/>
              <p:cNvGrpSpPr/>
              <p:nvPr/>
            </p:nvGrpSpPr>
            <p:grpSpPr>
              <a:xfrm>
                <a:off x="635040" y="325440"/>
                <a:ext cx="8280360" cy="1782720"/>
                <a:chOff x="635040" y="325440"/>
                <a:chExt cx="8280360" cy="178272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884160" y="325440"/>
                  <a:ext cx="496800" cy="1450800"/>
                </a:xfrm>
                <a:prstGeom prst="rect">
                  <a:avLst/>
                </a:prstGeom>
                <a:solidFill>
                  <a:srgbClr val="cc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635040" y="457200"/>
                  <a:ext cx="5662440" cy="77760"/>
                </a:xfrm>
                <a:prstGeom prst="rect">
                  <a:avLst/>
                </a:prstGeom>
                <a:solidFill>
                  <a:srgbClr val="0033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7300800" y="1770120"/>
                  <a:ext cx="1474920" cy="338040"/>
                </a:xfrm>
                <a:prstGeom prst="rect">
                  <a:avLst/>
                </a:prstGeom>
                <a:solidFill>
                  <a:srgbClr val="cc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3252960" y="1922400"/>
                  <a:ext cx="5662440" cy="77760"/>
                </a:xfrm>
                <a:prstGeom prst="rect">
                  <a:avLst/>
                </a:prstGeom>
                <a:solidFill>
                  <a:srgbClr val="0033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25" name=""/>
          <p:cNvSpPr/>
          <p:nvPr/>
        </p:nvSpPr>
        <p:spPr>
          <a:xfrm>
            <a:off x="5608800" y="2762280"/>
            <a:ext cx="284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 François Guimbretier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HCIL Members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sycholog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ent Norma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llege of Information Stud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oug Oard, Jinmook Kim, Laura Slaughter, Dagobert Soergel, Jianqiang Wang, Ann Week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llege of Educ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lison Druin, Allison Farber, Juhyun Lee, Sabrina Liao, Glenda Revel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stitute for Systems Resear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ary Rublof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HCIL Successes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 the new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en S. &amp; PhotoMesa – Washington Post, May 9, 200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ALACH – New York Times, Oct 25, 200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llison D. – Converge Magazine, Aug 200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toryBlocks – Baltimore Business Journal, June 28, 200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reemaps – ComputerWorld, July 2, 200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imeSearcher – ComputerWorld, June 4, 200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jor grant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ALACH, Holocaust Oral Histories, NSF, $7.5m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oug Oard, with IBM, Johns Hopkins, and Shoah Found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ternational Children’s Digital Library, NSF $3.0m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llison Druin, Ben Bederson with the Internet Archiv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igital Government, NSF $1.1m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en Shneiderman, Catherine Plaisaint with UN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dvisory Board 2002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809640" y="2303280"/>
            <a:ext cx="7958160" cy="36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bbie Boehm-Davis,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eorge Mason Univ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my Bruckman,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eorgia Te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are-Marie Karat,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BM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John Karat,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BM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Jock Mackinlay,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lo Alto Research Cent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hris North,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irginia Te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Jenny Preece,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MB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SOH 2002 Supporters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elera Genomic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BM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Resear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potfi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M Biotechnology Institu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ability Professionals Associ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MD campus unit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stitute for Advanced Computer Studi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llege of Computer, Mathematical and Physical Scienc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stitute for Systems Researc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ffice of Information Technolog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ryland Applied Information Technology Initiativ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2T02:54:08Z</dcterms:created>
  <dc:creator>Ben Bederson</dc:creator>
  <dc:description/>
  <dc:language>en-US</dc:language>
  <cp:lastModifiedBy>Benjamin B. Bederson</cp:lastModifiedBy>
  <dcterms:modified xsi:type="dcterms:W3CDTF">2002-05-31T11:36:25Z</dcterms:modified>
  <cp:revision>52</cp:revision>
  <dc:subject/>
  <dc:title>Looking to the Futu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101841717</vt:r8>
  </property>
  <property fmtid="{D5CDD505-2E9C-101B-9397-08002B2CF9AE}" pid="3" name="_AuthorEmailDisplayName">
    <vt:lpwstr>Bederson, Ben</vt:lpwstr>
  </property>
  <property fmtid="{D5CDD505-2E9C-101B-9397-08002B2CF9AE}" pid="4" name="_EmailSubject">
    <vt:lpwstr>Part 3</vt:lpwstr>
  </property>
</Properties>
</file>