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ilent TT Con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gilent TT C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ilent TT C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gilent TT C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ilent TT C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gilent TT C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545B31-6A6B-486E-82F8-862B0A03DCE5}" type="slidenum">
              <a:rPr b="0" lang="en-US" sz="1200" spc="-1" strike="noStrike">
                <a:solidFill>
                  <a:srgbClr val="000000"/>
                </a:solidFill>
                <a:latin typeface="Agilent TT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s of Synthesi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ike detective work, “mind-mapping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ormation is “free-form”, semi-structu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le hypothesis/alternativ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roup work, multiple perspectives,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ormation spans pro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tistical vs. biological signific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rouping togethe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chunk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f related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rbal and visual reaso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pads, whiteboards, lab noteboo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952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888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952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8880" y="3952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3400" y="15238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6600" y="15238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952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3400" y="3952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6600" y="3952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5238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8880" y="15238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733560" y="685440"/>
            <a:ext cx="5257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8880" y="15238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952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5238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888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8880" y="3952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888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952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952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888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952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8880" y="3952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3400" y="15238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6600" y="15238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952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3400" y="3952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6600" y="3952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8880" y="15238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33560" y="685440"/>
            <a:ext cx="5257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8880" y="15238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952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888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8880" y="3952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8880" y="15238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952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tc%20cropped%20copy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3146400" cy="5629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5238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ilent TT 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gilent TT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gilent TT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gilent TT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3" name="agilentlogocolor" descr=""/>
          <p:cNvPicPr/>
          <p:nvPr/>
        </p:nvPicPr>
        <p:blipFill>
          <a:blip r:embed="rId3"/>
          <a:stretch/>
        </p:blipFill>
        <p:spPr>
          <a:xfrm>
            <a:off x="6858000" y="6245280"/>
            <a:ext cx="1924200" cy="461880"/>
          </a:xfrm>
          <a:prstGeom prst="rect">
            <a:avLst/>
          </a:prstGeom>
          <a:ln w="0">
            <a:noFill/>
          </a:ln>
        </p:spPr>
      </p:pic>
      <p:pic>
        <p:nvPicPr>
          <p:cNvPr id="4" name="LSTL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175248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tc%20cropped%20copy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3146400" cy="562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43" name="agilentlogocolor" descr=""/>
          <p:cNvPicPr/>
          <p:nvPr/>
        </p:nvPicPr>
        <p:blipFill>
          <a:blip r:embed="rId3"/>
          <a:stretch/>
        </p:blipFill>
        <p:spPr>
          <a:xfrm>
            <a:off x="6858000" y="6245280"/>
            <a:ext cx="1924200" cy="461880"/>
          </a:xfrm>
          <a:prstGeom prst="rect">
            <a:avLst/>
          </a:prstGeom>
          <a:ln w="0">
            <a:noFill/>
          </a:ln>
        </p:spPr>
      </p:pic>
      <p:pic>
        <p:nvPicPr>
          <p:cNvPr id="44" name="LSTL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1752480" cy="351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ilent TT 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gilent TT C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gilent TT C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gilent TT C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gilent TT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gilent TT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Biological Storytelling</a:t>
            </a:r>
            <a:r>
              <a:rPr b="0" lang="en-US" sz="32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: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A Software Tool for Biological Information Organization Based upon Narrative Structure</a:t>
            </a:r>
            <a:r>
              <a:rPr b="0" lang="en-US" sz="3200" spc="-1" strike="noStrike">
                <a:solidFill>
                  <a:srgbClr val="000000"/>
                </a:solidFill>
                <a:latin typeface="Agilent TT C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Allan Kuchinsky, Kathy Graham, David Moh, Annette Adler, Ketan Babaria, Michael L. Creech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Agilent Technologies 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3500 Deer Creek Road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Palo Alto, California, USA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allan_kuchinsky@agilent.com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MainWindows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MainWindows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0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280" y="3809880"/>
            <a:ext cx="5791320" cy="220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ITE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Basic “atomic” unit of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Represent “biological entities” – genes, proteins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Sortable on multiple ke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Group sel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Populate manually or semi-automatic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Links to detailed experiment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Links to public data and lite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Data values can be color-enco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114800" y="1752120"/>
            <a:ext cx="4038480" cy="2057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MainWindows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71800" y="2057400"/>
            <a:ext cx="5791320" cy="220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COLLE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Free-form sets of </a:t>
            </a:r>
            <a:r>
              <a:rPr b="0" i="1" lang="en-US" sz="1400" spc="-1" strike="noStrike">
                <a:solidFill>
                  <a:srgbClr val="000000"/>
                </a:solidFill>
                <a:latin typeface="Agilent TT Cond"/>
              </a:rPr>
              <a:t>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Malle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split, merge, add, m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Represent cognitive </a:t>
            </a:r>
            <a:r>
              <a:rPr b="0" i="1" lang="en-US" sz="1400" spc="-1" strike="noStrike">
                <a:solidFill>
                  <a:srgbClr val="000000"/>
                </a:solidFill>
                <a:latin typeface="Agilent TT Cond"/>
              </a:rPr>
              <a:t>chu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Can be ne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Populate manually or semi-automat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Links to detailed experiment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Links to public data and lite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914040" y="1905120"/>
            <a:ext cx="2057400" cy="1295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MainWindows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0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43200" y="685800"/>
            <a:ext cx="5791320" cy="186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ST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Represent state of biological hypotheses and understand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Represent paths explored and alternative hypoth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Support for deliberation via Support/Oppose story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Links to detailed experiment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Links to public data and lite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Narrative structure as an organizing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828800" y="2590920"/>
            <a:ext cx="3200400" cy="2514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Story Grammar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39" name="Figure_9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763120" cy="252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6095880"/>
            <a:ext cx="62485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orndyke, P.W. (1977), "Cognitive Structures in Comprehension and Memory of Narrative Discourses", Cognitive Psychology, 9, pp. 77-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MainWindows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0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352680" y="2286000"/>
            <a:ext cx="1524240" cy="1981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52280"/>
            <a:ext cx="5791320" cy="212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PUTTING THE STORY TOGETHER GRAPHICAL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Graphical network diagram is common visual metaphor in molecular b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Pathways, protein/protein interaction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Represent the “nouns” and “verbs” of biological s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Nouns = biological entities (genes, proteins),  (players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verbs = relationships between biological entities (promotes, inhi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Overlay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0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124080" y="228600"/>
            <a:ext cx="5791320" cy="164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SEMANTIC OVERLA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For validating high-level explanations, hypotheses agains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Juxtapose data values onto elements of graphical and textual s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step through” experimental data columns and “light up” elements of graphical and textual s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"/>
              </a:rPr>
              <a:t>Analogy to qualitativ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676520"/>
            <a:ext cx="1371600" cy="1752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80720" y="1676520"/>
            <a:ext cx="2971800" cy="2514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819520" y="1676520"/>
            <a:ext cx="2209680" cy="152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ilent TT Cond"/>
              </a:rPr>
              <a:t>Support for Multidisciplinary Collaboration</a:t>
            </a:r>
            <a:endParaRPr b="0" lang="en-US" sz="2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Annotation is tagged with user name and timestamp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Support and Oppose story nodes document alternative lines of thought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Web repository enables review by non-users of system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51" name=""/>
          <p:cNvSpPr/>
          <p:nvPr/>
        </p:nvSpPr>
        <p:spPr>
          <a:xfrm>
            <a:off x="323280" y="4952880"/>
            <a:ext cx="85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gilent TT Cond"/>
              </a:rPr>
              <a:t>“… </a:t>
            </a:r>
            <a:r>
              <a:rPr b="0" i="1" lang="en-US" sz="1600" spc="-1" strike="noStrike">
                <a:solidFill>
                  <a:srgbClr val="000000"/>
                </a:solidFill>
                <a:latin typeface="Agilent TT Cond"/>
              </a:rPr>
              <a:t>we build up a consensus hallucination about what is going on in the living cell</a:t>
            </a:r>
            <a:r>
              <a:rPr b="0" lang="en-US" sz="1600" spc="-1" strike="noStrike">
                <a:solidFill>
                  <a:srgbClr val="000000"/>
                </a:solidFill>
                <a:latin typeface="Agilent TT Cond"/>
              </a:rPr>
              <a:t>… (NHGRI)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Annotation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4495320"/>
            <a:ext cx="7391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Every system element can have arbitrary textual notes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Citations can be dragged/dropped from the Web-based literature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Citations can have attached notes/comments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Annotations interlinked with system elements, other annotations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54" name="Figure_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Web Repository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56" name="Figure_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24800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Figure_7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365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ntCartoonDiagram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708660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ilent TT Cond"/>
              </a:rPr>
              <a:t>Understanding the Molecular Basis of Disease</a:t>
            </a:r>
            <a:endParaRPr b="0" lang="en-US" sz="2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5410080"/>
            <a:ext cx="6248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eewaratna et al, “Wnt5a Signaling Directly Affects Cell Motility and Invasion of Metastatic Melanoma”, Cancer Cell, Apri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Usage Feedback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ilent TT Cond"/>
              </a:rPr>
              <a:t>How much structure is just right?</a:t>
            </a:r>
            <a:endParaRPr b="0" lang="en-US" sz="28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Flexibility in story grammar (tags vs. rigid structure)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Diversity in grouping (columns as well as rows)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ilent TT Cond"/>
              </a:rPr>
              <a:t>Diagrammatic vocabulary</a:t>
            </a:r>
            <a:endParaRPr b="0" lang="en-US" sz="28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Biochemical reactions vs. signal transduction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33560" y="3045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Related Work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Digital storytelling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Storyspace (EastGate Systems)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Personal information management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Lotus Agenda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Issue-Based Information Systems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Rittel, McCall, Conklin &amp; Begeman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Biological Pathway Databases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STKE, BIND, KEGG, EcoCyc, TransPath, SPAD, …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Semantic overlays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EcoCyc, GenMAP (gene expression on pathways)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Kenna Technologies (qualitative simulation)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Diagrammatic UIs to cell and pathway information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CellSpace (Cellomics)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Biological information management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eLabBook (LabBook, Inc.)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00200" y="228600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Multiple data types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Support a “systems” perspective on biology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Utilization of data mining, computational tools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Duality between graphical and textual storytelling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Richer annotation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Richer diagrammatic semantics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Agilent Technologies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Dean Thompson, Deborah Hall, Laurakay Bruhn, Steve Laderman, Steve Andrews, Shawn Hwang, Carl Steves, and Alex Veilleux, Robert Kincaid, Aditya Vailaya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National Human Genome Research Institute 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Paul Meltzer, Mike Bittner, Yidong Chen, and Jeff Trent</a:t>
            </a: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Formative discussions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Bob Allen (UMD)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Abbe Don 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more info …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67" name=""/>
          <p:cNvSpPr/>
          <p:nvPr/>
        </p:nvSpPr>
        <p:spPr>
          <a:xfrm>
            <a:off x="3778920" y="2590920"/>
            <a:ext cx="333396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Allan Kuchins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Agilent Technolog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3500 Deer Creek R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Palo Alto, California,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allan_kuchinsky@agilen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+1 (650) 485-74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http://www.agilen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525924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ilent TT Cond"/>
              </a:rPr>
              <a:t>Just Enough Molecular Biology</a:t>
            </a:r>
            <a:endParaRPr b="0" lang="en-US" sz="2800" spc="-1" strike="noStrike">
              <a:solidFill>
                <a:srgbClr val="000000"/>
              </a:solidFill>
              <a:latin typeface="Agilent TT Cond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21880" y="1908000"/>
            <a:ext cx="1992240" cy="655200"/>
            <a:chOff x="4421880" y="1908000"/>
            <a:chExt cx="1992240" cy="655200"/>
          </a:xfrm>
        </p:grpSpPr>
        <p:sp>
          <p:nvSpPr>
            <p:cNvPr id="170" name=""/>
            <p:cNvSpPr/>
            <p:nvPr/>
          </p:nvSpPr>
          <p:spPr>
            <a:xfrm>
              <a:off x="4421880" y="1908000"/>
              <a:ext cx="199224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Courier (W1)"/>
                </a:rPr>
                <a:t>GCA CAG GG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1880" y="2154240"/>
              <a:ext cx="199224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Courier (W1)"/>
                </a:rPr>
                <a:t>CGT GTC CC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359400" y="2052720"/>
            <a:ext cx="662040" cy="355320"/>
            <a:chOff x="6359400" y="2052720"/>
            <a:chExt cx="662040" cy="355320"/>
          </a:xfrm>
        </p:grpSpPr>
        <p:sp>
          <p:nvSpPr>
            <p:cNvPr id="173" name=""/>
            <p:cNvSpPr/>
            <p:nvPr/>
          </p:nvSpPr>
          <p:spPr>
            <a:xfrm>
              <a:off x="6359400" y="2052720"/>
              <a:ext cx="662040" cy="86760"/>
            </a:xfrm>
            <a:custGeom>
              <a:avLst/>
              <a:gdLst/>
              <a:ahLst/>
              <a:rect l="l" t="t" r="r" b="b"/>
              <a:pathLst>
                <a:path w="459" h="62">
                  <a:moveTo>
                    <a:pt x="0" y="45"/>
                  </a:moveTo>
                  <a:cubicBezTo>
                    <a:pt x="39" y="32"/>
                    <a:pt x="68" y="13"/>
                    <a:pt x="106" y="0"/>
                  </a:cubicBezTo>
                  <a:cubicBezTo>
                    <a:pt x="155" y="6"/>
                    <a:pt x="194" y="12"/>
                    <a:pt x="239" y="27"/>
                  </a:cubicBezTo>
                  <a:cubicBezTo>
                    <a:pt x="265" y="45"/>
                    <a:pt x="288" y="52"/>
                    <a:pt x="318" y="62"/>
                  </a:cubicBezTo>
                  <a:cubicBezTo>
                    <a:pt x="350" y="58"/>
                    <a:pt x="431" y="55"/>
                    <a:pt x="459" y="27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59400" y="2321640"/>
              <a:ext cx="662040" cy="86400"/>
            </a:xfrm>
            <a:custGeom>
              <a:avLst/>
              <a:gdLst/>
              <a:ahLst/>
              <a:rect l="l" t="t" r="r" b="b"/>
              <a:pathLst>
                <a:path w="459" h="62">
                  <a:moveTo>
                    <a:pt x="0" y="45"/>
                  </a:moveTo>
                  <a:cubicBezTo>
                    <a:pt x="39" y="32"/>
                    <a:pt x="68" y="13"/>
                    <a:pt x="106" y="0"/>
                  </a:cubicBezTo>
                  <a:cubicBezTo>
                    <a:pt x="155" y="6"/>
                    <a:pt x="194" y="12"/>
                    <a:pt x="239" y="27"/>
                  </a:cubicBezTo>
                  <a:cubicBezTo>
                    <a:pt x="265" y="45"/>
                    <a:pt x="288" y="52"/>
                    <a:pt x="318" y="62"/>
                  </a:cubicBezTo>
                  <a:cubicBezTo>
                    <a:pt x="350" y="58"/>
                    <a:pt x="431" y="55"/>
                    <a:pt x="459" y="27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794040" y="2087640"/>
            <a:ext cx="662040" cy="355320"/>
            <a:chOff x="3794040" y="2087640"/>
            <a:chExt cx="662040" cy="355320"/>
          </a:xfrm>
        </p:grpSpPr>
        <p:sp>
          <p:nvSpPr>
            <p:cNvPr id="176" name=""/>
            <p:cNvSpPr/>
            <p:nvPr/>
          </p:nvSpPr>
          <p:spPr>
            <a:xfrm>
              <a:off x="3794040" y="2087640"/>
              <a:ext cx="662040" cy="86760"/>
            </a:xfrm>
            <a:custGeom>
              <a:avLst/>
              <a:gdLst/>
              <a:ahLst/>
              <a:rect l="l" t="t" r="r" b="b"/>
              <a:pathLst>
                <a:path w="459" h="62">
                  <a:moveTo>
                    <a:pt x="0" y="45"/>
                  </a:moveTo>
                  <a:cubicBezTo>
                    <a:pt x="39" y="32"/>
                    <a:pt x="68" y="13"/>
                    <a:pt x="106" y="0"/>
                  </a:cubicBezTo>
                  <a:cubicBezTo>
                    <a:pt x="155" y="6"/>
                    <a:pt x="194" y="12"/>
                    <a:pt x="239" y="27"/>
                  </a:cubicBezTo>
                  <a:cubicBezTo>
                    <a:pt x="265" y="45"/>
                    <a:pt x="288" y="52"/>
                    <a:pt x="318" y="62"/>
                  </a:cubicBezTo>
                  <a:cubicBezTo>
                    <a:pt x="350" y="58"/>
                    <a:pt x="431" y="55"/>
                    <a:pt x="459" y="27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94040" y="2356560"/>
              <a:ext cx="662040" cy="86400"/>
            </a:xfrm>
            <a:custGeom>
              <a:avLst/>
              <a:gdLst/>
              <a:ahLst/>
              <a:rect l="l" t="t" r="r" b="b"/>
              <a:pathLst>
                <a:path w="459" h="62">
                  <a:moveTo>
                    <a:pt x="0" y="45"/>
                  </a:moveTo>
                  <a:cubicBezTo>
                    <a:pt x="39" y="32"/>
                    <a:pt x="68" y="13"/>
                    <a:pt x="106" y="0"/>
                  </a:cubicBezTo>
                  <a:cubicBezTo>
                    <a:pt x="155" y="6"/>
                    <a:pt x="194" y="12"/>
                    <a:pt x="239" y="27"/>
                  </a:cubicBezTo>
                  <a:cubicBezTo>
                    <a:pt x="265" y="45"/>
                    <a:pt x="288" y="52"/>
                    <a:pt x="318" y="62"/>
                  </a:cubicBezTo>
                  <a:cubicBezTo>
                    <a:pt x="350" y="58"/>
                    <a:pt x="431" y="55"/>
                    <a:pt x="459" y="27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068240" y="2041560"/>
            <a:ext cx="768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962160" y="1447920"/>
            <a:ext cx="2840040" cy="564840"/>
            <a:chOff x="3962160" y="1447920"/>
            <a:chExt cx="2840040" cy="564840"/>
          </a:xfrm>
        </p:grpSpPr>
        <p:sp>
          <p:nvSpPr>
            <p:cNvPr id="180" name=""/>
            <p:cNvSpPr/>
            <p:nvPr/>
          </p:nvSpPr>
          <p:spPr>
            <a:xfrm>
              <a:off x="4239360" y="1447920"/>
              <a:ext cx="207720" cy="134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47080" y="1447920"/>
              <a:ext cx="138600" cy="134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5680" y="1447920"/>
              <a:ext cx="345960" cy="134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6920" y="1447920"/>
              <a:ext cx="68760" cy="134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39720" y="1447920"/>
              <a:ext cx="277200" cy="1342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6040" y="1447920"/>
              <a:ext cx="415440" cy="134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1280" y="1447920"/>
              <a:ext cx="207720" cy="134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32000" y="1447920"/>
              <a:ext cx="207720" cy="134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01840" y="1447920"/>
              <a:ext cx="207720" cy="134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9560" y="1447920"/>
              <a:ext cx="207720" cy="1342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17280" y="1447920"/>
              <a:ext cx="69120" cy="134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86760" y="1447920"/>
              <a:ext cx="207720" cy="13428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94480" y="1447920"/>
              <a:ext cx="207720" cy="134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32000" y="1649880"/>
              <a:ext cx="554040" cy="26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962160" y="1649880"/>
              <a:ext cx="603000" cy="26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46000" y="1717200"/>
              <a:ext cx="6098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839280" y="1370160"/>
            <a:ext cx="1469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54440" y="2579760"/>
            <a:ext cx="4711680" cy="47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NA sequence (genes) determine which proteins are ma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749760" y="5000760"/>
            <a:ext cx="4482720" cy="801720"/>
            <a:chOff x="3749760" y="5000760"/>
            <a:chExt cx="4482720" cy="801720"/>
          </a:xfrm>
        </p:grpSpPr>
        <p:sp>
          <p:nvSpPr>
            <p:cNvPr id="199" name=""/>
            <p:cNvSpPr/>
            <p:nvPr/>
          </p:nvSpPr>
          <p:spPr>
            <a:xfrm>
              <a:off x="7137720" y="5000760"/>
              <a:ext cx="1094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rote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21520" y="5000760"/>
              <a:ext cx="2010600" cy="40176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Tahoma"/>
                </a:rPr>
                <a:t>Arg - Val - Pr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50840" y="5142960"/>
              <a:ext cx="660960" cy="86760"/>
            </a:xfrm>
            <a:custGeom>
              <a:avLst/>
              <a:gdLst/>
              <a:ahLst/>
              <a:rect l="l" t="t" r="r" b="b"/>
              <a:pathLst>
                <a:path w="459" h="62">
                  <a:moveTo>
                    <a:pt x="0" y="45"/>
                  </a:moveTo>
                  <a:cubicBezTo>
                    <a:pt x="39" y="32"/>
                    <a:pt x="68" y="13"/>
                    <a:pt x="106" y="0"/>
                  </a:cubicBezTo>
                  <a:cubicBezTo>
                    <a:pt x="155" y="6"/>
                    <a:pt x="194" y="12"/>
                    <a:pt x="239" y="27"/>
                  </a:cubicBezTo>
                  <a:cubicBezTo>
                    <a:pt x="265" y="45"/>
                    <a:pt x="288" y="52"/>
                    <a:pt x="318" y="62"/>
                  </a:cubicBezTo>
                  <a:cubicBezTo>
                    <a:pt x="350" y="58"/>
                    <a:pt x="431" y="55"/>
                    <a:pt x="459" y="27"/>
                  </a:cubicBezTo>
                </a:path>
              </a:pathLst>
            </a:cu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9760" y="5161320"/>
              <a:ext cx="662040" cy="86400"/>
            </a:xfrm>
            <a:custGeom>
              <a:avLst/>
              <a:gdLst/>
              <a:ahLst/>
              <a:rect l="l" t="t" r="r" b="b"/>
              <a:pathLst>
                <a:path w="459" h="62">
                  <a:moveTo>
                    <a:pt x="0" y="45"/>
                  </a:moveTo>
                  <a:cubicBezTo>
                    <a:pt x="39" y="32"/>
                    <a:pt x="68" y="13"/>
                    <a:pt x="106" y="0"/>
                  </a:cubicBezTo>
                  <a:cubicBezTo>
                    <a:pt x="155" y="6"/>
                    <a:pt x="194" y="12"/>
                    <a:pt x="239" y="27"/>
                  </a:cubicBezTo>
                  <a:cubicBezTo>
                    <a:pt x="265" y="45"/>
                    <a:pt x="288" y="52"/>
                    <a:pt x="318" y="62"/>
                  </a:cubicBezTo>
                  <a:cubicBezTo>
                    <a:pt x="350" y="58"/>
                    <a:pt x="431" y="55"/>
                    <a:pt x="459" y="27"/>
                  </a:cubicBezTo>
                </a:path>
              </a:pathLst>
            </a:cu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63800" y="5537880"/>
              <a:ext cx="2867400" cy="26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teins perform cellular func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95880" y="4327560"/>
            <a:ext cx="222120" cy="538200"/>
          </a:xfrm>
          <a:prstGeom prst="downArrow">
            <a:avLst>
              <a:gd name="adj1" fmla="val 50000"/>
              <a:gd name="adj2" fmla="val 605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2680" y="4369320"/>
            <a:ext cx="105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3160" y="3521160"/>
            <a:ext cx="2008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(W1)"/>
              </a:rPr>
              <a:t>GCA CAG GG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79720" y="3679920"/>
            <a:ext cx="662040" cy="85680"/>
          </a:xfrm>
          <a:custGeom>
            <a:avLst/>
            <a:gdLst/>
            <a:ahLst/>
            <a:rect l="l" t="t" r="r" b="b"/>
            <a:pathLst>
              <a:path w="459" h="62">
                <a:moveTo>
                  <a:pt x="0" y="45"/>
                </a:moveTo>
                <a:cubicBezTo>
                  <a:pt x="39" y="32"/>
                  <a:pt x="68" y="13"/>
                  <a:pt x="106" y="0"/>
                </a:cubicBezTo>
                <a:cubicBezTo>
                  <a:pt x="155" y="6"/>
                  <a:pt x="194" y="12"/>
                  <a:pt x="239" y="27"/>
                </a:cubicBezTo>
                <a:cubicBezTo>
                  <a:pt x="265" y="45"/>
                  <a:pt x="288" y="52"/>
                  <a:pt x="318" y="62"/>
                </a:cubicBezTo>
                <a:cubicBezTo>
                  <a:pt x="350" y="58"/>
                  <a:pt x="431" y="55"/>
                  <a:pt x="459" y="27"/>
                </a:cubicBezTo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29240" y="3679920"/>
            <a:ext cx="662040" cy="85680"/>
          </a:xfrm>
          <a:custGeom>
            <a:avLst/>
            <a:gdLst/>
            <a:ahLst/>
            <a:rect l="l" t="t" r="r" b="b"/>
            <a:pathLst>
              <a:path w="459" h="62">
                <a:moveTo>
                  <a:pt x="0" y="45"/>
                </a:moveTo>
                <a:cubicBezTo>
                  <a:pt x="39" y="32"/>
                  <a:pt x="68" y="13"/>
                  <a:pt x="106" y="0"/>
                </a:cubicBezTo>
                <a:cubicBezTo>
                  <a:pt x="155" y="6"/>
                  <a:pt x="194" y="12"/>
                  <a:pt x="239" y="27"/>
                </a:cubicBezTo>
                <a:cubicBezTo>
                  <a:pt x="265" y="45"/>
                  <a:pt x="288" y="52"/>
                  <a:pt x="318" y="62"/>
                </a:cubicBezTo>
                <a:cubicBezTo>
                  <a:pt x="350" y="58"/>
                  <a:pt x="431" y="55"/>
                  <a:pt x="459" y="27"/>
                </a:cubicBezTo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68240" y="3521160"/>
            <a:ext cx="768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R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49760" y="3924360"/>
            <a:ext cx="4155840" cy="28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RNA quantity determines amount of each prote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95880" y="2982960"/>
            <a:ext cx="222120" cy="538200"/>
          </a:xfrm>
          <a:prstGeom prst="downArrow">
            <a:avLst>
              <a:gd name="adj1" fmla="val 50000"/>
              <a:gd name="adj2" fmla="val 605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6280" y="3024720"/>
            <a:ext cx="1228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447920" y="5638680"/>
            <a:ext cx="2209680" cy="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447920" y="1523880"/>
            <a:ext cx="1440" cy="411480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1523880"/>
            <a:ext cx="2438280" cy="0"/>
          </a:xfrm>
          <a:prstGeom prst="line">
            <a:avLst/>
          </a:prstGeom>
          <a:ln w="442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563868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Re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676520" y="1828800"/>
            <a:ext cx="1752480" cy="779400"/>
          </a:xfrm>
          <a:prstGeom prst="wedgeEllipseCallout">
            <a:avLst>
              <a:gd name="adj1" fmla="val -68300"/>
              <a:gd name="adj2" fmla="val 3967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81920" y="1952640"/>
            <a:ext cx="158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What</a:t>
            </a:r>
            <a:r>
              <a:rPr b="1" i="1" lang="en-US" sz="1200" spc="-1" strike="noStrike">
                <a:solidFill>
                  <a:srgbClr val="ffffff"/>
                </a:solidFill>
                <a:latin typeface="Agilent TT Cond"/>
              </a:rPr>
              <a:t> the cell c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gilent TT Cond"/>
              </a:rPr>
              <a:t>  </a:t>
            </a:r>
            <a:r>
              <a:rPr b="1" i="1" lang="en-US" sz="1200" spc="-1" strike="noStrike">
                <a:solidFill>
                  <a:srgbClr val="ffffff"/>
                </a:solidFill>
                <a:latin typeface="Agilent TT Cond"/>
              </a:rPr>
              <a:t>Theoretically </a:t>
            </a: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5400000">
            <a:off x="2208960" y="2895120"/>
            <a:ext cx="873000" cy="1481040"/>
          </a:xfrm>
          <a:prstGeom prst="wedgeEllipseCallout">
            <a:avLst>
              <a:gd name="adj1" fmla="val 7268"/>
              <a:gd name="adj2" fmla="val 78722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6680" y="3352680"/>
            <a:ext cx="1311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What</a:t>
            </a:r>
            <a:r>
              <a:rPr b="1" i="1" lang="en-US" sz="1200" spc="-1" strike="noStrike">
                <a:solidFill>
                  <a:srgbClr val="ffffff"/>
                </a:solidFill>
                <a:latin typeface="Agilent TT Cond"/>
              </a:rPr>
              <a:t> the cell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gilent TT Cond"/>
              </a:rPr>
              <a:t>Trying to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981080" y="4723560"/>
            <a:ext cx="1447920" cy="644760"/>
          </a:xfrm>
          <a:prstGeom prst="wedgeEllipseCallout">
            <a:avLst>
              <a:gd name="adj1" fmla="val -66777"/>
              <a:gd name="adj2" fmla="val -24138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4759200"/>
            <a:ext cx="1524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What</a:t>
            </a:r>
            <a:r>
              <a:rPr b="1" i="1" lang="en-US" sz="1200" spc="-1" strike="noStrike">
                <a:solidFill>
                  <a:srgbClr val="ffffff"/>
                </a:solidFill>
                <a:latin typeface="Agilent TT Cond"/>
              </a:rPr>
              <a:t>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gilent TT Cond"/>
              </a:rPr>
              <a:t>    </a:t>
            </a:r>
            <a:r>
              <a:rPr b="1" i="1" lang="en-US" sz="1200" spc="-1" strike="noStrike">
                <a:solidFill>
                  <a:srgbClr val="ffffff"/>
                </a:solidFill>
                <a:latin typeface="Agilent TT Cond"/>
              </a:rPr>
              <a:t>Is d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7800" y="6854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High-Throughpu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Experimental Methods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2971800"/>
            <a:ext cx="3124440" cy="1864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DNA microarray technology enables biologists to simultaneous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study an entire set of cellular processes at a molecular level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(per experiment …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6324480"/>
            <a:ext cx="5333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tephanie Fulmer-Smentek, Robert Kincaid:  Agilent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Agilent_array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486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5257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Biological Storytelling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99" name="HeatMap_gxintrinsic_smaller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158904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massSpec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1630440" cy="89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blot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167616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histo_glycopas" descr=""/>
          <p:cNvPicPr/>
          <p:nvPr/>
        </p:nvPicPr>
        <p:blipFill>
          <a:blip r:embed="rId4"/>
          <a:stretch/>
        </p:blipFill>
        <p:spPr>
          <a:xfrm>
            <a:off x="7315200" y="1600200"/>
            <a:ext cx="1523880" cy="9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151200" y="990720"/>
            <a:ext cx="76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Reason across multiple types of experiment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1160" y="6019920"/>
            <a:ext cx="75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Formulate hypotheses and high-level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86000" y="2057400"/>
            <a:ext cx="5867280" cy="990360"/>
            <a:chOff x="2286000" y="2057400"/>
            <a:chExt cx="5867280" cy="990360"/>
          </a:xfrm>
        </p:grpSpPr>
        <p:sp>
          <p:nvSpPr>
            <p:cNvPr id="106" name=""/>
            <p:cNvSpPr/>
            <p:nvPr/>
          </p:nvSpPr>
          <p:spPr>
            <a:xfrm>
              <a:off x="2286000" y="2743200"/>
              <a:ext cx="586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6000" y="251460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7080" y="251460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9920" y="251460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53280" y="251460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5320" y="2743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81680" y="2743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0400" y="205740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29200" y="205740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205740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PNAS_abstract" descr=""/>
          <p:cNvPicPr/>
          <p:nvPr/>
        </p:nvPicPr>
        <p:blipFill>
          <a:blip r:embed="rId5"/>
          <a:stretch/>
        </p:blipFill>
        <p:spPr>
          <a:xfrm>
            <a:off x="2209680" y="3048120"/>
            <a:ext cx="291636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insulin" descr=""/>
          <p:cNvPicPr/>
          <p:nvPr/>
        </p:nvPicPr>
        <p:blipFill>
          <a:blip r:embed="rId6"/>
          <a:stretch/>
        </p:blipFill>
        <p:spPr>
          <a:xfrm>
            <a:off x="5486400" y="3048120"/>
            <a:ext cx="234792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ilent TT Cond"/>
              </a:rPr>
              <a:t>Supporting Synthesis Tasks of Biomedical researchers</a:t>
            </a:r>
            <a:endParaRPr b="0" lang="en-US" sz="2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Most bioinformatics tools support </a:t>
            </a:r>
            <a:r>
              <a:rPr b="0" i="1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analysis</a:t>
            </a:r>
            <a:r>
              <a:rPr b="0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, but not </a:t>
            </a:r>
            <a:r>
              <a:rPr b="0" i="1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synthesis </a:t>
            </a:r>
            <a:r>
              <a:rPr b="0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activities of bioscience researchers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Synthesis </a:t>
            </a:r>
            <a:r>
              <a:rPr b="0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involves: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lvl="1" marL="930960" indent="-501480">
              <a:spcBef>
                <a:spcPts val="451"/>
              </a:spcBef>
              <a:buClr>
                <a:srgbClr val="000000"/>
              </a:buClr>
              <a:buFont typeface="Agilent TT C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keeping track</a:t>
            </a: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 of the diverse pieces of information collected during database searches and other data analysis activities, and 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930960" indent="-501480">
              <a:spcBef>
                <a:spcPts val="451"/>
              </a:spcBef>
              <a:buClr>
                <a:srgbClr val="000000"/>
              </a:buClr>
              <a:buFont typeface="Agilent TT C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organizing and using</a:t>
            </a: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 the diverse information, formulating hypotheses and higher-level explanations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1289160" indent="-429480">
              <a:spcBef>
                <a:spcPts val="400"/>
              </a:spcBef>
              <a:buClr>
                <a:srgbClr val="000000"/>
              </a:buClr>
              <a:buFont typeface="Agilent TT C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gilent TT Cond"/>
              </a:rPr>
              <a:t>E.g. elucidating the structure and function of biological pathways.</a:t>
            </a:r>
            <a:endParaRPr b="0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930960" indent="-501480">
              <a:spcBef>
                <a:spcPts val="451"/>
              </a:spcBef>
              <a:buClr>
                <a:srgbClr val="000000"/>
              </a:buClr>
              <a:buFont typeface="Agilent TT C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validating</a:t>
            </a: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 hypotheses and higher-level explanations against detailed experimental data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930960" indent="-501480">
              <a:spcBef>
                <a:spcPts val="451"/>
              </a:spcBef>
              <a:buClr>
                <a:srgbClr val="000000"/>
              </a:buClr>
              <a:buFont typeface="Agilent TT C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haring </a:t>
            </a: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the information with colleagues and working collaboratively to refine hypotheses.</a:t>
            </a:r>
            <a:endParaRPr b="0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360" y="6854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ilent TT Cond"/>
              </a:rPr>
              <a:t>Aspects of Synthesis work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Findings from User Research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7315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Like detective work, “mind-mapping”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Information is “free-form”, semi-structured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Multiple hypothesis/alternatives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Group work, multiple perspectives, views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Grouping together </a:t>
            </a:r>
            <a:r>
              <a:rPr b="0" i="1" lang="en-US" sz="2400" spc="-1" strike="noStrike">
                <a:solidFill>
                  <a:srgbClr val="000000"/>
                </a:solidFill>
                <a:latin typeface="Agilent TT Cond"/>
              </a:rPr>
              <a:t>chunks </a:t>
            </a: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of related information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Verbal and visual reasoning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Notepads, whiteboards, lab notebooks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33560" y="668880"/>
            <a:ext cx="525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23" name="HoodCoverWriting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868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3356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The Role of </a:t>
            </a:r>
            <a:r>
              <a:rPr b="0" i="1" lang="en-US" sz="3600" spc="-1" strike="noStrike">
                <a:solidFill>
                  <a:srgbClr val="000000"/>
                </a:solidFill>
                <a:latin typeface="Agilent TT Cond"/>
              </a:rPr>
              <a:t>Narrative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Many biologists talked in terms of "piecing together a story“…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of what a gene does, how it fits into a pathway with other genes, proteins…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Cognitive/social psychology research finds that people use </a:t>
            </a:r>
            <a:r>
              <a:rPr b="0" i="1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story</a:t>
            </a:r>
            <a:r>
              <a:rPr b="0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 as a way of organizing and remembering information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Thorndyke, Shank, Middleton and Edwards, Erickson, Gershon and Ward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Useful story development software tools exist for other domains 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gilent TT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ilent TT Cond"/>
                <a:ea typeface="Times New Roman"/>
              </a:rPr>
              <a:t>E.g. screenwriting, video production  </a:t>
            </a:r>
            <a:endParaRPr b="0" lang="en-US" sz="20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ilent TT Cond"/>
              </a:rPr>
              <a:t>Main concepts of our software</a:t>
            </a:r>
            <a:endParaRPr b="0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220932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Free-form data model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Narrative Structure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Top down” hypothesis formulation, “bottom-up” data exploration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Annotation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ilent TT Cond"/>
              </a:rPr>
              <a:t>Multi-disciplinary Collaboration</a:t>
            </a:r>
            <a:endParaRPr b="0" lang="en-US" sz="24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00:07:02Z</dcterms:created>
  <dc:creator>Allan Kuchinsky</dc:creator>
  <dc:description/>
  <dc:language>en-US</dc:language>
  <cp:lastModifiedBy>ajk</cp:lastModifiedBy>
  <dcterms:modified xsi:type="dcterms:W3CDTF">2002-05-17T00:19:44Z</dcterms:modified>
  <cp:revision>85</cp:revision>
  <dc:subject/>
  <dc:title>Biological Storytelling: A Software Tool for Biological Information Organization Based upon Narrative Structure </dc:title>
</cp:coreProperties>
</file>