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D89-5D92-4805-9980-F98CC748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9E9-5D13-44E0-A9E4-C541DC62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FDD-A07A-4159-AA74-C70E328B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0F2-8D90-4D63-A53C-42803821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044-F8B5-4347-A52E-CC565F97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D184-A004-4748-B8DB-8DBC6F4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D14F-2AF4-4897-BF82-63A64022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FDB0-DD11-4850-A2DE-7859394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1D45-A4B0-4CDE-87EF-3AAE21F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81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CA08-E524-4B43-9C1A-09371431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1543-C229-49E0-A25F-B6AFFA6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D84-42E7-490C-A3E5-87BF008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C56-B1D8-4D40-ABDC-9B3C19A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72CD-0672-4EBB-BABD-2834C1EF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9202-F398-413D-93F7-2C393A8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EF7-F98D-4C8B-8A83-8950C097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67CD-AB32-4B8B-A802-53B71555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BCD-ADC3-47A4-BD74-1DE6FB92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391-D0A4-4E72-B099-2CB9A41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BE1-7194-4171-966D-E6E72DF3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81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3B5-C8AB-4AA0-9783-9BD94635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320-6FD8-40E5-ABDE-5F0E4E4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CF7-19EA-4ACD-8683-EA977C7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87D-AB9D-4E97-A7D0-17117282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747-94FA-4C9A-90B2-4D3BBD0CE7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hcil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582480" cy="45720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5331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2971440" y="6019920"/>
            <a:ext cx="326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1F2-6C32-4629-A8AA-6F1FDA2F2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cil" descr=""/>
          <p:cNvPicPr/>
          <p:nvPr/>
        </p:nvPicPr>
        <p:blipFill>
          <a:blip r:embed="rId2"/>
          <a:stretch/>
        </p:blipFill>
        <p:spPr>
          <a:xfrm>
            <a:off x="8077320" y="533520"/>
            <a:ext cx="58248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Searcher: Interactive Querying for Identification of Patterns in Genetic Da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ry Hochheis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ic Baehrec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 M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 Shneid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splash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048120" cy="203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53341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ry Hochheiser is supported by a fellowship from America On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81680" cy="556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A31-CD66-419A-B4DF-6462AE6873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05360" cy="550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B56-521E-4109-8C0B-DAFF3E3DCE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544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019-B4BD-48A1-BFC6-C35F89E2B3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544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A07-CD6D-45AF-9B0A-B27BE6F7D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544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F31-1AA6-496D-BABC-4836AD9FC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544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6F1-DE78-4214-BEC6-1C1F514439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47800" y="3138480"/>
            <a:ext cx="3610080" cy="2965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73640" y="685800"/>
            <a:ext cx="1400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urier New"/>
              </a:rPr>
              <a:t>ACT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A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cc"/>
                </a:solidFill>
                <a:latin typeface="Courier New"/>
              </a:rPr>
              <a:t>CTA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cc"/>
                </a:solidFill>
                <a:latin typeface="Courier New"/>
              </a:rPr>
              <a:t>C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G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A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urier New"/>
              </a:rPr>
              <a:t>TCT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G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G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A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YT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3800" y="42354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71160" y="52578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7120" y="616752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ance to 3’ splice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746280" y="4386240"/>
            <a:ext cx="27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over-represented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6920" y="3276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ne  s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0" y="51958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two  s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94000" y="6095880"/>
            <a:ext cx="317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 = C or T;    W = A or T;   R = A or G;  N = A, C, G or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09480"/>
            <a:ext cx="5737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imeSearcher can be used to identify weak signals in aligned nucleotide sequ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nalysis of 8,550 exons from 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Arabidopsi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supports the branch site consensus WYT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39D-CA2B-45B3-AA35-5AFCD0CF09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: Extensions to que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ers and Lagg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tion of regulatory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time-varying 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Time time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ions with biolog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at sort of queries are of inter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2CA-3F4F-492B-87E5-15A8CC26F0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earcher: interactive tool for graphic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ation of time serie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going use for analyzing  microarray dat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sequence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’re interested in working with motivated users &amp; real data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ww.cs.umd.edu/hcil/timesear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589-ED88-4C43-A276-39ACF6CCB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 Serie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Valued function ove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find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s Low, Ends High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l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iodic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ggards and Lead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712-7F8B-4E98-B53B-586D13F78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croarray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cmgm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93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9320" y="54864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, et al. The transcriptional program of  sporulation in budding yeas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cienc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8 Oct 23; 282(5389): 699-7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186-9441-4AC4-9CE9-A5C2527B5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bo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ular query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must be in range for all time points i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multiple timeboxes for conjunctive 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657600" cy="14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733560" cy="149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86440" y="5372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p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5840" y="53722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ic Re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9A-AC5F-4B31-9CD2-38D1CE0B4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Searcher/Microrarray dem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brown-genes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43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74C-766B-4728-997E-5CDDC3BDB8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Searc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exploration of time-serie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queries (&lt;100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 display of individual i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queries on graph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, scale timeboxes to modify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g-and-Drop for query-by-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994-DEB7-4467-BCAF-189D659F7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Application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ime”: linear ordered seq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e TimeSearcher for general sequen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.g., D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825-0BD4-4AB0-8179-46A80F85D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 flipV="1">
            <a:off x="1016280" y="2378880"/>
            <a:ext cx="4153320" cy="36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074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074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00" y="4495680"/>
            <a:ext cx="1494000" cy="909720"/>
          </a:xfrm>
          <a:prstGeom prst="ellipse">
            <a:avLst/>
          </a:prstGeom>
          <a:solidFill>
            <a:srgbClr val="1509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19560" y="4572000"/>
            <a:ext cx="45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licing signals are recognized during ea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s in the biochemical process of splic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4978440"/>
            <a:ext cx="1493640" cy="909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2AF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5040" y="3733920"/>
            <a:ext cx="285588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Ex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95640" y="5830920"/>
            <a:ext cx="285732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077120" y="3886200"/>
            <a:ext cx="3691800" cy="14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02" y="4"/>
                </a:moveTo>
                <a:arcTo wR="10800" hR="10800" stAng="-5494881" swAng="5690860"/>
                <a:lnTo>
                  <a:pt x="10800" y="10800"/>
                </a:lnTo>
                <a:close/>
              </a:path>
              <a:path fill="none" w="21600" h="21600">
                <a:moveTo>
                  <a:pt x="10502" y="4"/>
                </a:moveTo>
                <a:arcTo wR="10800" hR="10800" stAng="-5494881" swAng="569086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2160" y="3581280"/>
            <a:ext cx="1492200" cy="908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81400" y="5562720"/>
            <a:ext cx="974520" cy="4539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2AF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93080" y="5867280"/>
            <a:ext cx="70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71920" y="601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44680" y="5789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Ex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240" y="555624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800" y="361800"/>
            <a:ext cx="8439480" cy="6148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18240" y="5283360"/>
            <a:ext cx="1270080" cy="1269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9480" y="1876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pplication to the case of the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Arabidopsis thalian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branch site consensus splicing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27080" y="1900080"/>
            <a:ext cx="4079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ahoma"/>
              </a:rPr>
              <a:t>Steve 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l Biology and Molecular Gene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Harry Hochheiser and Ben Shneide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uman Computer Interaction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Steven Salz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nstitute for Genom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33520"/>
            <a:ext cx="43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Searcher for analysis of weak signals in nucleotide sequences: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A6C-ABAC-4333-8986-C51ADA1BC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154240"/>
            <a:ext cx="3089520" cy="2341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1143000"/>
            <a:ext cx="3063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step pre-mRNA splicing mechanism with branched intermedi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09240" y="4632480"/>
            <a:ext cx="23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agram courtesy of Dr. Martinez Hewl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9040" y="1523880"/>
            <a:ext cx="46054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Yeast (</a:t>
            </a:r>
            <a:r>
              <a:rPr b="0" i="1" lang="en-US" sz="1800" spc="-1" strike="noStrike">
                <a:solidFill>
                  <a:srgbClr val="3333ff"/>
                </a:solidFill>
                <a:latin typeface="Tahoma"/>
              </a:rPr>
              <a:t>Saccharomyces cerevisia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ariant:         TAC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Humans (</a:t>
            </a:r>
            <a:r>
              <a:rPr b="0" i="1" lang="en-US" sz="1800" spc="-1" strike="noStrike">
                <a:solidFill>
                  <a:srgbClr val="3333ff"/>
                </a:solidFill>
                <a:latin typeface="Tahoma"/>
              </a:rPr>
              <a:t>Homo sapi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nsus:       TNYT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Fruit flies (</a:t>
            </a:r>
            <a:r>
              <a:rPr b="0" i="1" lang="en-US" sz="1800" spc="-1" strike="noStrike">
                <a:solidFill>
                  <a:srgbClr val="3333ff"/>
                </a:solidFill>
                <a:latin typeface="Tahoma"/>
              </a:rPr>
              <a:t>Drosophila melanoga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ariant:          WC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Weeds </a:t>
            </a:r>
            <a:r>
              <a:rPr b="0" i="1" lang="en-US" sz="1800" spc="-1" strike="noStrike">
                <a:solidFill>
                  <a:srgbClr val="3333ff"/>
                </a:solidFill>
                <a:latin typeface="Tahoma"/>
              </a:rPr>
              <a:t>(Arabidopsis thalian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ariant:              CT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609480"/>
            <a:ext cx="306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nsus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435640"/>
            <a:ext cx="67057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ere we sought to verify and extend the experimentally determined branch site consensus CTRAY determined by Simpson et al. (2002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r long-term goal is the characterization of an even weaker signal, the ‘exonic splicing enhancer.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2600" y="4675320"/>
            <a:ext cx="43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 = C or T;    W = A or T;   R = 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G;  N = A, C, G or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883-D9EA-4D1F-8E56-E5BCAB4F3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ry Hochheiser</cp:lastModifiedBy>
  <dcterms:modified xsi:type="dcterms:W3CDTF">2002-05-30T03:26:10Z</dcterms:modified>
  <cp:revision>50</cp:revision>
  <dc:subject/>
  <dc:title>PowerPoint Presentation</dc:title>
</cp:coreProperties>
</file>