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796-565E-42D6-8D75-D067985F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B785-1E48-4144-85F1-FD5F9C9E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E407-65F1-485F-942A-A41A565F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943-BF3E-46D8-9B86-12133980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8D94-8478-4622-84D0-99EAFA1E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F657-C07F-4E69-AFF9-E01E27C6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BE0F-1ADB-49BC-864D-57B2FC70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4C8B-AB31-400F-B3A0-0AFDBE51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15C5-5B32-44BD-BDBB-B3F96F0D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986E-CD44-4CA8-976E-D02306F8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827B-E496-41E8-8234-7028B466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42B-4786-4634-9F68-835AA99C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1C9B-EBD1-494F-9DDE-2B6BFC12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3D22-9365-4EDE-9194-C01766D0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9656-C209-48CB-B516-CF86B8FE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1F6A-1A85-4866-A23A-D5DC6CBC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2834-2E7A-4A99-8039-63B3DDCD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DC0DB-5AF5-4A77-B104-B05952B3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D4CA3-0A6D-4F90-BBB7-7745FF6A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A7EB5-5602-481C-9FD4-9F9B83E7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182C4-ABF4-4EBA-B22D-E3BB88D8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231AB-EA1C-47B5-8FDE-36F227F4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0518-EFA7-4D37-82CF-3EA11C8C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86A38-4F22-426A-B70E-F2581AE6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E995D-37BB-4F57-97DA-10ED66A2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3F43C-D68D-440F-8E89-3BE57557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FF551-1478-469D-A019-9DDDCA99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0DA8F-8D35-4CE4-B646-CAA2E6EB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5ED82-A504-4EDB-BC6B-E3971C86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F648F-45C8-4466-A6C6-0F5A03CD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642C-A322-411B-B483-5F88DE59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3FD3-C1C6-42CA-BA60-68DEFC0D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C708-6E40-4B3A-99CA-3557F197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AB8A-893B-469F-B0D0-9FBCB034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1BE-F18E-4CA7-B7E8-85DA3EB6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D10-063C-4427-B3FF-9206589D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0D35-A007-476D-8C2A-B974A70462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FD8F-722F-4789-9328-E91A62DC5B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8232-E957-4538-99FA-3F001E18F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JigCell Problem Solving Environment (PS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c Vass and Nick A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artment of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ginia 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ine Experiment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629400" cy="4130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8686800" cy="7999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ociate Experimental Data with a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30592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ssage Simulation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533520" y="2170080"/>
            <a:ext cx="81532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ine Objective Eval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925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e Simulations to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 identification of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7848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sualize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3795840" cy="27813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3795840" cy="27813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838080" y="571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43000" y="5410080"/>
            <a:ext cx="33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F mphase ac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29200" y="54100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F interphase ac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igCell allows modelers to produce truly useful computer representations of molecular regulatory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igCell also allows modelers to quickly evaluate and re-evaluate changes to their models against experimental dat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489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ational Molecular Bi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ions are done by h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111400" y="3938760"/>
            <a:ext cx="279360" cy="1299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d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73240" y="4067280"/>
            <a:ext cx="355680" cy="204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yc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06680" y="2567160"/>
            <a:ext cx="325440" cy="315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69960" y="2631960"/>
            <a:ext cx="6984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36560" y="2631960"/>
            <a:ext cx="166680" cy="187560"/>
          </a:xfrm>
          <a:custGeom>
            <a:avLst/>
            <a:gdLst/>
            <a:ahLst/>
            <a:rect l="l" t="t" r="r" b="b"/>
            <a:pathLst>
              <a:path w="231" h="261">
                <a:moveTo>
                  <a:pt x="0" y="0"/>
                </a:moveTo>
                <a:lnTo>
                  <a:pt x="230" y="130"/>
                </a:lnTo>
                <a:lnTo>
                  <a:pt x="0" y="26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60400" y="2602080"/>
            <a:ext cx="60480" cy="55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9740000">
            <a:off x="1593720" y="266508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Cdh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85880" y="2548080"/>
            <a:ext cx="141480" cy="293400"/>
          </a:xfrm>
          <a:custGeom>
            <a:avLst/>
            <a:gdLst/>
            <a:ahLst/>
            <a:rect l="l" t="t" r="r" b="b"/>
            <a:pathLst>
              <a:path w="197" h="412">
                <a:moveTo>
                  <a:pt x="196" y="228"/>
                </a:moveTo>
                <a:lnTo>
                  <a:pt x="196" y="0"/>
                </a:lnTo>
                <a:lnTo>
                  <a:pt x="0" y="0"/>
                </a:lnTo>
                <a:lnTo>
                  <a:pt x="0" y="41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89120" y="2705040"/>
            <a:ext cx="150840" cy="187560"/>
          </a:xfrm>
          <a:custGeom>
            <a:avLst/>
            <a:gdLst/>
            <a:ahLst/>
            <a:rect l="l" t="t" r="r" b="b"/>
            <a:pathLst>
              <a:path w="211" h="263">
                <a:moveTo>
                  <a:pt x="193" y="0"/>
                </a:moveTo>
                <a:lnTo>
                  <a:pt x="193" y="6"/>
                </a:lnTo>
                <a:lnTo>
                  <a:pt x="193" y="13"/>
                </a:lnTo>
                <a:lnTo>
                  <a:pt x="193" y="19"/>
                </a:lnTo>
                <a:lnTo>
                  <a:pt x="186" y="22"/>
                </a:lnTo>
                <a:lnTo>
                  <a:pt x="179" y="24"/>
                </a:lnTo>
                <a:lnTo>
                  <a:pt x="172" y="29"/>
                </a:lnTo>
                <a:lnTo>
                  <a:pt x="163" y="34"/>
                </a:lnTo>
                <a:lnTo>
                  <a:pt x="161" y="40"/>
                </a:lnTo>
                <a:lnTo>
                  <a:pt x="154" y="45"/>
                </a:lnTo>
                <a:lnTo>
                  <a:pt x="147" y="52"/>
                </a:lnTo>
                <a:lnTo>
                  <a:pt x="142" y="58"/>
                </a:lnTo>
                <a:lnTo>
                  <a:pt x="135" y="63"/>
                </a:lnTo>
                <a:lnTo>
                  <a:pt x="132" y="70"/>
                </a:lnTo>
                <a:lnTo>
                  <a:pt x="132" y="76"/>
                </a:lnTo>
                <a:lnTo>
                  <a:pt x="126" y="84"/>
                </a:lnTo>
                <a:lnTo>
                  <a:pt x="124" y="91"/>
                </a:lnTo>
                <a:lnTo>
                  <a:pt x="122" y="97"/>
                </a:lnTo>
                <a:lnTo>
                  <a:pt x="119" y="104"/>
                </a:lnTo>
                <a:lnTo>
                  <a:pt x="119" y="111"/>
                </a:lnTo>
                <a:lnTo>
                  <a:pt x="119" y="118"/>
                </a:lnTo>
                <a:lnTo>
                  <a:pt x="119" y="125"/>
                </a:lnTo>
                <a:lnTo>
                  <a:pt x="119" y="131"/>
                </a:lnTo>
                <a:lnTo>
                  <a:pt x="119" y="138"/>
                </a:lnTo>
                <a:lnTo>
                  <a:pt x="119" y="145"/>
                </a:lnTo>
                <a:lnTo>
                  <a:pt x="122" y="152"/>
                </a:lnTo>
                <a:lnTo>
                  <a:pt x="124" y="159"/>
                </a:lnTo>
                <a:lnTo>
                  <a:pt x="130" y="166"/>
                </a:lnTo>
                <a:lnTo>
                  <a:pt x="135" y="172"/>
                </a:lnTo>
                <a:lnTo>
                  <a:pt x="142" y="177"/>
                </a:lnTo>
                <a:lnTo>
                  <a:pt x="144" y="184"/>
                </a:lnTo>
                <a:lnTo>
                  <a:pt x="151" y="188"/>
                </a:lnTo>
                <a:lnTo>
                  <a:pt x="159" y="193"/>
                </a:lnTo>
                <a:lnTo>
                  <a:pt x="161" y="200"/>
                </a:lnTo>
                <a:lnTo>
                  <a:pt x="168" y="205"/>
                </a:lnTo>
                <a:lnTo>
                  <a:pt x="176" y="209"/>
                </a:lnTo>
                <a:lnTo>
                  <a:pt x="184" y="213"/>
                </a:lnTo>
                <a:lnTo>
                  <a:pt x="191" y="218"/>
                </a:lnTo>
                <a:lnTo>
                  <a:pt x="198" y="223"/>
                </a:lnTo>
                <a:lnTo>
                  <a:pt x="205" y="223"/>
                </a:lnTo>
                <a:lnTo>
                  <a:pt x="210" y="229"/>
                </a:lnTo>
                <a:lnTo>
                  <a:pt x="205" y="236"/>
                </a:lnTo>
                <a:lnTo>
                  <a:pt x="198" y="244"/>
                </a:lnTo>
                <a:lnTo>
                  <a:pt x="193" y="250"/>
                </a:lnTo>
                <a:lnTo>
                  <a:pt x="186" y="252"/>
                </a:lnTo>
                <a:lnTo>
                  <a:pt x="179" y="255"/>
                </a:lnTo>
                <a:lnTo>
                  <a:pt x="172" y="255"/>
                </a:lnTo>
                <a:lnTo>
                  <a:pt x="163" y="257"/>
                </a:lnTo>
                <a:lnTo>
                  <a:pt x="156" y="259"/>
                </a:lnTo>
                <a:lnTo>
                  <a:pt x="147" y="262"/>
                </a:lnTo>
                <a:lnTo>
                  <a:pt x="137" y="262"/>
                </a:lnTo>
                <a:lnTo>
                  <a:pt x="126" y="262"/>
                </a:lnTo>
                <a:lnTo>
                  <a:pt x="119" y="262"/>
                </a:lnTo>
                <a:lnTo>
                  <a:pt x="112" y="262"/>
                </a:lnTo>
                <a:lnTo>
                  <a:pt x="105" y="262"/>
                </a:lnTo>
                <a:lnTo>
                  <a:pt x="98" y="262"/>
                </a:lnTo>
                <a:lnTo>
                  <a:pt x="88" y="262"/>
                </a:lnTo>
                <a:lnTo>
                  <a:pt x="80" y="262"/>
                </a:lnTo>
                <a:lnTo>
                  <a:pt x="73" y="262"/>
                </a:lnTo>
                <a:lnTo>
                  <a:pt x="65" y="262"/>
                </a:lnTo>
                <a:lnTo>
                  <a:pt x="58" y="257"/>
                </a:lnTo>
                <a:lnTo>
                  <a:pt x="51" y="252"/>
                </a:lnTo>
                <a:lnTo>
                  <a:pt x="44" y="250"/>
                </a:lnTo>
                <a:lnTo>
                  <a:pt x="36" y="247"/>
                </a:lnTo>
                <a:lnTo>
                  <a:pt x="28" y="244"/>
                </a:lnTo>
                <a:lnTo>
                  <a:pt x="26" y="236"/>
                </a:lnTo>
                <a:lnTo>
                  <a:pt x="19" y="234"/>
                </a:lnTo>
                <a:lnTo>
                  <a:pt x="14" y="227"/>
                </a:lnTo>
                <a:lnTo>
                  <a:pt x="12" y="221"/>
                </a:lnTo>
                <a:lnTo>
                  <a:pt x="7" y="213"/>
                </a:lnTo>
                <a:lnTo>
                  <a:pt x="4" y="206"/>
                </a:lnTo>
                <a:lnTo>
                  <a:pt x="2" y="200"/>
                </a:lnTo>
                <a:lnTo>
                  <a:pt x="0" y="193"/>
                </a:lnTo>
                <a:lnTo>
                  <a:pt x="0" y="187"/>
                </a:lnTo>
                <a:lnTo>
                  <a:pt x="0" y="179"/>
                </a:lnTo>
                <a:lnTo>
                  <a:pt x="0" y="172"/>
                </a:lnTo>
                <a:lnTo>
                  <a:pt x="0" y="16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2438640" y="2551680"/>
            <a:ext cx="399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CK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566360" y="3175200"/>
            <a:ext cx="1936080" cy="905760"/>
            <a:chOff x="1566360" y="3175200"/>
            <a:chExt cx="1936080" cy="905760"/>
          </a:xfrm>
        </p:grpSpPr>
        <p:sp>
          <p:nvSpPr>
            <p:cNvPr id="155" name=""/>
            <p:cNvSpPr/>
            <p:nvPr/>
          </p:nvSpPr>
          <p:spPr>
            <a:xfrm flipV="1">
              <a:off x="1566360" y="3175200"/>
              <a:ext cx="1883520" cy="90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825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82555"/>
                </a:path>
              </a:pathLst>
            </a:cu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0560" y="3594240"/>
              <a:ext cx="101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 flipH="1">
            <a:off x="1907640" y="2842560"/>
            <a:ext cx="83880" cy="68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11640" y="3398760"/>
            <a:ext cx="255600" cy="13176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Cl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38640" y="3294000"/>
            <a:ext cx="196560" cy="103320"/>
          </a:xfrm>
          <a:prstGeom prst="rect">
            <a:avLst/>
          </a:prstGeom>
          <a:solidFill>
            <a:srgbClr val="0066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d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 rot="16200000">
            <a:off x="2198160" y="2590560"/>
            <a:ext cx="1145880" cy="134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3271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32712"/>
              </a:path>
            </a:pathLst>
          </a:cu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81360" y="2647800"/>
            <a:ext cx="1440" cy="96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19200" y="2833200"/>
            <a:ext cx="657000" cy="21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65" y="474"/>
                </a:moveTo>
                <a:arcTo wR="10800" hR="10800" stAng="-4377498" swAng="4377498"/>
                <a:lnTo>
                  <a:pt x="10800" y="10800"/>
                </a:lnTo>
                <a:close/>
              </a:path>
              <a:path fill="none" w="21600" h="21600">
                <a:moveTo>
                  <a:pt x="13965" y="474"/>
                </a:moveTo>
                <a:arcTo wR="10800" hR="10800" stAng="-4377498" swAng="4377498"/>
              </a:path>
            </a:pathLst>
          </a:cu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1824840" y="1926720"/>
            <a:ext cx="711000" cy="200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65" y="474"/>
                </a:moveTo>
                <a:arcTo wR="10800" hR="10800" stAng="-4377498" swAng="4377498"/>
                <a:lnTo>
                  <a:pt x="10800" y="10800"/>
                </a:lnTo>
                <a:close/>
              </a:path>
              <a:path fill="none" w="21600" h="21600">
                <a:moveTo>
                  <a:pt x="13965" y="474"/>
                </a:moveTo>
                <a:arcTo wR="10800" hR="10800" stAng="-4377498" swAng="4377498"/>
              </a:path>
            </a:pathLst>
          </a:cu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032560" y="3872520"/>
            <a:ext cx="100440" cy="51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965960" y="1937520"/>
            <a:ext cx="1013400" cy="3024360"/>
            <a:chOff x="1965960" y="1937520"/>
            <a:chExt cx="1013400" cy="3024360"/>
          </a:xfrm>
        </p:grpSpPr>
        <p:sp>
          <p:nvSpPr>
            <p:cNvPr id="166" name=""/>
            <p:cNvSpPr/>
            <p:nvPr/>
          </p:nvSpPr>
          <p:spPr>
            <a:xfrm>
              <a:off x="2508480" y="2852280"/>
              <a:ext cx="83520" cy="66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323440" y="2841840"/>
              <a:ext cx="655560" cy="212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65" y="474"/>
                  </a:moveTo>
                  <a:arcTo wR="10800" hR="10800" stAng="-4377498" swAng="437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65" y="474"/>
                  </a:moveTo>
                  <a:arcTo wR="10800" hR="10800" stAng="-4377498" swAng="4377498"/>
                </a:path>
              </a:pathLst>
            </a:cu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965960" y="1937160"/>
              <a:ext cx="707040" cy="200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65" y="474"/>
                  </a:moveTo>
                  <a:arcTo wR="10800" hR="10800" stAng="-4377498" swAng="437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65" y="474"/>
                  </a:moveTo>
                  <a:arcTo wR="10800" hR="10800" stAng="-4377498" swAng="4377498"/>
                </a:path>
              </a:pathLst>
            </a:cu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2366640" y="3881880"/>
              <a:ext cx="99720" cy="50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H="1" flipV="1">
            <a:off x="1166760" y="3533760"/>
            <a:ext cx="866880" cy="541440"/>
          </a:xfrm>
          <a:prstGeom prst="line">
            <a:avLst/>
          </a:prstGeom>
          <a:ln w="25560">
            <a:solidFill>
              <a:srgbClr val="0099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3400" y="3240000"/>
            <a:ext cx="325440" cy="316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7040" y="3305160"/>
            <a:ext cx="6984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63640" y="3305160"/>
            <a:ext cx="165240" cy="185760"/>
          </a:xfrm>
          <a:custGeom>
            <a:avLst/>
            <a:gdLst/>
            <a:ahLst/>
            <a:rect l="l" t="t" r="r" b="b"/>
            <a:pathLst>
              <a:path w="231" h="261">
                <a:moveTo>
                  <a:pt x="0" y="0"/>
                </a:moveTo>
                <a:lnTo>
                  <a:pt x="230" y="130"/>
                </a:lnTo>
                <a:lnTo>
                  <a:pt x="0" y="26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6840" y="3273480"/>
            <a:ext cx="6048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9740000">
            <a:off x="795240" y="3341520"/>
            <a:ext cx="464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Cdc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 rot="5400000">
            <a:off x="1145880" y="2558880"/>
            <a:ext cx="998640" cy="129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3269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32697"/>
              </a:path>
            </a:pathLst>
          </a:custGeom>
          <a:noFill/>
          <a:ln w="25560">
            <a:solidFill>
              <a:srgbClr val="00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21160" y="3200400"/>
            <a:ext cx="447120" cy="439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99" y="4013"/>
                </a:moveTo>
                <a:arcTo wR="10800" hR="10800" stAng="-8463836" swAng="17450122"/>
                <a:lnTo>
                  <a:pt x="10800" y="10800"/>
                </a:lnTo>
                <a:close/>
              </a:path>
              <a:path fill="none" w="21600" h="21600">
                <a:moveTo>
                  <a:pt x="2399" y="4013"/>
                </a:moveTo>
                <a:arcTo wR="10800" hR="10800" stAng="-8463836" swAng="17450122"/>
              </a:path>
            </a:pathLst>
          </a:custGeom>
          <a:noFill/>
          <a:ln w="25560">
            <a:solidFill>
              <a:srgbClr val="00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1571800">
            <a:off x="1103400" y="3274920"/>
            <a:ext cx="5007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A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2438280"/>
            <a:ext cx="3301920" cy="1892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5360" y="4495680"/>
            <a:ext cx="2271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lecular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21571800">
            <a:off x="1876320" y="2619360"/>
            <a:ext cx="5007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A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3505320"/>
            <a:ext cx="62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952880" y="2536920"/>
          <a:ext cx="3594240" cy="182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536920"/>
                    <a:ext cx="35942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5149800" y="2438280"/>
            <a:ext cx="3301920" cy="1892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32920" y="4495680"/>
            <a:ext cx="2554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erenti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240" y="3340080"/>
            <a:ext cx="686880" cy="302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3006720"/>
            <a:ext cx="746280" cy="193680"/>
          </a:xfrm>
          <a:prstGeom prst="rect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07640" y="1971720"/>
            <a:ext cx="50832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54560" y="5786280"/>
            <a:ext cx="3606480" cy="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63720" y="5683320"/>
            <a:ext cx="638280" cy="26028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3560" bIns="43560" anchor="ctr">
            <a:noAutofit/>
          </a:bodyPr>
          <a:p>
            <a:pPr marL="334800" indent="-334800" algn="ct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b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6080" y="5486400"/>
            <a:ext cx="1222200" cy="3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3560" bIns="43560" anchor="t">
            <a:spAutoFit/>
          </a:bodyPr>
          <a:p>
            <a:pPr marL="334800" indent="-334800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B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603680" y="4770360"/>
            <a:ext cx="999360" cy="238320"/>
            <a:chOff x="4603680" y="4770360"/>
            <a:chExt cx="999360" cy="238320"/>
          </a:xfrm>
        </p:grpSpPr>
        <p:sp>
          <p:nvSpPr>
            <p:cNvPr id="194" name=""/>
            <p:cNvSpPr/>
            <p:nvPr/>
          </p:nvSpPr>
          <p:spPr>
            <a:xfrm>
              <a:off x="4831200" y="4892400"/>
              <a:ext cx="9684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03680" y="4833720"/>
              <a:ext cx="210600" cy="11484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39240" bIns="3924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4940280" y="4770360"/>
              <a:ext cx="662760" cy="238320"/>
              <a:chOff x="4940280" y="4770360"/>
              <a:chExt cx="662760" cy="238320"/>
            </a:xfrm>
          </p:grpSpPr>
          <p:sp>
            <p:nvSpPr>
              <p:cNvPr id="197" name=""/>
              <p:cNvSpPr/>
              <p:nvPr/>
            </p:nvSpPr>
            <p:spPr>
              <a:xfrm>
                <a:off x="4940280" y="4770360"/>
                <a:ext cx="572400" cy="238320"/>
              </a:xfrm>
              <a:prstGeom prst="roundRect">
                <a:avLst>
                  <a:gd name="adj" fmla="val 12495"/>
                </a:avLst>
              </a:prstGeom>
              <a:solidFill>
                <a:srgbClr val="cc00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6760" rIns="86760" tIns="42480" bIns="42480" anchor="ctr">
                <a:noAutofit/>
              </a:bodyPr>
              <a:p>
                <a:pPr marL="334800" indent="-334800" algn="ctr">
                  <a:tabLst>
                    <a:tab algn="l" pos="0"/>
                    <a:tab algn="l" pos="893880"/>
                    <a:tab algn="l" pos="1787400"/>
                    <a:tab algn="l" pos="2681280"/>
                    <a:tab algn="l" pos="3575160"/>
                    <a:tab algn="l" pos="4468680"/>
                    <a:tab algn="l" pos="5362560"/>
                    <a:tab algn="l" pos="6256440"/>
                    <a:tab algn="l" pos="7149960"/>
                    <a:tab algn="l" pos="8043840"/>
                    <a:tab algn="l" pos="8937720"/>
                    <a:tab algn="l" pos="9831240"/>
                    <a:tab algn="l" pos="1072512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ic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38160" y="4809240"/>
                <a:ext cx="164880" cy="173880"/>
              </a:xfrm>
              <a:custGeom>
                <a:avLst/>
                <a:gdLst/>
                <a:ahLst/>
                <a:rect l="l" t="t" r="r" b="b"/>
                <a:pathLst>
                  <a:path w="135" h="241">
                    <a:moveTo>
                      <a:pt x="76" y="3"/>
                    </a:moveTo>
                    <a:lnTo>
                      <a:pt x="64" y="3"/>
                    </a:lnTo>
                    <a:lnTo>
                      <a:pt x="54" y="10"/>
                    </a:lnTo>
                    <a:lnTo>
                      <a:pt x="44" y="16"/>
                    </a:lnTo>
                    <a:lnTo>
                      <a:pt x="35" y="26"/>
                    </a:lnTo>
                    <a:lnTo>
                      <a:pt x="25" y="32"/>
                    </a:lnTo>
                    <a:lnTo>
                      <a:pt x="22" y="42"/>
                    </a:lnTo>
                    <a:lnTo>
                      <a:pt x="16" y="55"/>
                    </a:lnTo>
                    <a:lnTo>
                      <a:pt x="9" y="67"/>
                    </a:lnTo>
                    <a:lnTo>
                      <a:pt x="3" y="77"/>
                    </a:lnTo>
                    <a:lnTo>
                      <a:pt x="3" y="87"/>
                    </a:lnTo>
                    <a:lnTo>
                      <a:pt x="3" y="103"/>
                    </a:lnTo>
                    <a:lnTo>
                      <a:pt x="3" y="119"/>
                    </a:lnTo>
                    <a:lnTo>
                      <a:pt x="3" y="131"/>
                    </a:lnTo>
                    <a:lnTo>
                      <a:pt x="0" y="141"/>
                    </a:lnTo>
                    <a:lnTo>
                      <a:pt x="9" y="151"/>
                    </a:lnTo>
                    <a:lnTo>
                      <a:pt x="12" y="163"/>
                    </a:lnTo>
                    <a:lnTo>
                      <a:pt x="16" y="173"/>
                    </a:lnTo>
                    <a:lnTo>
                      <a:pt x="19" y="183"/>
                    </a:lnTo>
                    <a:lnTo>
                      <a:pt x="32" y="195"/>
                    </a:lnTo>
                    <a:lnTo>
                      <a:pt x="41" y="208"/>
                    </a:lnTo>
                    <a:lnTo>
                      <a:pt x="51" y="215"/>
                    </a:lnTo>
                    <a:lnTo>
                      <a:pt x="64" y="224"/>
                    </a:lnTo>
                    <a:lnTo>
                      <a:pt x="76" y="227"/>
                    </a:lnTo>
                    <a:lnTo>
                      <a:pt x="89" y="234"/>
                    </a:lnTo>
                    <a:lnTo>
                      <a:pt x="102" y="234"/>
                    </a:lnTo>
                    <a:lnTo>
                      <a:pt x="112" y="234"/>
                    </a:lnTo>
                    <a:lnTo>
                      <a:pt x="128" y="240"/>
                    </a:lnTo>
                    <a:lnTo>
                      <a:pt x="134" y="227"/>
                    </a:lnTo>
                    <a:lnTo>
                      <a:pt x="134" y="215"/>
                    </a:lnTo>
                    <a:lnTo>
                      <a:pt x="134" y="205"/>
                    </a:lnTo>
                    <a:lnTo>
                      <a:pt x="134" y="195"/>
                    </a:lnTo>
                    <a:lnTo>
                      <a:pt x="134" y="183"/>
                    </a:lnTo>
                    <a:lnTo>
                      <a:pt x="134" y="173"/>
                    </a:lnTo>
                    <a:lnTo>
                      <a:pt x="131" y="163"/>
                    </a:lnTo>
                    <a:lnTo>
                      <a:pt x="128" y="151"/>
                    </a:lnTo>
                    <a:lnTo>
                      <a:pt x="128" y="138"/>
                    </a:lnTo>
                    <a:lnTo>
                      <a:pt x="128" y="128"/>
                    </a:lnTo>
                    <a:lnTo>
                      <a:pt x="128" y="115"/>
                    </a:lnTo>
                    <a:lnTo>
                      <a:pt x="131" y="103"/>
                    </a:lnTo>
                    <a:lnTo>
                      <a:pt x="131" y="93"/>
                    </a:lnTo>
                    <a:lnTo>
                      <a:pt x="131" y="83"/>
                    </a:lnTo>
                    <a:lnTo>
                      <a:pt x="131" y="71"/>
                    </a:lnTo>
                    <a:lnTo>
                      <a:pt x="131" y="61"/>
                    </a:lnTo>
                    <a:lnTo>
                      <a:pt x="131" y="51"/>
                    </a:lnTo>
                    <a:lnTo>
                      <a:pt x="131" y="39"/>
                    </a:lnTo>
                    <a:lnTo>
                      <a:pt x="131" y="29"/>
                    </a:lnTo>
                    <a:lnTo>
                      <a:pt x="131" y="19"/>
                    </a:lnTo>
                    <a:lnTo>
                      <a:pt x="128" y="7"/>
                    </a:lnTo>
                    <a:lnTo>
                      <a:pt x="118" y="0"/>
                    </a:lnTo>
                    <a:lnTo>
                      <a:pt x="108" y="0"/>
                    </a:lnTo>
                    <a:lnTo>
                      <a:pt x="96" y="7"/>
                    </a:lnTo>
                    <a:lnTo>
                      <a:pt x="86" y="3"/>
                    </a:lnTo>
                    <a:lnTo>
                      <a:pt x="76" y="3"/>
                    </a:lnTo>
                  </a:path>
                </a:pathLst>
              </a:custGeom>
              <a:solidFill>
                <a:srgbClr val="cc0000"/>
              </a:solidFill>
              <a:ln cap="rnd" w="1260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6400" rIns="864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5735520" y="4684680"/>
            <a:ext cx="1203840" cy="302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marL="334800" indent="-334800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65520" y="4749840"/>
            <a:ext cx="663120" cy="258840"/>
            <a:chOff x="2765520" y="4749840"/>
            <a:chExt cx="663120" cy="258840"/>
          </a:xfrm>
        </p:grpSpPr>
        <p:sp>
          <p:nvSpPr>
            <p:cNvPr id="201" name=""/>
            <p:cNvSpPr/>
            <p:nvPr/>
          </p:nvSpPr>
          <p:spPr>
            <a:xfrm>
              <a:off x="2765520" y="4749840"/>
              <a:ext cx="572760" cy="258840"/>
            </a:xfrm>
            <a:prstGeom prst="roundRect">
              <a:avLst>
                <a:gd name="adj" fmla="val 12495"/>
              </a:avLst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3560" bIns="43560" anchor="ctr">
              <a:noAutofit/>
            </a:bodyPr>
            <a:p>
              <a:pPr marL="334800" indent="-334800" algn="ctr"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ic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63760" y="4791960"/>
              <a:ext cx="164880" cy="189000"/>
            </a:xfrm>
            <a:custGeom>
              <a:avLst/>
              <a:gdLst/>
              <a:ahLst/>
              <a:rect l="l" t="t" r="r" b="b"/>
              <a:pathLst>
                <a:path w="135" h="241">
                  <a:moveTo>
                    <a:pt x="76" y="3"/>
                  </a:moveTo>
                  <a:lnTo>
                    <a:pt x="64" y="3"/>
                  </a:lnTo>
                  <a:lnTo>
                    <a:pt x="54" y="10"/>
                  </a:lnTo>
                  <a:lnTo>
                    <a:pt x="44" y="16"/>
                  </a:lnTo>
                  <a:lnTo>
                    <a:pt x="35" y="26"/>
                  </a:lnTo>
                  <a:lnTo>
                    <a:pt x="25" y="32"/>
                  </a:lnTo>
                  <a:lnTo>
                    <a:pt x="22" y="42"/>
                  </a:lnTo>
                  <a:lnTo>
                    <a:pt x="16" y="55"/>
                  </a:lnTo>
                  <a:lnTo>
                    <a:pt x="9" y="67"/>
                  </a:lnTo>
                  <a:lnTo>
                    <a:pt x="3" y="77"/>
                  </a:lnTo>
                  <a:lnTo>
                    <a:pt x="3" y="87"/>
                  </a:lnTo>
                  <a:lnTo>
                    <a:pt x="3" y="103"/>
                  </a:lnTo>
                  <a:lnTo>
                    <a:pt x="3" y="119"/>
                  </a:lnTo>
                  <a:lnTo>
                    <a:pt x="3" y="131"/>
                  </a:lnTo>
                  <a:lnTo>
                    <a:pt x="0" y="141"/>
                  </a:lnTo>
                  <a:lnTo>
                    <a:pt x="9" y="151"/>
                  </a:lnTo>
                  <a:lnTo>
                    <a:pt x="12" y="163"/>
                  </a:lnTo>
                  <a:lnTo>
                    <a:pt x="16" y="173"/>
                  </a:lnTo>
                  <a:lnTo>
                    <a:pt x="19" y="183"/>
                  </a:lnTo>
                  <a:lnTo>
                    <a:pt x="32" y="195"/>
                  </a:lnTo>
                  <a:lnTo>
                    <a:pt x="41" y="208"/>
                  </a:lnTo>
                  <a:lnTo>
                    <a:pt x="51" y="215"/>
                  </a:lnTo>
                  <a:lnTo>
                    <a:pt x="64" y="224"/>
                  </a:lnTo>
                  <a:lnTo>
                    <a:pt x="76" y="227"/>
                  </a:lnTo>
                  <a:lnTo>
                    <a:pt x="89" y="234"/>
                  </a:lnTo>
                  <a:lnTo>
                    <a:pt x="102" y="234"/>
                  </a:lnTo>
                  <a:lnTo>
                    <a:pt x="112" y="234"/>
                  </a:lnTo>
                  <a:lnTo>
                    <a:pt x="128" y="240"/>
                  </a:lnTo>
                  <a:lnTo>
                    <a:pt x="134" y="227"/>
                  </a:lnTo>
                  <a:lnTo>
                    <a:pt x="134" y="215"/>
                  </a:lnTo>
                  <a:lnTo>
                    <a:pt x="134" y="205"/>
                  </a:lnTo>
                  <a:lnTo>
                    <a:pt x="134" y="195"/>
                  </a:lnTo>
                  <a:lnTo>
                    <a:pt x="134" y="183"/>
                  </a:lnTo>
                  <a:lnTo>
                    <a:pt x="134" y="173"/>
                  </a:lnTo>
                  <a:lnTo>
                    <a:pt x="131" y="163"/>
                  </a:lnTo>
                  <a:lnTo>
                    <a:pt x="128" y="151"/>
                  </a:lnTo>
                  <a:lnTo>
                    <a:pt x="128" y="138"/>
                  </a:lnTo>
                  <a:lnTo>
                    <a:pt x="128" y="128"/>
                  </a:lnTo>
                  <a:lnTo>
                    <a:pt x="128" y="115"/>
                  </a:lnTo>
                  <a:lnTo>
                    <a:pt x="131" y="103"/>
                  </a:lnTo>
                  <a:lnTo>
                    <a:pt x="131" y="93"/>
                  </a:lnTo>
                  <a:lnTo>
                    <a:pt x="131" y="83"/>
                  </a:lnTo>
                  <a:lnTo>
                    <a:pt x="131" y="71"/>
                  </a:lnTo>
                  <a:lnTo>
                    <a:pt x="131" y="61"/>
                  </a:lnTo>
                  <a:lnTo>
                    <a:pt x="131" y="51"/>
                  </a:lnTo>
                  <a:lnTo>
                    <a:pt x="131" y="39"/>
                  </a:lnTo>
                  <a:lnTo>
                    <a:pt x="131" y="29"/>
                  </a:lnTo>
                  <a:lnTo>
                    <a:pt x="131" y="19"/>
                  </a:lnTo>
                  <a:lnTo>
                    <a:pt x="128" y="7"/>
                  </a:lnTo>
                  <a:lnTo>
                    <a:pt x="118" y="0"/>
                  </a:lnTo>
                  <a:lnTo>
                    <a:pt x="108" y="0"/>
                  </a:lnTo>
                  <a:lnTo>
                    <a:pt x="96" y="7"/>
                  </a:lnTo>
                  <a:lnTo>
                    <a:pt x="86" y="3"/>
                  </a:lnTo>
                  <a:lnTo>
                    <a:pt x="76" y="3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200" rIns="882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765440" y="4616280"/>
            <a:ext cx="861840" cy="3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t">
            <a:spAutoFit/>
          </a:bodyPr>
          <a:p>
            <a:pPr marL="334800" indent="-334800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10000" y="3903840"/>
            <a:ext cx="703080" cy="3171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3560" bIns="43560" anchor="ctr">
            <a:noAutofit/>
          </a:bodyPr>
          <a:p>
            <a:pPr marL="334800" indent="-334800" algn="ct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b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5200" y="3733920"/>
            <a:ext cx="1332000" cy="3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3560" bIns="43560" anchor="t">
            <a:spAutoFit/>
          </a:bodyPr>
          <a:p>
            <a:pPr marL="334800" indent="-334800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1925280" y="3147120"/>
            <a:ext cx="689760" cy="167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06" y="19275"/>
                </a:moveTo>
                <a:arcTo wR="10800" hR="10800" stAng="7698057" swAng="2894309"/>
                <a:lnTo>
                  <a:pt x="10800" y="10800"/>
                </a:lnTo>
                <a:close/>
              </a:path>
              <a:path fill="none" w="21600" h="21600">
                <a:moveTo>
                  <a:pt x="4106" y="19275"/>
                </a:moveTo>
                <a:arcTo wR="10800" hR="10800" stAng="7698057" swAng="2894309"/>
              </a:path>
            </a:pathLst>
          </a:custGeom>
          <a:noFill/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20560" y="3642840"/>
            <a:ext cx="1458000" cy="118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89" y="7"/>
                </a:moveTo>
                <a:arcTo wR="10800" hR="10800" stAng="-5276151" swAng="3404746"/>
                <a:lnTo>
                  <a:pt x="10800" y="10800"/>
                </a:lnTo>
                <a:close/>
              </a:path>
              <a:path fill="none" w="21600" h="21600">
                <a:moveTo>
                  <a:pt x="11189" y="7"/>
                </a:moveTo>
                <a:arcTo wR="10800" hR="10800" stAng="-5276151" swAng="3404746"/>
              </a:path>
            </a:pathLst>
          </a:cu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17320" y="3838680"/>
            <a:ext cx="525240" cy="302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20880" y="4361040"/>
            <a:ext cx="652320" cy="24120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dc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20960" y="4965840"/>
            <a:ext cx="654120" cy="2458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dc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52640" y="4616280"/>
            <a:ext cx="624240" cy="302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D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50120" y="6369120"/>
            <a:ext cx="633240" cy="26028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6477120"/>
            <a:ext cx="18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54560" y="6477120"/>
            <a:ext cx="3606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27360" y="6324480"/>
            <a:ext cx="650880" cy="2574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3560" bIns="43560" anchor="ctr">
            <a:noAutofit/>
          </a:bodyPr>
          <a:p>
            <a:pPr marL="334800" indent="-334800" algn="ct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n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96360" y="6305400"/>
            <a:ext cx="7596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50920" y="6175440"/>
            <a:ext cx="690480" cy="30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B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11360" y="5464080"/>
            <a:ext cx="228600" cy="1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765440" y="5463720"/>
            <a:ext cx="230040" cy="65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26360" y="5268960"/>
            <a:ext cx="258480" cy="302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6360" y="3606840"/>
            <a:ext cx="0" cy="714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4080" y="4386240"/>
            <a:ext cx="536400" cy="84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4080" y="4451400"/>
            <a:ext cx="536400" cy="25884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3560" bIns="43560" anchor="ctr">
            <a:noAutofit/>
          </a:bodyPr>
          <a:p>
            <a:pPr algn="ctr"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4080" y="4970520"/>
            <a:ext cx="536400" cy="195120"/>
          </a:xfrm>
          <a:prstGeom prst="octagon">
            <a:avLst>
              <a:gd name="adj" fmla="val 29282"/>
            </a:avLst>
          </a:prstGeom>
          <a:solidFill>
            <a:srgbClr val="ff505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ck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35040" y="4556160"/>
            <a:ext cx="306360" cy="130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25520" y="4557600"/>
            <a:ext cx="79560" cy="1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56440" y="5891040"/>
            <a:ext cx="1105920" cy="27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32160" y="4191120"/>
            <a:ext cx="1238400" cy="302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active tr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54120" y="5248440"/>
            <a:ext cx="1238400" cy="302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active tr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0480" y="4097160"/>
            <a:ext cx="176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53280" y="5680080"/>
            <a:ext cx="703440" cy="1951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3560" bIns="43560" anchor="ctr">
            <a:noAutofit/>
          </a:bodyPr>
          <a:p>
            <a:pPr marL="334800" indent="-334800" algn="ct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449320" y="4751280"/>
            <a:ext cx="230040" cy="258840"/>
          </a:xfrm>
          <a:prstGeom prst="flowChartDelay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300480" y="4749840"/>
            <a:ext cx="154080" cy="260280"/>
          </a:xfrm>
          <a:prstGeom prst="flowChartDelay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03680" y="4815000"/>
            <a:ext cx="231840" cy="195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80080" y="4944960"/>
            <a:ext cx="130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68600" y="4097160"/>
            <a:ext cx="476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291520" y="3943440"/>
            <a:ext cx="628560" cy="28260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3560" bIns="43560" anchor="ctr">
            <a:noAutofit/>
          </a:bodyPr>
          <a:p>
            <a:pPr marL="334800" indent="-334800" algn="ct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599320" y="3902040"/>
            <a:ext cx="7632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15200" y="4049640"/>
            <a:ext cx="920880" cy="6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99240" y="5486400"/>
            <a:ext cx="763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292880" y="6489720"/>
            <a:ext cx="997200" cy="6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284560" y="4191120"/>
            <a:ext cx="382320" cy="390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11360" y="6259680"/>
            <a:ext cx="7776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689120" y="6189840"/>
            <a:ext cx="306360" cy="6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6029280"/>
            <a:ext cx="627120" cy="15408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3560" bIns="43560" anchor="ctr">
            <a:noAutofit/>
          </a:bodyPr>
          <a:p>
            <a:pPr marL="334800" indent="-334800" algn="ct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b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51400" y="6553080"/>
            <a:ext cx="949320" cy="27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ding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513000">
            <a:off x="3608280" y="5908680"/>
            <a:ext cx="765360" cy="111240"/>
          </a:xfrm>
          <a:prstGeom prst="rightArrow">
            <a:avLst>
              <a:gd name="adj1" fmla="val 50000"/>
              <a:gd name="adj2" fmla="val 17200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95560" y="2779560"/>
            <a:ext cx="585720" cy="25740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noAutofit/>
          </a:bodyPr>
          <a:p>
            <a:pPr marL="334800" indent="-334800" algn="ct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dc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49840" y="3773520"/>
            <a:ext cx="755640" cy="323640"/>
          </a:xfrm>
          <a:custGeom>
            <a:avLst/>
            <a:gdLst>
              <a:gd name="textAreaLeft" fmla="*/ 172440 w 755640"/>
              <a:gd name="textAreaRight" fmla="*/ 583200 w 755640"/>
              <a:gd name="textAreaTop" fmla="*/ 73800 h 323640"/>
              <a:gd name="textAreaBottom" fmla="*/ 249840 h 32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noAutofit/>
          </a:bodyPr>
          <a:p>
            <a:pPr marL="334800" indent="-334800" algn="ct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dc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2762280"/>
            <a:ext cx="538200" cy="2602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noAutofit/>
          </a:bodyPr>
          <a:p>
            <a:pPr marL="334800" indent="-334800" algn="ct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d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08760" y="3773520"/>
            <a:ext cx="690480" cy="301680"/>
          </a:xfrm>
          <a:custGeom>
            <a:avLst/>
            <a:gdLst>
              <a:gd name="textAreaLeft" fmla="*/ 157680 w 690480"/>
              <a:gd name="textAreaRight" fmla="*/ 532800 w 690480"/>
              <a:gd name="textAreaTop" fmla="*/ 68760 h 301680"/>
              <a:gd name="textAreaBottom" fmla="*/ 232920 h 30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noAutofit/>
          </a:bodyPr>
          <a:p>
            <a:pPr marL="334800" indent="-334800" algn="ct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d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04320" y="2673360"/>
            <a:ext cx="1332000" cy="3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3560" bIns="43560" anchor="t">
            <a:spAutoFit/>
          </a:bodyPr>
          <a:p>
            <a:pPr marL="334800" indent="-334800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73320" y="3193920"/>
            <a:ext cx="596880" cy="30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3200400"/>
            <a:ext cx="561960" cy="57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504960" y="3123720"/>
            <a:ext cx="56340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24160" y="3792600"/>
            <a:ext cx="128520" cy="169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543800" y="3103200"/>
            <a:ext cx="401760" cy="63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7445520" y="3124080"/>
            <a:ext cx="40320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828800" y="2971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37120" y="3506760"/>
            <a:ext cx="1663560" cy="27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ligned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rot="2256000">
            <a:off x="4644720" y="3428640"/>
            <a:ext cx="307800" cy="130320"/>
          </a:xfrm>
          <a:prstGeom prst="rightArrow">
            <a:avLst>
              <a:gd name="adj1" fmla="val 50000"/>
              <a:gd name="adj2" fmla="val 5904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294680" y="4751280"/>
            <a:ext cx="663120" cy="258840"/>
            <a:chOff x="7294680" y="4751280"/>
            <a:chExt cx="663120" cy="258840"/>
          </a:xfrm>
        </p:grpSpPr>
        <p:sp>
          <p:nvSpPr>
            <p:cNvPr id="263" name=""/>
            <p:cNvSpPr/>
            <p:nvPr/>
          </p:nvSpPr>
          <p:spPr>
            <a:xfrm>
              <a:off x="7294680" y="4751280"/>
              <a:ext cx="572760" cy="258840"/>
            </a:xfrm>
            <a:prstGeom prst="roundRect">
              <a:avLst>
                <a:gd name="adj" fmla="val 12495"/>
              </a:avLst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3560" bIns="43560" anchor="ctr">
              <a:noAutofit/>
            </a:bodyPr>
            <a:p>
              <a:pPr marL="334800" indent="-334800" algn="ctr"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92920" y="4793400"/>
              <a:ext cx="164880" cy="189000"/>
            </a:xfrm>
            <a:custGeom>
              <a:avLst/>
              <a:gdLst/>
              <a:ahLst/>
              <a:rect l="l" t="t" r="r" b="b"/>
              <a:pathLst>
                <a:path w="135" h="241">
                  <a:moveTo>
                    <a:pt x="76" y="3"/>
                  </a:moveTo>
                  <a:lnTo>
                    <a:pt x="64" y="3"/>
                  </a:lnTo>
                  <a:lnTo>
                    <a:pt x="54" y="10"/>
                  </a:lnTo>
                  <a:lnTo>
                    <a:pt x="44" y="16"/>
                  </a:lnTo>
                  <a:lnTo>
                    <a:pt x="35" y="26"/>
                  </a:lnTo>
                  <a:lnTo>
                    <a:pt x="25" y="32"/>
                  </a:lnTo>
                  <a:lnTo>
                    <a:pt x="22" y="42"/>
                  </a:lnTo>
                  <a:lnTo>
                    <a:pt x="16" y="55"/>
                  </a:lnTo>
                  <a:lnTo>
                    <a:pt x="9" y="67"/>
                  </a:lnTo>
                  <a:lnTo>
                    <a:pt x="3" y="77"/>
                  </a:lnTo>
                  <a:lnTo>
                    <a:pt x="3" y="87"/>
                  </a:lnTo>
                  <a:lnTo>
                    <a:pt x="3" y="103"/>
                  </a:lnTo>
                  <a:lnTo>
                    <a:pt x="3" y="119"/>
                  </a:lnTo>
                  <a:lnTo>
                    <a:pt x="3" y="131"/>
                  </a:lnTo>
                  <a:lnTo>
                    <a:pt x="0" y="141"/>
                  </a:lnTo>
                  <a:lnTo>
                    <a:pt x="9" y="151"/>
                  </a:lnTo>
                  <a:lnTo>
                    <a:pt x="12" y="163"/>
                  </a:lnTo>
                  <a:lnTo>
                    <a:pt x="16" y="173"/>
                  </a:lnTo>
                  <a:lnTo>
                    <a:pt x="19" y="183"/>
                  </a:lnTo>
                  <a:lnTo>
                    <a:pt x="32" y="195"/>
                  </a:lnTo>
                  <a:lnTo>
                    <a:pt x="41" y="208"/>
                  </a:lnTo>
                  <a:lnTo>
                    <a:pt x="51" y="215"/>
                  </a:lnTo>
                  <a:lnTo>
                    <a:pt x="64" y="224"/>
                  </a:lnTo>
                  <a:lnTo>
                    <a:pt x="76" y="227"/>
                  </a:lnTo>
                  <a:lnTo>
                    <a:pt x="89" y="234"/>
                  </a:lnTo>
                  <a:lnTo>
                    <a:pt x="102" y="234"/>
                  </a:lnTo>
                  <a:lnTo>
                    <a:pt x="112" y="234"/>
                  </a:lnTo>
                  <a:lnTo>
                    <a:pt x="128" y="240"/>
                  </a:lnTo>
                  <a:lnTo>
                    <a:pt x="134" y="227"/>
                  </a:lnTo>
                  <a:lnTo>
                    <a:pt x="134" y="215"/>
                  </a:lnTo>
                  <a:lnTo>
                    <a:pt x="134" y="205"/>
                  </a:lnTo>
                  <a:lnTo>
                    <a:pt x="134" y="195"/>
                  </a:lnTo>
                  <a:lnTo>
                    <a:pt x="134" y="183"/>
                  </a:lnTo>
                  <a:lnTo>
                    <a:pt x="134" y="173"/>
                  </a:lnTo>
                  <a:lnTo>
                    <a:pt x="131" y="163"/>
                  </a:lnTo>
                  <a:lnTo>
                    <a:pt x="128" y="151"/>
                  </a:lnTo>
                  <a:lnTo>
                    <a:pt x="128" y="138"/>
                  </a:lnTo>
                  <a:lnTo>
                    <a:pt x="128" y="128"/>
                  </a:lnTo>
                  <a:lnTo>
                    <a:pt x="128" y="115"/>
                  </a:lnTo>
                  <a:lnTo>
                    <a:pt x="131" y="103"/>
                  </a:lnTo>
                  <a:lnTo>
                    <a:pt x="131" y="93"/>
                  </a:lnTo>
                  <a:lnTo>
                    <a:pt x="131" y="83"/>
                  </a:lnTo>
                  <a:lnTo>
                    <a:pt x="131" y="71"/>
                  </a:lnTo>
                  <a:lnTo>
                    <a:pt x="131" y="61"/>
                  </a:lnTo>
                  <a:lnTo>
                    <a:pt x="131" y="51"/>
                  </a:lnTo>
                  <a:lnTo>
                    <a:pt x="131" y="39"/>
                  </a:lnTo>
                  <a:lnTo>
                    <a:pt x="131" y="29"/>
                  </a:lnTo>
                  <a:lnTo>
                    <a:pt x="131" y="19"/>
                  </a:lnTo>
                  <a:lnTo>
                    <a:pt x="128" y="7"/>
                  </a:lnTo>
                  <a:lnTo>
                    <a:pt x="118" y="0"/>
                  </a:lnTo>
                  <a:lnTo>
                    <a:pt x="108" y="0"/>
                  </a:lnTo>
                  <a:lnTo>
                    <a:pt x="96" y="7"/>
                  </a:lnTo>
                  <a:lnTo>
                    <a:pt x="86" y="3"/>
                  </a:lnTo>
                  <a:lnTo>
                    <a:pt x="76" y="3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200" rIns="882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 flipH="1">
            <a:off x="7828920" y="4751280"/>
            <a:ext cx="153720" cy="260280"/>
          </a:xfrm>
          <a:prstGeom prst="flowChartDelay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23280" y="4556160"/>
            <a:ext cx="7596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39160" y="4879800"/>
            <a:ext cx="996840" cy="6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225160" y="4084920"/>
            <a:ext cx="921240" cy="1879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76" y="3743"/>
                </a:moveTo>
                <a:arcTo wR="10800" hR="10800" stAng="-2447958" swAng="2302167"/>
                <a:lnTo>
                  <a:pt x="10800" y="10800"/>
                </a:lnTo>
                <a:close/>
              </a:path>
              <a:path fill="none" w="21600" h="21600">
                <a:moveTo>
                  <a:pt x="18976" y="3743"/>
                </a:moveTo>
                <a:arcTo wR="10800" hR="10800" stAng="-2447958" swAng="2302167"/>
              </a:path>
            </a:pathLst>
          </a:custGeom>
          <a:noFill/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13000">
            <a:off x="3608280" y="6594480"/>
            <a:ext cx="765360" cy="111240"/>
          </a:xfrm>
          <a:prstGeom prst="rightArrow">
            <a:avLst>
              <a:gd name="adj1" fmla="val 50000"/>
              <a:gd name="adj2" fmla="val 17200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35520" y="4879800"/>
            <a:ext cx="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3094200" y="5128560"/>
            <a:ext cx="612720" cy="25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610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61010"/>
              </a:path>
            </a:pathLst>
          </a:custGeom>
          <a:noFill/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149920" y="3426120"/>
            <a:ext cx="919800" cy="163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555" y="4476"/>
                </a:moveTo>
                <a:arcTo wR="10800" hR="10800" stAng="-2150469" swAng="2230380"/>
                <a:lnTo>
                  <a:pt x="10800" y="10800"/>
                </a:lnTo>
                <a:close/>
              </a:path>
              <a:path fill="none" w="21600" h="21600">
                <a:moveTo>
                  <a:pt x="19555" y="4476"/>
                </a:moveTo>
                <a:arcTo wR="10800" hR="10800" stAng="-2150469" swAng="2230380"/>
              </a:path>
            </a:pathLst>
          </a:custGeom>
          <a:noFill/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022200" y="4363920"/>
            <a:ext cx="460080" cy="56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900" y="729"/>
                </a:moveTo>
                <a:arcTo wR="10800" hR="10800" stAng="-6670145" swAng="5017206"/>
                <a:lnTo>
                  <a:pt x="10800" y="10800"/>
                </a:lnTo>
                <a:close/>
              </a:path>
              <a:path fill="none" w="21600" h="21600">
                <a:moveTo>
                  <a:pt x="6900" y="729"/>
                </a:moveTo>
                <a:arcTo wR="10800" hR="10800" stAng="-6670145" swAng="5017206"/>
              </a:path>
            </a:pathLst>
          </a:custGeom>
          <a:noFill/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52920" y="2971800"/>
            <a:ext cx="538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05480" y="2414160"/>
            <a:ext cx="2313720" cy="114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366" y="2225"/>
                </a:moveTo>
                <a:arcTo wR="10800" hR="10800" stAng="-3153397" swAng="3249087"/>
                <a:lnTo>
                  <a:pt x="10800" y="10800"/>
                </a:lnTo>
                <a:close/>
              </a:path>
              <a:path fill="none" w="21600" h="21600">
                <a:moveTo>
                  <a:pt x="17366" y="2225"/>
                </a:moveTo>
                <a:arcTo wR="10800" hR="10800" stAng="-3153397" swAng="3249087"/>
              </a:path>
            </a:pathLst>
          </a:custGeom>
          <a:noFill/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22800" y="444600"/>
            <a:ext cx="614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2514600"/>
            <a:ext cx="652320" cy="235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dc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09680" y="353880"/>
            <a:ext cx="496440" cy="302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B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95480" y="0"/>
            <a:ext cx="690480" cy="24624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454560" y="71280"/>
            <a:ext cx="699840" cy="22572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 rot="16200000">
            <a:off x="2245320" y="-108360"/>
            <a:ext cx="190800" cy="690480"/>
          </a:xfrm>
          <a:custGeom>
            <a:avLst/>
            <a:gdLst>
              <a:gd name="textAreaLeft" fmla="*/ 13680 w 190800"/>
              <a:gd name="textAreaRight" fmla="*/ 141120 w 190800"/>
              <a:gd name="textAreaTop" fmla="*/ 216720 h 690480"/>
              <a:gd name="textAreaBottom" fmla="*/ 47376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790" y="2867"/>
                  <a:pt x="15979" y="5080"/>
                  <a:pt x="15979" y="10800"/>
                </a:cubicBezTo>
                <a:cubicBezTo>
                  <a:pt x="15979" y="16520"/>
                  <a:pt x="18790" y="1873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d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08720" y="90720"/>
            <a:ext cx="2129040" cy="118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366" y="2225"/>
                </a:moveTo>
                <a:arcTo wR="10800" hR="10800" stAng="-3153397" swAng="2787742"/>
                <a:lnTo>
                  <a:pt x="10800" y="10800"/>
                </a:lnTo>
                <a:close/>
              </a:path>
              <a:path fill="none" w="21600" h="21600">
                <a:moveTo>
                  <a:pt x="17366" y="2225"/>
                </a:moveTo>
                <a:arcTo wR="10800" hR="10800" stAng="-3153397" swAng="2787742"/>
              </a:path>
            </a:pathLst>
          </a:custGeom>
          <a:noFill/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 rot="16200000">
            <a:off x="3021480" y="384120"/>
            <a:ext cx="252360" cy="615960"/>
          </a:xfrm>
          <a:custGeom>
            <a:avLst/>
            <a:gdLst>
              <a:gd name="textAreaLeft" fmla="*/ 18000 w 252360"/>
              <a:gd name="textAreaRight" fmla="*/ 186840 w 252360"/>
              <a:gd name="textAreaTop" fmla="*/ 193320 h 615960"/>
              <a:gd name="textAreaBottom" fmla="*/ 422640 h 6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790" y="2867"/>
                  <a:pt x="15979" y="5080"/>
                  <a:pt x="15979" y="10800"/>
                </a:cubicBezTo>
                <a:cubicBezTo>
                  <a:pt x="15979" y="16520"/>
                  <a:pt x="18790" y="1873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d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90960" y="2432160"/>
            <a:ext cx="614520" cy="199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90960" y="1552680"/>
            <a:ext cx="614520" cy="199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40040" y="1219320"/>
            <a:ext cx="646200" cy="22068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473960" y="1149480"/>
            <a:ext cx="662040" cy="21744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846920" y="1073160"/>
            <a:ext cx="1800" cy="29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16720" y="1255680"/>
            <a:ext cx="7970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9360" y="1968480"/>
            <a:ext cx="109368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dc15/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22320" y="1773360"/>
            <a:ext cx="101124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1-G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21960" y="2198520"/>
            <a:ext cx="99144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1-G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/>
          <p:nvPr/>
        </p:nvCxnSpPr>
        <p:spPr>
          <a:xfrm flipH="1">
            <a:off x="8224560" y="1923840"/>
            <a:ext cx="20880" cy="425880"/>
          </a:xfrm>
          <a:prstGeom prst="curvedConnector5">
            <a:avLst>
              <a:gd name="adj1" fmla="val -1126315"/>
              <a:gd name="adj2" fmla="val 50000"/>
              <a:gd name="adj3" fmla="val -1126315"/>
            </a:avLst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94" name=""/>
          <p:cNvCxnSpPr/>
          <p:nvPr/>
        </p:nvCxnSpPr>
        <p:spPr>
          <a:xfrm flipH="1" flipV="1" rot="10800000">
            <a:off x="7214040" y="1923120"/>
            <a:ext cx="2520" cy="42588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8541000" y="1971720"/>
            <a:ext cx="56952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b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377120" y="152280"/>
            <a:ext cx="1663560" cy="27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ligned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89600" y="380880"/>
            <a:ext cx="801720" cy="196920"/>
          </a:xfrm>
          <a:custGeom>
            <a:avLst/>
            <a:gdLst>
              <a:gd name="textAreaLeft" fmla="*/ 182880 w 801720"/>
              <a:gd name="textAreaRight" fmla="*/ 618840 w 801720"/>
              <a:gd name="textAreaTop" fmla="*/ 45000 h 196920"/>
              <a:gd name="textAreaBottom" fmla="*/ 151920 h 19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noAutofit/>
          </a:bodyPr>
          <a:p>
            <a:pPr marL="334800" indent="-334800" algn="ct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d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36880" y="71280"/>
            <a:ext cx="1845000" cy="27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ster chromatid s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97840" y="638280"/>
            <a:ext cx="1332000" cy="3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3560" bIns="43560" anchor="t">
            <a:spAutoFit/>
          </a:bodyPr>
          <a:p>
            <a:pPr marL="334800" indent="-334800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08280" y="638280"/>
            <a:ext cx="3606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20880" y="638280"/>
            <a:ext cx="184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993400" y="284040"/>
            <a:ext cx="769680" cy="27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9854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98544"/>
              </a:path>
            </a:pathLst>
          </a:custGeom>
          <a:noFill/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299120" y="177840"/>
            <a:ext cx="384120" cy="127080"/>
          </a:xfrm>
          <a:prstGeom prst="rightArrow">
            <a:avLst>
              <a:gd name="adj1" fmla="val 50000"/>
              <a:gd name="adj2" fmla="val 755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08280" y="1295280"/>
            <a:ext cx="3606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373720" y="63828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73720" y="114300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20880" y="1295280"/>
            <a:ext cx="184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51400" y="1219320"/>
            <a:ext cx="23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028480" y="2590920"/>
            <a:ext cx="91116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653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65332"/>
              </a:path>
            </a:pathLst>
          </a:custGeom>
          <a:noFill/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51400" y="2133720"/>
            <a:ext cx="231840" cy="4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46400" y="1523880"/>
            <a:ext cx="0" cy="636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46400" y="2133720"/>
            <a:ext cx="998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761320" y="533520"/>
            <a:ext cx="154080" cy="1295280"/>
          </a:xfrm>
          <a:prstGeom prst="downArrow">
            <a:avLst>
              <a:gd name="adj1" fmla="val 50000"/>
              <a:gd name="adj2" fmla="val 21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530520" y="4927680"/>
            <a:ext cx="99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30520" y="4857840"/>
            <a:ext cx="99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529160" y="91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78240" y="920880"/>
            <a:ext cx="1150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378240" y="77940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5834160" y="2133720"/>
            <a:ext cx="490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80520" y="5254560"/>
            <a:ext cx="3240" cy="1069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4120" y="6324480"/>
            <a:ext cx="766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324480" y="2133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7924320" y="3352680"/>
            <a:ext cx="460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4120" y="5638680"/>
            <a:ext cx="766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62720" y="32767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911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34340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324480" y="24382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67280" y="33526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867280" y="28191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31280" y="3440160"/>
            <a:ext cx="44748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6477120"/>
            <a:ext cx="18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5791320"/>
            <a:ext cx="18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4876920"/>
            <a:ext cx="1347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458200" y="3048120"/>
            <a:ext cx="538200" cy="585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b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238880" y="579132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 rot="16200000">
            <a:off x="7566480" y="351000"/>
            <a:ext cx="252360" cy="615960"/>
          </a:xfrm>
          <a:custGeom>
            <a:avLst/>
            <a:gdLst>
              <a:gd name="textAreaLeft" fmla="*/ 18000 w 252360"/>
              <a:gd name="textAreaRight" fmla="*/ 186840 w 252360"/>
              <a:gd name="textAreaTop" fmla="*/ 193320 h 615960"/>
              <a:gd name="textAreaBottom" fmla="*/ 422640 h 6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790" y="2867"/>
                  <a:pt x="15979" y="5080"/>
                  <a:pt x="15979" y="10800"/>
                </a:cubicBezTo>
                <a:cubicBezTo>
                  <a:pt x="15979" y="16520"/>
                  <a:pt x="18790" y="1873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391520" y="685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7696080" y="4572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29200" y="819000"/>
            <a:ext cx="755640" cy="324000"/>
          </a:xfrm>
          <a:custGeom>
            <a:avLst/>
            <a:gdLst>
              <a:gd name="textAreaLeft" fmla="*/ 172440 w 755640"/>
              <a:gd name="textAreaRight" fmla="*/ 583200 w 755640"/>
              <a:gd name="textAreaTop" fmla="*/ 73800 h 324000"/>
              <a:gd name="textAreaBottom" fmla="*/ 250200 h 3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noAutofit/>
          </a:bodyPr>
          <a:p>
            <a:pPr marL="334800" indent="-334800" algn="ct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dc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JigCell P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we need a P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ing a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ing a prediction based on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idating a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out a P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move beyond simple hand built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ting models is repetitive and time consum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s to mor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gin with a Wiring Dia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g Egg Extrac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4674960" cy="25909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952880" y="99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2200" y="3048120"/>
            <a:ext cx="121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-&gt;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54200" y="350532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-&gt;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200040" y="2819520"/>
            <a:ext cx="2438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00200" y="3429000"/>
            <a:ext cx="1676520" cy="5335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25909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tion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ter Wiring Diagram into Model Build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267760" cy="35496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8839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ine Parameters and Initial Condi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8883720" cy="33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forming a Compar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experimental results of inter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simulation with equivalent cond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sage simulation results into a usable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an objective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4:08:57Z</dcterms:created>
  <dc:creator>mvass</dc:creator>
  <dc:description/>
  <dc:language>en-US</dc:language>
  <cp:lastModifiedBy>Marc Vass</cp:lastModifiedBy>
  <dcterms:modified xsi:type="dcterms:W3CDTF">2002-05-27T18:57:57Z</dcterms:modified>
  <cp:revision>36</cp:revision>
  <dc:subject/>
  <dc:title>The JigCell Problem Solving Environment</dc:title>
</cp:coreProperties>
</file>