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DBCC65-FECB-4229-8D99-9B3BE3E71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97A7F-E7AD-41EA-97B7-8319C988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1D756-E2BA-4ACD-9CB2-365D48A5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4645F-DCC8-4E3C-9C3F-326EB9BB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0EB95-D5CD-4031-B24C-9464911C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060B-884B-4185-81E9-407D983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F535A-52F5-4495-A23B-0FEFD3DA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1AF90-E617-4B9F-AEBD-2AAAC41A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EB967-9946-4838-8290-0C8F498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FE3EC-945F-4869-9A41-624149C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F60C2-92E7-4126-B5CD-838E56E7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9256C-800C-4001-90D8-38A04EC5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C0CF6-1B22-498C-8492-1F3E6E1B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2E1E-AE3E-49D6-97EF-A03BE4077DCD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333333"/>
                </a:solidFill>
                <a:latin typeface="Times New Roman"/>
              </a:rPr>
              <a:t>Comprehensive Microbial Resource</a:t>
            </a:r>
            <a:br>
              <a:rPr sz="3200"/>
            </a:br>
            <a:br>
              <a:rPr sz="3200"/>
            </a:b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www.tigr.org/CMR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informatics Visualization Worksho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Owen Whit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May 30, 200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TIGRFAM" descr=""/>
          <p:cNvPicPr/>
          <p:nvPr/>
        </p:nvPicPr>
        <p:blipFill>
          <a:blip r:embed="rId1"/>
          <a:srcRect l="0" t="0" r="0" b="-323"/>
          <a:stretch/>
        </p:blipFill>
        <p:spPr>
          <a:xfrm>
            <a:off x="457200" y="14400"/>
            <a:ext cx="82296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1066680" y="533520"/>
            <a:ext cx="7162560" cy="6247800"/>
            <a:chOff x="1066680" y="533520"/>
            <a:chExt cx="7162560" cy="6247800"/>
          </a:xfrm>
        </p:grpSpPr>
        <p:pic>
          <p:nvPicPr>
            <p:cNvPr id="573" name="HMMMatrix" descr=""/>
            <p:cNvPicPr/>
            <p:nvPr/>
          </p:nvPicPr>
          <p:blipFill>
            <a:blip r:embed="rId1"/>
            <a:srcRect l="0" t="0" r="0" b="72134"/>
            <a:stretch/>
          </p:blipFill>
          <p:spPr>
            <a:xfrm>
              <a:off x="1066680" y="533520"/>
              <a:ext cx="7161480" cy="23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HMMMatrix" descr=""/>
            <p:cNvPicPr/>
            <p:nvPr/>
          </p:nvPicPr>
          <p:blipFill>
            <a:blip r:embed="rId2"/>
            <a:srcRect l="0" t="53280" r="0" b="0"/>
            <a:stretch/>
          </p:blipFill>
          <p:spPr>
            <a:xfrm>
              <a:off x="1067760" y="2867760"/>
              <a:ext cx="7161480" cy="391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5" name=""/>
          <p:cNvSpPr/>
          <p:nvPr/>
        </p:nvSpPr>
        <p:spPr>
          <a:xfrm>
            <a:off x="3452400" y="60480"/>
            <a:ext cx="22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GRFAM Matrix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homepage" descr=""/>
          <p:cNvPicPr/>
          <p:nvPr/>
        </p:nvPicPr>
        <p:blipFill>
          <a:blip r:embed="rId1"/>
          <a:stretch/>
        </p:blipFill>
        <p:spPr>
          <a:xfrm>
            <a:off x="1254240" y="41400"/>
            <a:ext cx="663552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GenomePage" descr=""/>
          <p:cNvPicPr/>
          <p:nvPr/>
        </p:nvPicPr>
        <p:blipFill>
          <a:blip r:embed="rId1"/>
          <a:stretch/>
        </p:blipFill>
        <p:spPr>
          <a:xfrm>
            <a:off x="1028880" y="52560"/>
            <a:ext cx="708660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GenomeBrowser" descr=""/>
          <p:cNvPicPr/>
          <p:nvPr/>
        </p:nvPicPr>
        <p:blipFill>
          <a:blip r:embed="rId1"/>
          <a:stretch/>
        </p:blipFill>
        <p:spPr>
          <a:xfrm>
            <a:off x="0" y="733320"/>
            <a:ext cx="9144000" cy="57438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868680" y="763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nome Browser: Linear Display of DNA Molecu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6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425680" y="15228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9"/>
                </a:solidFill>
                <a:latin typeface="Times New Roman"/>
              </a:rPr>
              <a:t>Genome vs. Genome Protein Hi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581" name="cmp1" descr=""/>
          <p:cNvPicPr/>
          <p:nvPr/>
        </p:nvPicPr>
        <p:blipFill>
          <a:blip r:embed="rId1"/>
          <a:stretch/>
        </p:blipFill>
        <p:spPr>
          <a:xfrm>
            <a:off x="-17640" y="663480"/>
            <a:ext cx="9161640" cy="6194520"/>
          </a:xfrm>
          <a:prstGeom prst="rect">
            <a:avLst/>
          </a:prstGeom>
          <a:ln w="0">
            <a:noFill/>
          </a:ln>
        </p:spPr>
      </p:pic>
      <p:pic>
        <p:nvPicPr>
          <p:cNvPr id="582" name="cmp2" descr=""/>
          <p:cNvPicPr/>
          <p:nvPr/>
        </p:nvPicPr>
        <p:blipFill>
          <a:blip r:embed="rId2"/>
          <a:stretch/>
        </p:blipFill>
        <p:spPr>
          <a:xfrm>
            <a:off x="371520" y="2962440"/>
            <a:ext cx="2905200" cy="2716200"/>
          </a:xfrm>
          <a:prstGeom prst="rect">
            <a:avLst/>
          </a:prstGeom>
          <a:ln w="0">
            <a:noFill/>
          </a:ln>
        </p:spPr>
      </p:pic>
      <p:pic>
        <p:nvPicPr>
          <p:cNvPr id="583" name="cmp3" descr=""/>
          <p:cNvPicPr/>
          <p:nvPr/>
        </p:nvPicPr>
        <p:blipFill>
          <a:blip r:embed="rId3"/>
          <a:stretch/>
        </p:blipFill>
        <p:spPr>
          <a:xfrm>
            <a:off x="3429000" y="685800"/>
            <a:ext cx="95835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mummer" descr=""/>
          <p:cNvPicPr/>
          <p:nvPr/>
        </p:nvPicPr>
        <p:blipFill>
          <a:blip r:embed="rId1"/>
          <a:srcRect l="14382" t="28777" r="14475" b="9077"/>
          <a:stretch/>
        </p:blipFill>
        <p:spPr>
          <a:xfrm>
            <a:off x="1541520" y="2521080"/>
            <a:ext cx="6062760" cy="4260600"/>
          </a:xfrm>
          <a:prstGeom prst="rect">
            <a:avLst/>
          </a:prstGeom>
          <a:ln w="0">
            <a:noFill/>
          </a:ln>
        </p:spPr>
      </p:pic>
      <p:pic>
        <p:nvPicPr>
          <p:cNvPr id="585" name="mummer" descr=""/>
          <p:cNvPicPr/>
          <p:nvPr/>
        </p:nvPicPr>
        <p:blipFill>
          <a:blip r:embed="rId2"/>
          <a:srcRect l="0" t="1079" r="23511" b="71105"/>
          <a:stretch/>
        </p:blipFill>
        <p:spPr>
          <a:xfrm>
            <a:off x="1312920" y="679320"/>
            <a:ext cx="6518160" cy="19065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778760" y="111240"/>
            <a:ext cx="558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Mmer: The Whole Genome Alignment Tool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CodonTable" descr=""/>
          <p:cNvPicPr/>
          <p:nvPr/>
        </p:nvPicPr>
        <p:blipFill>
          <a:blip r:embed="rId1"/>
          <a:srcRect l="0" t="0" r="0" b="27358"/>
          <a:stretch/>
        </p:blipFill>
        <p:spPr>
          <a:xfrm>
            <a:off x="403200" y="23760"/>
            <a:ext cx="833904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RoleGraph" descr=""/>
          <p:cNvPicPr/>
          <p:nvPr/>
        </p:nvPicPr>
        <p:blipFill>
          <a:blip r:embed="rId1"/>
          <a:srcRect l="0" t="-48" r="0" b="0"/>
          <a:stretch/>
        </p:blipFill>
        <p:spPr>
          <a:xfrm>
            <a:off x="1104840" y="533520"/>
            <a:ext cx="6934320" cy="62769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402000" y="792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5b8e"/>
                </a:solidFill>
                <a:latin typeface="Arial"/>
              </a:rPr>
              <a:t>Role Category Graph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GCPlot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610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ur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09480"/>
            <a:ext cx="39625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Genome Annotatio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Michelle Gwin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Bob Dodso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Bob DeBoy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James Kolonay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Bill Nelso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Ramana Madupu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Sean Daugherty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Maureen Beana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Scott Durki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Lauren Brinkac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Bioinformatics Engineer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Jeremy Peterso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Lowell Umayam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Samual Angiuol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TIGRFAMs/Group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Dan Haft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Jeremy Selengut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09480"/>
            <a:ext cx="4191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Maria Ermolaeva (Operons/Terminators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Erik Ferlanti (All vs. All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Faculty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Jonathan Eisen (DNA repair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Ian Paulsen (transporters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Steven Salzberg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Collaborator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Swiss-prot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Monica Riley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The open source crowd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b018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Comic Sans MS"/>
              </a:rPr>
              <a:t>Art Delcher (Glimmer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GenePage" descr=""/>
          <p:cNvPicPr/>
          <p:nvPr/>
        </p:nvPicPr>
        <p:blipFill>
          <a:blip r:embed="rId1"/>
          <a:stretch/>
        </p:blipFill>
        <p:spPr>
          <a:xfrm>
            <a:off x="781200" y="19080"/>
            <a:ext cx="7581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Seq" descr=""/>
          <p:cNvPicPr/>
          <p:nvPr/>
        </p:nvPicPr>
        <p:blipFill>
          <a:blip r:embed="rId1"/>
          <a:stretch/>
        </p:blipFill>
        <p:spPr>
          <a:xfrm>
            <a:off x="1147680" y="17640"/>
            <a:ext cx="684864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GES" descr=""/>
          <p:cNvPicPr/>
          <p:nvPr/>
        </p:nvPicPr>
        <p:blipFill>
          <a:blip r:embed="rId1"/>
          <a:srcRect l="0" t="0" r="0" b="3409"/>
          <a:stretch/>
        </p:blipFill>
        <p:spPr>
          <a:xfrm>
            <a:off x="1235160" y="77760"/>
            <a:ext cx="66722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GeneMatrix" descr=""/>
          <p:cNvPicPr/>
          <p:nvPr/>
        </p:nvPicPr>
        <p:blipFill>
          <a:blip r:embed="rId1"/>
          <a:srcRect l="0" t="0" r="0" b="27395"/>
          <a:stretch/>
        </p:blipFill>
        <p:spPr>
          <a:xfrm>
            <a:off x="1181160" y="54000"/>
            <a:ext cx="678168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Times New Roman"/>
              </a:rPr>
              <a:t>Multi-Genome Query Tool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ery across all genomes based on different properti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W, pI, membrane spanning regio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axon, Paralogous families, TIGRFAMs, Role Categor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est Match to: organism, locus, kingdom, etc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Genes with &gt;5 membrane spanning regions and MW 36,000-51,000d.”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264c"/>
                </a:solidFill>
                <a:latin typeface="Times New Roman"/>
              </a:rPr>
              <a:t>E. coli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genes with best match to </a:t>
            </a:r>
            <a:r>
              <a:rPr b="0" i="1" lang="en-US" sz="2800" spc="-1" strike="noStrike">
                <a:solidFill>
                  <a:srgbClr val="00264c"/>
                </a:solidFill>
                <a:latin typeface="Times New Roman"/>
              </a:rPr>
              <a:t>Archeoglobi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involved in DNA metabolism.”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RestrictDigest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598" name="RestrictLinear" descr=""/>
          <p:cNvPicPr/>
          <p:nvPr/>
        </p:nvPicPr>
        <p:blipFill>
          <a:blip r:embed="rId2"/>
          <a:srcRect l="0" t="49945" r="0" b="0"/>
          <a:stretch/>
        </p:blipFill>
        <p:spPr>
          <a:xfrm>
            <a:off x="2514600" y="5029200"/>
            <a:ext cx="6324480" cy="1371600"/>
          </a:xfrm>
          <a:prstGeom prst="rect">
            <a:avLst/>
          </a:prstGeom>
          <a:ln w="0">
            <a:noFill/>
          </a:ln>
        </p:spPr>
      </p:pic>
      <p:pic>
        <p:nvPicPr>
          <p:cNvPr id="599" name="RestrictLinear" descr=""/>
          <p:cNvPicPr/>
          <p:nvPr/>
        </p:nvPicPr>
        <p:blipFill>
          <a:blip r:embed="rId3"/>
          <a:srcRect l="0" t="0" r="59039" b="49945"/>
          <a:stretch/>
        </p:blipFill>
        <p:spPr>
          <a:xfrm>
            <a:off x="5105520" y="3809880"/>
            <a:ext cx="2590560" cy="1371600"/>
          </a:xfrm>
          <a:prstGeom prst="rect">
            <a:avLst/>
          </a:prstGeom>
          <a:ln w="0">
            <a:noFill/>
          </a:ln>
        </p:spPr>
      </p:pic>
      <p:pic>
        <p:nvPicPr>
          <p:cNvPr id="600" name="RestrictLinear" descr=""/>
          <p:cNvPicPr/>
          <p:nvPr/>
        </p:nvPicPr>
        <p:blipFill>
          <a:blip r:embed="rId4"/>
          <a:srcRect l="40966" t="0" r="14457" b="49945"/>
          <a:stretch/>
        </p:blipFill>
        <p:spPr>
          <a:xfrm>
            <a:off x="5105520" y="2514600"/>
            <a:ext cx="2590560" cy="126036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064880" y="30492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-Restriction Digest and Linear Depiction of Cu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1724040" y="0"/>
            <a:ext cx="5695920" cy="6862680"/>
            <a:chOff x="1724040" y="0"/>
            <a:chExt cx="5695920" cy="6862680"/>
          </a:xfrm>
        </p:grpSpPr>
        <p:pic>
          <p:nvPicPr>
            <p:cNvPr id="603" name="GCSkew" descr=""/>
            <p:cNvPicPr/>
            <p:nvPr/>
          </p:nvPicPr>
          <p:blipFill>
            <a:blip r:embed="rId1"/>
            <a:srcRect l="0" t="4800" r="16155" b="50905"/>
            <a:stretch/>
          </p:blipFill>
          <p:spPr>
            <a:xfrm>
              <a:off x="1757520" y="304920"/>
              <a:ext cx="5628960" cy="33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GCSkew" descr=""/>
            <p:cNvPicPr/>
            <p:nvPr/>
          </p:nvPicPr>
          <p:blipFill>
            <a:blip r:embed="rId2"/>
            <a:srcRect l="0" t="0" r="51027" b="96387"/>
            <a:stretch/>
          </p:blipFill>
          <p:spPr>
            <a:xfrm>
              <a:off x="2752560" y="0"/>
              <a:ext cx="36388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GCSkew" descr=""/>
            <p:cNvPicPr/>
            <p:nvPr/>
          </p:nvPicPr>
          <p:blipFill>
            <a:blip r:embed="rId3"/>
            <a:srcRect l="0" t="49718" r="0" b="0"/>
            <a:stretch/>
          </p:blipFill>
          <p:spPr>
            <a:xfrm>
              <a:off x="1724040" y="3613320"/>
              <a:ext cx="5695920" cy="32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GeneSurvey" descr=""/>
          <p:cNvPicPr/>
          <p:nvPr/>
        </p:nvPicPr>
        <p:blipFill>
          <a:blip r:embed="rId1"/>
          <a:srcRect l="0" t="7231" r="0" b="0"/>
          <a:stretch/>
        </p:blipFill>
        <p:spPr>
          <a:xfrm>
            <a:off x="114480" y="609480"/>
            <a:ext cx="8915400" cy="6110280"/>
          </a:xfrm>
          <a:prstGeom prst="rect">
            <a:avLst/>
          </a:prstGeom>
          <a:ln w="0">
            <a:noFill/>
          </a:ln>
        </p:spPr>
      </p:pic>
      <p:pic>
        <p:nvPicPr>
          <p:cNvPr id="607" name="GeneSurvey" descr=""/>
          <p:cNvPicPr/>
          <p:nvPr/>
        </p:nvPicPr>
        <p:blipFill>
          <a:blip r:embed="rId2"/>
          <a:srcRect l="22223" t="-1247" r="23931" b="97185"/>
          <a:stretch/>
        </p:blipFill>
        <p:spPr>
          <a:xfrm>
            <a:off x="190440" y="0"/>
            <a:ext cx="87631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52280" y="-15228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osition effect: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685800" y="706320"/>
          <a:ext cx="7620120" cy="59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6320"/>
                    <a:ext cx="7620120" cy="59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85800" y="685800"/>
            <a:ext cx="7620120" cy="6019920"/>
          </a:xfrm>
          <a:prstGeom prst="rect">
            <a:avLst/>
          </a:prstGeom>
          <a:noFill/>
          <a:ln w="572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Retriev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fish1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4038480" cy="28288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80880" y="3353040"/>
            <a:ext cx="4495680" cy="2819520"/>
            <a:chOff x="380880" y="3353040"/>
            <a:chExt cx="4495680" cy="2819520"/>
          </a:xfrm>
        </p:grpSpPr>
        <p:sp>
          <p:nvSpPr>
            <p:cNvPr id="102" name=""/>
            <p:cNvSpPr/>
            <p:nvPr/>
          </p:nvSpPr>
          <p:spPr>
            <a:xfrm>
              <a:off x="380880" y="3353400"/>
              <a:ext cx="4495680" cy="281916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8960" y="3651120"/>
              <a:ext cx="299880" cy="296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8960" y="3353400"/>
              <a:ext cx="299880" cy="44496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8960" y="3353040"/>
              <a:ext cx="2998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9920" y="3607560"/>
              <a:ext cx="149760" cy="296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54240" y="3613680"/>
              <a:ext cx="149040" cy="296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79320" y="3651120"/>
              <a:ext cx="299880" cy="296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29680" y="3651120"/>
              <a:ext cx="299880" cy="296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78600" y="3651120"/>
              <a:ext cx="299880" cy="296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27880" y="3651120"/>
              <a:ext cx="299880" cy="296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77520" y="3651120"/>
              <a:ext cx="299880" cy="296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27160" y="3651120"/>
              <a:ext cx="299880" cy="296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rot="16200000">
            <a:off x="1514160" y="3466800"/>
            <a:ext cx="22100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Heterocercal-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rked-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Lunate-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marginate-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Truncate-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ounded-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ointed-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5" name="fish2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4257720" cy="1838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4120" y="3809880"/>
            <a:ext cx="2286000" cy="144792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38680" y="3809880"/>
            <a:ext cx="152280" cy="304920"/>
            <a:chOff x="5638680" y="3809880"/>
            <a:chExt cx="152280" cy="304920"/>
          </a:xfrm>
        </p:grpSpPr>
        <p:sp>
          <p:nvSpPr>
            <p:cNvPr id="118" name=""/>
            <p:cNvSpPr/>
            <p:nvPr/>
          </p:nvSpPr>
          <p:spPr>
            <a:xfrm>
              <a:off x="5638680" y="396216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80988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38680" y="380988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45160" y="394020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05280" y="394308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72200" y="3809880"/>
            <a:ext cx="152280" cy="304920"/>
            <a:chOff x="6172200" y="3809880"/>
            <a:chExt cx="152280" cy="304920"/>
          </a:xfrm>
        </p:grpSpPr>
        <p:sp>
          <p:nvSpPr>
            <p:cNvPr id="124" name=""/>
            <p:cNvSpPr/>
            <p:nvPr/>
          </p:nvSpPr>
          <p:spPr>
            <a:xfrm>
              <a:off x="6172200" y="396216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2200" y="380988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72200" y="380988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8680" y="394020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38800" y="394308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010280" y="3809880"/>
            <a:ext cx="152280" cy="304920"/>
            <a:chOff x="7010280" y="3809880"/>
            <a:chExt cx="152280" cy="304920"/>
          </a:xfrm>
        </p:grpSpPr>
        <p:sp>
          <p:nvSpPr>
            <p:cNvPr id="130" name=""/>
            <p:cNvSpPr/>
            <p:nvPr/>
          </p:nvSpPr>
          <p:spPr>
            <a:xfrm>
              <a:off x="7010280" y="396216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380988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380988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6760" y="394020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76880" y="394308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486400" y="3962520"/>
            <a:ext cx="2286000" cy="144756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91320" y="3962520"/>
            <a:ext cx="152280" cy="304200"/>
            <a:chOff x="5791320" y="3962520"/>
            <a:chExt cx="152280" cy="304200"/>
          </a:xfrm>
        </p:grpSpPr>
        <p:sp>
          <p:nvSpPr>
            <p:cNvPr id="137" name=""/>
            <p:cNvSpPr/>
            <p:nvPr/>
          </p:nvSpPr>
          <p:spPr>
            <a:xfrm>
              <a:off x="5791320" y="4114440"/>
              <a:ext cx="152280" cy="152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1320" y="3962520"/>
              <a:ext cx="152280" cy="22824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1320" y="396252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7800" y="4092480"/>
              <a:ext cx="75960" cy="15192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57920" y="4095360"/>
              <a:ext cx="7632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391520" y="3962520"/>
            <a:ext cx="152280" cy="304200"/>
            <a:chOff x="7391520" y="3962520"/>
            <a:chExt cx="152280" cy="304200"/>
          </a:xfrm>
        </p:grpSpPr>
        <p:sp>
          <p:nvSpPr>
            <p:cNvPr id="143" name=""/>
            <p:cNvSpPr/>
            <p:nvPr/>
          </p:nvSpPr>
          <p:spPr>
            <a:xfrm>
              <a:off x="7391520" y="4114440"/>
              <a:ext cx="152280" cy="152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1520" y="3962520"/>
              <a:ext cx="152280" cy="22824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1520" y="396252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8000" y="4092480"/>
              <a:ext cx="75960" cy="15192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58120" y="4095360"/>
              <a:ext cx="7632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638680" y="4114800"/>
            <a:ext cx="2286000" cy="144792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543800" y="4114800"/>
            <a:ext cx="152280" cy="304920"/>
            <a:chOff x="7543800" y="4114800"/>
            <a:chExt cx="152280" cy="304920"/>
          </a:xfrm>
        </p:grpSpPr>
        <p:sp>
          <p:nvSpPr>
            <p:cNvPr id="150" name=""/>
            <p:cNvSpPr/>
            <p:nvPr/>
          </p:nvSpPr>
          <p:spPr>
            <a:xfrm>
              <a:off x="7543800" y="42670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11480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3800" y="411480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0280" y="424512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10400" y="424800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781680" y="4114800"/>
            <a:ext cx="152280" cy="304920"/>
            <a:chOff x="6781680" y="4114800"/>
            <a:chExt cx="152280" cy="304920"/>
          </a:xfrm>
        </p:grpSpPr>
        <p:sp>
          <p:nvSpPr>
            <p:cNvPr id="156" name=""/>
            <p:cNvSpPr/>
            <p:nvPr/>
          </p:nvSpPr>
          <p:spPr>
            <a:xfrm>
              <a:off x="6781680" y="42670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411480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411480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8160" y="424512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48280" y="424800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791320" y="4267080"/>
            <a:ext cx="2286000" cy="144792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781680" y="4267080"/>
            <a:ext cx="152280" cy="304920"/>
            <a:chOff x="6781680" y="4267080"/>
            <a:chExt cx="152280" cy="304920"/>
          </a:xfrm>
        </p:grpSpPr>
        <p:sp>
          <p:nvSpPr>
            <p:cNvPr id="163" name=""/>
            <p:cNvSpPr/>
            <p:nvPr/>
          </p:nvSpPr>
          <p:spPr>
            <a:xfrm>
              <a:off x="6781680" y="441936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426708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426708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88160" y="439740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48280" y="440028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19920" y="4267080"/>
            <a:ext cx="152280" cy="304920"/>
            <a:chOff x="6019920" y="4267080"/>
            <a:chExt cx="152280" cy="304920"/>
          </a:xfrm>
        </p:grpSpPr>
        <p:sp>
          <p:nvSpPr>
            <p:cNvPr id="169" name=""/>
            <p:cNvSpPr/>
            <p:nvPr/>
          </p:nvSpPr>
          <p:spPr>
            <a:xfrm>
              <a:off x="6019920" y="441936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426708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19920" y="426708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26400" y="439740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6520" y="440028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43600" y="4419720"/>
            <a:ext cx="2286000" cy="144756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086600" y="4419720"/>
            <a:ext cx="152280" cy="304200"/>
            <a:chOff x="7086600" y="4419720"/>
            <a:chExt cx="152280" cy="304200"/>
          </a:xfrm>
        </p:grpSpPr>
        <p:sp>
          <p:nvSpPr>
            <p:cNvPr id="176" name=""/>
            <p:cNvSpPr/>
            <p:nvPr/>
          </p:nvSpPr>
          <p:spPr>
            <a:xfrm>
              <a:off x="7086600" y="4571640"/>
              <a:ext cx="152280" cy="152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600" y="4419720"/>
              <a:ext cx="152280" cy="22824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86600" y="441972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3080" y="4549680"/>
              <a:ext cx="75960" cy="15192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53200" y="4552560"/>
              <a:ext cx="7632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172200" y="4419720"/>
            <a:ext cx="152280" cy="304200"/>
            <a:chOff x="6172200" y="4419720"/>
            <a:chExt cx="152280" cy="304200"/>
          </a:xfrm>
        </p:grpSpPr>
        <p:sp>
          <p:nvSpPr>
            <p:cNvPr id="182" name=""/>
            <p:cNvSpPr/>
            <p:nvPr/>
          </p:nvSpPr>
          <p:spPr>
            <a:xfrm>
              <a:off x="6172200" y="4571640"/>
              <a:ext cx="152280" cy="15228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72200" y="4419720"/>
              <a:ext cx="152280" cy="22824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2200" y="441972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78680" y="4549680"/>
              <a:ext cx="75960" cy="15192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38800" y="4552560"/>
              <a:ext cx="7632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095880" y="4572000"/>
            <a:ext cx="2286000" cy="144792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29400" y="4572000"/>
            <a:ext cx="152280" cy="304920"/>
            <a:chOff x="6629400" y="4572000"/>
            <a:chExt cx="152280" cy="304920"/>
          </a:xfrm>
        </p:grpSpPr>
        <p:sp>
          <p:nvSpPr>
            <p:cNvPr id="189" name=""/>
            <p:cNvSpPr/>
            <p:nvPr/>
          </p:nvSpPr>
          <p:spPr>
            <a:xfrm>
              <a:off x="6629400" y="47242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294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29400" y="457200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35880" y="470232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96000" y="470520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324480" y="4572000"/>
            <a:ext cx="152280" cy="304920"/>
            <a:chOff x="6324480" y="4572000"/>
            <a:chExt cx="152280" cy="304920"/>
          </a:xfrm>
        </p:grpSpPr>
        <p:sp>
          <p:nvSpPr>
            <p:cNvPr id="195" name=""/>
            <p:cNvSpPr/>
            <p:nvPr/>
          </p:nvSpPr>
          <p:spPr>
            <a:xfrm>
              <a:off x="6324480" y="47242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48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24480" y="457200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0960" y="470232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91080" y="470520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934320" y="4572000"/>
            <a:ext cx="152280" cy="304920"/>
            <a:chOff x="6934320" y="4572000"/>
            <a:chExt cx="152280" cy="304920"/>
          </a:xfrm>
        </p:grpSpPr>
        <p:sp>
          <p:nvSpPr>
            <p:cNvPr id="201" name=""/>
            <p:cNvSpPr/>
            <p:nvPr/>
          </p:nvSpPr>
          <p:spPr>
            <a:xfrm>
              <a:off x="6934320" y="47242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3432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34320" y="457200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40800" y="470232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00920" y="470520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238880" y="4572000"/>
            <a:ext cx="152280" cy="304920"/>
            <a:chOff x="7238880" y="4572000"/>
            <a:chExt cx="152280" cy="304920"/>
          </a:xfrm>
        </p:grpSpPr>
        <p:sp>
          <p:nvSpPr>
            <p:cNvPr id="207" name=""/>
            <p:cNvSpPr/>
            <p:nvPr/>
          </p:nvSpPr>
          <p:spPr>
            <a:xfrm>
              <a:off x="7238880" y="47242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3888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8880" y="457200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45360" y="470232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05480" y="470520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543800" y="4572000"/>
            <a:ext cx="152280" cy="304920"/>
            <a:chOff x="7543800" y="4572000"/>
            <a:chExt cx="152280" cy="304920"/>
          </a:xfrm>
        </p:grpSpPr>
        <p:sp>
          <p:nvSpPr>
            <p:cNvPr id="213" name=""/>
            <p:cNvSpPr/>
            <p:nvPr/>
          </p:nvSpPr>
          <p:spPr>
            <a:xfrm>
              <a:off x="7543800" y="47242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38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3800" y="457200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50280" y="470232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10400" y="470520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4572000"/>
            <a:ext cx="152280" cy="304920"/>
            <a:chOff x="7848720" y="4572000"/>
            <a:chExt cx="152280" cy="304920"/>
          </a:xfrm>
        </p:grpSpPr>
        <p:sp>
          <p:nvSpPr>
            <p:cNvPr id="219" name=""/>
            <p:cNvSpPr/>
            <p:nvPr/>
          </p:nvSpPr>
          <p:spPr>
            <a:xfrm>
              <a:off x="7848720" y="47242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4872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8720" y="4572000"/>
              <a:ext cx="152280" cy="0"/>
            </a:xfrm>
            <a:prstGeom prst="line">
              <a:avLst/>
            </a:prstGeom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55200" y="4702320"/>
              <a:ext cx="75960" cy="152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15320" y="4705200"/>
              <a:ext cx="76320" cy="152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638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udal Fi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3840" y="632448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http://web.pdx.edu/~bowersn/bi399/lecture2.html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19520" y="3048120"/>
            <a:ext cx="6095880" cy="1752480"/>
          </a:xfrm>
          <a:prstGeom prst="rect">
            <a:avLst/>
          </a:prstGeom>
          <a:solidFill>
            <a:srgbClr val="ffffe9"/>
          </a:solidFill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4191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udal Fi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orsal Spin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orsal Ray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3880" y="990720"/>
          <a:ext cx="632160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632160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Retrieval across data type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943600" y="4724280"/>
            <a:ext cx="1828440" cy="1219320"/>
            <a:chOff x="5943600" y="4724280"/>
            <a:chExt cx="1828440" cy="1219320"/>
          </a:xfrm>
        </p:grpSpPr>
        <p:sp>
          <p:nvSpPr>
            <p:cNvPr id="234" name=""/>
            <p:cNvSpPr/>
            <p:nvPr/>
          </p:nvSpPr>
          <p:spPr>
            <a:xfrm>
              <a:off x="5943600" y="472428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6126120" y="4724280"/>
              <a:ext cx="91440" cy="168120"/>
              <a:chOff x="6126120" y="4724280"/>
              <a:chExt cx="91440" cy="168120"/>
            </a:xfrm>
          </p:grpSpPr>
          <p:sp>
            <p:nvSpPr>
              <p:cNvPr id="236" name=""/>
              <p:cNvSpPr/>
              <p:nvPr/>
            </p:nvSpPr>
            <p:spPr>
              <a:xfrm>
                <a:off x="6126120" y="4808160"/>
                <a:ext cx="9144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26120" y="4724280"/>
                <a:ext cx="9144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26120" y="472428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29720" y="4795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66080" y="4797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446520" y="4724280"/>
              <a:ext cx="91080" cy="168120"/>
              <a:chOff x="6446520" y="4724280"/>
              <a:chExt cx="91080" cy="168120"/>
            </a:xfrm>
          </p:grpSpPr>
          <p:sp>
            <p:nvSpPr>
              <p:cNvPr id="242" name=""/>
              <p:cNvSpPr/>
              <p:nvPr/>
            </p:nvSpPr>
            <p:spPr>
              <a:xfrm>
                <a:off x="6446520" y="480816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46520" y="472428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46520" y="472428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50120" y="4795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86120" y="4797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949440" y="4724280"/>
              <a:ext cx="91440" cy="168120"/>
              <a:chOff x="6949440" y="4724280"/>
              <a:chExt cx="91440" cy="168120"/>
            </a:xfrm>
          </p:grpSpPr>
          <p:sp>
            <p:nvSpPr>
              <p:cNvPr id="248" name=""/>
              <p:cNvSpPr/>
              <p:nvPr/>
            </p:nvSpPr>
            <p:spPr>
              <a:xfrm>
                <a:off x="6949440" y="4808160"/>
                <a:ext cx="9144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49440" y="4724280"/>
                <a:ext cx="9144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49440" y="472428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953040" y="4795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89400" y="4797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6034680" y="480816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217920" y="4808160"/>
              <a:ext cx="91080" cy="168120"/>
              <a:chOff x="6217920" y="4808160"/>
              <a:chExt cx="91080" cy="168120"/>
            </a:xfrm>
          </p:grpSpPr>
          <p:sp>
            <p:nvSpPr>
              <p:cNvPr id="255" name=""/>
              <p:cNvSpPr/>
              <p:nvPr/>
            </p:nvSpPr>
            <p:spPr>
              <a:xfrm>
                <a:off x="6217920" y="489204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17920" y="480816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17920" y="48081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221520" y="487980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57520" y="488160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178040" y="4808160"/>
              <a:ext cx="91080" cy="168120"/>
              <a:chOff x="7178040" y="4808160"/>
              <a:chExt cx="91080" cy="168120"/>
            </a:xfrm>
          </p:grpSpPr>
          <p:sp>
            <p:nvSpPr>
              <p:cNvPr id="261" name=""/>
              <p:cNvSpPr/>
              <p:nvPr/>
            </p:nvSpPr>
            <p:spPr>
              <a:xfrm>
                <a:off x="7178040" y="489204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178040" y="480816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78040" y="48081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81640" y="487980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217640" y="488160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126120" y="489240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269480" y="4892400"/>
              <a:ext cx="91080" cy="167400"/>
              <a:chOff x="7269480" y="4892400"/>
              <a:chExt cx="91080" cy="167400"/>
            </a:xfrm>
          </p:grpSpPr>
          <p:sp>
            <p:nvSpPr>
              <p:cNvPr id="268" name=""/>
              <p:cNvSpPr/>
              <p:nvPr/>
            </p:nvSpPr>
            <p:spPr>
              <a:xfrm>
                <a:off x="7269480" y="497592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69480" y="489240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69480" y="489240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73080" y="496404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309080" y="496548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811920" y="4892400"/>
              <a:ext cx="91440" cy="167400"/>
              <a:chOff x="6811920" y="4892400"/>
              <a:chExt cx="91440" cy="167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811920" y="4975920"/>
                <a:ext cx="9144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11920" y="4892400"/>
                <a:ext cx="9144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11920" y="489240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15520" y="496404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51880" y="496548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6217920" y="497628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811920" y="4976280"/>
              <a:ext cx="91440" cy="168120"/>
              <a:chOff x="6811920" y="4976280"/>
              <a:chExt cx="91440" cy="1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6811920" y="5060160"/>
                <a:ext cx="9144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11920" y="4976280"/>
                <a:ext cx="9144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11920" y="497628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5520" y="5047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51880" y="5049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355080" y="4976280"/>
              <a:ext cx="91080" cy="168120"/>
              <a:chOff x="6355080" y="4976280"/>
              <a:chExt cx="91080" cy="168120"/>
            </a:xfrm>
          </p:grpSpPr>
          <p:sp>
            <p:nvSpPr>
              <p:cNvPr id="287" name=""/>
              <p:cNvSpPr/>
              <p:nvPr/>
            </p:nvSpPr>
            <p:spPr>
              <a:xfrm>
                <a:off x="6355080" y="506016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55080" y="497628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55080" y="497628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58680" y="5047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94680" y="5049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309000" y="506052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995160" y="5060520"/>
              <a:ext cx="91080" cy="168120"/>
              <a:chOff x="6995160" y="5060520"/>
              <a:chExt cx="91080" cy="168120"/>
            </a:xfrm>
          </p:grpSpPr>
          <p:sp>
            <p:nvSpPr>
              <p:cNvPr id="294" name=""/>
              <p:cNvSpPr/>
              <p:nvPr/>
            </p:nvSpPr>
            <p:spPr>
              <a:xfrm>
                <a:off x="6995160" y="514440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95160" y="506052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95160" y="506052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98760" y="513216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34760" y="513396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446520" y="5060520"/>
              <a:ext cx="91080" cy="168120"/>
              <a:chOff x="6446520" y="5060520"/>
              <a:chExt cx="91080" cy="168120"/>
            </a:xfrm>
          </p:grpSpPr>
          <p:sp>
            <p:nvSpPr>
              <p:cNvPr id="300" name=""/>
              <p:cNvSpPr/>
              <p:nvPr/>
            </p:nvSpPr>
            <p:spPr>
              <a:xfrm>
                <a:off x="6446520" y="514440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46520" y="506052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46520" y="506052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50120" y="513216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486120" y="513396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6400440" y="514476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6720840" y="5144760"/>
              <a:ext cx="91080" cy="167400"/>
              <a:chOff x="6720840" y="5144760"/>
              <a:chExt cx="91080" cy="167400"/>
            </a:xfrm>
          </p:grpSpPr>
          <p:sp>
            <p:nvSpPr>
              <p:cNvPr id="307" name=""/>
              <p:cNvSpPr/>
              <p:nvPr/>
            </p:nvSpPr>
            <p:spPr>
              <a:xfrm>
                <a:off x="6720840" y="522828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514476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20840" y="51447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2444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044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537600" y="5144760"/>
              <a:ext cx="91440" cy="167400"/>
              <a:chOff x="6537600" y="5144760"/>
              <a:chExt cx="91440" cy="167400"/>
            </a:xfrm>
          </p:grpSpPr>
          <p:sp>
            <p:nvSpPr>
              <p:cNvPr id="313" name=""/>
              <p:cNvSpPr/>
              <p:nvPr/>
            </p:nvSpPr>
            <p:spPr>
              <a:xfrm>
                <a:off x="6537600" y="5228280"/>
                <a:ext cx="9144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37600" y="5144760"/>
                <a:ext cx="9144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537600" y="514476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4120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57756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903720" y="5144760"/>
              <a:ext cx="91080" cy="167400"/>
              <a:chOff x="6903720" y="5144760"/>
              <a:chExt cx="91080" cy="167400"/>
            </a:xfrm>
          </p:grpSpPr>
          <p:sp>
            <p:nvSpPr>
              <p:cNvPr id="319" name=""/>
              <p:cNvSpPr/>
              <p:nvPr/>
            </p:nvSpPr>
            <p:spPr>
              <a:xfrm>
                <a:off x="6903720" y="522828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03720" y="514476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903720" y="51447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0732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4332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086600" y="5144760"/>
              <a:ext cx="91440" cy="167400"/>
              <a:chOff x="7086600" y="5144760"/>
              <a:chExt cx="91440" cy="167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086600" y="5228280"/>
                <a:ext cx="9144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86600" y="5144760"/>
                <a:ext cx="9144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086600" y="514476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9020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2656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269480" y="5144760"/>
              <a:ext cx="91080" cy="167400"/>
              <a:chOff x="7269480" y="5144760"/>
              <a:chExt cx="91080" cy="167400"/>
            </a:xfrm>
          </p:grpSpPr>
          <p:sp>
            <p:nvSpPr>
              <p:cNvPr id="331" name=""/>
              <p:cNvSpPr/>
              <p:nvPr/>
            </p:nvSpPr>
            <p:spPr>
              <a:xfrm>
                <a:off x="7269480" y="522828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269480" y="514476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269480" y="51447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7308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0908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7452360" y="5144760"/>
              <a:ext cx="91080" cy="167400"/>
              <a:chOff x="7452360" y="5144760"/>
              <a:chExt cx="91080" cy="167400"/>
            </a:xfrm>
          </p:grpSpPr>
          <p:sp>
            <p:nvSpPr>
              <p:cNvPr id="337" name=""/>
              <p:cNvSpPr/>
              <p:nvPr/>
            </p:nvSpPr>
            <p:spPr>
              <a:xfrm>
                <a:off x="7452360" y="522828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452360" y="514476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52360" y="51447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45596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49196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1066680" y="4648320"/>
            <a:ext cx="1828440" cy="1218600"/>
            <a:chOff x="1066680" y="4648320"/>
            <a:chExt cx="1828440" cy="1218600"/>
          </a:xfrm>
        </p:grpSpPr>
        <p:sp>
          <p:nvSpPr>
            <p:cNvPr id="343" name=""/>
            <p:cNvSpPr/>
            <p:nvPr/>
          </p:nvSpPr>
          <p:spPr>
            <a:xfrm>
              <a:off x="1066680" y="464832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249200" y="4648320"/>
              <a:ext cx="91440" cy="168120"/>
              <a:chOff x="1249200" y="4648320"/>
              <a:chExt cx="91440" cy="168120"/>
            </a:xfrm>
          </p:grpSpPr>
          <p:sp>
            <p:nvSpPr>
              <p:cNvPr id="345" name=""/>
              <p:cNvSpPr/>
              <p:nvPr/>
            </p:nvSpPr>
            <p:spPr>
              <a:xfrm>
                <a:off x="1249200" y="4732200"/>
                <a:ext cx="9144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49200" y="4648320"/>
                <a:ext cx="9144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249200" y="464832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52800" y="471996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289160" y="472176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569600" y="4648320"/>
              <a:ext cx="91080" cy="168120"/>
              <a:chOff x="1569600" y="4648320"/>
              <a:chExt cx="91080" cy="168120"/>
            </a:xfrm>
          </p:grpSpPr>
          <p:sp>
            <p:nvSpPr>
              <p:cNvPr id="351" name=""/>
              <p:cNvSpPr/>
              <p:nvPr/>
            </p:nvSpPr>
            <p:spPr>
              <a:xfrm>
                <a:off x="1569600" y="473220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69600" y="464832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69600" y="464832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73200" y="471996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9200" y="472176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072520" y="4648320"/>
              <a:ext cx="91440" cy="168120"/>
              <a:chOff x="2072520" y="4648320"/>
              <a:chExt cx="91440" cy="168120"/>
            </a:xfrm>
          </p:grpSpPr>
          <p:sp>
            <p:nvSpPr>
              <p:cNvPr id="357" name=""/>
              <p:cNvSpPr/>
              <p:nvPr/>
            </p:nvSpPr>
            <p:spPr>
              <a:xfrm>
                <a:off x="2072520" y="4732200"/>
                <a:ext cx="9144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72520" y="4648320"/>
                <a:ext cx="9144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72520" y="464832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76120" y="471996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12480" y="472176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157760" y="473220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341000" y="4732200"/>
              <a:ext cx="91080" cy="168120"/>
              <a:chOff x="1341000" y="4732200"/>
              <a:chExt cx="91080" cy="168120"/>
            </a:xfrm>
          </p:grpSpPr>
          <p:sp>
            <p:nvSpPr>
              <p:cNvPr id="364" name=""/>
              <p:cNvSpPr/>
              <p:nvPr/>
            </p:nvSpPr>
            <p:spPr>
              <a:xfrm>
                <a:off x="1341000" y="481608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41000" y="473220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41000" y="473220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44600" y="480384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80600" y="480564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2301120" y="4732200"/>
              <a:ext cx="91080" cy="168120"/>
              <a:chOff x="2301120" y="4732200"/>
              <a:chExt cx="91080" cy="168120"/>
            </a:xfrm>
          </p:grpSpPr>
          <p:sp>
            <p:nvSpPr>
              <p:cNvPr id="370" name=""/>
              <p:cNvSpPr/>
              <p:nvPr/>
            </p:nvSpPr>
            <p:spPr>
              <a:xfrm>
                <a:off x="2301120" y="481608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301120" y="473220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01120" y="473220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304720" y="480384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340720" y="480564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1249200" y="4816440"/>
              <a:ext cx="1371600" cy="79848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392560" y="4816440"/>
              <a:ext cx="91080" cy="167400"/>
              <a:chOff x="2392560" y="4816440"/>
              <a:chExt cx="91080" cy="167400"/>
            </a:xfrm>
          </p:grpSpPr>
          <p:sp>
            <p:nvSpPr>
              <p:cNvPr id="377" name=""/>
              <p:cNvSpPr/>
              <p:nvPr/>
            </p:nvSpPr>
            <p:spPr>
              <a:xfrm>
                <a:off x="2392560" y="489996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92560" y="481644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392560" y="481644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96160" y="488808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432160" y="488952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935000" y="4816440"/>
              <a:ext cx="91440" cy="167400"/>
              <a:chOff x="1935000" y="4816440"/>
              <a:chExt cx="91440" cy="167400"/>
            </a:xfrm>
          </p:grpSpPr>
          <p:sp>
            <p:nvSpPr>
              <p:cNvPr id="383" name=""/>
              <p:cNvSpPr/>
              <p:nvPr/>
            </p:nvSpPr>
            <p:spPr>
              <a:xfrm>
                <a:off x="1935000" y="4899960"/>
                <a:ext cx="9144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35000" y="4816440"/>
                <a:ext cx="9144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35000" y="481644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38600" y="488808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74960" y="488952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341000" y="490032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935000" y="4900320"/>
              <a:ext cx="91440" cy="168120"/>
              <a:chOff x="1935000" y="4900320"/>
              <a:chExt cx="91440" cy="168120"/>
            </a:xfrm>
          </p:grpSpPr>
          <p:sp>
            <p:nvSpPr>
              <p:cNvPr id="390" name=""/>
              <p:cNvSpPr/>
              <p:nvPr/>
            </p:nvSpPr>
            <p:spPr>
              <a:xfrm>
                <a:off x="1935000" y="4984200"/>
                <a:ext cx="9144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35000" y="4900320"/>
                <a:ext cx="9144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35000" y="490032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38600" y="497196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74960" y="497376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1478160" y="4900320"/>
              <a:ext cx="91080" cy="168120"/>
              <a:chOff x="1478160" y="4900320"/>
              <a:chExt cx="91080" cy="168120"/>
            </a:xfrm>
          </p:grpSpPr>
          <p:sp>
            <p:nvSpPr>
              <p:cNvPr id="396" name=""/>
              <p:cNvSpPr/>
              <p:nvPr/>
            </p:nvSpPr>
            <p:spPr>
              <a:xfrm>
                <a:off x="1478160" y="498420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78160" y="490032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478160" y="490032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481760" y="497196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17760" y="497376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1432080" y="498456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118240" y="4984560"/>
              <a:ext cx="91080" cy="168120"/>
              <a:chOff x="2118240" y="4984560"/>
              <a:chExt cx="91080" cy="168120"/>
            </a:xfrm>
          </p:grpSpPr>
          <p:sp>
            <p:nvSpPr>
              <p:cNvPr id="403" name=""/>
              <p:cNvSpPr/>
              <p:nvPr/>
            </p:nvSpPr>
            <p:spPr>
              <a:xfrm>
                <a:off x="2118240" y="506844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118240" y="498456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118240" y="49845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21840" y="505620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57840" y="505800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569600" y="4984560"/>
              <a:ext cx="91080" cy="168120"/>
              <a:chOff x="1569600" y="4984560"/>
              <a:chExt cx="91080" cy="168120"/>
            </a:xfrm>
          </p:grpSpPr>
          <p:sp>
            <p:nvSpPr>
              <p:cNvPr id="409" name=""/>
              <p:cNvSpPr/>
              <p:nvPr/>
            </p:nvSpPr>
            <p:spPr>
              <a:xfrm>
                <a:off x="1569600" y="506844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69600" y="498456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9600" y="49845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3200" y="505620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09200" y="505800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1523520" y="5068440"/>
              <a:ext cx="1371600" cy="79848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1843920" y="5068440"/>
              <a:ext cx="91080" cy="167400"/>
              <a:chOff x="1843920" y="5068440"/>
              <a:chExt cx="91080" cy="167400"/>
            </a:xfrm>
          </p:grpSpPr>
          <p:sp>
            <p:nvSpPr>
              <p:cNvPr id="416" name=""/>
              <p:cNvSpPr/>
              <p:nvPr/>
            </p:nvSpPr>
            <p:spPr>
              <a:xfrm>
                <a:off x="1843920" y="515196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843920" y="506844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843920" y="506844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847520" y="514008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83520" y="514152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1660680" y="5068440"/>
              <a:ext cx="91440" cy="167400"/>
              <a:chOff x="1660680" y="5068440"/>
              <a:chExt cx="91440" cy="167400"/>
            </a:xfrm>
          </p:grpSpPr>
          <p:sp>
            <p:nvSpPr>
              <p:cNvPr id="422" name=""/>
              <p:cNvSpPr/>
              <p:nvPr/>
            </p:nvSpPr>
            <p:spPr>
              <a:xfrm>
                <a:off x="1660680" y="5151960"/>
                <a:ext cx="9144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60680" y="5068440"/>
                <a:ext cx="9144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60680" y="506844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64280" y="514008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00640" y="514152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2026800" y="5068440"/>
              <a:ext cx="91080" cy="167400"/>
              <a:chOff x="2026800" y="5068440"/>
              <a:chExt cx="91080" cy="167400"/>
            </a:xfrm>
          </p:grpSpPr>
          <p:sp>
            <p:nvSpPr>
              <p:cNvPr id="428" name=""/>
              <p:cNvSpPr/>
              <p:nvPr/>
            </p:nvSpPr>
            <p:spPr>
              <a:xfrm>
                <a:off x="2026800" y="515196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026800" y="506844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26800" y="506844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030400" y="514008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066400" y="514152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09680" y="5068440"/>
              <a:ext cx="91440" cy="167400"/>
              <a:chOff x="2209680" y="5068440"/>
              <a:chExt cx="91440" cy="167400"/>
            </a:xfrm>
          </p:grpSpPr>
          <p:sp>
            <p:nvSpPr>
              <p:cNvPr id="434" name=""/>
              <p:cNvSpPr/>
              <p:nvPr/>
            </p:nvSpPr>
            <p:spPr>
              <a:xfrm>
                <a:off x="2209680" y="5151960"/>
                <a:ext cx="9144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09680" y="5068440"/>
                <a:ext cx="9144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09680" y="506844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13280" y="514008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49640" y="514152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392560" y="5068440"/>
              <a:ext cx="91080" cy="167400"/>
              <a:chOff x="2392560" y="5068440"/>
              <a:chExt cx="91080" cy="167400"/>
            </a:xfrm>
          </p:grpSpPr>
          <p:sp>
            <p:nvSpPr>
              <p:cNvPr id="440" name=""/>
              <p:cNvSpPr/>
              <p:nvPr/>
            </p:nvSpPr>
            <p:spPr>
              <a:xfrm>
                <a:off x="2392560" y="515196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92560" y="506844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392560" y="506844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96160" y="514008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32160" y="514152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575440" y="5068440"/>
              <a:ext cx="91080" cy="167400"/>
              <a:chOff x="2575440" y="5068440"/>
              <a:chExt cx="91080" cy="167400"/>
            </a:xfrm>
          </p:grpSpPr>
          <p:sp>
            <p:nvSpPr>
              <p:cNvPr id="446" name=""/>
              <p:cNvSpPr/>
              <p:nvPr/>
            </p:nvSpPr>
            <p:spPr>
              <a:xfrm>
                <a:off x="2575440" y="515196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75440" y="506844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75440" y="506844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579040" y="514008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15040" y="514152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3505320" y="4724280"/>
            <a:ext cx="1828440" cy="1219320"/>
            <a:chOff x="3505320" y="4724280"/>
            <a:chExt cx="1828440" cy="1219320"/>
          </a:xfrm>
        </p:grpSpPr>
        <p:sp>
          <p:nvSpPr>
            <p:cNvPr id="452" name=""/>
            <p:cNvSpPr/>
            <p:nvPr/>
          </p:nvSpPr>
          <p:spPr>
            <a:xfrm>
              <a:off x="3505320" y="472428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687840" y="4724280"/>
              <a:ext cx="91440" cy="168120"/>
              <a:chOff x="3687840" y="4724280"/>
              <a:chExt cx="91440" cy="168120"/>
            </a:xfrm>
          </p:grpSpPr>
          <p:sp>
            <p:nvSpPr>
              <p:cNvPr id="454" name=""/>
              <p:cNvSpPr/>
              <p:nvPr/>
            </p:nvSpPr>
            <p:spPr>
              <a:xfrm>
                <a:off x="3687840" y="4808160"/>
                <a:ext cx="9144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687840" y="4724280"/>
                <a:ext cx="9144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87840" y="472428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1440" y="4795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727800" y="4797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008240" y="4724280"/>
              <a:ext cx="91080" cy="168120"/>
              <a:chOff x="4008240" y="4724280"/>
              <a:chExt cx="91080" cy="168120"/>
            </a:xfrm>
          </p:grpSpPr>
          <p:sp>
            <p:nvSpPr>
              <p:cNvPr id="460" name=""/>
              <p:cNvSpPr/>
              <p:nvPr/>
            </p:nvSpPr>
            <p:spPr>
              <a:xfrm>
                <a:off x="4008240" y="480816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008240" y="472428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008240" y="472428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011840" y="4795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047840" y="4797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4511160" y="4724280"/>
              <a:ext cx="91440" cy="168120"/>
              <a:chOff x="4511160" y="4724280"/>
              <a:chExt cx="91440" cy="168120"/>
            </a:xfrm>
          </p:grpSpPr>
          <p:sp>
            <p:nvSpPr>
              <p:cNvPr id="466" name=""/>
              <p:cNvSpPr/>
              <p:nvPr/>
            </p:nvSpPr>
            <p:spPr>
              <a:xfrm>
                <a:off x="4511160" y="4808160"/>
                <a:ext cx="9144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11160" y="4724280"/>
                <a:ext cx="9144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11160" y="472428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14760" y="4795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51120" y="4797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596400" y="480816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779640" y="4808160"/>
              <a:ext cx="91080" cy="168120"/>
              <a:chOff x="3779640" y="4808160"/>
              <a:chExt cx="91080" cy="168120"/>
            </a:xfrm>
          </p:grpSpPr>
          <p:sp>
            <p:nvSpPr>
              <p:cNvPr id="473" name=""/>
              <p:cNvSpPr/>
              <p:nvPr/>
            </p:nvSpPr>
            <p:spPr>
              <a:xfrm>
                <a:off x="3779640" y="489204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79640" y="480816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779640" y="48081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83240" y="487980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19240" y="488160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4739760" y="4808160"/>
              <a:ext cx="91080" cy="168120"/>
              <a:chOff x="4739760" y="4808160"/>
              <a:chExt cx="91080" cy="168120"/>
            </a:xfrm>
          </p:grpSpPr>
          <p:sp>
            <p:nvSpPr>
              <p:cNvPr id="479" name=""/>
              <p:cNvSpPr/>
              <p:nvPr/>
            </p:nvSpPr>
            <p:spPr>
              <a:xfrm>
                <a:off x="4739760" y="489204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39760" y="480816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39760" y="48081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43360" y="487980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79360" y="488160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687840" y="489240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4831200" y="4892400"/>
              <a:ext cx="91080" cy="167400"/>
              <a:chOff x="4831200" y="4892400"/>
              <a:chExt cx="91080" cy="167400"/>
            </a:xfrm>
          </p:grpSpPr>
          <p:sp>
            <p:nvSpPr>
              <p:cNvPr id="486" name=""/>
              <p:cNvSpPr/>
              <p:nvPr/>
            </p:nvSpPr>
            <p:spPr>
              <a:xfrm>
                <a:off x="4831200" y="497592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1200" y="489240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31200" y="489240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34800" y="496404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70800" y="496548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373640" y="4892400"/>
              <a:ext cx="91440" cy="167400"/>
              <a:chOff x="4373640" y="4892400"/>
              <a:chExt cx="91440" cy="167400"/>
            </a:xfrm>
          </p:grpSpPr>
          <p:sp>
            <p:nvSpPr>
              <p:cNvPr id="492" name=""/>
              <p:cNvSpPr/>
              <p:nvPr/>
            </p:nvSpPr>
            <p:spPr>
              <a:xfrm>
                <a:off x="4373640" y="4975920"/>
                <a:ext cx="9144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373640" y="4892400"/>
                <a:ext cx="9144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373640" y="489240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377240" y="496404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413600" y="496548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3779640" y="497628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373640" y="4976280"/>
              <a:ext cx="91440" cy="168120"/>
              <a:chOff x="4373640" y="4976280"/>
              <a:chExt cx="91440" cy="168120"/>
            </a:xfrm>
          </p:grpSpPr>
          <p:sp>
            <p:nvSpPr>
              <p:cNvPr id="499" name=""/>
              <p:cNvSpPr/>
              <p:nvPr/>
            </p:nvSpPr>
            <p:spPr>
              <a:xfrm>
                <a:off x="4373640" y="5060160"/>
                <a:ext cx="9144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373640" y="4976280"/>
                <a:ext cx="9144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373640" y="497628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77240" y="5047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413600" y="5049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3916800" y="4976280"/>
              <a:ext cx="91080" cy="168120"/>
              <a:chOff x="3916800" y="4976280"/>
              <a:chExt cx="91080" cy="168120"/>
            </a:xfrm>
          </p:grpSpPr>
          <p:sp>
            <p:nvSpPr>
              <p:cNvPr id="505" name=""/>
              <p:cNvSpPr/>
              <p:nvPr/>
            </p:nvSpPr>
            <p:spPr>
              <a:xfrm>
                <a:off x="3916800" y="506016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916800" y="497628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16800" y="497628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20400" y="504792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56400" y="504972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870720" y="506052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4556880" y="5060520"/>
              <a:ext cx="91080" cy="168120"/>
              <a:chOff x="4556880" y="5060520"/>
              <a:chExt cx="91080" cy="168120"/>
            </a:xfrm>
          </p:grpSpPr>
          <p:sp>
            <p:nvSpPr>
              <p:cNvPr id="512" name=""/>
              <p:cNvSpPr/>
              <p:nvPr/>
            </p:nvSpPr>
            <p:spPr>
              <a:xfrm>
                <a:off x="4556880" y="514440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56880" y="506052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56880" y="506052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60480" y="513216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6480" y="513396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4008240" y="5060520"/>
              <a:ext cx="91080" cy="168120"/>
              <a:chOff x="4008240" y="5060520"/>
              <a:chExt cx="91080" cy="168120"/>
            </a:xfrm>
          </p:grpSpPr>
          <p:sp>
            <p:nvSpPr>
              <p:cNvPr id="518" name=""/>
              <p:cNvSpPr/>
              <p:nvPr/>
            </p:nvSpPr>
            <p:spPr>
              <a:xfrm>
                <a:off x="4008240" y="5144400"/>
                <a:ext cx="91080" cy="8424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08240" y="5060520"/>
                <a:ext cx="91080" cy="12600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08240" y="506052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11840" y="5132160"/>
                <a:ext cx="4536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47840" y="5133960"/>
                <a:ext cx="45720" cy="8424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3962160" y="5144760"/>
              <a:ext cx="1371600" cy="79884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4282560" y="5144760"/>
              <a:ext cx="91080" cy="167400"/>
              <a:chOff x="4282560" y="5144760"/>
              <a:chExt cx="91080" cy="167400"/>
            </a:xfrm>
          </p:grpSpPr>
          <p:sp>
            <p:nvSpPr>
              <p:cNvPr id="525" name=""/>
              <p:cNvSpPr/>
              <p:nvPr/>
            </p:nvSpPr>
            <p:spPr>
              <a:xfrm>
                <a:off x="4282560" y="522828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82560" y="514476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282560" y="51447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8616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2216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4099320" y="5144760"/>
              <a:ext cx="91440" cy="167400"/>
              <a:chOff x="4099320" y="5144760"/>
              <a:chExt cx="91440" cy="167400"/>
            </a:xfrm>
          </p:grpSpPr>
          <p:sp>
            <p:nvSpPr>
              <p:cNvPr id="531" name=""/>
              <p:cNvSpPr/>
              <p:nvPr/>
            </p:nvSpPr>
            <p:spPr>
              <a:xfrm>
                <a:off x="4099320" y="5228280"/>
                <a:ext cx="9144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99320" y="5144760"/>
                <a:ext cx="9144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99320" y="514476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0292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3928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4465440" y="5144760"/>
              <a:ext cx="91080" cy="167400"/>
              <a:chOff x="4465440" y="5144760"/>
              <a:chExt cx="91080" cy="167400"/>
            </a:xfrm>
          </p:grpSpPr>
          <p:sp>
            <p:nvSpPr>
              <p:cNvPr id="537" name=""/>
              <p:cNvSpPr/>
              <p:nvPr/>
            </p:nvSpPr>
            <p:spPr>
              <a:xfrm>
                <a:off x="4465440" y="522828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465440" y="514476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465440" y="51447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46904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0504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4648320" y="5144760"/>
              <a:ext cx="91440" cy="167400"/>
              <a:chOff x="4648320" y="5144760"/>
              <a:chExt cx="91440" cy="167400"/>
            </a:xfrm>
          </p:grpSpPr>
          <p:sp>
            <p:nvSpPr>
              <p:cNvPr id="543" name=""/>
              <p:cNvSpPr/>
              <p:nvPr/>
            </p:nvSpPr>
            <p:spPr>
              <a:xfrm>
                <a:off x="4648320" y="5228280"/>
                <a:ext cx="9144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48320" y="5144760"/>
                <a:ext cx="9144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8320" y="5144760"/>
                <a:ext cx="9144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5192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8828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4831200" y="5144760"/>
              <a:ext cx="91080" cy="167400"/>
              <a:chOff x="4831200" y="5144760"/>
              <a:chExt cx="91080" cy="167400"/>
            </a:xfrm>
          </p:grpSpPr>
          <p:sp>
            <p:nvSpPr>
              <p:cNvPr id="549" name=""/>
              <p:cNvSpPr/>
              <p:nvPr/>
            </p:nvSpPr>
            <p:spPr>
              <a:xfrm>
                <a:off x="4831200" y="522828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31200" y="514476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31200" y="51447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83480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87080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5014080" y="5144760"/>
              <a:ext cx="91080" cy="167400"/>
              <a:chOff x="5014080" y="5144760"/>
              <a:chExt cx="91080" cy="16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5014080" y="5228280"/>
                <a:ext cx="91080" cy="83880"/>
              </a:xfrm>
              <a:prstGeom prst="ellipse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014080" y="5144760"/>
                <a:ext cx="91080" cy="125640"/>
              </a:xfrm>
              <a:prstGeom prst="rect">
                <a:avLst/>
              </a:pr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014080" y="5144760"/>
                <a:ext cx="91080" cy="0"/>
              </a:xfrm>
              <a:prstGeom prst="line">
                <a:avLst/>
              </a:prstGeom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17680" y="5216400"/>
                <a:ext cx="45360" cy="8352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53680" y="5217840"/>
                <a:ext cx="45720" cy="83880"/>
              </a:xfrm>
              <a:prstGeom prst="ellipse">
                <a:avLst/>
              </a:prstGeom>
              <a:solidFill>
                <a:srgbClr val="ffffe9"/>
              </a:solidFill>
              <a:ln w="936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"/>
          <p:cNvSpPr/>
          <p:nvPr/>
        </p:nvSpPr>
        <p:spPr>
          <a:xfrm flipH="1">
            <a:off x="2285640" y="1447920"/>
            <a:ext cx="1600200" cy="281916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038120" y="1447920"/>
            <a:ext cx="1600200" cy="281916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629040" y="3124080"/>
            <a:ext cx="685800" cy="114300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ypical annotation datatyp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Times New Roman"/>
              </a:rPr>
              <a:t>clone_info:</a:t>
            </a: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 Tracks information related to the parent nucleotide assembly, including its annotation status, </a:t>
            </a:r>
            <a:br>
              <a:rPr sz="1200"/>
            </a:b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which institution the sequence was derived, and whether it is part of a larger assembly such as a chromosome.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Times New Roman"/>
              </a:rPr>
              <a:t>asm_feature:</a:t>
            </a: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 All major features of the parent assembly are stored here, including annotated genes, predicted genes, </a:t>
            </a:r>
            <a:br>
              <a:rPr sz="1200"/>
            </a:b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repetitive elements, splice sites, and all underlying components of a gene (models, transcript exons, and cds exons).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Times New Roman"/>
              </a:rPr>
              <a:t>phys_ev:</a:t>
            </a: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 Attribute for each gene component within the asm_feature table.  For example, each </a:t>
            </a:r>
            <a:br>
              <a:rPr sz="1200"/>
            </a:b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predicted and annotated gene has a model and multiple exons stored in the asm_feature table.  Linking the feature to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phys_ev will identify the type of feature present: ie. glimmer, genscan+, genemarkHMM, or working (annotation).  This becomes important if a single feature in the asm_feature table is shared by multiple model types.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Times New Roman"/>
              </a:rPr>
              <a:t>feat_link:</a:t>
            </a: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 This table is key to the principles behind representing gene models in the database.  All parent and child </a:t>
            </a:r>
            <a:br>
              <a:rPr sz="1200"/>
            </a:b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relationships are defined here.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Times New Roman"/>
              </a:rPr>
              <a:t>evidence:</a:t>
            </a: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 The main repository for all sequence database search results.  Also, it retains information regarding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gene model attributes such as the best blast match and all Pfam matches.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Times New Roman"/>
              </a:rPr>
              <a:t>ident:</a:t>
            </a: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 Stores attributes for the highest element of the gene component hierarchy, the transcriptional unit.  Gene names, </a:t>
            </a:r>
            <a:br>
              <a:rPr sz="1200"/>
            </a:b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loci, EC symbols, and other attributes are available.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Times New Roman"/>
              </a:rPr>
              <a:t>role_link:</a:t>
            </a: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 The role category assignments for each gene are available here.  Roles include examples such as ‘transcription’, ‘DNA synthesis’, ‘translation’, ‘DNA repair’, ‘amino acid metabolism’, etc.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2280" y="24912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mniome Content, Gen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otal # of gene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132,998 from world-wide effort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(43,311 TIGR projects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36,274 w/ genetic nam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15,098 genes placed into 5,451 paralogous famili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413 rRN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1311 tRN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49 sRN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293 IS elemen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24912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mniome Conten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1073 distinct EC#s, assigned to 17308 gen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ws of allVall data:  3,996,851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ws of HMM TIGRFAM data: 91,550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ws of HMM Pfam data: 131,963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ws of COG data: 149,940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ws of Interpro data: 175,760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ws of Prosite data: 53,132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ws of BER data: 91,899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CondensedGenome" descr=""/>
          <p:cNvPicPr/>
          <p:nvPr/>
        </p:nvPicPr>
        <p:blipFill>
          <a:blip r:embed="rId1"/>
          <a:stretch/>
        </p:blipFill>
        <p:spPr>
          <a:xfrm>
            <a:off x="388800" y="25560"/>
            <a:ext cx="83664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CGVProteinSyn" descr=""/>
          <p:cNvPicPr/>
          <p:nvPr/>
        </p:nvPicPr>
        <p:blipFill>
          <a:blip r:embed="rId1"/>
          <a:stretch/>
        </p:blipFill>
        <p:spPr>
          <a:xfrm>
            <a:off x="619200" y="20520"/>
            <a:ext cx="79056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18:12:42Z</dcterms:created>
  <dc:creator>sadmin</dc:creator>
  <dc:description/>
  <dc:language>en-US</dc:language>
  <cp:lastModifiedBy>owen white</cp:lastModifiedBy>
  <dcterms:modified xsi:type="dcterms:W3CDTF">2002-05-30T18:17:38Z</dcterms:modified>
  <cp:revision>496</cp:revision>
  <dc:subject/>
  <dc:title>physical data representation</dc:title>
</cp:coreProperties>
</file>