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222-829F-4E20-8592-FB309691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6CB-E960-498D-B2FB-413E24AC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D30-9098-4DFB-9DD8-83095DB2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204-B304-4189-9495-3AEDEB2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53F-2689-4DCE-AD87-8F14B62D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3D3-17AF-4969-8960-22A08630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272-36D4-4492-8D4F-3EBA0F2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5E-B830-4B01-8623-8533C11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C7B-821F-46A2-9EA2-AC8CABD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336-724B-473E-A077-3F79D10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E94-EDE7-4891-8A5C-EE5C9067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89E-EC82-42DA-A13F-F3CA7A1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E14-274F-41E8-8B7E-022008B7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27892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1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MALACH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ultilingual </a:t>
            </a: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ccess to </a:t>
            </a: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rge spoken </a:t>
            </a: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i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8798040" cy="42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i="1" lang="en-US" sz="2500" spc="-1" strike="noStrike">
                <a:solidFill>
                  <a:srgbClr val="3333cc"/>
                </a:solidFill>
                <a:latin typeface="Gill Sans"/>
                <a:ea typeface="Times New Roman"/>
              </a:rPr>
              <a:t>Survivors of the Shoah Visual History Found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Language Technologies</a:t>
            </a:r>
            <a:br>
              <a:rPr sz="2900"/>
            </a:br>
            <a:r>
              <a:rPr b="1" i="1" lang="en-US" sz="2500" spc="-1" strike="noStrike">
                <a:solidFill>
                  <a:srgbClr val="3333cc"/>
                </a:solidFill>
                <a:latin typeface="Gill Sans"/>
                <a:ea typeface="Times New Roman"/>
              </a:rPr>
              <a:t>IBM T. J. Watson Research Cen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er for Language and Speech Processing</a:t>
            </a:r>
            <a:br>
              <a:rPr sz="2900"/>
            </a:br>
            <a:r>
              <a:rPr b="1" i="1" lang="en-US" sz="2500" spc="-1" strike="noStrike">
                <a:solidFill>
                  <a:srgbClr val="3333cc"/>
                </a:solidFill>
                <a:latin typeface="Gill Sans"/>
                <a:ea typeface="Times New Roman"/>
              </a:rPr>
              <a:t>Johns Hopkins Univers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i="1" lang="en-US" sz="2500" spc="-1" strike="noStrike">
                <a:solidFill>
                  <a:srgbClr val="3333cc"/>
                </a:solidFill>
                <a:latin typeface="Gill Sans"/>
                <a:ea typeface="Times New Roman"/>
              </a:rPr>
              <a:t>Charles University , Prague / University of West Bohem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IL and College of Information Studies</a:t>
            </a:r>
            <a:br>
              <a:rPr sz="2500"/>
            </a:br>
            <a:r>
              <a:rPr b="1" i="1" lang="en-US" sz="2500" spc="-1" strike="noStrike">
                <a:solidFill>
                  <a:srgbClr val="0000cc"/>
                </a:solidFill>
                <a:latin typeface="Gill Sans"/>
                <a:ea typeface="Times New Roman"/>
              </a:rPr>
              <a:t>University of Mary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8991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MIACS/HCIL: Douglas Oard, David Doerm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S: Dagobert Soergel, Doug Oard, Bruce Dearsty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838080"/>
            <a:ext cx="83818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nes on the right, use colors to distinguish, task bar to select from open ones, as many open as user wishes (need a drop-down (or drop-up) from task b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y of the panes on the right, names, places, etc are click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atch pad functionalities from Anita’s dissertation, e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392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outline, can link to headings, insert text at hea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392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rag and drop links to items or actual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392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could enter a transcript of a portion of the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392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Views designed by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392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tamped to video location in video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collaboration among users, possibly put user-entered info, such as transcript pieces, into a public database.  Could link to that database from video location viewed.  Need to make availability known to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line window, interview in parallel with general his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LAC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07696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 Information Technology Research projec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access to spok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 state of the ar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speech recognition (ASR)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specially of spontaneous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segmentation in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cataloging, retrieval algorithms,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earch interfaces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838080"/>
            <a:ext cx="7925040" cy="6156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8584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vivors of the Shoah Visual History Foundation Digital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1994 by Steven Spielberg after filming Schindler’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6400" indent="-55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,000 Nazi Holocaust survivors, liberators &amp; witnesses from 57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6400" indent="-55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6,000 hours of speech in 32 langua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0 years of lis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6400" indent="-55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 of being manually catalo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’s largest coherent archiv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videotaped or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test 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LACH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077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19520"/>
            <a:ext cx="3352680" cy="916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324480"/>
            <a:ext cx="3360600" cy="36828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 catalo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670280"/>
            <a:ext cx="236196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retrieval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807080"/>
            <a:ext cx="19814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26708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733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62320" y="5714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1028880"/>
            <a:ext cx="8076960" cy="838080"/>
            <a:chOff x="304920" y="1028880"/>
            <a:chExt cx="8076960" cy="838080"/>
          </a:xfrm>
        </p:grpSpPr>
        <p:sp>
          <p:nvSpPr>
            <p:cNvPr id="64" name=""/>
            <p:cNvSpPr/>
            <p:nvPr/>
          </p:nvSpPr>
          <p:spPr>
            <a:xfrm>
              <a:off x="2590920" y="1066680"/>
              <a:ext cx="22860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sauru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xical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8680" y="1028880"/>
              <a:ext cx="2743200" cy="838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on, place, event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1028880"/>
              <a:ext cx="1828800" cy="838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H="1" flipV="1">
            <a:off x="-360" y="1904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915400" y="1904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User requirements analysis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523880"/>
            <a:ext cx="7696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unt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 experts and literature on potential users and the nature of thei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 to curators about intended use of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d intu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0 “Advance Access”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d by discipline, access points needed, pieces of information requir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User requirements analysis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523880"/>
            <a:ext cx="7696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ide variety of users and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s, humanities, and social scienc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cienc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ature and lingu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ing and journ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and non-material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User requirements analysis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9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history and education: Importan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43480" y="1600200"/>
            <a:ext cx="2057400" cy="327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3920" indent="-223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spcBef>
                <a:spcPts val="125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828800"/>
            <a:ext cx="1447920" cy="1447920"/>
          </a:xfrm>
          <a:prstGeom prst="ellipse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733920"/>
            <a:ext cx="1447920" cy="1371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1676520"/>
            <a:ext cx="1447920" cy="14475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rel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3352680"/>
            <a:ext cx="1447920" cy="14479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re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5105520"/>
            <a:ext cx="1447920" cy="14475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86400"/>
            <a:ext cx="1447920" cy="1371600"/>
          </a:xfrm>
          <a:prstGeom prst="ellipse">
            <a:avLst/>
          </a:prstGeom>
          <a:solidFill>
            <a:srgbClr val="9900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8040" y="5410080"/>
            <a:ext cx="1447920" cy="14479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590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81080" y="320040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057400" y="441936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37339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73392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562720" y="2666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5943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257800" y="59432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95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438280"/>
            <a:ext cx="698400" cy="3048120"/>
          </a:xfrm>
          <a:custGeom>
            <a:avLst/>
            <a:gdLst/>
            <a:ahLst/>
            <a:rect l="l" t="t" r="r" b="b"/>
            <a:pathLst>
              <a:path w="440" h="1920">
                <a:moveTo>
                  <a:pt x="48" y="0"/>
                </a:moveTo>
                <a:cubicBezTo>
                  <a:pt x="244" y="344"/>
                  <a:pt x="440" y="688"/>
                  <a:pt x="432" y="1008"/>
                </a:cubicBezTo>
                <a:cubicBezTo>
                  <a:pt x="424" y="1328"/>
                  <a:pt x="64" y="1776"/>
                  <a:pt x="0" y="1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 ske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676520"/>
            <a:ext cx="358128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display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676520"/>
            <a:ext cx="114300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ce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erso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ubject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vent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im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erso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76520"/>
            <a:ext cx="312444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area 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 inform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atch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114800"/>
            <a:ext cx="312444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area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 inform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648320"/>
            <a:ext cx="3581280" cy="1904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cript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2:42:39Z</dcterms:created>
  <dc:creator>Dagobert Soergel</dc:creator>
  <dc:description/>
  <dc:language>en-US</dc:language>
  <cp:lastModifiedBy>Dagobert Soergel</cp:lastModifiedBy>
  <dcterms:modified xsi:type="dcterms:W3CDTF">2002-05-27T18:05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397272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2</vt:lpwstr>
  </property>
</Properties>
</file>