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2AE-C700-49B2-A15E-5A103374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278-9B18-42DD-B5CD-38EBA6F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037-0B2D-4393-9632-2235270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AD8-DAEF-4C34-8188-5C35DA9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4EC-21CB-4AF8-BA61-54EFB97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EA-9900-4E7F-AE36-8B3A9E27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D8D-B2D7-4CE4-88B8-3E1B04C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C13-15E6-4555-B3F1-F1FEED3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CB3-CD55-4B8C-B78F-2FC4316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BC2-9AAF-4503-97AC-7F0FB7E4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F51-7E96-48D3-B1D6-BB8DA2FF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95D-12F8-44ED-BED2-5BA6569E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52880" y="1962000"/>
            <a:ext cx="42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University of Maryland, Human-Computer Interaction Laboratory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3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78D-F2FC-4179-810D-0A3B76B9ABD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Digital Library Interfaces for Children: The Effects of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Visual Navigation on Usabil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29840" y="2693520"/>
            <a:ext cx="7223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Glenda Revelle, Benjamin B. Bederson, Allison Druin, Dana Campbell, Allison Farber, Juan Pablo Hourcade, Juhyun Lee, Yoshifumi Takaya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eachers and students of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Yorktown Elementary School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owie, Mary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Preliminary Results: 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User Satisfac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38104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Original SearchKids rated as being more useful than the traditional, text-based approa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Boys rate SearchKids as being less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“fun to use” if it has no images, whereas girls rate it as less fun without anim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(Preliminary) Conclus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archKids enables young children to perform complex queries more effectively than traditional text search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In other situations, traditional text search proves more effectiv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(Preliminary) Conclusions (cont.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Young children perceive a visual search interface to be more useful and more fun to use than a traditional text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refore, your choice of interface should depend on the age of the children, and their tas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81160" y="61387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ww.cs.umd.edu/hcil/searchki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SearchKids: A Digital Library Interface for Childre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2419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mpleting third and final year of NSF-funded Digital Libraries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isual interface to digital libraries for young children (early element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nables children to search a multimedia database of information about anim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808600" y="3622680"/>
            <a:ext cx="30034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This Year’s Focu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5418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inued our collaborative design process, including children, teachers, and researc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urrently evaluating the effectiveness of SearchKids visual interf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pares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3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raders use of SearchKids to more traditional, less visual alterna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32520" y="3594240"/>
            <a:ext cx="29923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[Demo]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41320" y="2665440"/>
            <a:ext cx="3773520" cy="28303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2200" y="2681280"/>
            <a:ext cx="3735360" cy="2801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139760" y="56674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l SearchKids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960" y="56689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itional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Research Desig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83343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Goal: understand effectiveness of SearchKids interface feat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140 students from Yorktown Elem. School (half-way do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ndependent Variable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terface - traditional AND one of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Full SearchKi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SearchKids with no imag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SearchKids with no anim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SearchKids with neither images nor anim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Gra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Gen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ependent Variables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pe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ccura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ubjective Satisfa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Research Design (cont.)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37312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hildren asked to find as many items as possible in 15 minutes (items spoken by test administrat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arch tasks include specific animal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e.g., dog) and categories of animal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e.g., something that lives in wa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alf used traditional interface first; half used SearchKids version fi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Preliminary Results  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388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reliminary analysis on Original SearchKids vs. Traditional (with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en 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graders and eight 3</a:t>
            </a:r>
            <a:r>
              <a:rPr b="0" lang="en-US" sz="3200" spc="-1" strike="noStrike" baseline="30000">
                <a:solidFill>
                  <a:srgbClr val="003366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grader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Number of kids tested too small to know about statistical significance yet, but some patterns are emer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Preliminary Results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Search Outcom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396880"/>
            <a:ext cx="79581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Looking at three measur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tal # items completed during s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# “right” items f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# “wrong” items fou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Grade effect for total # items comple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graders found 12 ite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graders found 9 i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Preliminary Results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Search Outcomes (cont.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44476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# “right” items foun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raders submit more right answers with SearchK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raders submit more right answers with tradition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, this effect occurs only on category search ta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# “wrong” items f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raders submit more wrong answers with tradition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3366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raders submit more wrong answers with SearchK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gain, this effect occurs on category search ta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02:54:08Z</dcterms:created>
  <dc:creator>Ben Bederson</dc:creator>
  <dc:description/>
  <dc:language>en-US</dc:language>
  <cp:lastModifiedBy>tharris</cp:lastModifiedBy>
  <dcterms:modified xsi:type="dcterms:W3CDTF">2002-06-04T20:53:52Z</dcterms:modified>
  <cp:revision>52</cp:revision>
  <dc:subject/>
  <dc:title>Looking to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7951122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3</vt:lpwstr>
  </property>
</Properties>
</file>