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26A-1341-4E6E-9234-56503C3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861-EAAB-4EB1-87AC-84F5FDE8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46F-7F67-4404-BFA7-125EEA91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340-F839-45A7-AB59-10F5FA80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2BE-F4D8-46D9-8659-D0FA3740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AD8-13FE-4C11-A455-B5D1180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3170-E31E-491A-B992-F82B4A3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81D1-C503-4E8F-8F79-B4C5F50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F7BC-5100-4705-BA34-4AB4A5E9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BDD-191A-429D-9317-2D6DD20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3D8-D26E-443B-A2D3-B8F121E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8F5-EFD1-4CE8-9670-44E283F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4EF-C7D6-499F-9A6D-9417AC8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009-E125-493D-958D-15043D9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D271-3EF4-481A-8A37-CE6C2A6F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D24C-F443-4036-B37C-C18AD317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9A6C-6D9D-4030-ADAF-516CFDC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722-515D-4C9D-B043-92011C5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933-4EB7-4BF1-B697-D0BBB4CA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5E0-CB15-4FB5-AF89-1994C2B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B36-9C45-4EC3-872F-8C966C2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3CD-F42C-47C0-A4CA-94BFA93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546-B92A-443D-9887-0E0A8F6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E95-B6D2-4A1F-8D65-E1F14B1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4DE-F75E-4871-B4D3-85ED8430ACE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47F0-9BBA-48C0-93DD-5A683766155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museoscienza.org/english/leonardo/img/citta1_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he New Computing:</a:t>
            </a:r>
            <a:br>
              <a:rPr sz="4000"/>
            </a:b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Ending User Frustration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Ben Shneiderman &amp;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Irina Ceaparu, Jonathan Lazar*,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Katie Bessiere, John Robinson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May 2002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hcil-logo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16532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133960"/>
            <a:ext cx="64771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versity of Maryland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uman Computer Interaction Laborator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amp; *Towson Universit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3204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11068" r="0" b="4502"/>
          <a:stretch/>
        </p:blipFill>
        <p:spPr>
          <a:xfrm>
            <a:off x="457200" y="165240"/>
            <a:ext cx="8305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rustrating experiences:    228             14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problem source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eb brow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mai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stem (O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ord proces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ther internet us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ideo/audio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t and instant messag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3 approach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knew how to solv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nable to solv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gured ou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08000" y="2500200"/>
            <a:ext cx="337788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le browser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too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readsheet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phic design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tion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base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rd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5105520"/>
            <a:ext cx="3886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ttom 3 approach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manual/book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online help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tarted the progra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3840" y="115740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MD          Tow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5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362320" y="3537000"/>
          <a:ext cx="4343400" cy="332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37000"/>
                    <a:ext cx="43434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143000"/>
            <a:ext cx="7695720" cy="2340000"/>
            <a:chOff x="762120" y="1143000"/>
            <a:chExt cx="7695720" cy="2340000"/>
          </a:xfrm>
        </p:grpSpPr>
        <p:grpSp>
          <p:nvGrpSpPr>
            <p:cNvPr id="150" name=""/>
            <p:cNvGrpSpPr/>
            <p:nvPr/>
          </p:nvGrpSpPr>
          <p:grpSpPr>
            <a:xfrm>
              <a:off x="767880" y="1144440"/>
              <a:ext cx="7683120" cy="2336760"/>
              <a:chOff x="767880" y="1144440"/>
              <a:chExt cx="7683120" cy="23367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67880" y="1144440"/>
                <a:ext cx="2861640" cy="302400"/>
                <a:chOff x="767880" y="1144440"/>
                <a:chExt cx="2861640" cy="30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96400" y="1144440"/>
                  <a:ext cx="2603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nternet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7880" y="1144440"/>
                  <a:ext cx="286164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29880" y="1144440"/>
                <a:ext cx="2087280" cy="302400"/>
                <a:chOff x="3629880" y="1144440"/>
                <a:chExt cx="2087280" cy="3024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58400" y="1144440"/>
                  <a:ext cx="18295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pplications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29880" y="1144440"/>
                  <a:ext cx="20872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17520" y="1144440"/>
                <a:ext cx="2733480" cy="302400"/>
                <a:chOff x="5717520" y="1144440"/>
                <a:chExt cx="2733480" cy="302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46040" y="1144440"/>
                  <a:ext cx="2475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Operating System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17520" y="1144440"/>
                  <a:ext cx="27334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67880" y="1446840"/>
                <a:ext cx="2861640" cy="574560"/>
                <a:chOff x="767880" y="1446840"/>
                <a:chExt cx="2861640" cy="5745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96400" y="1446840"/>
                  <a:ext cx="26038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67880" y="1446840"/>
                  <a:ext cx="28616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629880" y="1446840"/>
                <a:ext cx="2087280" cy="574560"/>
                <a:chOff x="3629880" y="1446840"/>
                <a:chExt cx="2087280" cy="574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758400" y="1446840"/>
                  <a:ext cx="18295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29880" y="1446840"/>
                  <a:ext cx="2087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17520" y="1446840"/>
                <a:ext cx="2733480" cy="574560"/>
                <a:chOff x="5717520" y="1446840"/>
                <a:chExt cx="2733480" cy="574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846040" y="1446840"/>
                  <a:ext cx="2475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17520" y="1446840"/>
                  <a:ext cx="27334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67880" y="2021760"/>
                <a:ext cx="2861640" cy="486360"/>
                <a:chOff x="767880" y="2021760"/>
                <a:chExt cx="2861640" cy="48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96400" y="202176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7880" y="202176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29880" y="2021760"/>
                <a:ext cx="2087280" cy="486360"/>
                <a:chOff x="3629880" y="2021760"/>
                <a:chExt cx="2087280" cy="486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58400" y="202176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29880" y="202176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17520" y="2021760"/>
                <a:ext cx="2733480" cy="486360"/>
                <a:chOff x="5717520" y="2021760"/>
                <a:chExt cx="2733480" cy="4863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46040" y="202176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7520" y="202176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67880" y="2508120"/>
                <a:ext cx="2861640" cy="486360"/>
                <a:chOff x="767880" y="2508120"/>
                <a:chExt cx="2861640" cy="486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96400" y="250812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eb page/site not found  (17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7880" y="250812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629880" y="2508120"/>
                <a:ext cx="2087280" cy="486360"/>
                <a:chOff x="3629880" y="2508120"/>
                <a:chExt cx="2087280" cy="486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758400" y="250812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missing/ hard to find features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29880" y="250812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17520" y="2508120"/>
                <a:ext cx="2733480" cy="486360"/>
                <a:chOff x="5717520" y="2508120"/>
                <a:chExt cx="2733480" cy="4863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46040" y="250812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17520" y="250812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67880" y="2994840"/>
                <a:ext cx="2861640" cy="486360"/>
                <a:chOff x="767880" y="2994840"/>
                <a:chExt cx="2861640" cy="4863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96400" y="299484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7880" y="299484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29880" y="2994840"/>
                <a:ext cx="2087280" cy="486360"/>
                <a:chOff x="3629880" y="2994840"/>
                <a:chExt cx="2087280" cy="486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58400" y="299484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29880" y="299484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17520" y="2994840"/>
                <a:ext cx="2733480" cy="486360"/>
                <a:chOff x="5717520" y="2994840"/>
                <a:chExt cx="2733480" cy="4863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46040" y="299484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unexpected message boxes  (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17520" y="299484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" name=""/>
            <p:cNvSpPr/>
            <p:nvPr/>
          </p:nvSpPr>
          <p:spPr>
            <a:xfrm>
              <a:off x="762120" y="1143000"/>
              <a:ext cx="7695720" cy="2340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Minutes lost – UMD &amp; Towson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905120"/>
            <a:ext cx="77724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905120"/>
            <a:ext cx="366228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905120"/>
            <a:ext cx="8967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1905120"/>
            <a:ext cx="74772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1905120"/>
            <a:ext cx="5238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64767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809880"/>
            <a:ext cx="306360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809880"/>
            <a:ext cx="125424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809880"/>
            <a:ext cx="41724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809880"/>
            <a:ext cx="2775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276720" y="5257800"/>
            <a:ext cx="2984400" cy="1251720"/>
            <a:chOff x="3276720" y="5257800"/>
            <a:chExt cx="2984400" cy="1251720"/>
          </a:xfrm>
        </p:grpSpPr>
        <p:sp>
          <p:nvSpPr>
            <p:cNvPr id="209" name=""/>
            <p:cNvSpPr/>
            <p:nvPr/>
          </p:nvSpPr>
          <p:spPr>
            <a:xfrm>
              <a:off x="3276720" y="5334120"/>
              <a:ext cx="212760" cy="152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6720" y="5562720"/>
              <a:ext cx="21276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720" y="5791320"/>
              <a:ext cx="212760" cy="152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6019920"/>
              <a:ext cx="21276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6720" y="6248520"/>
              <a:ext cx="21276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03680" y="52578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Emai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3680" y="54864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57150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Web browsing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00440" y="5943600"/>
              <a:ext cx="25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ther minutes los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0440" y="61722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Productive minute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77120" y="1371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: 948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657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77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96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 lost: 42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65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51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568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09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M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ows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35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29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9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87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3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917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Next Step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lidate results with other us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fessiona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lder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velop more precise monitoring softwar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e.g.  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bugtoaster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plore ways to impr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nline help &amp; help des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ustomer service &amp; online commun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ducation &amp; trai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oftware &amp; interface re-desig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2) Universal: Digital Divide Remains Troubl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Commerce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pic>
        <p:nvPicPr>
          <p:cNvPr id="247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ercent of Internet Use by Educational Attain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2) Universal Usability in Practic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820" t="19791" r="10000" b="5288"/>
          <a:stretch/>
        </p:blipFill>
        <p:spPr>
          <a:xfrm>
            <a:off x="1219320" y="1155600"/>
            <a:ext cx="7086600" cy="5168880"/>
          </a:xfrm>
          <a:prstGeom prst="rect">
            <a:avLst/>
          </a:prstGeom>
          <a:ln w="0">
            <a:noFill/>
          </a:ln>
        </p:spPr>
      </p:pic>
      <p:pic>
        <p:nvPicPr>
          <p:cNvPr id="252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Useful: Generative Theori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6280" y="121932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edictive &amp; explanatory theories are useful, but the big step forward will b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enerative theo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ories of human needs to guide our invention of new technolo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066680"/>
            <a:ext cx="8991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fferson: Life, Liberty &amp; the Pursuit of Happiness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sevelt: Freedom of speech &amp; expression, religion,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from want, from fear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slow: Hierarchy of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hysiologi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fe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-Actualization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vey: Living, Loving, Learning &amp; Leaving a legacy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Theories of Human Nee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23920" y="102888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working on your own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-50 close intimate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-5000 regular encounter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s &amp; Marke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00 and more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Relationship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 Systematic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pproach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to Chan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3560" y="1790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old computing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computers can do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The New Computing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people can d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2320" y="61545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2480" y="141768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ctiviti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llect:  Inform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e:   Communi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reate:   Inno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nate:  Dissemin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Activit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1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Activities and Relationship Table (ART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60948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106668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62520" y="220968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Future Direc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371600"/>
            <a:ext cx="7239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learning: The new edu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business: The new comme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healthcare: The new medic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government: The new politics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ga-crea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rander Goals &amp; The Next Leonar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n Inspirational Muse:</a:t>
            </a:r>
            <a:br>
              <a:rPr sz="3600"/>
            </a:b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  Leonardo da Vinci (1452-1519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9000" y="20574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naissance 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bined science &amp; 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grated engineering &amp; esthe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echnology advancement 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&amp; human val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d visionary &amp; practic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self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67240" cy="408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hcil-logo" descr=""/>
          <p:cNvPicPr/>
          <p:nvPr/>
        </p:nvPicPr>
        <p:blipFill>
          <a:blip r:embed="rId2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Leonardo’s Laptop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CIL Sympos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ying attendees wi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eive a copy arou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ptember 1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IT Pr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ctober 200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pic>
        <p:nvPicPr>
          <p:cNvPr id="102" name="shneiderman3-cover" descr=""/>
          <p:cNvPicPr/>
          <p:nvPr/>
        </p:nvPicPr>
        <p:blipFill>
          <a:blip r:embed="rId2"/>
          <a:stretch/>
        </p:blipFill>
        <p:spPr>
          <a:xfrm>
            <a:off x="4842000" y="380880"/>
            <a:ext cx="430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orld" descr=""/>
          <p:cNvPicPr/>
          <p:nvPr/>
        </p:nvPicPr>
        <p:blipFill>
          <a:blip r:embed="rId1"/>
          <a:srcRect l="0" t="0" r="7724" b="0"/>
          <a:stretch/>
        </p:blipFill>
        <p:spPr>
          <a:xfrm>
            <a:off x="5657760" y="1036800"/>
            <a:ext cx="1903680" cy="206820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Goals for The New Computing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28600" y="8571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) Usable: Reliabl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&amp; comprehensi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) Universal: Diverse users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&amp; varied equipment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3) Useful: In harmony with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ldv_oldmen" descr=""/>
          <p:cNvPicPr/>
          <p:nvPr/>
        </p:nvPicPr>
        <p:blipFill>
          <a:blip r:embed="rId2"/>
          <a:srcRect l="0" t="8506" r="0" b="19961"/>
          <a:stretch/>
        </p:blipFill>
        <p:spPr>
          <a:xfrm>
            <a:off x="6288120" y="2959200"/>
            <a:ext cx="2286000" cy="202248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pic>
        <p:nvPicPr>
          <p:cNvPr id="109" name="citta1_d_sm" descr="">
            <a:hlinkClick r:id="rId3"/>
          </p:cNvPr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599080" y="4840200"/>
            <a:ext cx="1981080" cy="167652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hcil-logo" descr=""/>
          <p:cNvPicPr/>
          <p:nvPr/>
        </p:nvPicPr>
        <p:blipFill>
          <a:blip r:embed="rId5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Usable: Ending User Frustration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oal - make computer usage less frustrat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y top ten frustra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asure severity &amp; frequency in lost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termine if the situation is improving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lated area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me delay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motional reac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4108320"/>
            <a:ext cx="411480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8" name="linebusy" descr=""/>
          <p:cNvPicPr/>
          <p:nvPr/>
        </p:nvPicPr>
        <p:blipFill>
          <a:blip r:embed="rId1"/>
          <a:stretch/>
        </p:blipFill>
        <p:spPr>
          <a:xfrm>
            <a:off x="304920" y="1865160"/>
            <a:ext cx="4190760" cy="271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4764240"/>
            <a:ext cx="5639040" cy="163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91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1" name="server" descr=""/>
          <p:cNvPicPr/>
          <p:nvPr/>
        </p:nvPicPr>
        <p:blipFill>
          <a:blip r:embed="rId3"/>
          <a:stretch/>
        </p:blipFill>
        <p:spPr>
          <a:xfrm>
            <a:off x="4724280" y="19177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Networking &amp;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hcil-logo" descr=""/>
          <p:cNvPicPr/>
          <p:nvPr/>
        </p:nvPicPr>
        <p:blipFill>
          <a:blip r:embed="rId4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rash02" descr=""/>
          <p:cNvPicPr/>
          <p:nvPr/>
        </p:nvPicPr>
        <p:blipFill>
          <a:blip r:embed="rId1"/>
          <a:srcRect l="0" t="0" r="4056" b="12970"/>
          <a:stretch/>
        </p:blipFill>
        <p:spPr>
          <a:xfrm>
            <a:off x="2209680" y="2894040"/>
            <a:ext cx="6858000" cy="3887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pplication &amp; System Crash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7" name="crash0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hcil-logo" descr=""/>
          <p:cNvPicPr/>
          <p:nvPr/>
        </p:nvPicPr>
        <p:blipFill>
          <a:blip r:embed="rId3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Time diary stud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lf reports &amp; observation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64 UMD &amp; 47 Tows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-session survey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mographic inform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experience and attitu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vel of computer anxiety, mo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s spent 1 hour &amp; report their frustrating experienc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-session surve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sess mood after the ses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verall frustration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ss of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orida Institute of Technology (</a:t>
            </a:r>
            <a:r>
              <a:rPr b="1" lang="en-US" sz="1800" spc="-1" strike="noStrike">
                <a:solidFill>
                  <a:srgbClr val="333333"/>
                </a:solidFill>
                <a:latin typeface="Courier New"/>
              </a:rPr>
              <a:t>e3.se.fit.edu:5335/uf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22:09:54Z</dcterms:created>
  <dc:creator>Irina</dc:creator>
  <dc:description/>
  <dc:language>en-US</dc:language>
  <cp:lastModifiedBy>tharris</cp:lastModifiedBy>
  <dcterms:modified xsi:type="dcterms:W3CDTF">2002-06-04T17:29:30Z</dcterms:modified>
  <cp:revision>77</cp:revision>
  <dc:subject/>
  <dc:title>Determining Causes of User Fru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8265676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SOH ppt files - part 1</vt:lpwstr>
  </property>
</Properties>
</file>