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afd00"/>
                </a:solidFill>
                <a:latin typeface="Times New Roman"/>
              </a:rPr>
              <a:t>Click to move the slide</a:t>
            </a:r>
            <a:endParaRPr b="0" i="1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otivation behind Dynamaps is to try and come up with a Convenient  “map-based” representation of Census summary data, which is mainly organized region-wise, each region associated with a large amount of data in the form of attributes of these reg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spatial-data representation with the aid of a map of the US allows easier viewing and better analysis of the data represen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4624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4624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4624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21932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21932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4624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4624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4624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2193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4624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4624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4624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34ff"/>
            </a:gs>
            <a:gs pos="100000">
              <a:srgbClr val="1214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264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264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264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264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afd00"/>
                </a:solidFill>
                <a:latin typeface="Times New Roman"/>
              </a:rPr>
              <a:t>Click to edit the title text format</a:t>
            </a:r>
            <a:endParaRPr b="0" i="1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12193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5405d"/>
              </a:buClr>
              <a:buSzPct val="75000"/>
              <a:buFont typeface="Monotype Sort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fafd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8381880" y="6248520"/>
            <a:ext cx="609840" cy="457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cs.umd.edu/~egolub/DynaMaps/Current/USmap/DemoSlider3.shtml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cs.umd.edu/~egolub/DynaMaps/Current/Scattergram/StateWebPages.shtml" TargetMode="Externa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2f34ff"/>
            </a:gs>
            <a:gs pos="100000">
              <a:srgbClr val="1214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22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Arial"/>
              </a:rPr>
              <a:t>Choropleth Maps go to the Web</a:t>
            </a:r>
            <a:br>
              <a:rPr sz="4400"/>
            </a:br>
            <a:br>
              <a:rPr sz="2000"/>
            </a:br>
            <a:r>
              <a:rPr b="0" i="1" lang="en-US" sz="3600" spc="-1" strike="noStrike">
                <a:solidFill>
                  <a:srgbClr val="fafd00"/>
                </a:solidFill>
                <a:latin typeface="Arial"/>
              </a:rPr>
              <a:t> Human-Computer Interaction Laboratory </a:t>
            </a:r>
            <a:br>
              <a:rPr sz="3600"/>
            </a:br>
            <a:r>
              <a:rPr b="0" i="1" lang="en-US" sz="3600" spc="-1" strike="noStrike">
                <a:solidFill>
                  <a:srgbClr val="fafd00"/>
                </a:solidFill>
                <a:latin typeface="Arial"/>
              </a:rPr>
              <a:t>Department of Computer Science</a:t>
            </a:r>
            <a:br>
              <a:rPr sz="3600"/>
            </a:br>
            <a:br>
              <a:rPr sz="3600"/>
            </a:b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Ben Shneiderman, Kent Norman, Evan Golub, </a:t>
            </a:r>
            <a:br>
              <a:rPr sz="3200"/>
            </a:b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Haixia Zhao, Wayne Menezes</a:t>
            </a:r>
            <a:br>
              <a:rPr sz="3600"/>
            </a:br>
            <a:endParaRPr b="0" i="1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pic>
        <p:nvPicPr>
          <p:cNvPr id="48" name="" descr="Welcome &#10;to the University of Maryland"/>
          <p:cNvPicPr/>
          <p:nvPr/>
        </p:nvPicPr>
        <p:blipFill>
          <a:blip r:embed="rId1"/>
          <a:stretch/>
        </p:blipFill>
        <p:spPr>
          <a:xfrm>
            <a:off x="166680" y="5664240"/>
            <a:ext cx="5715000" cy="984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9" name=""/>
          <p:cNvGraphicFramePr/>
          <p:nvPr/>
        </p:nvGraphicFramePr>
        <p:xfrm>
          <a:off x="6781680" y="4991040"/>
          <a:ext cx="2210040" cy="1657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781680" y="4991040"/>
                    <a:ext cx="2210040" cy="165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34ff"/>
            </a:gs>
            <a:gs pos="100000">
              <a:srgbClr val="1214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afd00"/>
                </a:solidFill>
                <a:latin typeface="Arial"/>
              </a:rPr>
              <a:t>Dynamap – Java Solution 1 Screenshot</a:t>
            </a:r>
            <a:endParaRPr b="0" i="1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85800" y="1066680"/>
            <a:ext cx="84582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271520" y="1523880"/>
            <a:ext cx="660096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34ff"/>
            </a:gs>
            <a:gs pos="100000">
              <a:srgbClr val="1214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afd00"/>
                </a:solidFill>
                <a:latin typeface="Arial"/>
              </a:rPr>
              <a:t>Dynamap – Java Solutions</a:t>
            </a:r>
            <a:endParaRPr b="0" i="1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chnology We Used in Solution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e5405d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ase map GIF with up to 124 (5*5*5 - 1) reg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ssues with Solution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e5405d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umber of regions: for more regions, need to either use different base image type (e.g.: BMP) which would increase download time or use multiple base maps to increase number of regions which will increase image processing tim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5800" y="1066680"/>
            <a:ext cx="84582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34ff"/>
            </a:gs>
            <a:gs pos="100000">
              <a:srgbClr val="1214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afd00"/>
                </a:solidFill>
                <a:latin typeface="Arial"/>
              </a:rPr>
              <a:t>Dynamap – Java Solutions</a:t>
            </a:r>
            <a:endParaRPr b="0" i="1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77777"/>
                </a:solidFill>
                <a:latin typeface="Arial"/>
              </a:rPr>
              <a:t>Technology We Used in Solution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e5405d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</a:rPr>
              <a:t>Base map GIF with up to 124 (5*5*5 - 1) reg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77777"/>
                </a:solidFill>
                <a:latin typeface="Arial"/>
              </a:rPr>
              <a:t>Issues with Solution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e5405d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</a:rPr>
              <a:t>Number of regions: for more regions, need to either use different base image type (e.g.: BMP) which would increase download time or use multiple base maps to increase number of regions which will increase image processing tim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chnology We Used in Solution 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e5405d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oTools open-source Java toolkit to construct imag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85800" y="1066680"/>
            <a:ext cx="84582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34ff"/>
            </a:gs>
            <a:gs pos="100000">
              <a:srgbClr val="1214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afd00"/>
                </a:solidFill>
                <a:latin typeface="Arial"/>
              </a:rPr>
              <a:t>Dynamap – Java Solution 2 Screenshots</a:t>
            </a:r>
            <a:endParaRPr b="0" i="1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1066680"/>
            <a:ext cx="84582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rcRect l="0" t="13540" r="3127" b="5207"/>
          <a:stretch/>
        </p:blipFill>
        <p:spPr>
          <a:xfrm>
            <a:off x="609480" y="1143000"/>
            <a:ext cx="7925040" cy="498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34ff"/>
            </a:gs>
            <a:gs pos="100000">
              <a:srgbClr val="1214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afd00"/>
                </a:solidFill>
                <a:latin typeface="Arial"/>
              </a:rPr>
              <a:t>Dynamap – Java Solution 2 Screenshots</a:t>
            </a:r>
            <a:endParaRPr b="0" i="1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85800" y="1066680"/>
            <a:ext cx="84582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rcRect l="0" t="13540" r="3127" b="5207"/>
          <a:stretch/>
        </p:blipFill>
        <p:spPr>
          <a:xfrm>
            <a:off x="609480" y="1143000"/>
            <a:ext cx="8001000" cy="503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34ff"/>
            </a:gs>
            <a:gs pos="100000">
              <a:srgbClr val="1214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afd00"/>
                </a:solidFill>
                <a:latin typeface="Arial"/>
              </a:rPr>
              <a:t>Dynamap – Java Solutions</a:t>
            </a:r>
            <a:endParaRPr b="0" i="1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20720" y="1060560"/>
            <a:ext cx="7772400" cy="579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77777"/>
                </a:solidFill>
                <a:latin typeface="Arial"/>
              </a:rPr>
              <a:t>Technology We Used in Solution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e5405d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</a:rPr>
              <a:t>Base map GIF with up to 124 (5*5*5 - 1) reg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77777"/>
                </a:solidFill>
                <a:latin typeface="Arial"/>
              </a:rPr>
              <a:t>Issues with Solution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e5405d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</a:rPr>
              <a:t>Number of regions: for more regions, need to either use different base image type (e.g.: BMP) which would increase download time or use multiple base maps to increase number of regions which will increase image processing tim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chnology We Used in Solution 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e5405d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oTools open-source Java toolkit to construct imag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ssues with Solution 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e5405d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reater download tim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e5405d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sponse time suffers with higher number of reg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5800" y="1066680"/>
            <a:ext cx="84582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34ff"/>
            </a:gs>
            <a:gs pos="100000">
              <a:srgbClr val="1214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afd00"/>
                </a:solidFill>
                <a:latin typeface="Arial"/>
              </a:rPr>
              <a:t>Conclusion</a:t>
            </a:r>
            <a:endParaRPr b="0" i="1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8201160" cy="369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ynamic queries with choropleth maps are an attractive, responsive way to present summary inform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ynamic queries can be implemented for the Web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e are trade-offs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e5405d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ow bandwidth – might not want to have to load GeoTools or might want to reduce number of images to transf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e5405d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low processor – might not want to have high number of regions or might want to reduce number of slid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85800" y="1066680"/>
            <a:ext cx="84582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62120" y="5410080"/>
            <a:ext cx="77533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uman-Computer Interaction Laborato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ww.cs.umd.edu/hcil/cens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34ff"/>
            </a:gs>
            <a:gs pos="100000">
              <a:srgbClr val="1214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afd00"/>
                </a:solidFill>
                <a:latin typeface="Arial"/>
              </a:rPr>
              <a:t>Overview</a:t>
            </a:r>
            <a:endParaRPr b="0" i="1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is “Dynamap” 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ynamap – Desire for Web-based solu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ynamap – DHTML solution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- layers and tabl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ynamap – Java solutions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- single image w/palette manipulation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- shape-based image constru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1066680"/>
            <a:ext cx="84582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34ff"/>
            </a:gs>
            <a:gs pos="100000">
              <a:srgbClr val="1214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tivation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e5405d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 provide a convenient, dynamic visual representation of summary data (example problem space - census data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ypical applica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e5405d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ploratory Tasks, Specific Scenario Task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chnology originally us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e5405d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isual Basic 6.0, ESRI MapObjects 2.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ssu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e5405d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es MapObjects 2.0, not web-based, performance with all 3180 counties not real-tim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afd00"/>
                </a:solidFill>
                <a:latin typeface="Arial"/>
              </a:rPr>
              <a:t>What Is Dynamap</a:t>
            </a:r>
            <a:endParaRPr b="0" i="1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85800" y="1066680"/>
            <a:ext cx="84582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-2133720" y="228600"/>
            <a:ext cx="1828800" cy="1681200"/>
          </a:xfrm>
          <a:prstGeom prst="rect">
            <a:avLst/>
          </a:prstGeom>
          <a:solidFill>
            <a:srgbClr val="fcfdc6"/>
          </a:soli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ntion chloropleth, double-box sliders, zoom, pan, scatterplo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34ff"/>
            </a:gs>
            <a:gs pos="100000">
              <a:srgbClr val="1214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afd00"/>
                </a:solidFill>
                <a:latin typeface="Arial"/>
              </a:rPr>
              <a:t>Dynamap – Web Based Solutions</a:t>
            </a:r>
            <a:endParaRPr b="0" i="1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tivation in moving to Web-based solution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e5405d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ynamap goes to Web with equal (or greater) functionality when compared to the Visual Basic implementation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ample target minimum equipment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e5405d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ntium II 400 Mh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e5405d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56k Mode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e5405d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024x768 screen resolu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formance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e5405d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mooth interactive filter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e5405d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inimum network transfer and dela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1066680"/>
            <a:ext cx="84582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34ff"/>
            </a:gs>
            <a:gs pos="100000">
              <a:srgbClr val="1214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afd00"/>
                </a:solidFill>
                <a:latin typeface="Arial"/>
              </a:rPr>
              <a:t>Dynamap – Dynamic HTML</a:t>
            </a:r>
            <a:endParaRPr b="0" i="1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chnology We Us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e5405d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IFs with transparent background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e5405d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ML tables with colored cel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e5405d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ynamic HTML (Cascading Style Sheets, JScript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85800" y="1066680"/>
            <a:ext cx="84582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34ff"/>
            </a:gs>
            <a:gs pos="100000">
              <a:srgbClr val="1214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afd00"/>
                </a:solidFill>
                <a:latin typeface="Arial"/>
              </a:rPr>
              <a:t>Dynamap – Dynamic HTML Screenshot</a:t>
            </a:r>
            <a:endParaRPr b="0" i="1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5800" y="1066680"/>
            <a:ext cx="84582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6" name="" descr="">
            <a:hlinkClick r:id="rId1"/>
          </p:cNvPr>
          <p:cNvPicPr/>
          <p:nvPr/>
        </p:nvPicPr>
        <p:blipFill>
          <a:blip r:embed="rId2"/>
          <a:srcRect l="4688" t="16666" r="10938" b="3125"/>
          <a:stretch/>
        </p:blipFill>
        <p:spPr>
          <a:xfrm>
            <a:off x="838080" y="1219320"/>
            <a:ext cx="7467840" cy="53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34ff"/>
            </a:gs>
            <a:gs pos="100000">
              <a:srgbClr val="1214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afd00"/>
                </a:solidFill>
                <a:latin typeface="Arial"/>
              </a:rPr>
              <a:t>Dynamap – Dynamic HTML Screenshot</a:t>
            </a:r>
            <a:endParaRPr b="0" i="1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5800" y="1066680"/>
            <a:ext cx="84582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" descr="">
            <a:hlinkClick r:id="rId1"/>
          </p:cNvPr>
          <p:cNvPicPr/>
          <p:nvPr/>
        </p:nvPicPr>
        <p:blipFill>
          <a:blip r:embed="rId2"/>
          <a:srcRect l="4688" t="16666" r="10938" b="10420"/>
          <a:stretch/>
        </p:blipFill>
        <p:spPr>
          <a:xfrm>
            <a:off x="762120" y="1219320"/>
            <a:ext cx="7696080" cy="49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34ff"/>
            </a:gs>
            <a:gs pos="100000">
              <a:srgbClr val="1214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afd00"/>
                </a:solidFill>
                <a:latin typeface="Arial"/>
              </a:rPr>
              <a:t>Dynamap – Dynamic HTML</a:t>
            </a:r>
            <a:endParaRPr b="0" i="1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77777"/>
                </a:solidFill>
                <a:latin typeface="Arial"/>
              </a:rPr>
              <a:t>Technology We Us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e5405d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</a:rPr>
              <a:t>GIFs with transparent background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e5405d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</a:rPr>
              <a:t>HTML tables with colored cel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e5405d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</a:rPr>
              <a:t>Dynamic HTML (Cascading Style Sheets, JScript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ssu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e5405d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urrent version only works in IE5+ due to browser conflicts on DHTML standards (short-term issu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e5405d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formance can decrease noticeably with large number of layers (i.e.: though it is possible to have as many as 5000 layers displayed in Internet Explorer, if there are more than around 150, response time becomes noticeabl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e5405d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borious to introduce chloropleth coloring (one-time cost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1066680"/>
            <a:ext cx="84582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34ff"/>
            </a:gs>
            <a:gs pos="100000">
              <a:srgbClr val="1214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afd00"/>
                </a:solidFill>
                <a:latin typeface="Arial"/>
              </a:rPr>
              <a:t>Dynamap – Java Solutions</a:t>
            </a:r>
            <a:endParaRPr b="0" i="1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chnology We Used in Solution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e5405d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ase map GIF with up to 124 (5*5*5 - 1) reg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85800" y="1066680"/>
            <a:ext cx="84582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0T00:34:52Z</dcterms:created>
  <dc:creator>Human-Computer Interaction Laboratory</dc:creator>
  <dc:description/>
  <dc:language>en-US</dc:language>
  <cp:lastModifiedBy>tharris</cp:lastModifiedBy>
  <cp:lastPrinted>1997-05-20T18:11:40Z</cp:lastPrinted>
  <dcterms:modified xsi:type="dcterms:W3CDTF">2002-06-04T20:51:06Z</dcterms:modified>
  <cp:revision>208</cp:revision>
  <dc:subject/>
  <dc:title>Choropleth Maps fo the the Web - University of Maryland College Park,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963823783</vt:r8>
  </property>
  <property fmtid="{D5CDD505-2E9C-101B-9397-08002B2CF9AE}" pid="3" name="_AuthorEmailDisplayName">
    <vt:lpwstr>Bederson, Ben</vt:lpwstr>
  </property>
  <property fmtid="{D5CDD505-2E9C-101B-9397-08002B2CF9AE}" pid="4" name="_EmailSubject">
    <vt:lpwstr>Part 2</vt:lpwstr>
  </property>
</Properties>
</file>