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3.png" ContentType="image/png"/>
  <Override PartName="/ppt/media/image22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41.jpeg" ContentType="image/jpeg"/>
  <Override PartName="/ppt/media/image9.png" ContentType="image/png"/>
  <Override PartName="/ppt/media/image34.png" ContentType="image/png"/>
  <Override PartName="/ppt/media/image40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30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37.png" ContentType="image/png"/>
  <Override PartName="/ppt/media/image39.jpeg" ContentType="image/jpeg"/>
  <Override PartName="/ppt/media/image8.jpeg" ContentType="image/jpeg"/>
  <Override PartName="/ppt/media/image38.png" ContentType="image/png"/>
  <Override PartName="/ppt/media/image11.png" ContentType="image/png"/>
  <Override PartName="/ppt/media/image28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26.jpeg" ContentType="image/jpeg"/>
  <Override PartName="/ppt/media/image42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49440" y="320400"/>
            <a:ext cx="628632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23840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360" y="338796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9440" y="320400"/>
            <a:ext cx="628632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23840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23840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38796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338796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49440" y="320400"/>
            <a:ext cx="628632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23840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2240" y="123840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08760" y="123840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360" y="338796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2240" y="338796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08760" y="338796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49440" y="320400"/>
            <a:ext cx="628632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360" y="1238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49440" y="320400"/>
            <a:ext cx="628632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238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49440" y="320400"/>
            <a:ext cx="628632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23840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23840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9440" y="320400"/>
            <a:ext cx="628632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549440" y="358920"/>
            <a:ext cx="62863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9440" y="320400"/>
            <a:ext cx="628632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23840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23840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360" y="338796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9440" y="320400"/>
            <a:ext cx="628632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23840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23840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338796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9440" y="320400"/>
            <a:ext cx="628632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23840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23840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38796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9440" y="358920"/>
            <a:ext cx="62863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238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spcBef>
                <a:spcPts val="400"/>
              </a:spcBef>
              <a:buClr>
                <a:srgbClr val="0000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99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lvl="2" marL="914400" indent="-228600">
              <a:spcBef>
                <a:spcPts val="400"/>
              </a:spcBef>
              <a:buClr>
                <a:srgbClr val="00ae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lvl="3" marL="1257480" indent="-228600">
              <a:spcBef>
                <a:spcPts val="400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lvl="4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lvl="5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lvl="6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" name="UMCPsymbol" descr=""/>
          <p:cNvPicPr/>
          <p:nvPr/>
        </p:nvPicPr>
        <p:blipFill>
          <a:blip r:embed="rId2"/>
          <a:stretch/>
        </p:blipFill>
        <p:spPr>
          <a:xfrm>
            <a:off x="262080" y="210960"/>
            <a:ext cx="695160" cy="695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8.jpe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79280" y="237960"/>
            <a:ext cx="7048440" cy="26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Simulation, Exploration, and 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Understanding in Engineering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br>
              <a:rPr sz="1200"/>
            </a:br>
            <a:r>
              <a:rPr b="1" i="1" lang="en-US" sz="2400" spc="-1" strike="noStrike">
                <a:solidFill>
                  <a:srgbClr val="00ae00"/>
                </a:solidFill>
                <a:latin typeface="Arial"/>
              </a:rPr>
              <a:t>G. W. Rubloff</a:t>
            </a:r>
            <a:br>
              <a:rPr sz="24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erials Science &amp; Engineering, and Institute for Systems Research</a:t>
            </a:r>
            <a:br>
              <a:rPr sz="18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versity of Maryland</a:t>
            </a:r>
            <a:br>
              <a:rPr sz="1400"/>
            </a:br>
            <a:r>
              <a:rPr b="1" lang="en-US" sz="1200" spc="-1" strike="noStrike" u="sng">
                <a:solidFill>
                  <a:srgbClr val="fc0128"/>
                </a:solidFill>
                <a:uFillTx/>
                <a:latin typeface="Arial"/>
              </a:rPr>
              <a:t>rubloff@isr.umd.edu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ww.isr.umd.edu/~rubloff/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714240" y="2936880"/>
            <a:ext cx="7763040" cy="11685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28600" indent="-22860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ow can we help people develop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sight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in both engineering education and practic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celslogo" descr=""/>
          <p:cNvPicPr/>
          <p:nvPr/>
        </p:nvPicPr>
        <p:blipFill>
          <a:blip r:embed="rId1"/>
          <a:stretch/>
        </p:blipFill>
        <p:spPr>
          <a:xfrm>
            <a:off x="1584360" y="4425840"/>
            <a:ext cx="1165320" cy="1216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39000" y="5626080"/>
            <a:ext cx="3143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nter for Engineered Learning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isr.umd.edu/CELS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titute for Systems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453640" y="5635800"/>
            <a:ext cx="3147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uman-Computer Interaction Labor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cs.umd.edu/hcil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titute for Advanced Computer Stu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hcil_banner.logo" descr=""/>
          <p:cNvPicPr/>
          <p:nvPr/>
        </p:nvPicPr>
        <p:blipFill>
          <a:blip r:embed="rId2"/>
          <a:stretch/>
        </p:blipFill>
        <p:spPr>
          <a:xfrm>
            <a:off x="6281640" y="4486320"/>
            <a:ext cx="1311480" cy="1028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411000" y="4660920"/>
            <a:ext cx="2283840" cy="580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with special thank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Anne Rose, HC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65280" y="2832120"/>
            <a:ext cx="3630600" cy="347508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49440" y="282600"/>
            <a:ext cx="62863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earning Historian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506840" y="2928960"/>
            <a:ext cx="4181400" cy="3384360"/>
          </a:xfrm>
          <a:prstGeom prst="rect">
            <a:avLst/>
          </a:prstGeom>
          <a:ln w="0">
            <a:noFill/>
          </a:ln>
        </p:spPr>
      </p:pic>
      <p:grpSp>
        <p:nvGrpSpPr>
          <p:cNvPr id="243" name=""/>
          <p:cNvGrpSpPr/>
          <p:nvPr/>
        </p:nvGrpSpPr>
        <p:grpSpPr>
          <a:xfrm>
            <a:off x="1390680" y="752400"/>
            <a:ext cx="6791400" cy="2000160"/>
            <a:chOff x="1390680" y="752400"/>
            <a:chExt cx="6791400" cy="2000160"/>
          </a:xfrm>
        </p:grpSpPr>
        <p:grpSp>
          <p:nvGrpSpPr>
            <p:cNvPr id="244" name=""/>
            <p:cNvGrpSpPr/>
            <p:nvPr/>
          </p:nvGrpSpPr>
          <p:grpSpPr>
            <a:xfrm>
              <a:off x="1390680" y="752400"/>
              <a:ext cx="6791400" cy="2000160"/>
              <a:chOff x="1390680" y="752400"/>
              <a:chExt cx="6791400" cy="2000160"/>
            </a:xfrm>
          </p:grpSpPr>
          <p:sp>
            <p:nvSpPr>
              <p:cNvPr id="245" name=""/>
              <p:cNvSpPr/>
              <p:nvPr/>
            </p:nvSpPr>
            <p:spPr>
              <a:xfrm>
                <a:off x="1390680" y="752400"/>
                <a:ext cx="6791400" cy="20001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976280" y="909720"/>
                <a:ext cx="1488240" cy="27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99"/>
                    </a:solidFill>
                    <a:latin typeface="Arial"/>
                  </a:rPr>
                  <a:t>1. Do a simul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4937040" y="1609560"/>
              <a:ext cx="248184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99"/>
                  </a:solidFill>
                  <a:latin typeface="Arial"/>
                </a:rPr>
                <a:t>3. Replay the simulation hist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92040" y="1258920"/>
              <a:ext cx="320436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99"/>
                  </a:solidFill>
                  <a:latin typeface="Arial"/>
                </a:rPr>
                <a:t>2. Record and save the simulation hist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90600" y="1959120"/>
              <a:ext cx="310392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99"/>
                  </a:solidFill>
                  <a:latin typeface="Arial"/>
                </a:rPr>
                <a:t>4. Review, revise, &amp; annotate the hist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592800" y="2309760"/>
              <a:ext cx="33048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99"/>
                  </a:solidFill>
                  <a:latin typeface="Arial"/>
                </a:rPr>
                <a:t>5. Share the history with peers &amp; instruc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7000920" y="4394160"/>
            <a:ext cx="1581120" cy="307080"/>
          </a:xfrm>
          <a:prstGeom prst="rect">
            <a:avLst/>
          </a:prstGeom>
          <a:solidFill>
            <a:srgbClr val="99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47800" y="3565440"/>
            <a:ext cx="1581480" cy="307080"/>
          </a:xfrm>
          <a:prstGeom prst="rect">
            <a:avLst/>
          </a:prstGeom>
          <a:solidFill>
            <a:srgbClr val="99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2681280" y="966960"/>
            <a:ext cx="6138720" cy="4255920"/>
            <a:chOff x="2681280" y="966960"/>
            <a:chExt cx="6138720" cy="4255920"/>
          </a:xfrm>
        </p:grpSpPr>
        <p:pic>
          <p:nvPicPr>
            <p:cNvPr id="254" name="teacherkit.GUI_setup" descr=""/>
            <p:cNvPicPr/>
            <p:nvPr/>
          </p:nvPicPr>
          <p:blipFill>
            <a:blip r:embed="rId1"/>
            <a:stretch/>
          </p:blipFill>
          <p:spPr>
            <a:xfrm>
              <a:off x="2681280" y="966960"/>
              <a:ext cx="6138720" cy="425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2854440" y="2424240"/>
              <a:ext cx="1179000" cy="4590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tu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49440" y="358920"/>
            <a:ext cx="62863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eacher Kit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03280" y="4338720"/>
            <a:ext cx="5288040" cy="2046240"/>
            <a:chOff x="503280" y="4338720"/>
            <a:chExt cx="5288040" cy="2046240"/>
          </a:xfrm>
        </p:grpSpPr>
        <p:pic>
          <p:nvPicPr>
            <p:cNvPr id="258" name="teacherkit.sys_des_setup_params" descr=""/>
            <p:cNvPicPr/>
            <p:nvPr/>
          </p:nvPicPr>
          <p:blipFill>
            <a:blip r:embed="rId2"/>
            <a:srcRect l="24503" t="55697" r="1547" b="3028"/>
            <a:stretch/>
          </p:blipFill>
          <p:spPr>
            <a:xfrm>
              <a:off x="503280" y="4338720"/>
              <a:ext cx="5288040" cy="20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3362040" y="5986440"/>
              <a:ext cx="2126880" cy="276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ystem design paramet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5812200" y="1243080"/>
            <a:ext cx="2556720" cy="3438720"/>
            <a:chOff x="5812200" y="1243080"/>
            <a:chExt cx="2556720" cy="3438720"/>
          </a:xfrm>
        </p:grpSpPr>
        <p:sp>
          <p:nvSpPr>
            <p:cNvPr id="261" name=""/>
            <p:cNvSpPr/>
            <p:nvPr/>
          </p:nvSpPr>
          <p:spPr>
            <a:xfrm>
              <a:off x="6967440" y="4405320"/>
              <a:ext cx="1401480" cy="276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I compon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812200" y="1243080"/>
              <a:ext cx="1591920" cy="276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idance materia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4479120" y="2652840"/>
            <a:ext cx="4157640" cy="709560"/>
            <a:chOff x="4479120" y="2652840"/>
            <a:chExt cx="4157640" cy="709560"/>
          </a:xfrm>
        </p:grpSpPr>
        <p:sp>
          <p:nvSpPr>
            <p:cNvPr id="264" name=""/>
            <p:cNvSpPr/>
            <p:nvPr/>
          </p:nvSpPr>
          <p:spPr>
            <a:xfrm>
              <a:off x="7194240" y="2871720"/>
              <a:ext cx="1442520" cy="2311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istorian configur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108840" y="2681280"/>
              <a:ext cx="1047960" cy="2311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rror messag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479120" y="2652840"/>
              <a:ext cx="1201680" cy="2311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imulation model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7858080" y="3057480"/>
              <a:ext cx="76320" cy="30492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915240" y="2886120"/>
              <a:ext cx="361800" cy="46656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43480" y="2828880"/>
              <a:ext cx="457200" cy="51444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38120" y="3161880"/>
            <a:ext cx="3457440" cy="83844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ff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2160" rIns="92160" tIns="46080" bIns="46080" anchor="t">
            <a:normAutofit/>
          </a:bodyPr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eacher may create specific setups to customize  educational scaffolding</a:t>
            </a: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rcRect l="0" t="0" r="27020" b="47851"/>
          <a:stretch/>
        </p:blipFill>
        <p:spPr>
          <a:xfrm>
            <a:off x="382680" y="4807080"/>
            <a:ext cx="2552760" cy="159372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49440" y="291600"/>
            <a:ext cx="62863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imPLE Application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73" name="nile-small" descr=""/>
          <p:cNvPicPr/>
          <p:nvPr/>
        </p:nvPicPr>
        <p:blipFill>
          <a:blip r:embed="rId2"/>
          <a:stretch/>
        </p:blipFill>
        <p:spPr>
          <a:xfrm>
            <a:off x="6456240" y="958680"/>
            <a:ext cx="2238480" cy="31831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2381400" y="5654520"/>
            <a:ext cx="1133280" cy="66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28600" indent="-228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c0128"/>
                </a:solidFill>
                <a:latin typeface="Arial"/>
              </a:rPr>
              <a:t>WaterS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vironment &amp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00840" y="3578400"/>
            <a:ext cx="1105200" cy="6379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226080" indent="-226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c0128"/>
                </a:solidFill>
                <a:latin typeface="Arial"/>
              </a:rPr>
              <a:t>NileS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ydrology &amp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 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SimPLE.2" descr=""/>
          <p:cNvPicPr/>
          <p:nvPr/>
        </p:nvPicPr>
        <p:blipFill>
          <a:blip r:embed="rId3"/>
          <a:stretch/>
        </p:blipFill>
        <p:spPr>
          <a:xfrm>
            <a:off x="480960" y="2876400"/>
            <a:ext cx="1998720" cy="1793880"/>
          </a:xfrm>
          <a:prstGeom prst="rect">
            <a:avLst/>
          </a:prstGeom>
          <a:ln w="0">
            <a:noFill/>
          </a:ln>
        </p:spPr>
      </p:pic>
      <p:grpSp>
        <p:nvGrpSpPr>
          <p:cNvPr id="277" name=""/>
          <p:cNvGrpSpPr/>
          <p:nvPr/>
        </p:nvGrpSpPr>
        <p:grpSpPr>
          <a:xfrm>
            <a:off x="6289560" y="4606920"/>
            <a:ext cx="2623680" cy="1744200"/>
            <a:chOff x="6289560" y="4606920"/>
            <a:chExt cx="2623680" cy="1744200"/>
          </a:xfrm>
        </p:grpSpPr>
        <p:pic>
          <p:nvPicPr>
            <p:cNvPr id="278" name="" descr=""/>
            <p:cNvPicPr/>
            <p:nvPr/>
          </p:nvPicPr>
          <p:blipFill>
            <a:blip r:embed="rId4"/>
            <a:srcRect l="10000" t="7540" r="6859" b="5320"/>
            <a:stretch/>
          </p:blipFill>
          <p:spPr>
            <a:xfrm>
              <a:off x="6289560" y="4606920"/>
              <a:ext cx="2333880" cy="169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8104320" y="4974480"/>
              <a:ext cx="604800" cy="34740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recip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40920" y="6003720"/>
              <a:ext cx="709560" cy="34740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Factor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simulatio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670440" y="4661280"/>
              <a:ext cx="759240" cy="34740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Cluster tool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scheduling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704640" y="5323680"/>
              <a:ext cx="708120" cy="34740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Sensitivit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076240" y="5438880"/>
              <a:ext cx="837000" cy="34740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Cluster tool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7781760" y="5721480"/>
            <a:ext cx="809640" cy="6570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217080" indent="-217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c0128"/>
                </a:solidFill>
                <a:latin typeface="Arial"/>
              </a:rPr>
              <a:t>H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7080" indent="-217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ct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7080" indent="-217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467160" y="3784680"/>
            <a:ext cx="2655360" cy="1772280"/>
            <a:chOff x="3467160" y="3784680"/>
            <a:chExt cx="2655360" cy="1772280"/>
          </a:xfrm>
        </p:grpSpPr>
        <p:pic>
          <p:nvPicPr>
            <p:cNvPr id="286" name="" descr=""/>
            <p:cNvPicPr/>
            <p:nvPr/>
          </p:nvPicPr>
          <p:blipFill>
            <a:blip r:embed="rId5"/>
            <a:srcRect l="25535" t="6684" r="40540" b="49798"/>
            <a:stretch/>
          </p:blipFill>
          <p:spPr>
            <a:xfrm>
              <a:off x="3467160" y="3784680"/>
              <a:ext cx="870480" cy="86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6"/>
            <a:srcRect l="63841" t="7048" r="2765" b="49685"/>
            <a:stretch/>
          </p:blipFill>
          <p:spPr>
            <a:xfrm>
              <a:off x="4375800" y="3786120"/>
              <a:ext cx="856800" cy="86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7"/>
            <a:srcRect l="25261" t="7048" r="41408" b="49685"/>
            <a:stretch/>
          </p:blipFill>
          <p:spPr>
            <a:xfrm>
              <a:off x="3468600" y="4694400"/>
              <a:ext cx="864720" cy="86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8"/>
            <a:srcRect l="63026" t="7048" r="4035" b="49685"/>
            <a:stretch/>
          </p:blipFill>
          <p:spPr>
            <a:xfrm>
              <a:off x="4375800" y="4694400"/>
              <a:ext cx="855000" cy="86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9"/>
            <a:srcRect l="63706" t="7048" r="2765" b="49685"/>
            <a:stretch/>
          </p:blipFill>
          <p:spPr>
            <a:xfrm>
              <a:off x="5263920" y="4694400"/>
              <a:ext cx="858600" cy="86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754960" y="5284440"/>
              <a:ext cx="291960" cy="1854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fai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29440" y="5054760"/>
              <a:ext cx="291960" cy="1854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fai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18874800">
              <a:off x="5536440" y="5094000"/>
              <a:ext cx="35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pas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608640" y="4289040"/>
              <a:ext cx="671400" cy="276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Oxide growth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temperatur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541040" y="4282920"/>
              <a:ext cx="535680" cy="276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Oxide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thicknes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64440" y="5220720"/>
              <a:ext cx="534240" cy="276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Capacito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are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508640" y="5225040"/>
              <a:ext cx="633240" cy="1854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Capacitan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192640" y="4815360"/>
              <a:ext cx="4046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YIEL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268520" y="4219920"/>
              <a:ext cx="327600" cy="148320"/>
            </a:xfrm>
            <a:prstGeom prst="rightArrow">
              <a:avLst>
                <a:gd name="adj1" fmla="val 50000"/>
                <a:gd name="adj2" fmla="val 55218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85720" y="5114160"/>
              <a:ext cx="327600" cy="146520"/>
            </a:xfrm>
            <a:prstGeom prst="rightArrow">
              <a:avLst>
                <a:gd name="adj1" fmla="val 50000"/>
                <a:gd name="adj2" fmla="val 55897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5400000">
              <a:off x="4650120" y="4679280"/>
              <a:ext cx="342360" cy="143640"/>
            </a:xfrm>
            <a:prstGeom prst="rightArrow">
              <a:avLst>
                <a:gd name="adj1" fmla="val 50000"/>
                <a:gd name="adj2" fmla="val 5958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110200" y="5118120"/>
              <a:ext cx="327600" cy="148320"/>
            </a:xfrm>
            <a:prstGeom prst="rightArrow">
              <a:avLst>
                <a:gd name="adj1" fmla="val 50000"/>
                <a:gd name="adj2" fmla="val 55218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3" name="" descr=""/>
          <p:cNvPicPr/>
          <p:nvPr/>
        </p:nvPicPr>
        <p:blipFill>
          <a:blip r:embed="rId10"/>
          <a:stretch/>
        </p:blipFill>
        <p:spPr>
          <a:xfrm>
            <a:off x="3038400" y="885960"/>
            <a:ext cx="2895840" cy="28209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5181480" y="2054160"/>
            <a:ext cx="89532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28600" indent="-228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c0128"/>
                </a:solidFill>
                <a:latin typeface="Arial"/>
              </a:rPr>
              <a:t>SortS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u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Figure3" descr=""/>
          <p:cNvPicPr/>
          <p:nvPr/>
        </p:nvPicPr>
        <p:blipFill>
          <a:blip r:embed="rId11"/>
          <a:stretch/>
        </p:blipFill>
        <p:spPr>
          <a:xfrm>
            <a:off x="384120" y="998640"/>
            <a:ext cx="2400480" cy="165888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533600" y="4054320"/>
            <a:ext cx="1181160" cy="66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28600" indent="-228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c0128"/>
                </a:solidFill>
                <a:latin typeface="Arial"/>
              </a:rPr>
              <a:t>EquiPS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micondu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00080" y="777960"/>
            <a:ext cx="1085760" cy="5904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221400" indent="-2214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c0128"/>
                </a:solidFill>
                <a:latin typeface="Arial"/>
              </a:rPr>
              <a:t>TrafficS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1400" indent="-22140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1400" indent="-22140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19840" y="4054320"/>
            <a:ext cx="1333440" cy="6382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226080" indent="-226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c0128"/>
                </a:solidFill>
                <a:latin typeface="Arial"/>
              </a:rPr>
              <a:t>Wafer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step pro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49440" y="358920"/>
            <a:ext cx="62863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Messages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90240" y="1238400"/>
            <a:ext cx="8372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ngineering insight through SimPLE environments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Free and guided exploration through simulation</a:t>
            </a: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Powerful tools for individual and collaborative learning</a:t>
            </a: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Also: science, computer science, math, social science, …</a:t>
            </a: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You can use this learning systems technology now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Teachers – specific topical areas &amp; development of new areas</a:t>
            </a: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Developers – SimPLE platform &amp; new features to come</a:t>
            </a: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e invite your participation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Collaborations, workshops, …</a:t>
            </a: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996633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311" name="celslogo" descr=""/>
          <p:cNvPicPr/>
          <p:nvPr/>
        </p:nvPicPr>
        <p:blipFill>
          <a:blip r:embed="rId1"/>
          <a:stretch/>
        </p:blipFill>
        <p:spPr>
          <a:xfrm>
            <a:off x="6222960" y="4208400"/>
            <a:ext cx="1784520" cy="18622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5928480" y="6014880"/>
            <a:ext cx="25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ww.isr.umd.edu/CELS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49440" y="358920"/>
            <a:ext cx="62863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cknowledgement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75920" y="1495080"/>
            <a:ext cx="2181240" cy="18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ENGINEERING</a:t>
            </a:r>
            <a:endParaRPr b="1" lang="en-US" sz="1400" spc="-1" strike="noStrike">
              <a:solidFill>
                <a:srgbClr val="0000ff"/>
              </a:solidFill>
              <a:latin typeface="Arial"/>
            </a:endParaRPr>
          </a:p>
          <a:p>
            <a:pPr marL="228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. Henn-Lecordier</a:t>
            </a:r>
            <a:endParaRPr b="1" lang="en-US" sz="1400" spc="-1" strike="noStrike">
              <a:solidFill>
                <a:srgbClr val="0000ff"/>
              </a:solidFill>
              <a:latin typeface="Arial"/>
            </a:endParaRPr>
          </a:p>
          <a:p>
            <a:pPr marL="228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. Levy</a:t>
            </a:r>
            <a:endParaRPr b="1" lang="en-US" sz="1400" spc="-1" strike="noStrike">
              <a:solidFill>
                <a:srgbClr val="0000ff"/>
              </a:solidFill>
              <a:latin typeface="Arial"/>
            </a:endParaRPr>
          </a:p>
          <a:p>
            <a:pPr marL="228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. Tarnoff</a:t>
            </a:r>
            <a:endParaRPr b="1" lang="en-US" sz="1400" spc="-1" strike="noStrike">
              <a:solidFill>
                <a:srgbClr val="0000ff"/>
              </a:solidFill>
              <a:latin typeface="Arial"/>
            </a:endParaRPr>
          </a:p>
          <a:p>
            <a:pPr marL="228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. B. Baecher</a:t>
            </a:r>
            <a:endParaRPr b="1" lang="en-US" sz="1400" spc="-1" strike="noStrike">
              <a:solidFill>
                <a:srgbClr val="0000ff"/>
              </a:solidFill>
              <a:latin typeface="Arial"/>
            </a:endParaRPr>
          </a:p>
          <a:p>
            <a:pPr marL="228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. Levine</a:t>
            </a:r>
            <a:endParaRPr b="1" lang="en-US" sz="1400" spc="-1" strike="noStrike">
              <a:solidFill>
                <a:srgbClr val="0000ff"/>
              </a:solidFill>
              <a:latin typeface="Arial"/>
            </a:endParaRPr>
          </a:p>
          <a:p>
            <a:pPr marL="228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. W. Herrmann</a:t>
            </a:r>
            <a:endParaRPr b="1" lang="en-US" sz="1400" spc="-1" strike="noStrike">
              <a:solidFill>
                <a:srgbClr val="0000ff"/>
              </a:solidFill>
              <a:latin typeface="Arial"/>
            </a:endParaRPr>
          </a:p>
          <a:p>
            <a:pPr marL="228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315" name="ISRweblogo" descr=""/>
          <p:cNvPicPr/>
          <p:nvPr/>
        </p:nvPicPr>
        <p:blipFill>
          <a:blip r:embed="rId1"/>
          <a:stretch/>
        </p:blipFill>
        <p:spPr>
          <a:xfrm>
            <a:off x="5226120" y="5419800"/>
            <a:ext cx="1087200" cy="581040"/>
          </a:xfrm>
          <a:prstGeom prst="rect">
            <a:avLst/>
          </a:prstGeom>
          <a:ln w="0">
            <a:noFill/>
          </a:ln>
        </p:spPr>
      </p:pic>
      <p:pic>
        <p:nvPicPr>
          <p:cNvPr id="316" name="umiacs-logo" descr=""/>
          <p:cNvPicPr/>
          <p:nvPr/>
        </p:nvPicPr>
        <p:blipFill>
          <a:blip r:embed="rId2"/>
          <a:stretch/>
        </p:blipFill>
        <p:spPr>
          <a:xfrm>
            <a:off x="6856560" y="5340240"/>
            <a:ext cx="1692000" cy="739800"/>
          </a:xfrm>
          <a:prstGeom prst="rect">
            <a:avLst/>
          </a:prstGeom>
          <a:ln w="0">
            <a:noFill/>
          </a:ln>
        </p:spPr>
      </p:pic>
      <p:grpSp>
        <p:nvGrpSpPr>
          <p:cNvPr id="317" name=""/>
          <p:cNvGrpSpPr/>
          <p:nvPr/>
        </p:nvGrpSpPr>
        <p:grpSpPr>
          <a:xfrm>
            <a:off x="2754360" y="5353200"/>
            <a:ext cx="1927080" cy="714600"/>
            <a:chOff x="2754360" y="5353200"/>
            <a:chExt cx="1927080" cy="714600"/>
          </a:xfrm>
        </p:grpSpPr>
        <p:pic>
          <p:nvPicPr>
            <p:cNvPr id="318" name="vslogo_sm" descr=""/>
            <p:cNvPicPr/>
            <p:nvPr/>
          </p:nvPicPr>
          <p:blipFill>
            <a:blip r:embed="rId3"/>
            <a:stretch/>
          </p:blipFill>
          <p:spPr>
            <a:xfrm>
              <a:off x="3180600" y="5353200"/>
              <a:ext cx="1072080" cy="4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2754360" y="5821560"/>
              <a:ext cx="192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mulation software platfor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31360" y="5254560"/>
            <a:ext cx="1678680" cy="914760"/>
            <a:chOff x="531360" y="5254560"/>
            <a:chExt cx="1678680" cy="914760"/>
          </a:xfrm>
        </p:grpSpPr>
        <p:pic>
          <p:nvPicPr>
            <p:cNvPr id="321" name="saffron%20systems1%20white" descr=""/>
            <p:cNvPicPr/>
            <p:nvPr/>
          </p:nvPicPr>
          <p:blipFill>
            <a:blip r:embed="rId4"/>
            <a:stretch/>
          </p:blipFill>
          <p:spPr>
            <a:xfrm>
              <a:off x="664920" y="5254560"/>
              <a:ext cx="1412640" cy="47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531360" y="5770800"/>
              <a:ext cx="1678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mmercial applicat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&amp; customiz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1020600" y="3403440"/>
            <a:ext cx="1276200" cy="1454760"/>
            <a:chOff x="1020600" y="3403440"/>
            <a:chExt cx="1276200" cy="1454760"/>
          </a:xfrm>
        </p:grpSpPr>
        <p:pic>
          <p:nvPicPr>
            <p:cNvPr id="324" name="nsf.anim_logo" descr=""/>
            <p:cNvPicPr/>
            <p:nvPr/>
          </p:nvPicPr>
          <p:blipFill>
            <a:blip r:embed="rId5"/>
            <a:stretch/>
          </p:blipFill>
          <p:spPr>
            <a:xfrm>
              <a:off x="1020600" y="3403440"/>
              <a:ext cx="1276200" cy="110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1029960" y="4611960"/>
              <a:ext cx="1256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search sup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535920" y="3460680"/>
            <a:ext cx="1587240" cy="1343160"/>
            <a:chOff x="3535920" y="3460680"/>
            <a:chExt cx="1587240" cy="1343160"/>
          </a:xfrm>
        </p:grpSpPr>
        <p:pic>
          <p:nvPicPr>
            <p:cNvPr id="327" name="CEBSM.logo" descr=""/>
            <p:cNvPicPr/>
            <p:nvPr/>
          </p:nvPicPr>
          <p:blipFill>
            <a:blip r:embed="rId6"/>
            <a:stretch/>
          </p:blipFill>
          <p:spPr>
            <a:xfrm>
              <a:off x="3879720" y="3460680"/>
              <a:ext cx="900000" cy="75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3908160" y="4201920"/>
              <a:ext cx="73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BS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35920" y="4405320"/>
              <a:ext cx="1587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search partnership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or semiconductor ES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362640" y="3687840"/>
            <a:ext cx="1906560" cy="889560"/>
            <a:chOff x="6362640" y="3687840"/>
            <a:chExt cx="1906560" cy="889560"/>
          </a:xfrm>
        </p:grpSpPr>
        <p:pic>
          <p:nvPicPr>
            <p:cNvPr id="331" name="matect" descr=""/>
            <p:cNvPicPr/>
            <p:nvPr/>
          </p:nvPicPr>
          <p:blipFill>
            <a:blip r:embed="rId7"/>
            <a:stretch/>
          </p:blipFill>
          <p:spPr>
            <a:xfrm>
              <a:off x="6362640" y="3687840"/>
              <a:ext cx="1906560" cy="4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6555960" y="4178880"/>
              <a:ext cx="1515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search partnership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or tech train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3029040" y="1495440"/>
            <a:ext cx="2181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COMP SCI &amp; UMIA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A. R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. Shneider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. Plais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. Chip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00880" y="1495440"/>
            <a:ext cx="3133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. Shadman (U. Arizona CEBS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. Lesiecki (MAT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. Braxton (Bowie St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82320" y="358920"/>
            <a:ext cx="68007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eveloping Insight in Engineering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Education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Practice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000" y="1171080"/>
            <a:ext cx="3591000" cy="524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CHALLENGES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228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omains are unfamiliar to the user</a:t>
            </a: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57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33"/>
                </a:solidFill>
                <a:latin typeface="Arial"/>
              </a:rPr>
              <a:t>Often no hands-on physical experience </a:t>
            </a:r>
            <a:endParaRPr b="1" i="1" lang="en-US" sz="1400" spc="-1" strike="noStrike">
              <a:solidFill>
                <a:srgbClr val="996633"/>
              </a:solidFill>
              <a:latin typeface="Arial"/>
            </a:endParaRPr>
          </a:p>
          <a:p>
            <a:pPr lvl="1" marL="57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33"/>
                </a:solidFill>
                <a:latin typeface="Arial"/>
              </a:rPr>
              <a:t>Unfamiliar length and time scales</a:t>
            </a:r>
            <a:endParaRPr b="1" i="1" lang="en-US" sz="1400" spc="-1" strike="noStrike">
              <a:solidFill>
                <a:srgbClr val="996633"/>
              </a:solidFill>
              <a:latin typeface="Arial"/>
            </a:endParaRPr>
          </a:p>
          <a:p>
            <a:pPr marL="228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rinciples are abstract</a:t>
            </a: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57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33"/>
                </a:solidFill>
                <a:latin typeface="Arial"/>
              </a:rPr>
              <a:t>Subtle until experienced</a:t>
            </a:r>
            <a:endParaRPr b="1" i="1" lang="en-US" sz="1400" spc="-1" strike="noStrike">
              <a:solidFill>
                <a:srgbClr val="996633"/>
              </a:solidFill>
              <a:latin typeface="Arial"/>
            </a:endParaRPr>
          </a:p>
          <a:p>
            <a:pPr lvl="1" marL="57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33"/>
                </a:solidFill>
                <a:latin typeface="Arial"/>
              </a:rPr>
              <a:t>Ultimately must be understood in mathematical terms</a:t>
            </a:r>
            <a:endParaRPr b="1" i="1" lang="en-US" sz="1400" spc="-1" strike="noStrike">
              <a:solidFill>
                <a:srgbClr val="996633"/>
              </a:solidFill>
              <a:latin typeface="Arial"/>
            </a:endParaRPr>
          </a:p>
          <a:p>
            <a:pPr marL="228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ystems-level behavior enlarges complexity</a:t>
            </a: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57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33"/>
                </a:solidFill>
                <a:latin typeface="Arial"/>
              </a:rPr>
              <a:t>Multi-level metrics</a:t>
            </a:r>
            <a:endParaRPr b="1" i="1" lang="en-US" sz="1400" spc="-1" strike="noStrike">
              <a:solidFill>
                <a:srgbClr val="996633"/>
              </a:solidFill>
              <a:latin typeface="Arial"/>
            </a:endParaRPr>
          </a:p>
          <a:p>
            <a:pPr lvl="1" marL="57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33"/>
                </a:solidFill>
                <a:latin typeface="Arial"/>
              </a:rPr>
              <a:t>Heterogeneous, hierarchical models</a:t>
            </a:r>
            <a:endParaRPr b="1" i="1" lang="en-US" sz="1400" spc="-1" strike="noStrike">
              <a:solidFill>
                <a:srgbClr val="996633"/>
              </a:solidFill>
              <a:latin typeface="Arial"/>
            </a:endParaRPr>
          </a:p>
          <a:p>
            <a:pPr lvl="1" marL="57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33"/>
                </a:solidFill>
                <a:latin typeface="Arial"/>
              </a:rPr>
              <a:t>Dynamic &amp; stochastic behavior</a:t>
            </a:r>
            <a:endParaRPr b="1" i="1" lang="en-US" sz="1400" spc="-1" strike="noStrike">
              <a:solidFill>
                <a:srgbClr val="996633"/>
              </a:solidFill>
              <a:latin typeface="Arial"/>
            </a:endParaRPr>
          </a:p>
          <a:p>
            <a:pPr marL="228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Environments and tools for engineering insight are limited</a:t>
            </a: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57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33"/>
                </a:solidFill>
                <a:latin typeface="Arial"/>
              </a:rPr>
              <a:t>Education and training</a:t>
            </a:r>
            <a:endParaRPr b="1" i="1" lang="en-US" sz="1400" spc="-1" strike="noStrike">
              <a:solidFill>
                <a:srgbClr val="996633"/>
              </a:solidFill>
              <a:latin typeface="Arial"/>
            </a:endParaRPr>
          </a:p>
          <a:p>
            <a:pPr lvl="1" marL="57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33"/>
                </a:solidFill>
                <a:latin typeface="Arial"/>
              </a:rPr>
              <a:t>Broad engineering practice</a:t>
            </a:r>
            <a:endParaRPr b="1" i="1" lang="en-US" sz="1400" spc="-1" strike="noStrike">
              <a:solidFill>
                <a:srgbClr val="996633"/>
              </a:solidFill>
              <a:latin typeface="Arial"/>
            </a:endParaRPr>
          </a:p>
          <a:p>
            <a:pPr lvl="1" marL="57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996633"/>
              </a:solidFill>
              <a:latin typeface="Arial"/>
            </a:endParaRPr>
          </a:p>
          <a:p>
            <a:pPr lvl="1" marL="57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67200" y="1181160"/>
            <a:ext cx="3915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EXAMPLE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miconductor chi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Image29" descr=""/>
          <p:cNvPicPr/>
          <p:nvPr/>
        </p:nvPicPr>
        <p:blipFill>
          <a:blip r:embed="rId1"/>
          <a:srcRect l="15466" t="-1547" r="18283" b="0"/>
          <a:stretch/>
        </p:blipFill>
        <p:spPr>
          <a:xfrm>
            <a:off x="7045200" y="3259080"/>
            <a:ext cx="1522440" cy="1751040"/>
          </a:xfrm>
          <a:prstGeom prst="rect">
            <a:avLst/>
          </a:prstGeom>
          <a:ln w="0">
            <a:noFill/>
          </a:ln>
        </p:spPr>
      </p:pic>
      <p:pic>
        <p:nvPicPr>
          <p:cNvPr id="50" name="fab_tech4.sematech" descr=""/>
          <p:cNvPicPr/>
          <p:nvPr/>
        </p:nvPicPr>
        <p:blipFill>
          <a:blip r:embed="rId2"/>
          <a:srcRect l="10416" t="19640" r="7143" b="12497"/>
          <a:stretch/>
        </p:blipFill>
        <p:spPr>
          <a:xfrm>
            <a:off x="4478400" y="3306600"/>
            <a:ext cx="1620720" cy="133380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4236120" y="4932360"/>
            <a:ext cx="4453920" cy="1506600"/>
            <a:chOff x="4236120" y="4932360"/>
            <a:chExt cx="4453920" cy="1506600"/>
          </a:xfrm>
        </p:grpSpPr>
        <p:sp>
          <p:nvSpPr>
            <p:cNvPr id="52" name=""/>
            <p:cNvSpPr/>
            <p:nvPr/>
          </p:nvSpPr>
          <p:spPr>
            <a:xfrm>
              <a:off x="8230320" y="5629680"/>
              <a:ext cx="459720" cy="200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Depar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4236120" y="5524200"/>
              <a:ext cx="1699200" cy="307080"/>
              <a:chOff x="4236120" y="5524200"/>
              <a:chExt cx="1699200" cy="307080"/>
            </a:xfrm>
          </p:grpSpPr>
          <p:sp>
            <p:nvSpPr>
              <p:cNvPr id="54" name=""/>
              <p:cNvSpPr/>
              <p:nvPr/>
            </p:nvSpPr>
            <p:spPr>
              <a:xfrm>
                <a:off x="5486760" y="5577480"/>
                <a:ext cx="448560" cy="200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Leav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39480" y="5524200"/>
                <a:ext cx="505440" cy="3070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Pick Stati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236120" y="5630400"/>
                <a:ext cx="436680" cy="200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Arriv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V="1">
                <a:off x="4718520" y="5662440"/>
                <a:ext cx="128880" cy="7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V="1">
                <a:off x="5357520" y="5661360"/>
                <a:ext cx="135720" cy="7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6835680" y="5629680"/>
              <a:ext cx="503640" cy="200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tock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6222240" y="4932360"/>
              <a:ext cx="385200" cy="1506600"/>
              <a:chOff x="6222240" y="4932360"/>
              <a:chExt cx="385200" cy="1506600"/>
            </a:xfrm>
          </p:grpSpPr>
          <p:pic>
            <p:nvPicPr>
              <p:cNvPr id="61" name="cvd" descr=""/>
              <p:cNvPicPr/>
              <p:nvPr/>
            </p:nvPicPr>
            <p:blipFill>
              <a:blip r:embed="rId3"/>
              <a:stretch/>
            </p:blipFill>
            <p:spPr>
              <a:xfrm>
                <a:off x="6222240" y="4932360"/>
                <a:ext cx="385200" cy="40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cvd" descr=""/>
              <p:cNvPicPr/>
              <p:nvPr/>
            </p:nvPicPr>
            <p:blipFill>
              <a:blip r:embed="rId4"/>
              <a:stretch/>
            </p:blipFill>
            <p:spPr>
              <a:xfrm>
                <a:off x="6222240" y="5299560"/>
                <a:ext cx="385200" cy="40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cvd" descr=""/>
              <p:cNvPicPr/>
              <p:nvPr/>
            </p:nvPicPr>
            <p:blipFill>
              <a:blip r:embed="rId5"/>
              <a:stretch/>
            </p:blipFill>
            <p:spPr>
              <a:xfrm>
                <a:off x="6222240" y="5668200"/>
                <a:ext cx="385200" cy="40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cvd" descr=""/>
              <p:cNvPicPr/>
              <p:nvPr/>
            </p:nvPicPr>
            <p:blipFill>
              <a:blip r:embed="rId6"/>
              <a:stretch/>
            </p:blipFill>
            <p:spPr>
              <a:xfrm>
                <a:off x="6222240" y="6035760"/>
                <a:ext cx="385200" cy="403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5" name=""/>
            <p:cNvGrpSpPr/>
            <p:nvPr/>
          </p:nvGrpSpPr>
          <p:grpSpPr>
            <a:xfrm>
              <a:off x="7583040" y="5116680"/>
              <a:ext cx="338760" cy="1091880"/>
              <a:chOff x="7583040" y="5116680"/>
              <a:chExt cx="338760" cy="1091880"/>
            </a:xfrm>
          </p:grpSpPr>
          <p:pic>
            <p:nvPicPr>
              <p:cNvPr id="66" name="ecp" descr=""/>
              <p:cNvPicPr/>
              <p:nvPr/>
            </p:nvPicPr>
            <p:blipFill>
              <a:blip r:embed="rId7"/>
              <a:stretch/>
            </p:blipFill>
            <p:spPr>
              <a:xfrm>
                <a:off x="7583040" y="5116680"/>
                <a:ext cx="338760" cy="39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ecp" descr=""/>
              <p:cNvPicPr/>
              <p:nvPr/>
            </p:nvPicPr>
            <p:blipFill>
              <a:blip r:embed="rId8"/>
              <a:stretch/>
            </p:blipFill>
            <p:spPr>
              <a:xfrm>
                <a:off x="7583040" y="5465880"/>
                <a:ext cx="338760" cy="39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ecp" descr=""/>
              <p:cNvPicPr/>
              <p:nvPr/>
            </p:nvPicPr>
            <p:blipFill>
              <a:blip r:embed="rId9"/>
              <a:stretch/>
            </p:blipFill>
            <p:spPr>
              <a:xfrm>
                <a:off x="7583040" y="5815800"/>
                <a:ext cx="338760" cy="392760"/>
              </a:xfrm>
              <a:prstGeom prst="rect">
                <a:avLst/>
              </a:prstGeom>
              <a:ln w="0">
                <a:noFill/>
              </a:ln>
            </p:spPr>
          </p:pic>
        </p:grpSp>
        <p:cxnSp>
          <p:nvCxnSpPr>
            <p:cNvPr id="69" name=""/>
            <p:cNvCxnSpPr>
              <a:stCxn id="54" idx="3"/>
              <a:endCxn id="62" idx="1"/>
            </p:cNvCxnSpPr>
            <p:nvPr/>
          </p:nvCxnSpPr>
          <p:spPr>
            <a:xfrm flipV="1">
              <a:off x="5935320" y="5501520"/>
              <a:ext cx="286920" cy="152640"/>
            </a:xfrm>
            <a:prstGeom prst="bentConnector3">
              <a:avLst>
                <a:gd name="adj1" fmla="val 49748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54" idx="3"/>
              <a:endCxn id="63" idx="1"/>
            </p:cNvCxnSpPr>
            <p:nvPr/>
          </p:nvCxnSpPr>
          <p:spPr>
            <a:xfrm>
              <a:off x="5935320" y="5654160"/>
              <a:ext cx="286920" cy="216720"/>
            </a:xfrm>
            <a:prstGeom prst="bentConnector3">
              <a:avLst>
                <a:gd name="adj1" fmla="val 49748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54" idx="3"/>
              <a:endCxn id="64" idx="1"/>
            </p:cNvCxnSpPr>
            <p:nvPr/>
          </p:nvCxnSpPr>
          <p:spPr>
            <a:xfrm>
              <a:off x="5935320" y="5653800"/>
              <a:ext cx="286920" cy="583920"/>
            </a:xfrm>
            <a:prstGeom prst="bentConnector3">
              <a:avLst>
                <a:gd name="adj1" fmla="val 49748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2" name=""/>
            <p:cNvCxnSpPr>
              <a:stCxn id="54" idx="3"/>
              <a:endCxn id="61" idx="1"/>
            </p:cNvCxnSpPr>
            <p:nvPr/>
          </p:nvCxnSpPr>
          <p:spPr>
            <a:xfrm flipV="1">
              <a:off x="5935320" y="5133960"/>
              <a:ext cx="286920" cy="520560"/>
            </a:xfrm>
            <a:prstGeom prst="bentConnector3">
              <a:avLst>
                <a:gd name="adj1" fmla="val 49748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" name=""/>
            <p:cNvCxnSpPr>
              <a:stCxn id="61" idx="3"/>
              <a:endCxn id="59" idx="1"/>
            </p:cNvCxnSpPr>
            <p:nvPr/>
          </p:nvCxnSpPr>
          <p:spPr>
            <a:xfrm>
              <a:off x="6607440" y="5133960"/>
              <a:ext cx="220320" cy="532440"/>
            </a:xfrm>
            <a:prstGeom prst="bentConnector3">
              <a:avLst>
                <a:gd name="adj1" fmla="val 49918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2" idx="3"/>
              <a:endCxn id="59" idx="1"/>
            </p:cNvCxnSpPr>
            <p:nvPr/>
          </p:nvCxnSpPr>
          <p:spPr>
            <a:xfrm>
              <a:off x="6607440" y="5501880"/>
              <a:ext cx="220320" cy="164520"/>
            </a:xfrm>
            <a:prstGeom prst="bentConnector3">
              <a:avLst>
                <a:gd name="adj1" fmla="val 49918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3" idx="3"/>
              <a:endCxn id="59" idx="1"/>
            </p:cNvCxnSpPr>
            <p:nvPr/>
          </p:nvCxnSpPr>
          <p:spPr>
            <a:xfrm flipV="1">
              <a:off x="6607440" y="5666040"/>
              <a:ext cx="220320" cy="204480"/>
            </a:xfrm>
            <a:prstGeom prst="bentConnector3">
              <a:avLst>
                <a:gd name="adj1" fmla="val 49918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" name=""/>
            <p:cNvCxnSpPr>
              <a:stCxn id="64" idx="3"/>
              <a:endCxn id="59" idx="1"/>
            </p:cNvCxnSpPr>
            <p:nvPr/>
          </p:nvCxnSpPr>
          <p:spPr>
            <a:xfrm flipV="1">
              <a:off x="6607440" y="5665680"/>
              <a:ext cx="220320" cy="572040"/>
            </a:xfrm>
            <a:prstGeom prst="bentConnector3">
              <a:avLst>
                <a:gd name="adj1" fmla="val 49918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" name=""/>
            <p:cNvCxnSpPr>
              <a:stCxn id="59" idx="3"/>
              <a:endCxn id="66" idx="1"/>
            </p:cNvCxnSpPr>
            <p:nvPr/>
          </p:nvCxnSpPr>
          <p:spPr>
            <a:xfrm flipV="1">
              <a:off x="7296120" y="5312160"/>
              <a:ext cx="286920" cy="353880"/>
            </a:xfrm>
            <a:prstGeom prst="bentConnector3">
              <a:avLst>
                <a:gd name="adj1" fmla="val 49748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" name=""/>
            <p:cNvCxnSpPr>
              <a:stCxn id="59" idx="3"/>
              <a:endCxn id="67" idx="1"/>
            </p:cNvCxnSpPr>
            <p:nvPr/>
          </p:nvCxnSpPr>
          <p:spPr>
            <a:xfrm flipV="1">
              <a:off x="7296120" y="5662800"/>
              <a:ext cx="286920" cy="3960"/>
            </a:xfrm>
            <a:prstGeom prst="bentConnector3">
              <a:avLst>
                <a:gd name="adj1" fmla="val 49748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59" idx="3"/>
              <a:endCxn id="68" idx="1"/>
            </p:cNvCxnSpPr>
            <p:nvPr/>
          </p:nvCxnSpPr>
          <p:spPr>
            <a:xfrm>
              <a:off x="7296120" y="5666400"/>
              <a:ext cx="286920" cy="346320"/>
            </a:xfrm>
            <a:prstGeom prst="bentConnector3">
              <a:avLst>
                <a:gd name="adj1" fmla="val 49748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0" name=""/>
            <p:cNvCxnSpPr>
              <a:stCxn id="67" idx="3"/>
              <a:endCxn id="52" idx="1"/>
            </p:cNvCxnSpPr>
            <p:nvPr/>
          </p:nvCxnSpPr>
          <p:spPr>
            <a:xfrm>
              <a:off x="7921440" y="5662800"/>
              <a:ext cx="302040" cy="396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" name=""/>
            <p:cNvCxnSpPr>
              <a:stCxn id="66" idx="3"/>
              <a:endCxn id="52" idx="1"/>
            </p:cNvCxnSpPr>
            <p:nvPr/>
          </p:nvCxnSpPr>
          <p:spPr>
            <a:xfrm>
              <a:off x="7921440" y="5312520"/>
              <a:ext cx="302040" cy="35388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68" idx="3"/>
              <a:endCxn id="52" idx="1"/>
            </p:cNvCxnSpPr>
            <p:nvPr/>
          </p:nvCxnSpPr>
          <p:spPr>
            <a:xfrm flipV="1">
              <a:off x="7921440" y="5666040"/>
              <a:ext cx="302040" cy="34632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3" name=""/>
          <p:cNvGrpSpPr/>
          <p:nvPr/>
        </p:nvGrpSpPr>
        <p:grpSpPr>
          <a:xfrm>
            <a:off x="4495680" y="1577880"/>
            <a:ext cx="1724040" cy="1569960"/>
            <a:chOff x="4495680" y="1577880"/>
            <a:chExt cx="1724040" cy="1569960"/>
          </a:xfrm>
        </p:grpSpPr>
        <p:pic>
          <p:nvPicPr>
            <p:cNvPr id="84" name="srtaoet5" descr=""/>
            <p:cNvPicPr/>
            <p:nvPr/>
          </p:nvPicPr>
          <p:blipFill>
            <a:blip r:embed="rId10"/>
            <a:stretch/>
          </p:blipFill>
          <p:spPr>
            <a:xfrm>
              <a:off x="4495680" y="1798560"/>
              <a:ext cx="1582920" cy="13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4527720" y="1577880"/>
              <a:ext cx="1692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terials &amp; process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6896160" y="1616040"/>
            <a:ext cx="1692360" cy="1317600"/>
            <a:chOff x="6896160" y="1616040"/>
            <a:chExt cx="1692360" cy="1317600"/>
          </a:xfrm>
        </p:grpSpPr>
        <p:pic>
          <p:nvPicPr>
            <p:cNvPr id="87" name="fea1_fig1_sml" descr=""/>
            <p:cNvPicPr/>
            <p:nvPr/>
          </p:nvPicPr>
          <p:blipFill>
            <a:blip r:embed="rId11"/>
            <a:stretch/>
          </p:blipFill>
          <p:spPr>
            <a:xfrm>
              <a:off x="6970680" y="1849320"/>
              <a:ext cx="154296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6896160" y="1616040"/>
              <a:ext cx="169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ransistors &amp; chi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594400" y="3168720"/>
            <a:ext cx="102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27640" y="4930920"/>
            <a:ext cx="17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actory costs and operations/ log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08600" y="3273480"/>
            <a:ext cx="987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qui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82320" y="358920"/>
            <a:ext cx="68007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eveloping Insight in Engineering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Education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Practice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104480"/>
            <a:ext cx="3591000" cy="524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CHALLENGES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228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omains are unfamiliar to the user</a:t>
            </a: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57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33"/>
                </a:solidFill>
                <a:latin typeface="Arial"/>
              </a:rPr>
              <a:t>Often no hands-on physical experience </a:t>
            </a:r>
            <a:endParaRPr b="1" i="1" lang="en-US" sz="1400" spc="-1" strike="noStrike">
              <a:solidFill>
                <a:srgbClr val="996633"/>
              </a:solidFill>
              <a:latin typeface="Arial"/>
            </a:endParaRPr>
          </a:p>
          <a:p>
            <a:pPr lvl="1" marL="57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33"/>
                </a:solidFill>
                <a:latin typeface="Arial"/>
              </a:rPr>
              <a:t>Unfamiliar length and time scales</a:t>
            </a:r>
            <a:endParaRPr b="1" i="1" lang="en-US" sz="1400" spc="-1" strike="noStrike">
              <a:solidFill>
                <a:srgbClr val="996633"/>
              </a:solidFill>
              <a:latin typeface="Arial"/>
            </a:endParaRPr>
          </a:p>
          <a:p>
            <a:pPr marL="228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rinciples are abstract</a:t>
            </a: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57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33"/>
                </a:solidFill>
                <a:latin typeface="Arial"/>
              </a:rPr>
              <a:t>Subtle until experienced</a:t>
            </a:r>
            <a:endParaRPr b="1" i="1" lang="en-US" sz="1400" spc="-1" strike="noStrike">
              <a:solidFill>
                <a:srgbClr val="996633"/>
              </a:solidFill>
              <a:latin typeface="Arial"/>
            </a:endParaRPr>
          </a:p>
          <a:p>
            <a:pPr lvl="1" marL="57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33"/>
                </a:solidFill>
                <a:latin typeface="Arial"/>
              </a:rPr>
              <a:t>Ultimately must be understood in mathematical terms</a:t>
            </a:r>
            <a:endParaRPr b="1" i="1" lang="en-US" sz="1400" spc="-1" strike="noStrike">
              <a:solidFill>
                <a:srgbClr val="996633"/>
              </a:solidFill>
              <a:latin typeface="Arial"/>
            </a:endParaRPr>
          </a:p>
          <a:p>
            <a:pPr marL="228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ystems-level behavior enlarges complexity</a:t>
            </a: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57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33"/>
                </a:solidFill>
                <a:latin typeface="Arial"/>
              </a:rPr>
              <a:t>Multi-level metrics</a:t>
            </a:r>
            <a:endParaRPr b="1" i="1" lang="en-US" sz="1400" spc="-1" strike="noStrike">
              <a:solidFill>
                <a:srgbClr val="996633"/>
              </a:solidFill>
              <a:latin typeface="Arial"/>
            </a:endParaRPr>
          </a:p>
          <a:p>
            <a:pPr lvl="1" marL="57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33"/>
                </a:solidFill>
                <a:latin typeface="Arial"/>
              </a:rPr>
              <a:t>Heterogeneous, hierarchical models </a:t>
            </a:r>
            <a:endParaRPr b="1" i="1" lang="en-US" sz="1400" spc="-1" strike="noStrike">
              <a:solidFill>
                <a:srgbClr val="996633"/>
              </a:solidFill>
              <a:latin typeface="Arial"/>
            </a:endParaRPr>
          </a:p>
          <a:p>
            <a:pPr lvl="1" marL="57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33"/>
                </a:solidFill>
                <a:latin typeface="Arial"/>
              </a:rPr>
              <a:t>Dynamic &amp; stochastic behavior</a:t>
            </a:r>
            <a:endParaRPr b="1" i="1" lang="en-US" sz="1400" spc="-1" strike="noStrike">
              <a:solidFill>
                <a:srgbClr val="996633"/>
              </a:solidFill>
              <a:latin typeface="Arial"/>
            </a:endParaRPr>
          </a:p>
          <a:p>
            <a:pPr marL="228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Environments and tools for engineering insight are limited</a:t>
            </a: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57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33"/>
                </a:solidFill>
                <a:latin typeface="Arial"/>
              </a:rPr>
              <a:t>Education and training</a:t>
            </a:r>
            <a:endParaRPr b="1" i="1" lang="en-US" sz="1400" spc="-1" strike="noStrike">
              <a:solidFill>
                <a:srgbClr val="996633"/>
              </a:solidFill>
              <a:latin typeface="Arial"/>
            </a:endParaRPr>
          </a:p>
          <a:p>
            <a:pPr lvl="1" marL="57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33"/>
                </a:solidFill>
                <a:latin typeface="Arial"/>
              </a:rPr>
              <a:t>Broad engineering practice</a:t>
            </a:r>
            <a:endParaRPr b="1" i="1" lang="en-US" sz="1400" spc="-1" strike="noStrike">
              <a:solidFill>
                <a:srgbClr val="996633"/>
              </a:solidFill>
              <a:latin typeface="Arial"/>
            </a:endParaRPr>
          </a:p>
          <a:p>
            <a:pPr lvl="1" marL="57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996633"/>
              </a:solidFill>
              <a:latin typeface="Arial"/>
            </a:endParaRPr>
          </a:p>
          <a:p>
            <a:pPr lvl="1" marL="57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29040" y="1104840"/>
            <a:ext cx="3686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10240" y="1695600"/>
            <a:ext cx="2066760" cy="7333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mulations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phenome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1762200"/>
            <a:ext cx="1609560" cy="295200"/>
          </a:xfrm>
          <a:prstGeom prst="rightArrow">
            <a:avLst>
              <a:gd name="adj1" fmla="val 40861"/>
              <a:gd name="adj2" fmla="val 110235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20550000">
            <a:off x="3571920" y="2362320"/>
            <a:ext cx="1838160" cy="247680"/>
          </a:xfrm>
          <a:prstGeom prst="rightArrow">
            <a:avLst>
              <a:gd name="adj1" fmla="val 50000"/>
              <a:gd name="adj2" fmla="val 123692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97640" y="5954760"/>
            <a:ext cx="407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sired attributes of simulation environ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468360" y="1271520"/>
            <a:ext cx="8294400" cy="5081760"/>
            <a:chOff x="468360" y="1271520"/>
            <a:chExt cx="8294400" cy="5081760"/>
          </a:xfrm>
        </p:grpSpPr>
        <p:grpSp>
          <p:nvGrpSpPr>
            <p:cNvPr id="100" name=""/>
            <p:cNvGrpSpPr/>
            <p:nvPr/>
          </p:nvGrpSpPr>
          <p:grpSpPr>
            <a:xfrm>
              <a:off x="468360" y="1271520"/>
              <a:ext cx="4129200" cy="1533240"/>
              <a:chOff x="468360" y="1271520"/>
              <a:chExt cx="4129200" cy="153324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468360" y="1271520"/>
                <a:ext cx="3136680" cy="1533240"/>
                <a:chOff x="468360" y="1271520"/>
                <a:chExt cx="3136680" cy="1533240"/>
              </a:xfrm>
            </p:grpSpPr>
            <p:pic>
              <p:nvPicPr>
                <p:cNvPr id="102" name="ts4_nmos" descr=""/>
                <p:cNvPicPr/>
                <p:nvPr/>
              </p:nvPicPr>
              <p:blipFill>
                <a:blip r:embed="rId1"/>
                <a:srcRect l="11690" t="0" r="0" b="0"/>
                <a:stretch/>
              </p:blipFill>
              <p:spPr>
                <a:xfrm>
                  <a:off x="2125440" y="1275840"/>
                  <a:ext cx="1479600" cy="152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" name="ts4_nmosg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68360" y="1271520"/>
                  <a:ext cx="1675800" cy="1528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4" name=""/>
              <p:cNvSpPr/>
              <p:nvPr/>
            </p:nvSpPr>
            <p:spPr>
              <a:xfrm>
                <a:off x="3476880" y="1816200"/>
                <a:ext cx="1120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materials &amp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oce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400720" y="2906640"/>
              <a:ext cx="2541600" cy="1666800"/>
              <a:chOff x="5400720" y="2906640"/>
              <a:chExt cx="2541600" cy="1666800"/>
            </a:xfrm>
          </p:grpSpPr>
          <p:pic>
            <p:nvPicPr>
              <p:cNvPr id="106" name="ra_fig2" descr=""/>
              <p:cNvPicPr/>
              <p:nvPr/>
            </p:nvPicPr>
            <p:blipFill>
              <a:blip r:embed="rId3"/>
              <a:stretch/>
            </p:blipFill>
            <p:spPr>
              <a:xfrm>
                <a:off x="6248520" y="2906640"/>
                <a:ext cx="1693800" cy="166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400720" y="3606840"/>
                <a:ext cx="1006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ircui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&amp; chip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728640" y="2862360"/>
              <a:ext cx="4059000" cy="1674720"/>
              <a:chOff x="728640" y="2862360"/>
              <a:chExt cx="4059000" cy="1674720"/>
            </a:xfrm>
          </p:grpSpPr>
          <p:pic>
            <p:nvPicPr>
              <p:cNvPr id="10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28640" y="2862360"/>
                <a:ext cx="2566800" cy="167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2895480" y="3406680"/>
                <a:ext cx="189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25320" y="4662360"/>
              <a:ext cx="3924360" cy="1690920"/>
              <a:chOff x="625320" y="4662360"/>
              <a:chExt cx="3924360" cy="1690920"/>
            </a:xfrm>
          </p:grpSpPr>
          <p:sp>
            <p:nvSpPr>
              <p:cNvPr id="112" name=""/>
              <p:cNvSpPr/>
              <p:nvPr/>
            </p:nvSpPr>
            <p:spPr>
              <a:xfrm>
                <a:off x="3504960" y="4863960"/>
                <a:ext cx="10447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fact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opera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&amp; logistic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5"/>
              <a:srcRect l="0" t="0" r="0" b="23985"/>
              <a:stretch/>
            </p:blipFill>
            <p:spPr>
              <a:xfrm>
                <a:off x="625320" y="4662360"/>
                <a:ext cx="2965320" cy="1690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" name=""/>
            <p:cNvGrpSpPr/>
            <p:nvPr/>
          </p:nvGrpSpPr>
          <p:grpSpPr>
            <a:xfrm>
              <a:off x="4572000" y="1284120"/>
              <a:ext cx="4132080" cy="1575720"/>
              <a:chOff x="4572000" y="1284120"/>
              <a:chExt cx="4132080" cy="157572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5654520" y="1284120"/>
                <a:ext cx="3049560" cy="1575720"/>
                <a:chOff x="5654520" y="1284120"/>
                <a:chExt cx="3049560" cy="1575720"/>
              </a:xfrm>
            </p:grpSpPr>
            <p:pic>
              <p:nvPicPr>
                <p:cNvPr id="116" name="med_lddbreak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654520" y="1284120"/>
                  <a:ext cx="1711800" cy="1569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med_lddiv" descr=""/>
                <p:cNvPicPr/>
                <p:nvPr/>
              </p:nvPicPr>
              <p:blipFill>
                <a:blip r:embed="rId7"/>
                <a:srcRect l="17883" t="0" r="0" b="0"/>
                <a:stretch/>
              </p:blipFill>
              <p:spPr>
                <a:xfrm>
                  <a:off x="7249320" y="1292040"/>
                  <a:ext cx="1454760" cy="1567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8" name=""/>
              <p:cNvSpPr/>
              <p:nvPr/>
            </p:nvSpPr>
            <p:spPr>
              <a:xfrm>
                <a:off x="4572000" y="2178000"/>
                <a:ext cx="1282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ransistor devic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4724280" y="4694400"/>
              <a:ext cx="4038480" cy="1639800"/>
              <a:chOff x="4724280" y="4694400"/>
              <a:chExt cx="4038480" cy="1639800"/>
            </a:xfrm>
          </p:grpSpPr>
          <p:pic>
            <p:nvPicPr>
              <p:cNvPr id="12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663880" y="4694400"/>
                <a:ext cx="3098880" cy="163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>
                <a:off x="4724280" y="5664240"/>
                <a:ext cx="1044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ost o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ownersh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49440" y="272520"/>
            <a:ext cx="62863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Engineering Simulation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90720" y="733320"/>
            <a:ext cx="3915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EXAMPLE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miconductor chi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131560" y="1515960"/>
            <a:ext cx="4652640" cy="4898160"/>
            <a:chOff x="2131560" y="1515960"/>
            <a:chExt cx="4652640" cy="4898160"/>
          </a:xfrm>
        </p:grpSpPr>
        <p:sp>
          <p:nvSpPr>
            <p:cNvPr id="125" name=""/>
            <p:cNvSpPr/>
            <p:nvPr/>
          </p:nvSpPr>
          <p:spPr>
            <a:xfrm>
              <a:off x="2185560" y="6107040"/>
              <a:ext cx="3084120" cy="3070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ynamic/stochastic discrete 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38200" y="5002200"/>
              <a:ext cx="1746000" cy="3070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static spreadshe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15200" y="2697120"/>
              <a:ext cx="1331280" cy="3070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finite el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31560" y="4249800"/>
              <a:ext cx="2823480" cy="3070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ynamic continuous parame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26800" y="1515960"/>
              <a:ext cx="1209600" cy="3070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Monte Car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468360" y="1271520"/>
            <a:ext cx="8294400" cy="5081760"/>
            <a:chOff x="468360" y="1271520"/>
            <a:chExt cx="8294400" cy="5081760"/>
          </a:xfrm>
        </p:grpSpPr>
        <p:grpSp>
          <p:nvGrpSpPr>
            <p:cNvPr id="131" name=""/>
            <p:cNvGrpSpPr/>
            <p:nvPr/>
          </p:nvGrpSpPr>
          <p:grpSpPr>
            <a:xfrm>
              <a:off x="468360" y="1271520"/>
              <a:ext cx="4129200" cy="1533240"/>
              <a:chOff x="468360" y="1271520"/>
              <a:chExt cx="4129200" cy="153324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468360" y="1271520"/>
                <a:ext cx="3136680" cy="1533240"/>
                <a:chOff x="468360" y="1271520"/>
                <a:chExt cx="3136680" cy="1533240"/>
              </a:xfrm>
            </p:grpSpPr>
            <p:pic>
              <p:nvPicPr>
                <p:cNvPr id="133" name="ts4_nmos" descr=""/>
                <p:cNvPicPr/>
                <p:nvPr/>
              </p:nvPicPr>
              <p:blipFill>
                <a:blip r:embed="rId1"/>
                <a:srcRect l="11690" t="0" r="0" b="0"/>
                <a:stretch/>
              </p:blipFill>
              <p:spPr>
                <a:xfrm>
                  <a:off x="2125440" y="1275840"/>
                  <a:ext cx="1479600" cy="152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ts4_nmosg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68360" y="1271520"/>
                  <a:ext cx="1675800" cy="1528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35" name=""/>
              <p:cNvSpPr/>
              <p:nvPr/>
            </p:nvSpPr>
            <p:spPr>
              <a:xfrm>
                <a:off x="3476880" y="1816200"/>
                <a:ext cx="1120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materials &amp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oce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5400720" y="2906640"/>
              <a:ext cx="2541600" cy="1666800"/>
              <a:chOff x="5400720" y="2906640"/>
              <a:chExt cx="2541600" cy="1666800"/>
            </a:xfrm>
          </p:grpSpPr>
          <p:pic>
            <p:nvPicPr>
              <p:cNvPr id="137" name="ra_fig2" descr=""/>
              <p:cNvPicPr/>
              <p:nvPr/>
            </p:nvPicPr>
            <p:blipFill>
              <a:blip r:embed="rId3"/>
              <a:stretch/>
            </p:blipFill>
            <p:spPr>
              <a:xfrm>
                <a:off x="6248520" y="2906640"/>
                <a:ext cx="1693800" cy="166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"/>
              <p:cNvSpPr/>
              <p:nvPr/>
            </p:nvSpPr>
            <p:spPr>
              <a:xfrm>
                <a:off x="5400720" y="3606840"/>
                <a:ext cx="1006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ircui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&amp; chip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728640" y="2862360"/>
              <a:ext cx="4059000" cy="1674720"/>
              <a:chOff x="728640" y="2862360"/>
              <a:chExt cx="4059000" cy="1674720"/>
            </a:xfrm>
          </p:grpSpPr>
          <p:pic>
            <p:nvPicPr>
              <p:cNvPr id="14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28640" y="2862360"/>
                <a:ext cx="2566800" cy="167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>
                <a:off x="2895480" y="3406680"/>
                <a:ext cx="189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625320" y="4662360"/>
              <a:ext cx="3924360" cy="1690920"/>
              <a:chOff x="625320" y="4662360"/>
              <a:chExt cx="3924360" cy="1690920"/>
            </a:xfrm>
          </p:grpSpPr>
          <p:sp>
            <p:nvSpPr>
              <p:cNvPr id="143" name=""/>
              <p:cNvSpPr/>
              <p:nvPr/>
            </p:nvSpPr>
            <p:spPr>
              <a:xfrm>
                <a:off x="3504960" y="4863960"/>
                <a:ext cx="10447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fact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opera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&amp; logistic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4" name="" descr=""/>
              <p:cNvPicPr/>
              <p:nvPr/>
            </p:nvPicPr>
            <p:blipFill>
              <a:blip r:embed="rId5"/>
              <a:srcRect l="0" t="0" r="0" b="23985"/>
              <a:stretch/>
            </p:blipFill>
            <p:spPr>
              <a:xfrm>
                <a:off x="625320" y="4662360"/>
                <a:ext cx="2965320" cy="1690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5" name=""/>
            <p:cNvGrpSpPr/>
            <p:nvPr/>
          </p:nvGrpSpPr>
          <p:grpSpPr>
            <a:xfrm>
              <a:off x="4572000" y="1284120"/>
              <a:ext cx="4132080" cy="1575720"/>
              <a:chOff x="4572000" y="1284120"/>
              <a:chExt cx="4132080" cy="157572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5654520" y="1284120"/>
                <a:ext cx="3049560" cy="1575720"/>
                <a:chOff x="5654520" y="1284120"/>
                <a:chExt cx="3049560" cy="1575720"/>
              </a:xfrm>
            </p:grpSpPr>
            <p:pic>
              <p:nvPicPr>
                <p:cNvPr id="147" name="med_lddbreak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654520" y="1284120"/>
                  <a:ext cx="1711800" cy="1569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" name="med_lddiv" descr=""/>
                <p:cNvPicPr/>
                <p:nvPr/>
              </p:nvPicPr>
              <p:blipFill>
                <a:blip r:embed="rId7"/>
                <a:srcRect l="17883" t="0" r="0" b="0"/>
                <a:stretch/>
              </p:blipFill>
              <p:spPr>
                <a:xfrm>
                  <a:off x="7249320" y="1292040"/>
                  <a:ext cx="1454760" cy="1567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49" name=""/>
              <p:cNvSpPr/>
              <p:nvPr/>
            </p:nvSpPr>
            <p:spPr>
              <a:xfrm>
                <a:off x="4572000" y="2178000"/>
                <a:ext cx="1282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ransistor devic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724280" y="4694400"/>
              <a:ext cx="4038480" cy="1639800"/>
              <a:chOff x="4724280" y="4694400"/>
              <a:chExt cx="4038480" cy="1639800"/>
            </a:xfrm>
          </p:grpSpPr>
          <p:pic>
            <p:nvPicPr>
              <p:cNvPr id="151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663880" y="4694400"/>
                <a:ext cx="3098880" cy="163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4724280" y="5664240"/>
                <a:ext cx="1044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ost o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ownersh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49440" y="272520"/>
            <a:ext cx="62863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Engineering Simulation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90720" y="733320"/>
            <a:ext cx="3915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EXAMPLE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miconductor chi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131560" y="1515960"/>
            <a:ext cx="4652640" cy="4898160"/>
            <a:chOff x="2131560" y="1515960"/>
            <a:chExt cx="4652640" cy="4898160"/>
          </a:xfrm>
        </p:grpSpPr>
        <p:sp>
          <p:nvSpPr>
            <p:cNvPr id="156" name=""/>
            <p:cNvSpPr/>
            <p:nvPr/>
          </p:nvSpPr>
          <p:spPr>
            <a:xfrm>
              <a:off x="2185560" y="6107040"/>
              <a:ext cx="3084120" cy="3070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ynamic/stochastic discrete 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38200" y="5002200"/>
              <a:ext cx="1746000" cy="3070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static spreadshe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15200" y="2697120"/>
              <a:ext cx="1331280" cy="3070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finite el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31560" y="4249800"/>
              <a:ext cx="2823480" cy="3070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ynamic continuous parame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26800" y="1515960"/>
              <a:ext cx="1209600" cy="3070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Monte Car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00160" y="771480"/>
            <a:ext cx="8800920" cy="5686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8640" y="2749680"/>
            <a:ext cx="8666280" cy="1556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le valuable to specific technical expert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beneficial are these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ucation and broader pract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4505400" y="2571840"/>
            <a:ext cx="4324320" cy="3752640"/>
            <a:chOff x="4505400" y="2571840"/>
            <a:chExt cx="4324320" cy="3752640"/>
          </a:xfrm>
        </p:grpSpPr>
        <p:sp>
          <p:nvSpPr>
            <p:cNvPr id="164" name=""/>
            <p:cNvSpPr/>
            <p:nvPr/>
          </p:nvSpPr>
          <p:spPr>
            <a:xfrm>
              <a:off x="4505400" y="2571840"/>
              <a:ext cx="4324320" cy="375264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97640" y="5954760"/>
              <a:ext cx="407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</a:rPr>
                <a:t>Desired attributes of simulation environ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82320" y="358920"/>
            <a:ext cx="68007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eveloping Insight in Engineering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Education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Practice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000" y="1104480"/>
            <a:ext cx="3591000" cy="524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CHALLENGES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228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omains are unfamiliar to the user</a:t>
            </a: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57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33"/>
                </a:solidFill>
                <a:latin typeface="Arial"/>
              </a:rPr>
              <a:t>Often no hands-on physical experience </a:t>
            </a:r>
            <a:endParaRPr b="1" i="1" lang="en-US" sz="1400" spc="-1" strike="noStrike">
              <a:solidFill>
                <a:srgbClr val="996633"/>
              </a:solidFill>
              <a:latin typeface="Arial"/>
            </a:endParaRPr>
          </a:p>
          <a:p>
            <a:pPr lvl="1" marL="57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33"/>
                </a:solidFill>
                <a:latin typeface="Arial"/>
              </a:rPr>
              <a:t>Unfamiliar length and time scales</a:t>
            </a:r>
            <a:endParaRPr b="1" i="1" lang="en-US" sz="1400" spc="-1" strike="noStrike">
              <a:solidFill>
                <a:srgbClr val="996633"/>
              </a:solidFill>
              <a:latin typeface="Arial"/>
            </a:endParaRPr>
          </a:p>
          <a:p>
            <a:pPr marL="228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rinciples are abstract</a:t>
            </a: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57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33"/>
                </a:solidFill>
                <a:latin typeface="Arial"/>
              </a:rPr>
              <a:t>Subtle until experienced</a:t>
            </a:r>
            <a:endParaRPr b="1" i="1" lang="en-US" sz="1400" spc="-1" strike="noStrike">
              <a:solidFill>
                <a:srgbClr val="996633"/>
              </a:solidFill>
              <a:latin typeface="Arial"/>
            </a:endParaRPr>
          </a:p>
          <a:p>
            <a:pPr lvl="1" marL="57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33"/>
                </a:solidFill>
                <a:latin typeface="Arial"/>
              </a:rPr>
              <a:t>Ultimately must be understood in mathematical terms</a:t>
            </a:r>
            <a:endParaRPr b="1" i="1" lang="en-US" sz="1400" spc="-1" strike="noStrike">
              <a:solidFill>
                <a:srgbClr val="996633"/>
              </a:solidFill>
              <a:latin typeface="Arial"/>
            </a:endParaRPr>
          </a:p>
          <a:p>
            <a:pPr marL="228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ystems-level behavior enlarges complexity</a:t>
            </a: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57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33"/>
                </a:solidFill>
                <a:latin typeface="Arial"/>
              </a:rPr>
              <a:t>Multi-level metrics</a:t>
            </a:r>
            <a:endParaRPr b="1" i="1" lang="en-US" sz="1400" spc="-1" strike="noStrike">
              <a:solidFill>
                <a:srgbClr val="996633"/>
              </a:solidFill>
              <a:latin typeface="Arial"/>
            </a:endParaRPr>
          </a:p>
          <a:p>
            <a:pPr lvl="1" marL="57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33"/>
                </a:solidFill>
                <a:latin typeface="Arial"/>
              </a:rPr>
              <a:t>Heterogeneous, hierarchical, dynamic, stochastic behaviors</a:t>
            </a:r>
            <a:endParaRPr b="1" i="1" lang="en-US" sz="1400" spc="-1" strike="noStrike">
              <a:solidFill>
                <a:srgbClr val="996633"/>
              </a:solidFill>
              <a:latin typeface="Arial"/>
            </a:endParaRPr>
          </a:p>
          <a:p>
            <a:pPr marL="228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Environments and tools for engineering insight are limited</a:t>
            </a: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57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33"/>
                </a:solidFill>
                <a:latin typeface="Arial"/>
              </a:rPr>
              <a:t>Education and training</a:t>
            </a:r>
            <a:endParaRPr b="1" i="1" lang="en-US" sz="1400" spc="-1" strike="noStrike">
              <a:solidFill>
                <a:srgbClr val="996633"/>
              </a:solidFill>
              <a:latin typeface="Arial"/>
            </a:endParaRPr>
          </a:p>
          <a:p>
            <a:pPr lvl="1" marL="57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33"/>
                </a:solidFill>
                <a:latin typeface="Arial"/>
              </a:rPr>
              <a:t>Engineering practice</a:t>
            </a:r>
            <a:endParaRPr b="1" i="1" lang="en-US" sz="1400" spc="-1" strike="noStrike">
              <a:solidFill>
                <a:srgbClr val="996633"/>
              </a:solidFill>
              <a:latin typeface="Arial"/>
            </a:endParaRPr>
          </a:p>
          <a:p>
            <a:pPr lvl="1" marL="57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996633"/>
              </a:solidFill>
              <a:latin typeface="Arial"/>
            </a:endParaRPr>
          </a:p>
          <a:p>
            <a:pPr lvl="1" marL="57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29040" y="1104840"/>
            <a:ext cx="3686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10240" y="1695600"/>
            <a:ext cx="2066760" cy="7333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mulations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phenome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176800" y="2719440"/>
            <a:ext cx="2990880" cy="3186000"/>
            <a:chOff x="5176800" y="2719440"/>
            <a:chExt cx="2990880" cy="3186000"/>
          </a:xfrm>
        </p:grpSpPr>
        <p:sp>
          <p:nvSpPr>
            <p:cNvPr id="171" name=""/>
            <p:cNvSpPr/>
            <p:nvPr/>
          </p:nvSpPr>
          <p:spPr>
            <a:xfrm>
              <a:off x="5710320" y="2719440"/>
              <a:ext cx="1923840" cy="4572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lf-directed and guide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ands-on experien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672160" y="4006800"/>
              <a:ext cx="2000160" cy="50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nectivity 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nderlying fundamenta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76800" y="4699080"/>
              <a:ext cx="2990880" cy="5238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plexity management throug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grated, heterogeneous simul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10360" y="3362400"/>
              <a:ext cx="2724120" cy="4572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ols to help the u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velop understanding and insigh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57960" y="5410080"/>
              <a:ext cx="2428920" cy="495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parable authoring 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pid module develop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733920" y="1762200"/>
            <a:ext cx="1609560" cy="295200"/>
          </a:xfrm>
          <a:prstGeom prst="rightArrow">
            <a:avLst>
              <a:gd name="adj1" fmla="val 40861"/>
              <a:gd name="adj2" fmla="val 110235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20550000">
            <a:off x="3571920" y="2362320"/>
            <a:ext cx="1838160" cy="247680"/>
          </a:xfrm>
          <a:prstGeom prst="rightArrow">
            <a:avLst>
              <a:gd name="adj1" fmla="val 50000"/>
              <a:gd name="adj2" fmla="val 123692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SimPLE.2" descr=""/>
          <p:cNvPicPr/>
          <p:nvPr/>
        </p:nvPicPr>
        <p:blipFill>
          <a:blip r:embed="rId1"/>
          <a:stretch/>
        </p:blipFill>
        <p:spPr>
          <a:xfrm>
            <a:off x="1547640" y="990720"/>
            <a:ext cx="5820120" cy="52243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49440" y="196920"/>
            <a:ext cx="3152880" cy="67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SimPL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18200" y="25574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5040" y="228132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ep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5680" y="2824200"/>
            <a:ext cx="116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un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8440" y="4691160"/>
            <a:ext cx="1206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ess back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guidance materials, locally or from 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4240" y="3119400"/>
            <a:ext cx="144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ve &amp; 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3960" y="1328760"/>
            <a:ext cx="96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18240" y="1519200"/>
            <a:ext cx="1060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ew dynamic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356600" y="4148280"/>
            <a:ext cx="1231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ry out experiments and annotate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32160" y="2738520"/>
            <a:ext cx="1641600" cy="6415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te system and see consequences in real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0" y="3462480"/>
            <a:ext cx="3772080" cy="66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9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earning by  DOING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0" name=""/>
          <p:cNvSpPr/>
          <p:nvPr/>
        </p:nvSpPr>
        <p:spPr>
          <a:xfrm>
            <a:off x="4334040" y="4896000"/>
            <a:ext cx="2581200" cy="1619280"/>
          </a:xfrm>
          <a:prstGeom prst="irregularSeal2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Arial"/>
              </a:rPr>
              <a:t>Dem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Arial"/>
              </a:rPr>
              <a:t>in HC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73480" y="152280"/>
            <a:ext cx="31528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Sim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lated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P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ocesses in a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L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arning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34800" y="358920"/>
            <a:ext cx="73818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eatures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 the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SimPLE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ramework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431720" y="971640"/>
            <a:ext cx="6158880" cy="3894840"/>
            <a:chOff x="1431720" y="971640"/>
            <a:chExt cx="6158880" cy="3894840"/>
          </a:xfrm>
        </p:grpSpPr>
        <p:grpSp>
          <p:nvGrpSpPr>
            <p:cNvPr id="194" name=""/>
            <p:cNvGrpSpPr/>
            <p:nvPr/>
          </p:nvGrpSpPr>
          <p:grpSpPr>
            <a:xfrm>
              <a:off x="3695400" y="1181160"/>
              <a:ext cx="3895200" cy="3685320"/>
              <a:chOff x="3695400" y="1181160"/>
              <a:chExt cx="3895200" cy="3685320"/>
            </a:xfrm>
          </p:grpSpPr>
          <p:sp>
            <p:nvSpPr>
              <p:cNvPr id="195" name=""/>
              <p:cNvSpPr/>
              <p:nvPr/>
            </p:nvSpPr>
            <p:spPr>
              <a:xfrm>
                <a:off x="5933520" y="3333240"/>
                <a:ext cx="1180800" cy="4186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sign o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experiment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6" name=""/>
              <p:cNvGrpSpPr/>
              <p:nvPr/>
            </p:nvGrpSpPr>
            <p:grpSpPr>
              <a:xfrm>
                <a:off x="3695400" y="1181160"/>
                <a:ext cx="3895200" cy="3685320"/>
                <a:chOff x="3695400" y="1181160"/>
                <a:chExt cx="3895200" cy="36853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4942800" y="1181160"/>
                  <a:ext cx="1761840" cy="4186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Simulation control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at system imag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6019200" y="4104720"/>
                  <a:ext cx="1571400" cy="4186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uidance –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ocal &amp; Internet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761640" y="2076120"/>
                  <a:ext cx="971280" cy="42804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Assigne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exercises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762160" y="1666440"/>
                  <a:ext cx="1218600" cy="4093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ondi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watchdog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104800" y="3704760"/>
                  <a:ext cx="1037880" cy="3139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E-mail too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695400" y="3285720"/>
                  <a:ext cx="1066320" cy="4186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earnin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historia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933360" y="2675880"/>
                  <a:ext cx="1018800" cy="3808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ab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otebook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381000" y="2209320"/>
                  <a:ext cx="838080" cy="2566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Tim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133240" y="2733120"/>
                  <a:ext cx="1085760" cy="55224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Syst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esig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onfigurato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409800" y="2818800"/>
                  <a:ext cx="961560" cy="39024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roces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ecipe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009320" y="3924000"/>
                  <a:ext cx="1037880" cy="3996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raphs &amp;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hart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009400" y="4419000"/>
                  <a:ext cx="1095120" cy="4474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Visualiz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ontro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837960" y="1571040"/>
                  <a:ext cx="1399680" cy="4186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Tightly-couple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uidance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000040" y="2180880"/>
                  <a:ext cx="971280" cy="42804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hang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module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1" name=""/>
            <p:cNvSpPr/>
            <p:nvPr/>
          </p:nvSpPr>
          <p:spPr>
            <a:xfrm>
              <a:off x="2142720" y="971640"/>
              <a:ext cx="247320" cy="3695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31720" y="4529160"/>
              <a:ext cx="691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ar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1983960" y="971640"/>
            <a:ext cx="5455080" cy="4357800"/>
            <a:chOff x="1983960" y="971640"/>
            <a:chExt cx="5455080" cy="4357800"/>
          </a:xfrm>
        </p:grpSpPr>
        <p:sp>
          <p:nvSpPr>
            <p:cNvPr id="214" name=""/>
            <p:cNvSpPr/>
            <p:nvPr/>
          </p:nvSpPr>
          <p:spPr>
            <a:xfrm>
              <a:off x="3886200" y="4572000"/>
              <a:ext cx="1038240" cy="39960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eacher ki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00800" y="4676760"/>
              <a:ext cx="1038240" cy="39960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uthor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 ht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29000" y="971640"/>
              <a:ext cx="247680" cy="4066920"/>
            </a:xfrm>
            <a:prstGeom prst="rect">
              <a:avLst/>
            </a:pr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83960" y="5052960"/>
              <a:ext cx="72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ach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423080" y="971640"/>
            <a:ext cx="6282720" cy="5253120"/>
            <a:chOff x="1423080" y="971640"/>
            <a:chExt cx="6282720" cy="5253120"/>
          </a:xfrm>
        </p:grpSpPr>
        <p:sp>
          <p:nvSpPr>
            <p:cNvPr id="219" name=""/>
            <p:cNvSpPr/>
            <p:nvPr/>
          </p:nvSpPr>
          <p:spPr>
            <a:xfrm>
              <a:off x="4438800" y="5734080"/>
              <a:ext cx="1314360" cy="4377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omain-specif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lphi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191280" y="5476680"/>
              <a:ext cx="1514520" cy="5997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omain-specif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mulation mode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nd submode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14840" y="5276880"/>
              <a:ext cx="1171440" cy="4377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mP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10120" y="5067360"/>
              <a:ext cx="1314720" cy="4377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par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uthor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914920" y="971640"/>
              <a:ext cx="247320" cy="5190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23080" y="5948280"/>
              <a:ext cx="1505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uthor / develop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1271520" y="890640"/>
            <a:ext cx="5996160" cy="5381640"/>
            <a:chOff x="1271520" y="890640"/>
            <a:chExt cx="5996160" cy="5381640"/>
          </a:xfrm>
        </p:grpSpPr>
        <p:pic>
          <p:nvPicPr>
            <p:cNvPr id="226" name="tightly_coupled_guidance2" descr=""/>
            <p:cNvPicPr/>
            <p:nvPr/>
          </p:nvPicPr>
          <p:blipFill>
            <a:blip r:embed="rId1"/>
            <a:stretch/>
          </p:blipFill>
          <p:spPr>
            <a:xfrm>
              <a:off x="1271520" y="890640"/>
              <a:ext cx="5996160" cy="538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3086280" y="2552760"/>
              <a:ext cx="93312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15680" y="282600"/>
            <a:ext cx="62866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ightly-Coupled Guidanc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591160" y="1495440"/>
            <a:ext cx="3171960" cy="3971880"/>
            <a:chOff x="5591160" y="1495440"/>
            <a:chExt cx="3171960" cy="3971880"/>
          </a:xfrm>
        </p:grpSpPr>
        <p:sp>
          <p:nvSpPr>
            <p:cNvPr id="230" name=""/>
            <p:cNvSpPr/>
            <p:nvPr/>
          </p:nvSpPr>
          <p:spPr>
            <a:xfrm>
              <a:off x="5591160" y="1495440"/>
              <a:ext cx="3171960" cy="3971880"/>
            </a:xfrm>
            <a:prstGeom prst="rect">
              <a:avLst/>
            </a:pr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1" name="tightly_coupled_guidance4" descr=""/>
            <p:cNvPicPr/>
            <p:nvPr/>
          </p:nvPicPr>
          <p:blipFill>
            <a:blip r:embed="rId3"/>
            <a:stretch/>
          </p:blipFill>
          <p:spPr>
            <a:xfrm>
              <a:off x="5691240" y="1581120"/>
              <a:ext cx="2990880" cy="375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2" name=""/>
          <p:cNvGrpSpPr/>
          <p:nvPr/>
        </p:nvGrpSpPr>
        <p:grpSpPr>
          <a:xfrm>
            <a:off x="3533760" y="3285720"/>
            <a:ext cx="2647800" cy="3086640"/>
            <a:chOff x="3533760" y="3285720"/>
            <a:chExt cx="2647800" cy="3086640"/>
          </a:xfrm>
        </p:grpSpPr>
        <p:sp>
          <p:nvSpPr>
            <p:cNvPr id="233" name=""/>
            <p:cNvSpPr/>
            <p:nvPr/>
          </p:nvSpPr>
          <p:spPr>
            <a:xfrm>
              <a:off x="4257720" y="5600880"/>
              <a:ext cx="1923840" cy="771480"/>
            </a:xfrm>
            <a:prstGeom prst="ellipse">
              <a:avLst/>
            </a:prstGeom>
            <a:noFill/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3533760" y="3285720"/>
              <a:ext cx="1076400" cy="2390760"/>
            </a:xfrm>
            <a:prstGeom prst="line">
              <a:avLst/>
            </a:prstGeom>
            <a:ln w="7632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5" name="" descr=""/>
          <p:cNvPicPr/>
          <p:nvPr/>
        </p:nvPicPr>
        <p:blipFill>
          <a:blip r:embed="rId4"/>
          <a:srcRect l="0" t="13838" r="0" b="0"/>
          <a:stretch/>
        </p:blipFill>
        <p:spPr>
          <a:xfrm>
            <a:off x="3914640" y="1547640"/>
            <a:ext cx="819360" cy="238320"/>
          </a:xfrm>
          <a:prstGeom prst="rect">
            <a:avLst/>
          </a:prstGeom>
          <a:ln w="0">
            <a:noFill/>
          </a:ln>
        </p:spPr>
      </p:pic>
      <p:grpSp>
        <p:nvGrpSpPr>
          <p:cNvPr id="236" name=""/>
          <p:cNvGrpSpPr/>
          <p:nvPr/>
        </p:nvGrpSpPr>
        <p:grpSpPr>
          <a:xfrm>
            <a:off x="3629160" y="1371600"/>
            <a:ext cx="2047680" cy="1052640"/>
            <a:chOff x="3629160" y="1371600"/>
            <a:chExt cx="2047680" cy="1052640"/>
          </a:xfrm>
        </p:grpSpPr>
        <p:sp>
          <p:nvSpPr>
            <p:cNvPr id="237" name=""/>
            <p:cNvSpPr/>
            <p:nvPr/>
          </p:nvSpPr>
          <p:spPr>
            <a:xfrm>
              <a:off x="4710240" y="1776240"/>
              <a:ext cx="966600" cy="64800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629160" y="1371600"/>
              <a:ext cx="1180800" cy="561960"/>
            </a:xfrm>
            <a:prstGeom prst="ellipse">
              <a:avLst/>
            </a:prstGeom>
            <a:noFill/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2909880" y="2529000"/>
            <a:ext cx="1171440" cy="771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Gary W. Rubloff</dc:creator>
  <dc:description/>
  <dc:language>en-US</dc:language>
  <cp:lastModifiedBy>tharris</cp:lastModifiedBy>
  <cp:lastPrinted>2000-07-25T00:01:47Z</cp:lastPrinted>
  <dcterms:modified xsi:type="dcterms:W3CDTF">2002-06-04T20:51:37Z</dcterms:modified>
  <cp:revision>28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www.isr.umd.edu/~rubloff/</vt:lpwstr>
  </property>
  <property fmtid="{D5CDD505-2E9C-101B-9397-08002B2CF9AE}" pid="9" name="LinkColor">
    <vt:r8>16711782</vt:r8>
  </property>
  <property fmtid="{D5CDD505-2E9C-101B-9397-08002B2CF9AE}" pid="10" name="MailAddress">
    <vt:lpwstr>rubloff@isr.umd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ENSE623\Lectures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  <property fmtid="{D5CDD505-2E9C-101B-9397-08002B2CF9AE}" pid="22" name="_AdHocReviewCycleID">
    <vt:r8>-165604400</vt:r8>
  </property>
  <property fmtid="{D5CDD505-2E9C-101B-9397-08002B2CF9AE}" pid="23" name="_AuthorEmailDisplayName">
    <vt:lpwstr>Bederson, Ben</vt:lpwstr>
  </property>
  <property fmtid="{D5CDD505-2E9C-101B-9397-08002B2CF9AE}" pid="24" name="_EmailSubject">
    <vt:lpwstr>Part 2</vt:lpwstr>
  </property>
</Properties>
</file>