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83E-1D6D-4DA1-908B-919E1204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310-B1D5-4FF4-9793-2E3F4A7E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935-6CD1-44E2-ABC8-D707D057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D37-A120-4AE2-8EF8-15028152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18AB-149E-4332-AB04-EDAAEDB4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4121-CFA9-4C60-B783-795133E9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4D05-7A5E-4F2F-8661-9BF35729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A791-1B1C-4947-88C2-7D84E25D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2CC9-83B1-4E1B-82E9-C38088F1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6781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21CF-780C-4C26-B9C2-B3756ACF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F859-18A0-45C6-A102-93E1BD4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B3E-0173-472E-BD45-B946FC4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2128-3361-495F-80DF-B7DA51E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3324-2FDA-4B0F-AA68-04537E32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3637-DDF2-4697-896F-DFD8CB44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C3B9-AAE1-4A62-B2D4-8B2F6BB8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796B-5F30-4423-9FEE-3C73575D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270-A903-4319-92B4-DA758F01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950-BA0D-446A-9524-1B3B7426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813-4EA1-4BEF-8E31-6C5C4F5E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6781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017-DD0B-4D5A-B03D-3C1283E4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96E-E66D-4D06-AED6-BD60C281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C09-6E89-4873-8C41-E32CB33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912-1A47-43C9-A332-C2CBB6EB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5C7-A8A2-4597-8B9D-23830B2481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hcil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582480" cy="45720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5331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2971440" y="6019920"/>
            <a:ext cx="326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5A41-95B0-4FD6-B023-BAFDF480F1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Searcher: Interactive Querying for Identification of Patterns in Genetic Microarray Time Series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ry Hochheise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 Shneiderm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ic Baehrecke, UM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splash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048120" cy="2032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53341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ry Hochheiser is supported by a fellowship from America On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 Serie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Valued function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find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s Low, Ends Hig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ggards and Lea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Mining,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409440" y="32004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limate" descr=""/>
          <p:cNvPicPr/>
          <p:nvPr/>
        </p:nvPicPr>
        <p:blipFill>
          <a:blip r:embed="rId1"/>
          <a:stretch/>
        </p:blipFill>
        <p:spPr>
          <a:xfrm>
            <a:off x="5715000" y="106668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119" name="reversals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2286000" cy="203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78960" y="5840280"/>
            <a:ext cx="18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nci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7B7-31F1-45D1-85C9-000D0A9241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arrays: Gene Expression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 Chips”: track thousands of genes ov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onditions/time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gene regulatio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tools: clustering and “heat map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 in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se TimeSearcher to explore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094-8623-4872-9A4A-2B4AAF560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croarray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cmgm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162560" cy="3932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6680" y="57913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, et al. The transcriptional program of  sporulation in budding yeast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cience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8 Oct 23; 282(5389): 699-7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F97-5611-4E11-83C5-62FB703C8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Searcher Dem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brown-genes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43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28C-1F90-4C59-A583-A527D14036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earcher: interactive exploration of time series data 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array data: motivating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applications? Contact us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/timesearc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602-B900-40DA-B04A-97405ABB0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rris</cp:lastModifiedBy>
  <dcterms:modified xsi:type="dcterms:W3CDTF">2002-06-04T20:51:58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2265940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Part 2</vt:lpwstr>
  </property>
</Properties>
</file>