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774-019B-412B-A5BE-608FBC65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F5D-E164-4CAC-BAF4-0DE3C68D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298-1815-4DFC-BCB9-EAAB24D2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699-4D7D-47BE-8E23-B0EC0850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2A2-4241-460C-B677-D7208F13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9F8-52B5-4585-9DBD-83D9A2DA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2F3-22BD-4A12-91F4-B4BB437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780-9762-4883-88A6-7935630E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A21-4A51-4168-A74A-E8E3990E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508-D67E-4AC2-8DC4-79E3AD89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364-99C2-427C-B5CA-62BF68E0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FE0-8481-4127-8B1B-D4D183A4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52880" y="1962000"/>
            <a:ext cx="425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University of Maryland, Human-Computer Interaction Laboratory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082000" y="6027840"/>
            <a:ext cx="9144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3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3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6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dt" idx="1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ftr" idx="2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3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1C30-9641-4ECF-B442-CDECBA09DB3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8082000" y="602784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.umd.edu/hcil/fishca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formation Understand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enjamin B. Beders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What is the Problem?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to perceive and interact with inform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ct patterns and outli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details without losing global con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centrate on task (stay “in the flow”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to scale up to large information se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chnical proble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ceptual limit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ign proble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External Cognitio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1: Recognize human limit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rcRect l="0" t="0" r="0" b="59664"/>
          <a:stretch/>
        </p:blipFill>
        <p:spPr>
          <a:xfrm>
            <a:off x="5637240" y="2610000"/>
            <a:ext cx="1476360" cy="10699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641920" y="2622600"/>
            <a:ext cx="1467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Human Visual Perceptio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75992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ep 2: Don’t underestimate the human br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263600" y="2657520"/>
          <a:ext cx="6140520" cy="40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2657520"/>
                    <a:ext cx="614052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279440" y="2671920"/>
          <a:ext cx="6126120" cy="39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9440" y="2671920"/>
                    <a:ext cx="6126120" cy="39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Interactio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ep 3: Add interaction.  If a picture is worth a thousand words, an interactive interface is worth a thousand picture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Scaling Up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35000" y="2214360"/>
            <a:ext cx="6832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ow do you show more than fits on the scree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 (we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roll (long documen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view+detail (e.g., photosho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om  (PhotoMesa de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sheye distortion (FishCal de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39760" y="3467160"/>
            <a:ext cx="341640" cy="1527120"/>
          </a:xfrm>
          <a:custGeom>
            <a:avLst/>
            <a:gdLst>
              <a:gd name="textAreaLeft" fmla="*/ 218160 w 341640"/>
              <a:gd name="textAreaRight" fmla="*/ 342000 w 34164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50760" y="403380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radition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82680" y="5191200"/>
            <a:ext cx="250920" cy="803160"/>
          </a:xfrm>
          <a:custGeom>
            <a:avLst/>
            <a:gdLst>
              <a:gd name="textAreaLeft" fmla="*/ 160200 w 250920"/>
              <a:gd name="textAreaRight" fmla="*/ 251280 w 25092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72440" y="526572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ew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aradigm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99640" y="610236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ww.cs.umd.edu/hcil/photomes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cs.umd.edu/hcil/fishcal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What is holding us back?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formance and computational requir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d power, but increased eff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quires learning new approach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&gt; Better performance isn’t enough.  We must off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uch bet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erformance without many extra cos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Information Understanding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ualizing Millions of It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b-Based Surve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tion in Engine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 Series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oinformatics Visualiz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owsing Large Tr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Monitoring with Treema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active Web Ma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2T02:54:08Z</dcterms:created>
  <dc:creator>Ben Bederson</dc:creator>
  <dc:description/>
  <dc:language>en-US</dc:language>
  <cp:lastModifiedBy>Benjamin B. Bederson</cp:lastModifiedBy>
  <dcterms:modified xsi:type="dcterms:W3CDTF">2002-05-29T02:47:41Z</dcterms:modified>
  <cp:revision>39</cp:revision>
  <dc:subject/>
  <dc:title>Looking to the Fu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22880215</vt:r8>
  </property>
  <property fmtid="{D5CDD505-2E9C-101B-9397-08002B2CF9AE}" pid="3" name="_AuthorEmailDisplayName">
    <vt:lpwstr>Bederson, Ben</vt:lpwstr>
  </property>
  <property fmtid="{D5CDD505-2E9C-101B-9397-08002B2CF9AE}" pid="4" name="_EmailSubject">
    <vt:lpwstr>Part 3</vt:lpwstr>
  </property>
</Properties>
</file>