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F2B-E86C-48F4-9CAE-0ABA8BD6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C61-2DED-4637-8AE4-66F5B73B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72A-184D-4380-8C46-885EFCC0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D8E-FB1E-43B6-A970-215B1569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DF5D-A865-404A-B026-AC916B20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096-B72A-420C-93EB-FBEEDDF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8524-95D8-47F2-BCF5-A897FA4C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0AAF-EFF9-4879-AE3F-0EC361F2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AB86-1815-47FD-924E-A8AB7DE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B56-69A7-4DE8-BCB7-7DBD807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366-5E6F-494D-A45B-E9E5756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556-9693-449B-B572-E69F3AA2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5F5-358F-489A-A375-96FAD1B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6552-19D8-46E5-A8F7-88E25B8F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4DDD-D477-40E8-AF92-E7B452A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E2F-616B-4E6E-90B8-00A96009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4E97-7DE9-4FCF-9898-2101C0DA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BA4-2FB5-41D2-95C2-6C61316F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1A2-8B95-454A-9E7B-57031C5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8C2-1206-4B3C-A6D2-E58C7E41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3B1-AD67-4C56-920B-D5289D3A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EC7-3ED6-4E7A-9F34-61A422F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CAA-9901-4C72-9D2B-9BB7DCBB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00A-A0B8-48D1-A6A0-6192271B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E3F3-05B5-4977-9F34-D8A17CDD569A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ensus2k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8153280" cy="5653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618-D0C3-4AD5-A172-69E91A93B774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6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7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8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9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0.png"/><Relationship Id="rId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active Information Visualization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e Million I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5562720"/>
            <a:ext cx="5715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ean-Daniel Feke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iversity of Maryl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05520" y="4343400"/>
            <a:ext cx="2666880" cy="19051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anner-logo-large" descr="HCIL Logo"/>
          <p:cNvPicPr/>
          <p:nvPr/>
        </p:nvPicPr>
        <p:blipFill>
          <a:blip r:embed="rId1"/>
          <a:stretch/>
        </p:blipFill>
        <p:spPr>
          <a:xfrm>
            <a:off x="7978680" y="5943600"/>
            <a:ext cx="1165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Lab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41460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1371600"/>
          <a:ext cx="441972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441972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30516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895480" y="3944880"/>
          <a:ext cx="6248520" cy="29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944880"/>
                    <a:ext cx="6248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now break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rri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 limited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an visualize the phylogenic tree of spe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technically limited by graphics hardware, but close to the perceptual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IBM screen with 10 million pix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more work to understand how humans can make sense of this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you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ta se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HCIL for inviting me and providing the rich environment for this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Catherine Plaisant, Ben Shneiderman and Ben Bederson for their help and ad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ww.cs.umd.edu/hcil/millionv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aling issues in Information Visual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ing more data items or more dimen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ggregation, no samp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limi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een resolution / dimension, 10ms redisplay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p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 system accuracy, perception-action loop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uch can we understand and how long does it tak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ualizing one million i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map of a Unix file system containing 1 million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sizes related to file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coded by type: red=executable, blue=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n=image, yellow=program, gray=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we se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million-treemap" descr=""/>
          <p:cNvPicPr/>
          <p:nvPr/>
        </p:nvPicPr>
        <p:blipFill>
          <a:blip r:embed="rId1"/>
          <a:stretch/>
        </p:blipFill>
        <p:spPr>
          <a:xfrm>
            <a:off x="4572000" y="20955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illion-tree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219320" y="0"/>
            <a:ext cx="6095880" cy="4467960"/>
            <a:chOff x="1219320" y="0"/>
            <a:chExt cx="6095880" cy="4467960"/>
          </a:xfrm>
        </p:grpSpPr>
        <p:sp>
          <p:nvSpPr>
            <p:cNvPr id="96" name=""/>
            <p:cNvSpPr/>
            <p:nvPr/>
          </p:nvSpPr>
          <p:spPr>
            <a:xfrm>
              <a:off x="1219320" y="3276720"/>
              <a:ext cx="2743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ue and green patterns are web pages (www s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505320" y="2819520"/>
              <a:ext cx="609480" cy="4572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0"/>
              <a:ext cx="3124080" cy="365760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733920" y="3733920"/>
            <a:ext cx="5410080" cy="2273040"/>
            <a:chOff x="3733920" y="3733920"/>
            <a:chExt cx="5410080" cy="2273040"/>
          </a:xfrm>
        </p:grpSpPr>
        <p:sp>
          <p:nvSpPr>
            <p:cNvPr id="100" name=""/>
            <p:cNvSpPr/>
            <p:nvPr/>
          </p:nvSpPr>
          <p:spPr>
            <a:xfrm>
              <a:off x="3733920" y="518148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repository for PhotoM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553080" y="5181480"/>
              <a:ext cx="609840" cy="4572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5200" y="3733920"/>
              <a:ext cx="1828800" cy="198108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0"/>
            <a:ext cx="5181480" cy="2395080"/>
            <a:chOff x="3962520" y="0"/>
            <a:chExt cx="5181480" cy="2395080"/>
          </a:xfrm>
        </p:grpSpPr>
        <p:sp>
          <p:nvSpPr>
            <p:cNvPr id="104" name=""/>
            <p:cNvSpPr/>
            <p:nvPr/>
          </p:nvSpPr>
          <p:spPr>
            <a:xfrm>
              <a:off x="3962520" y="838080"/>
              <a:ext cx="274320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y rectangle is a bug, temporary files taking 10% of the www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705720" y="1066680"/>
              <a:ext cx="609480" cy="3333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15200" y="0"/>
              <a:ext cx="1828800" cy="144792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457200"/>
            <a:ext cx="3276720" cy="2590920"/>
            <a:chOff x="0" y="457200"/>
            <a:chExt cx="3276720" cy="2590920"/>
          </a:xfrm>
        </p:grpSpPr>
        <p:sp>
          <p:nvSpPr>
            <p:cNvPr id="108" name=""/>
            <p:cNvSpPr/>
            <p:nvPr/>
          </p:nvSpPr>
          <p:spPr>
            <a:xfrm>
              <a:off x="0" y="457200"/>
              <a:ext cx="2743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wo similar patterns = two versions of the mathlab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52480" y="1628640"/>
              <a:ext cx="457200" cy="4287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2133720"/>
              <a:ext cx="1524240" cy="91440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ccelerated graphics with OpenG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Pentium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00x1200 pixels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off-the-shelf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h existing visualization techniques to their lim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ce filling (treema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lapping (scatter plo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ying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Graph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the CPU/GPU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PU can perform many operations “for fre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metric transform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 transform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 interpo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uc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ing overl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prepares data and sends it to GP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tleneck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133720"/>
            <a:ext cx="2438280" cy="15238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3962520"/>
            <a:ext cx="2438280" cy="15238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5867280"/>
            <a:ext cx="1447560" cy="9144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36576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3809520"/>
            <a:ext cx="3200400" cy="20574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ying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Graph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s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ar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million items at interactive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its use of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understanding view tran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requ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ing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unusual programming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ng visualization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Adapted Visualization Techni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ctangle out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es pix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s sending the geometry tw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r sh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similar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” with accelerated graphics c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9816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876920" y="1981080"/>
          <a:ext cx="365760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81080"/>
                    <a:ext cx="365760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imated Trans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98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ave0001" descr=""/>
          <p:cNvPicPr/>
          <p:nvPr/>
        </p:nvPicPr>
        <p:blipFill>
          <a:blip r:embed="rId1"/>
          <a:stretch/>
        </p:blipFill>
        <p:spPr>
          <a:xfrm>
            <a:off x="1828800" y="1133640"/>
            <a:ext cx="1542960" cy="115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6923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57560" y="1143000"/>
          <a:ext cx="1514520" cy="11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57560" y="114300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19209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343560" y="1152360"/>
          <a:ext cx="1514520" cy="113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43560" y="115236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28800" y="2276640"/>
          <a:ext cx="1542960" cy="1161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2276640"/>
                    <a:ext cx="154296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49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057560" y="2286000"/>
          <a:ext cx="1505160" cy="113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57560" y="2286000"/>
                    <a:ext cx="1505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23781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57560" y="5715000"/>
          <a:ext cx="152424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57560" y="5715000"/>
                    <a:ext cx="1524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2606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828800" y="3419640"/>
          <a:ext cx="1542960" cy="115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28800" y="3419640"/>
                    <a:ext cx="1542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3200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057560" y="3429000"/>
          <a:ext cx="1514520" cy="113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57560" y="342900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34290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343560" y="2295360"/>
          <a:ext cx="1514520" cy="1133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343560" y="229536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3657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28800" y="4562640"/>
          <a:ext cx="1542960" cy="1152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28800" y="4562640"/>
                    <a:ext cx="1542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057560" y="4572000"/>
          <a:ext cx="1514520" cy="1133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057560" y="457200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447984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343560" y="3438360"/>
          <a:ext cx="1514520" cy="1133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3560" y="343836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0" y="4708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28800" y="5705640"/>
          <a:ext cx="1542960" cy="11523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828800" y="5705640"/>
                    <a:ext cx="1542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5302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43560" y="4581360"/>
          <a:ext cx="1514520" cy="1133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343560" y="458136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55306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43560" y="5724360"/>
          <a:ext cx="1514520" cy="1133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343560" y="5724360"/>
                    <a:ext cx="1514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4:48:05Z</dcterms:created>
  <dc:creator>fekete</dc:creator>
  <dc:description/>
  <dc:language>en-US</dc:language>
  <cp:lastModifiedBy>fekete</cp:lastModifiedBy>
  <dcterms:modified xsi:type="dcterms:W3CDTF">2002-05-16T22:21:29Z</dcterms:modified>
  <cp:revision>34</cp:revision>
  <dc:subject/>
  <dc:title>Interactive Information Visualization of One Million I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1444941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2</vt:lpwstr>
  </property>
</Properties>
</file>