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356C-36AE-4797-9113-8B4C8ABC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E963-31EB-4402-A687-6C9A03AC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B8D-0F92-48D2-930F-74CB3248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AAC-1DD2-4CA4-8219-BDD158F7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948-F4FC-4CFF-8380-7207F085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B5CC-EE2F-4E22-ADD9-A3ABE50E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E23-B298-4EC8-AB96-B25B523C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702-6475-45B4-811B-4F027A7E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072D-C878-41FC-9915-9B544643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267-DC4B-438F-97CE-0A152F6E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8B50-A76D-4D2A-AD5A-2E5B10B6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5CE-BF38-41A7-9FF3-8D76F163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FEAD-9AC8-4D15-920B-20321005A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tory9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view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view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view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iew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view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view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view8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view7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21:26:19Z</dcterms:created>
  <dc:creator>tharris</dc:creator>
  <dc:description/>
  <dc:language>en-US</dc:language>
  <cp:lastModifiedBy>tharris</cp:lastModifiedBy>
  <dcterms:modified xsi:type="dcterms:W3CDTF">2002-06-04T21:04:46Z</dcterms:modified>
  <cp:revision>2</cp:revision>
  <dc:subject/>
  <dc:title>PowerPoint Presentation</dc:title>
</cp:coreProperties>
</file>