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F63-FAB3-44D8-BC91-B4B9A937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E22-326E-4AB7-90EB-721C6BA8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5F5-995F-42BE-8C27-D721845C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674-311D-4941-8B64-35550531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4FD-A616-4585-A900-ECFDD9F4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B63-CBCE-4A0D-B156-A02CA308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26D-F537-42AF-91D5-77F8A82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6FC-B4CD-4F9E-97CA-6C973E8F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0B4-8C12-46EF-8889-03FDC8C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170-8159-4B6C-9D56-36B29DA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30D-BD2D-4350-A558-D6B19B94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E23-3414-4FE9-B871-91A8967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4FCB-7421-44B9-BE47-D1B964599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6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ap.umd.edu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-Based Survey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, Answers, and Desig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440" y="28954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t L. No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of 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/Computer Interaction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atory for Automation 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ap.umd.ed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2666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46560" cy="5011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400" y="29718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ing on a triangle expands the survey to show follow-up or skipped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omatic Gray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065560" cy="389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14400" y="266688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grays out items to be skipped when an alternative is cli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branching instructions to a minimum to reduce reading time, confusion, and perceived difficulty of the questionn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 conditional branching when possible, but allow the respondent to override branching if there is a need to do so on the part of the respo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e follow-up questions to shorten the apparent length of the questionnaire. Make skipped questions available only if the respondent specifically wishes to view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respondent is allowed to see and answer all questions, implement logic and consistency checks on conditional bra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line forward movement through the questionnaire while allowing backtracking to view or change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although good design seems intuitive, it requires usability testing before final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the U.S. Census Bureau, Statistical Research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 to students, Tim Pleskac, Kirk Norman, Nick Ro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27520" y="457200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lap.um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t_norman@lap.um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n K. L. &amp; Pleskac (January 2002). Conditional Branching in Computerized Self-Administered Questionnaires: An Empirical Study. LAP-2002-01, HCIL-2002-02, CS-TR-4323, UMIACS-TR-2002-0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n K. L. (November 2001). Implementation of Conditional Branching in Computerized Self-Administered Questionnaires. LAP-2001-02, HCIL-2001-26, CS-TR-4319, UMIACS-TR-2002-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n K. L., Pleskac T.J., Norman K. (May 2001) Navigational Issues in the Design of On-Line Self-Administered Questionnaires: The Effect of Training and Familiarity. LAP-2001-01, HCIL-2001-09, CS-TR-4255, UMIACS-TR-2001-3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n K., Slaughter L. Friedman Z.,Norman K.,Stevenson R. (October 2000). Dual Navigation of Computerized Self-Administered Questionnaires and Organizational Records. LAP-2000-02, HCIL-2000-22, CS-TR-4192, UMIACS-TR-2000-7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n, K. L., Friedman, Z., Norman, K. D., &amp; Stevenson, R. (2000). Navigational Issues in the Design of On-Line Self Administered Questionnaires (HCIL-TR-2000-10, LAP-TR-2000-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sons for Web-based Survey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efficiency, Dissemination-collection, Centr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00576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300576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00576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tfalls of Bad Desig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ideas don't always migrate directly to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design is easier to generate than good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ad design leads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Issues with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ing and Navigation (Norman,Friedman, Norman &amp; Stevenson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 of Items and Navigation (Norman, Slaughter, Freidman, Norman, Stevenson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Customization (Norman, Pleskac, &amp; Norma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s and Corrections and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Jumps and Navigation (Norman, 2001; Norman &amp; Pleskac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00552" presetSubtype="8102343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experiment compared three different desig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 Scroll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Scro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 included successive jumps of one, two, and three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nts were 36 undergraduate students in a within subjects factorial desig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ual Scro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2406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28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omatic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687920" cy="631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03480" y="43275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304812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jumps to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item when alternative is cli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omatic Scro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156280" cy="611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29718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scrolls down to the next appropriate item when alternative is cli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4922640" cy="3541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553080" y="281952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Item was the fastest, especially for 3 follow-up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1:07:39Z</dcterms:created>
  <dc:creator>Kent Norman</dc:creator>
  <dc:description/>
  <dc:language>en-US</dc:language>
  <cp:lastModifiedBy>Benjamin B. Bederson</cp:lastModifiedBy>
  <dcterms:modified xsi:type="dcterms:W3CDTF">2002-05-29T19:38:40Z</dcterms:modified>
  <cp:revision>8</cp:revision>
  <dc:subject/>
  <dc:title>Web-Based Surveys  Questions, Answers, and Designs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40978864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2</vt:lpwstr>
  </property>
</Properties>
</file>