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FB6-D90C-4801-9192-654B5B9E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933-FD47-401A-A3B0-173D31C1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786-E0EA-4F57-9846-A2F8B900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FF3-C527-440D-B9F9-2E52BD4F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14B3-E8E4-41AF-9129-E95F1335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F17-2AE3-4A8F-984B-0642A984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2C27-9D31-44BE-8C3E-E10665E7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1D8B-E1B9-4281-BFB7-BE1BAD65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24E1-2131-40A4-8670-F95492FA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131-8753-489F-B22D-1D3165D6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9CA1-51E2-4DAC-A797-396F04C3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A00-AD3B-4256-AD94-958066C9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F184-075E-4B35-BD8B-1FA55902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CA0C-636A-4C79-9536-3C6B24E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AEAC-053F-4089-A8FE-3164836E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B138-CDF3-4746-BFCB-E30857C6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060C-75E9-4B1E-86CD-73E6B151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A51-6F5A-48CF-A1EA-7388ABC3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131-6F70-424D-AA3E-F23EF0EE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799-D9A4-4A11-9149-49527CA3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EDD-FF24-4D26-8885-A45AB564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3EA-8B58-403E-BE3D-EE2E7FF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65A-8EB4-46AE-B405-19CC35D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68D-4C32-47C3-8779-10E8E7B8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C7A8-CCBC-4A4E-8879-6D35D6AD17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85FB-B4F8-4E34-A309-5E381F79FA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tp://ftp.cs.umd.edu/pub/hcil/Reports-Abstracts-Bibliography/2001-24html/2001-24.htm" TargetMode="External"/><Relationship Id="rId2" Type="http://schemas.openxmlformats.org/officeDocument/2006/relationships/hyperlink" Target="ftp://ftp.cs.umd.edu/pub/hcil/Reports-Abstracts-Bibliography/2001-24html/2001-24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KidStory: The Impact of Zooming Technologies on Children’s Storytell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ison Druin, Angela Bolt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jamin Bederson, Juan Pablo Hourcade, Allison Far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ity of Maryl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CIL Open House and Sympos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5867280"/>
            <a:ext cx="76212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hild was aske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ook through the story by themselves either on the computer or in a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tell the story to the researcher while looking at the story on the computer or in the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tell the story without any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ory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rog Where are You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Mayer, 196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ly used in Germany (Bamberg, 1987), Israel (Berman, 1988), &amp; U.S. (Trabasso et al., 199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g Where are Yo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15100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1320" y="2819520"/>
            <a:ext cx="264132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66680" y="4495680"/>
            <a:ext cx="7793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pictures from the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2286000"/>
            <a:ext cx="2666880" cy="25146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2286000"/>
            <a:ext cx="2666880" cy="25146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s: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ding Schemes to Analyze Data on Both Elaboration and Recall Stories Tol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 Structure (Berman, 198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b tense, text length, connectivity markers, references to plot-advanc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 (Trabasso et al., 199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 of characters to objects, change in story, actions carried out attainment of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s: 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X 2 X 2 MANO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 x Gender x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children’s storytelling for both elaboration and re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8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ble differences in story elaboration/recall between the book and both computer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zooming condition, highest frequency in certain story elaboration codes in content an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n-zooming computer condition was never significantly higher than zooming but outcomes were the same in re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ignificant gender differences f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ignificant differences found recounting story content vs.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lingual children were found to recount more complex stories than monolingua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oming helped children’s discussion of story connections/plot when viewing the story but was less helpful in recalling content/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eaching with technology– Try zooming for elaboration experi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eveloping storytelling technology– Consider the purpose: recall? elabo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ltman, Ph.D. dissertation</a:t>
            </a:r>
            <a:br>
              <a:rPr sz="2800"/>
            </a:b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f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ftp.cs.umd.edu/pub/hcil/Reports-Abstracts-Bibliography/2001-24html/2001-24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can tell you a good story…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Olsa, age 7, Swe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search has shown storytelling can benefit children in multiple ways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.g., NCTE Committee on Storytelling, 1998; Cass, 1967; Ellis &amp; Brewster, 199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ing and compreh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.g., George &amp; Schaer, 1986; Alex, 1988; Malkina, 199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e of self and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.g., Kerby, 1991; Schank, 1995; Liberg, 199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ve and artistic 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.g., Bryant, 1910; Cather, 1919; Labov &amp; Waletsky, 19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ut what effect can technology have on children’s storytelling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idPad</a:t>
            </a:r>
            <a:br>
              <a:rPr sz="44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Boltman et al., 2002; Hourcade et al., 2002; Druin, 2001;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anton et al., 2001; Benford et al., 2000; Druin et al., 1997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collaborative zooming storytelling too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eveloped by 106 children &amp; 24 adults from Sweden, England, &amp; the U.S. from education, computer science, psychology, &amp; a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KidStory supported from 1998-2001 by European Union grant under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Experimental Schools Environ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ory Elaboration/Re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vestigate children’s ability to elaborate and recall a visual story in different presentat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how children’s ability can differ in story content and story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cip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2 children, 6-7 years old, 24 in eac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domly selected, 36 in England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6 in Swe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x. 50/50 male/female, low/middle in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tle or no experience with KidP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ed study with three condition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ture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with no zoo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with zoo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3:53:56Z</dcterms:created>
  <dc:creator>allisond</dc:creator>
  <dc:description/>
  <dc:language>en-US</dc:language>
  <cp:lastModifiedBy>allisond</cp:lastModifiedBy>
  <dcterms:modified xsi:type="dcterms:W3CDTF">2002-05-16T11:43:33Z</dcterms:modified>
  <cp:revision>12</cp:revision>
  <dc:subject/>
  <dc:title>KidStory: The Impact of Zooming Technologies on Children’s Storytel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868567</vt:r8>
  </property>
  <property fmtid="{D5CDD505-2E9C-101B-9397-08002B2CF9AE}" pid="3" name="_AuthorEmailDisplayName">
    <vt:lpwstr>Druin, Allison</vt:lpwstr>
  </property>
  <property fmtid="{D5CDD505-2E9C-101B-9397-08002B2CF9AE}" pid="4" name="_EmailSubject">
    <vt:lpwstr>Here's my other presentation slides...</vt:lpwstr>
  </property>
</Properties>
</file>