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B077-F127-4257-A670-6B7CF4BB1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The WORK of Steve Betten - just graduated and now touring Europe before starting to work in a few week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conducted a user study looking at how we can best use treemaps (a hierarchy visualization developed at HCIL) to monitor changes in the hierarchy over several periods of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map developed in HCIL – made famous by this application that looks at stocks organized in market sectors.   Health care financia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=1 stock, a red = down green up since yesterday – or a fixed date you choose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box = market capit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1 good one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map developed in HCIL – made famous by this application that looks at stocks organized in market sectors.   Health care financia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=1 stock, a red = down green up since yesterday – or a fixed date you choose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box = market capit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1 good one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map developed in HCIL – made famous by this application that looks at stocks organized in market sectors.   Health care financia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=1 stock, a red = down green up since yesterday – or a fixed date you choose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box = market capit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1 good one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the names, find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 and containmen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. value at the leaf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right, or small 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corresponds to the application we chose to focus on for our use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280" y="419400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4475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419400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800" y="419400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1000" y="14475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0080" y="14475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280" y="419400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1000" y="419400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0080" y="419400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800" y="144756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44756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280" y="419400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4475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800" y="419400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4475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419400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ewing Change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nitoring with Treema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ve Bet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herine Plais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 Beders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62520" y="5443560"/>
            <a:ext cx="12189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Experi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1143000"/>
            <a:ext cx="3419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-at-o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409720" y="114300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6668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5105520"/>
            <a:ext cx="221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5120" y="1603440"/>
            <a:ext cx="3427200" cy="2511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4194000"/>
            <a:ext cx="3427200" cy="2511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410080" y="4194000"/>
            <a:ext cx="3427560" cy="2511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10080" y="1600200"/>
            <a:ext cx="34290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itional small study looking a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ge Creation/Dele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w only when exis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ds to layout shi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uitive: does not show pages that did not exist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show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ways show pages (colored black when non existin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cludes using size co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both cases, small icons can show location of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16400" y="1600200"/>
            <a:ext cx="2632320" cy="2460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2632320" cy="246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62560" y="25750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86560" y="262404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854320" y="2209680"/>
            <a:ext cx="3240" cy="35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40440" y="2114640"/>
            <a:ext cx="0" cy="4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00800" y="2116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7339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276720"/>
            <a:ext cx="3240" cy="44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7339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16840" y="3308400"/>
            <a:ext cx="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5029200"/>
            <a:ext cx="1023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51440" y="462276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95920" y="5040360"/>
            <a:ext cx="1024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5680" y="464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183360"/>
            <a:ext cx="1023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440" y="580716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95920" y="6183360"/>
            <a:ext cx="1024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5680" y="5791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9440" y="47959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3480" y="48718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42200" y="4826160"/>
            <a:ext cx="11124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67640" y="232416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91320" y="24004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8440" y="2352600"/>
            <a:ext cx="11124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subjects (CS studen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subject tested each ver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min Treemap  + 10 min each vers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ght timed tas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duration: about 1 hour 30 min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uter generated datas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pages have small 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mall number of pages have significant 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if all the pages in a director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popularit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 task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pages with specific patterns of requests  e.g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p-down-u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 task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eted pag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created pages and determine if they were popular the first time they exis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if a specific page grew in popularity every week (with no pages added i.e. no possible layout shift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as 5 with some pages added ( i.e. possible layout shif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 many questions, users perform equally well using any combination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searching for patte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.g. up-down-up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ce of valu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valu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li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all-at-onc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asks where pages were created/dele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ways sh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show only when exis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s strongly disliked layout shif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any questions, users perform equally well using any combin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hen searching for patterns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e.g. up-down-up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fference of valu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” faster than “valu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li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all-at-onc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asks where pages were created/dele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ways sh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show only when exis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s strongly disliked layout shif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Experi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5120" y="1143000"/>
            <a:ext cx="3419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-at-o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09720" y="114300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6668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5105520"/>
            <a:ext cx="221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5120" y="1603440"/>
            <a:ext cx="3427200" cy="2511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05120" y="4194000"/>
            <a:ext cx="342720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410080" y="4194000"/>
            <a:ext cx="3427560" cy="2511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410080" y="1600200"/>
            <a:ext cx="3429000" cy="2513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7360" y="212760"/>
            <a:ext cx="87566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7360" y="228600"/>
            <a:ext cx="875664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5664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rtMoney.co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3425" r="1979" b="2366"/>
          <a:stretch/>
        </p:blipFill>
        <p:spPr>
          <a:xfrm>
            <a:off x="838080" y="1219320"/>
            <a:ext cx="7310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lue and Slider (Week 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5664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56640" cy="64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235160" y="1327320"/>
          <a:ext cx="288720" cy="52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5160" y="1327320"/>
                    <a:ext cx="28872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82760" y="2349360"/>
          <a:ext cx="355680" cy="3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82760" y="2349360"/>
                    <a:ext cx="3556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019840" y="3376440"/>
          <a:ext cx="38736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9840" y="3376440"/>
                    <a:ext cx="3873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546200" y="3000240"/>
          <a:ext cx="48888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6200" y="3000240"/>
                    <a:ext cx="488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56640" cy="64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379520" y="2346480"/>
          <a:ext cx="444600" cy="36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9520" y="2346480"/>
                    <a:ext cx="444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10120" y="3395520"/>
          <a:ext cx="403200" cy="3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0120" y="3395520"/>
                    <a:ext cx="4032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5410080" y="3765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56640" cy="64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1235160" y="1327320"/>
          <a:ext cx="288720" cy="52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5160" y="1327320"/>
                    <a:ext cx="28872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382760" y="2349360"/>
          <a:ext cx="355680" cy="3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82760" y="2349360"/>
                    <a:ext cx="3556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19840" y="3376440"/>
          <a:ext cx="38736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9840" y="3376440"/>
                    <a:ext cx="3873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546200" y="3000240"/>
          <a:ext cx="48888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6200" y="3000240"/>
                    <a:ext cx="488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any questions, users perform equally well using any combin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hen searching for patterns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e.g. up-down-up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fference of valu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” faster than “valu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li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all-at-onc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asks where pages were created/dele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ways sh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show only when exis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s strongly disliked layout shif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any questions, users perform equally well using any combin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hen searching for patterns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e.g. up-down-u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ce of valu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valu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lide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” faster than “all-at-once”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asks where pages were created/dele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ways sh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show only when exis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s strongly disliked layout shif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Experi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5120" y="1143000"/>
            <a:ext cx="3419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-at-o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409720" y="114300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6668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5105520"/>
            <a:ext cx="221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05120" y="1603440"/>
            <a:ext cx="3427200" cy="2511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05120" y="4194000"/>
            <a:ext cx="3427200" cy="251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410080" y="4194000"/>
            <a:ext cx="3427560" cy="2511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410080" y="1600200"/>
            <a:ext cx="3429000" cy="2513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29200" y="914400"/>
            <a:ext cx="3809880" cy="5943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any questions, users perform equally well using any combination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searching for patte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.g. up-down-up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ce of valu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valu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li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faster than “all-at-onc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asks where pages were created/dele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lways sho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” faster than “show only when exis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jects strongly disliked layout shif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itional small study looking a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ge Creation/Dele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4343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liked the layout shif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both cases users mostly used the small icons to see location of chang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632320" cy="2460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2632320" cy="2460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48320" y="4038480"/>
            <a:ext cx="3581280" cy="2819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6324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640080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250344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25909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10400" y="2073240"/>
            <a:ext cx="2880" cy="44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12000" y="2095560"/>
            <a:ext cx="0" cy="4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81720" y="208764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364644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10400" y="3216240"/>
            <a:ext cx="2880" cy="44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5120" y="364644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64280" y="3227400"/>
            <a:ext cx="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5029200"/>
            <a:ext cx="1023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1440" y="462276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95920" y="5040360"/>
            <a:ext cx="1024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5680" y="464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6183360"/>
            <a:ext cx="1023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580716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95920" y="6183360"/>
            <a:ext cx="1024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05680" y="5791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38840" y="22860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2880" y="236232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54920" y="2316240"/>
            <a:ext cx="11088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29560" y="478620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53240" y="486252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11960" y="4816440"/>
            <a:ext cx="11124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bjective Prefer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 of values” preferred over “valu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es a step (visually determining the differe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ier to see hue shifts than intensity 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-at-once” v. “slid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differ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pattern of preferenc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ease of learning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jects only used details table to check their guesses based on color al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few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half of subjects adjusted the time interval in the “difference in values and slider” ver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quote: “Different versions are suited to different ta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391520" y="3137040"/>
            <a:ext cx="685800" cy="501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2960" y="3673440"/>
            <a:ext cx="684360" cy="501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155080" y="3673440"/>
            <a:ext cx="684000" cy="501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8153280" y="3135240"/>
            <a:ext cx="687600" cy="503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162920" y="3597120"/>
            <a:ext cx="1752480" cy="669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rtMoney.co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13425" r="1979" b="2366"/>
          <a:stretch/>
        </p:blipFill>
        <p:spPr>
          <a:xfrm>
            <a:off x="838080" y="1219320"/>
            <a:ext cx="7310520" cy="525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13697" r="3003" b="2425"/>
          <a:stretch/>
        </p:blipFill>
        <p:spPr>
          <a:xfrm>
            <a:off x="838080" y="1219320"/>
            <a:ext cx="7310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56640" cy="64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379520" y="2346480"/>
          <a:ext cx="444600" cy="36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9520" y="2346480"/>
                    <a:ext cx="444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010120" y="3395520"/>
          <a:ext cx="403200" cy="3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0120" y="3395520"/>
                    <a:ext cx="4032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5410080" y="3765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7360" y="228600"/>
            <a:ext cx="8756640" cy="64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1235160" y="1327320"/>
          <a:ext cx="288720" cy="52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5160" y="1327320"/>
                    <a:ext cx="28872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546200" y="3000240"/>
          <a:ext cx="48888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6200" y="3000240"/>
                    <a:ext cx="488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emaps can be effective for monito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u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 of values” instead of “valu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r” with an option showing “all-at-onc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size chang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wnload treemap3.2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cs.umd.edu/hcil/treemap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future versions will include monitoring capabilities described toda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al support from Chevron-Texa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cipation of B. Shneiderman and J-D Fek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391520" y="3137040"/>
            <a:ext cx="685800" cy="501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392960" y="3673440"/>
            <a:ext cx="684360" cy="501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155080" y="3673440"/>
            <a:ext cx="684000" cy="501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53280" y="3135240"/>
            <a:ext cx="687600" cy="503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001000" y="3597120"/>
            <a:ext cx="914400" cy="669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rtMoney.co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3425" r="1979" b="2366"/>
          <a:stretch/>
        </p:blipFill>
        <p:spPr>
          <a:xfrm>
            <a:off x="838080" y="1219320"/>
            <a:ext cx="7310520" cy="525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13697" r="3003" b="2425"/>
          <a:stretch/>
        </p:blipFill>
        <p:spPr>
          <a:xfrm>
            <a:off x="838080" y="1219320"/>
            <a:ext cx="7310520" cy="525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13697" r="1979" b="2425"/>
          <a:stretch/>
        </p:blipFill>
        <p:spPr>
          <a:xfrm>
            <a:off x="838080" y="1219320"/>
            <a:ext cx="73152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ifferent empha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fig2b" descr=""/>
          <p:cNvPicPr/>
          <p:nvPr/>
        </p:nvPicPr>
        <p:blipFill>
          <a:blip r:embed="rId1"/>
          <a:srcRect l="2301" t="29228" r="2301" b="7865"/>
          <a:stretch/>
        </p:blipFill>
        <p:spPr>
          <a:xfrm>
            <a:off x="380880" y="1447920"/>
            <a:ext cx="6705720" cy="24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11520" r="0" b="18436"/>
          <a:stretch/>
        </p:blipFill>
        <p:spPr>
          <a:xfrm>
            <a:off x="4876920" y="3886200"/>
            <a:ext cx="3962160" cy="267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120" y="34290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53440" y="60958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e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80 Pages on a Web Server (1 week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499040" y="6172200"/>
            <a:ext cx="66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ightness = number of requests, no size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.e. layout stable as long as no page is added/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09800" y="990720"/>
            <a:ext cx="72961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eemaps for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ed applica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b site monito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for patterns in web page requests over consecutive time perio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ttribute value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mplification: only one attribute (mapped to col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for web pages that were created or deleted during those wee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pology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our op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of attribu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447920"/>
            <a:ext cx="407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u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08560" y="1447560"/>
            <a:ext cx="4419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ce of valu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4572000"/>
            <a:ext cx="4495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 is immediatel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 for 2 period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clear what happen when users need to integrate colors changes over several perio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91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ght be more intu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requires to look at 2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72520" y="3781440"/>
            <a:ext cx="41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een = increase;  red = decr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righter = more ch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7120" y="390384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ighter = more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165708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666880" y="1981080"/>
            <a:ext cx="165744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10400" y="1981080"/>
            <a:ext cx="1657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 vs. Space Multiplex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334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-at-onc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33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ider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4483080"/>
            <a:ext cx="42670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pixel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izes to any number of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4989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 need to inter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data available on one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wer pixels per web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2054160"/>
            <a:ext cx="3124080" cy="2289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57800" y="2055960"/>
            <a:ext cx="32004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05:05:00Z</dcterms:created>
  <dc:creator>sbetten</dc:creator>
  <dc:description/>
  <dc:language>en-US</dc:language>
  <cp:lastModifiedBy>tharris</cp:lastModifiedBy>
  <dcterms:modified xsi:type="dcterms:W3CDTF">2002-06-04T17:29:00Z</dcterms:modified>
  <cp:revision>360</cp:revision>
  <dc:subject/>
  <dc:title>Viewing Changes: Monitoring with Treema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03804774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SOH ppt files - part 1</vt:lpwstr>
  </property>
</Properties>
</file>