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604-1B39-4EE9-8EF5-2A6A764A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42F-3EA4-4A34-99DF-4FEF666F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7C9-5F58-4D13-8305-4FC22BEF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208-C6CD-49A9-AC05-A4248062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50B-6ECE-43F5-A237-4331C73F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3E7-DF01-40B8-81BF-B9371BB9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CE3-4546-40A2-B950-267BA4F0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601-AA3A-45B4-B77F-3EAE9A9D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419-F3C4-4DB3-A376-ECA6C8A6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F40-26A5-42F2-BFD9-B43BC2AD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0A6-430C-4E5F-8F4F-A05836BD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4B75-2678-48F1-9C97-BC334971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21E7-1AB9-4797-B6A1-F355251D5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20:15:54Z</dcterms:created>
  <dc:creator>Allison Druin</dc:creator>
  <dc:description/>
  <dc:language>en-US</dc:language>
  <cp:lastModifiedBy>Allison Druin</cp:lastModifiedBy>
  <dcterms:modified xsi:type="dcterms:W3CDTF">2002-05-16T20:16:11Z</dcterms:modified>
  <cp:revision>1</cp:revision>
  <dc:subject/>
  <dc:title>PowerPoint Presentation</dc:title>
</cp:coreProperties>
</file>