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20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0046-AFCA-49E3-95A7-8B02EFAF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228240" y="4343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Usage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/ distribution/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ng Workforce (&gt;50% of pop. US over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llnes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ganic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dis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ism (religious/political/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n board vs. those left beh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logistic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viruses (computer/human/ani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ckaged, timely information always ha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50D-37EF-493D-A54A-AE8C6CE3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6464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07D-1456-43F8-8FA3-44E37555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6464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6464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0ED-AEB9-4583-81BC-F69658C0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6464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6464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6464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44C-1570-4EEB-BD91-6C62B1A9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5EB-AE71-41EA-BFF7-B782BDE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B14-8E37-4CF1-A90D-1BAAE383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65E-BDDD-45FB-8E8A-AE22396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322-80F6-4114-8509-ECEB1301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3B6-CB4F-464D-B910-E45AE03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6464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0FA-FFE7-43A2-98AB-68BC23D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6464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932-04C8-42F2-A6BF-6CFB3DF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6464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F7B-2568-4D10-AE3B-94D9941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6E5-C14D-40B7-A2EF-92CF9869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523-993A-480E-85BC-9FAC1F38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629400" y="6019920"/>
            <a:ext cx="23814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geocities.com/studiobug7/pages/divine_spark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360" y="25142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ngman Center for Entrepreneurship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mith School of Busines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niversity of Maryl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CIL Annual Symposi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y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2007</a:t>
            </a:r>
            <a:endParaRPr b="0" lang="en-US" sz="32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18288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What fails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65000"/>
              </a:lnSpc>
              <a:spcAft>
                <a:spcPts val="2001"/>
              </a:spcAft>
              <a:buClr>
                <a:srgbClr val="cf1f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Aft>
                <a:spcPts val="2001"/>
              </a:spcAft>
              <a:buClr>
                <a:srgbClr val="cf1f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able Marke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Aft>
                <a:spcPts val="2001"/>
              </a:spcAft>
              <a:buClr>
                <a:srgbClr val="cf1f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Solu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Aft>
                <a:spcPts val="2001"/>
              </a:spcAft>
              <a:buClr>
                <a:srgbClr val="cf1f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a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Aft>
                <a:spcPts val="2001"/>
              </a:spcAft>
              <a:buClr>
                <a:srgbClr val="cf1f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th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f1f11"/>
                </a:solidFill>
                <a:latin typeface="Times New Roman"/>
              </a:rPr>
              <a:t>IMPLEMENTATION</a:t>
            </a:r>
            <a:r>
              <a:rPr b="1" lang="en-US" sz="4400" spc="-1" strike="noStrike">
                <a:solidFill>
                  <a:srgbClr val="cf1f11"/>
                </a:solidFill>
                <a:latin typeface="Wingdings"/>
                <a:ea typeface="Wingdings"/>
              </a:rPr>
              <a:t></a:t>
            </a:r>
            <a:br>
              <a:rPr sz="4400"/>
            </a:br>
            <a:r>
              <a:rPr b="1" lang="en-US" sz="4400" spc="-1" strike="noStrike">
                <a:solidFill>
                  <a:srgbClr val="cf1f11"/>
                </a:solidFill>
                <a:latin typeface="Times New Roman"/>
              </a:rPr>
              <a:t>Five Questions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Market Challenges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101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Is it Worth it?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6399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838080" y="3276720"/>
            <a:ext cx="3810240" cy="609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f1f11"/>
                </a:solidFill>
                <a:latin typeface="Times New Roman"/>
              </a:rPr>
              <a:t>ITERATION</a:t>
            </a:r>
            <a:r>
              <a:rPr b="1" lang="en-US" sz="3500" spc="-1" strike="noStrike">
                <a:solidFill>
                  <a:srgbClr val="cf1f11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cf1f11"/>
                </a:solidFill>
                <a:latin typeface="Times New Roman"/>
              </a:rPr>
              <a:t>Improve the Model:</a:t>
            </a:r>
            <a:r>
              <a:rPr b="0" lang="en-US" sz="3500" spc="-1" strike="noStrike">
                <a:solidFill>
                  <a:srgbClr val="cf1f11"/>
                </a:solidFill>
                <a:latin typeface="Times New Roman"/>
              </a:rPr>
              <a:t> </a:t>
            </a:r>
            <a:br>
              <a:rPr sz="3500"/>
            </a:br>
            <a:r>
              <a:rPr b="0" lang="en-US" sz="3500" spc="-1" strike="noStrike">
                <a:solidFill>
                  <a:srgbClr val="cf1f11"/>
                </a:solidFill>
                <a:latin typeface="Times New Roman"/>
              </a:rPr>
              <a:t>Venture Creation Process</a:t>
            </a:r>
            <a:endParaRPr b="0" lang="en-US" sz="35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133720"/>
            <a:ext cx="7201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Ask the right ques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Learn from your mistak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Think BIG IDEAS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65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5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ve a real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5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5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5000"/>
              </a:lnSpc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w Tech/Low Cost Rollout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5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verage your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5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rove the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905600" cy="5267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Guidelines for Success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-380880"/>
            <a:ext cx="4599000" cy="6933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8600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Aft>
                <a:spcPts val="2251"/>
              </a:spcAft>
              <a:buClr>
                <a:srgbClr val="cf1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nture Creation Process    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de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Aft>
                <a:spcPts val="2251"/>
              </a:spcAft>
              <a:buClr>
                <a:srgbClr val="cf1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repreneurial Mindset 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Aft>
                <a:spcPts val="2251"/>
              </a:spcAft>
              <a:buClr>
                <a:srgbClr val="cf1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t the Business      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Aft>
                <a:spcPts val="2251"/>
              </a:spcAft>
              <a:buClr>
                <a:srgbClr val="cf1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f1f11"/>
                </a:solidFill>
                <a:latin typeface="Times New Roman"/>
              </a:rPr>
              <a:t>Agenda</a:t>
            </a:r>
            <a:endParaRPr b="0" lang="en-US" sz="4800" spc="-1" strike="noStrike">
              <a:solidFill>
                <a:srgbClr val="cf1f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53280" y="2057400"/>
            <a:ext cx="4928040" cy="3887640"/>
            <a:chOff x="53280" y="2057400"/>
            <a:chExt cx="4928040" cy="3887640"/>
          </a:xfrm>
        </p:grpSpPr>
        <p:sp>
          <p:nvSpPr>
            <p:cNvPr id="57" name="_s550916"/>
            <p:cNvSpPr/>
            <p:nvPr/>
          </p:nvSpPr>
          <p:spPr>
            <a:xfrm>
              <a:off x="1062000" y="205740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550917"/>
            <p:cNvSpPr/>
            <p:nvPr/>
          </p:nvSpPr>
          <p:spPr>
            <a:xfrm rot="5400000">
              <a:off x="1683720" y="2679480"/>
              <a:ext cx="2643120" cy="264348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480"/>
                <a:gd name="textAreaBottom" fmla="*/ 2643840 h 26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550918"/>
            <p:cNvSpPr/>
            <p:nvPr/>
          </p:nvSpPr>
          <p:spPr>
            <a:xfrm rot="10800000">
              <a:off x="1062000" y="330192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550919"/>
            <p:cNvSpPr/>
            <p:nvPr/>
          </p:nvSpPr>
          <p:spPr>
            <a:xfrm rot="16200000">
              <a:off x="439560" y="267984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550920"/>
            <p:cNvSpPr/>
            <p:nvPr/>
          </p:nvSpPr>
          <p:spPr>
            <a:xfrm>
              <a:off x="682560" y="230184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2" marL="91440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550921"/>
            <p:cNvSpPr/>
            <p:nvPr/>
          </p:nvSpPr>
          <p:spPr>
            <a:xfrm>
              <a:off x="3089160" y="470520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550922"/>
            <p:cNvSpPr/>
            <p:nvPr/>
          </p:nvSpPr>
          <p:spPr>
            <a:xfrm>
              <a:off x="3087720" y="2300400"/>
              <a:ext cx="99504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550923"/>
            <p:cNvSpPr/>
            <p:nvPr/>
          </p:nvSpPr>
          <p:spPr>
            <a:xfrm>
              <a:off x="684000" y="470700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88160" y="2209680"/>
              <a:ext cx="114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Verdana"/>
                </a:rPr>
                <a:t>Id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2971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Verdana"/>
                </a:rPr>
                <a:t>It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39800" y="472428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Verdana"/>
                </a:rPr>
                <a:t>Assess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280" y="5029200"/>
              <a:ext cx="20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Verdana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f1f11"/>
                </a:solidFill>
                <a:latin typeface="Times New Roman"/>
              </a:rPr>
              <a:t>Opportunity Evaluation:</a:t>
            </a:r>
            <a:r>
              <a:rPr b="0" lang="en-US" sz="3500" spc="-1" strike="noStrike">
                <a:solidFill>
                  <a:srgbClr val="cf1f11"/>
                </a:solidFill>
                <a:latin typeface="Times New Roman"/>
              </a:rPr>
              <a:t> </a:t>
            </a:r>
            <a:br>
              <a:rPr sz="3500"/>
            </a:br>
            <a:r>
              <a:rPr b="0" lang="en-US" sz="3500" spc="-1" strike="noStrike">
                <a:solidFill>
                  <a:srgbClr val="cf1f11"/>
                </a:solidFill>
                <a:latin typeface="Times New Roman"/>
              </a:rPr>
              <a:t>Venture Creation Process</a:t>
            </a:r>
            <a:endParaRPr b="0" lang="en-US" sz="3500" spc="-1" strike="noStrike">
              <a:solidFill>
                <a:srgbClr val="cf1f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8604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at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iplined dec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133720"/>
            <a:ext cx="7201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Think Big Idea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Find a Business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Pro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Impro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4382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IS HCI MODEL IS THE SAME AS THE VENTURE CRE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Aft>
                <a:spcPts val="2999"/>
              </a:spcAft>
              <a:buClr>
                <a:srgbClr val="cf1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Definition…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f1f11"/>
                </a:solidFill>
                <a:latin typeface="Times New Roman"/>
              </a:rPr>
              <a:t>Entrepreneurial Definitions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75" name="" descr="Gino's Dad as a young man playing violin."/>
          <p:cNvPicPr/>
          <p:nvPr/>
        </p:nvPicPr>
        <p:blipFill>
          <a:blip r:embed="rId1"/>
          <a:stretch/>
        </p:blipFill>
        <p:spPr>
          <a:xfrm>
            <a:off x="0" y="358128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ivine_spa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981080"/>
            <a:ext cx="3124440" cy="2133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1981080"/>
            <a:ext cx="447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5000"/>
              </a:lnSpc>
              <a:spcAft>
                <a:spcPts val="2999"/>
              </a:spcAft>
              <a:buClr>
                <a:srgbClr val="cf1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ate Valu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1f11"/>
                </a:solidFill>
                <a:latin typeface="Times New Roman"/>
              </a:rPr>
              <a:t>Finding an Opportunity</a:t>
            </a:r>
            <a:br>
              <a:rPr sz="4000"/>
            </a:br>
            <a:r>
              <a:rPr b="0" lang="en-US" sz="4000" spc="-1" strike="noStrike">
                <a:solidFill>
                  <a:srgbClr val="cf1f11"/>
                </a:solidFill>
                <a:latin typeface="Times New Roman"/>
              </a:rPr>
              <a:t>(IDEATION)</a:t>
            </a:r>
            <a:endParaRPr b="0" lang="en-US" sz="4000" spc="-1" strike="noStrike">
              <a:solidFill>
                <a:srgbClr val="cf1f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Global Indicators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948640" cy="111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7020000" cy="526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4027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Interface is Everywhere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6553080" cy="5584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5105160" cy="396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1f11"/>
                </a:solidFill>
                <a:latin typeface="Times New Roman"/>
              </a:rPr>
              <a:t>Find a Business Model that works</a:t>
            </a:r>
            <a:br>
              <a:rPr sz="4000"/>
            </a:br>
            <a:r>
              <a:rPr b="1" lang="en-US" sz="4000" spc="-1" strike="noStrike">
                <a:solidFill>
                  <a:srgbClr val="cf1f11"/>
                </a:solidFill>
                <a:latin typeface="Times New Roman"/>
              </a:rPr>
              <a:t>(Assessment)</a:t>
            </a:r>
            <a:endParaRPr b="0" lang="en-US" sz="4000" spc="-1" strike="noStrike">
              <a:solidFill>
                <a:srgbClr val="cf1f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11"/>
                </a:solidFill>
                <a:latin typeface="Times New Roman"/>
              </a:rPr>
              <a:t>Finding a Model</a:t>
            </a:r>
            <a:endParaRPr b="0" lang="en-US" sz="4400" spc="-1" strike="noStrike">
              <a:solidFill>
                <a:srgbClr val="cf1f11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9982080" cy="480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520" y="1562040"/>
            <a:ext cx="9096480" cy="529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65160" y="1600200"/>
            <a:ext cx="9209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31:46Z</dcterms:created>
  <dc:creator>Zoey Rawlins</dc:creator>
  <dc:description/>
  <dc:language>en-US</dc:language>
  <cp:lastModifiedBy>Asher Epstein</cp:lastModifiedBy>
  <dcterms:modified xsi:type="dcterms:W3CDTF">2007-05-09T03:33:32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