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2.wmf" ContentType="image/x-wmf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6E76C6-7164-4ED4-8253-B08038DFA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421160"/>
            <a:ext cx="561996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s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 vs. social translucen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behavio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9800" y="8840880"/>
            <a:ext cx="30416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230B90-3D07-455A-A2CF-DE121931D87B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8A9-5F9B-47C7-BBB9-D4F8282B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C66F-244F-47A3-9D47-AC47F216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331C-6C06-4A61-A55B-FE2D4B95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84B-6661-49A0-89B6-DF1B96BE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D1C8-BD41-41C0-87A0-231784B5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54EB-1B97-45D1-9384-439DA989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CCD9-69FB-41C8-9CAF-8AFAA1D2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06AE-3896-4A6D-835E-613C8235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2961-FAA9-49E8-80C3-2F2F650C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D500-7712-476A-A382-7C1F7114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7DCC-9E89-4D8C-AC0F-5E514780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17F1-56C9-481A-BB84-C03A4EAD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3185-CD20-4583-AEE0-DD2D23B9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D3D7-A80F-4398-BEDF-1AF2B54C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5AF9-46D0-4A13-898F-1BAD7C33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2B88-AEC6-4492-80BE-F8ECEE39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AFEA-47BF-4966-B4BE-4FE209CE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7893-8EDE-40E7-8093-B94D1C46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1FD-6F76-442A-8809-3367220B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0BB0-BEAC-4A73-94CE-B78CA43B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392-10BF-4DA8-9A43-D45C426F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C5F-4924-4DDA-8939-814B0442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1A7-AFD6-434B-BAE7-993F7609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77A5-0750-490B-B505-D2625BE6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7B54-2257-4CCB-9257-E7D1B537CD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DCB3-BD85-4BA7-9DF3-6B8882584D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hyperlink" Target="mailto:yanqu@umd.edu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427040"/>
            <a:ext cx="868680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uilding Expertise Network by Tagging Peop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09120" y="3505320"/>
            <a:ext cx="403884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n Q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chool, University of Mary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nqu@umd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991640" y="5840280"/>
            <a:ext cx="1152360" cy="1017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114800" y="3505320"/>
            <a:ext cx="396252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 Zh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ney Bowes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.Zhang@pb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ilot Study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182844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ed the system in a research unit at a large corporation, and two course sections at the University of Mary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ithin 3 Weeks…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1447920"/>
          <a:ext cx="7924680" cy="479556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orpo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-Course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-Course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eo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Registered Us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3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Ta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3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Tag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Being tagg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49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king Sense of Organizational Expertis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8915400" cy="438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49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king Sense of Organizational Expertis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76520"/>
          <a:ext cx="769608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76960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4876920" y="1600200"/>
            <a:ext cx="3047760" cy="38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2819520"/>
            <a:ext cx="3048120" cy="38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56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king Sense of Organizational Expertis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3520" y="1550880"/>
            <a:ext cx="8001000" cy="530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entive for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structure underlying the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psych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 &amp;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ke Home Po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Tagging is an effective way of building organizational expertise knowledg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esign challe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dvanced systems supporting the Sensemaking of large expertise knowledge-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anks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2703600" cy="2847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991640" y="5840280"/>
            <a:ext cx="1152360" cy="1017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93800" y="5105520"/>
            <a:ext cx="305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99"/>
                </a:solidFill>
                <a:latin typeface="Arial"/>
              </a:rPr>
              <a:t>Yan Qu</a:t>
            </a:r>
            <a:r>
              <a:rPr b="1" lang="en-US" sz="2800" spc="-1" strike="noStrike">
                <a:solidFill>
                  <a:srgbClr val="669999"/>
                </a:solidFill>
                <a:latin typeface="Arial"/>
              </a:rPr>
              <a:t>  </a:t>
            </a:r>
            <a:br>
              <a:rPr sz="2800"/>
            </a:br>
            <a:r>
              <a:rPr b="1" lang="en-US" sz="28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yanqu@um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are with Peer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Tagging - I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rell et 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io - Fac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 et al. (MS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entive for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, reputation, organizational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upon existing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94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ere are the Experts in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rganizations and Communities?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I find expert to ask questions or to collabor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s of expertise do we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we know each other’s experti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other people think I am good 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 want other people to know me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09880" y="5181480"/>
            <a:ext cx="1095480" cy="117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t’s a Long Way to G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the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- Mismatch between the purpose of tagging the usage of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tags match people’s expert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 perception vs. community per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of abs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of 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types of 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people find experts using the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cabulary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between the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t’s a Long Way to G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ppropriate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ner &amp; loser? Popular pers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 &amp;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5120" y="152280"/>
            <a:ext cx="8948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about an Expertise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Knowledge-Bas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pertise Knowledge-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knows 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I contact the expe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der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3886200"/>
            <a:ext cx="2743200" cy="182880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Up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038480"/>
            <a:ext cx="2743200" cy="182880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4419720"/>
            <a:ext cx="2743200" cy="182880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5334120"/>
            <a:ext cx="1284480" cy="914400"/>
          </a:xfrm>
          <a:prstGeom prst="irregularSeal2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about an Expertise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Knowledge-Bas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ways of building Expertise Knowledge-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 collects employee’s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ng people’s web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people report their own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people report other’s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hey provide complete, accurate, and up-to-date Expertise Knowledge-B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ople Tagging + “Game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w way to identify and find expertise in an organization or a loca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ta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 with a purpo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ise network visualization &amp;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g your colleagu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1064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3278160" cy="4524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63520" y="1905120"/>
            <a:ext cx="3168720" cy="4952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90720" y="1447920"/>
            <a:ext cx="716256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7696440" cy="5035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plore the expertise networ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3520" y="1550880"/>
            <a:ext cx="8001000" cy="530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arch experti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5120" y="1266840"/>
            <a:ext cx="5248080" cy="559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quest for exper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381880" cy="430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6172200" cy="267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3:21:22Z</dcterms:created>
  <dc:creator>Y Q</dc:creator>
  <dc:description/>
  <dc:language>en-US</dc:language>
  <cp:lastModifiedBy>Y Q</cp:lastModifiedBy>
  <dcterms:modified xsi:type="dcterms:W3CDTF">2009-05-27T12:03:48Z</dcterms:modified>
  <cp:revision>23</cp:revision>
  <dc:subject/>
  <dc:title>Collaborative Knowledge Structure Construction</dc:title>
</cp:coreProperties>
</file>