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BE74-7C55-448F-B0E5-3ADCAB0CE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tique Olv (W1)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BE2E-FEC0-4041-965E-571070D3E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67BD7-0286-4F1B-A0F6-75F8C127E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81A43-EC8E-43CD-836F-5D810F5F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27917-16FD-4BB0-9739-69F03C922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B1DDA-9AA3-48FF-96B2-F0AC3FD6E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666A-75EB-4DB5-AAD7-75C5D6143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F0BA-EA27-4898-B8B9-D15B5A1F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DE27-55FC-423C-9A61-DED55B8E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2309-9FD1-430B-B1F0-CC60E562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36E3-0940-48DE-8BAF-C39C89FB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3352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105B6-20A6-47FB-A48A-C1E94441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EB37-5CF8-4534-8EA3-FD427AAA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53EF9-AE1B-4319-97FB-06753B07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990C-4494-4FC3-8C20-8C595336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F0AC-2033-4471-9D93-748290DD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C930-F538-4A65-9F75-E860D1C8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833A-B26A-4B16-9887-62575A4F8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9D2B-471E-4583-9D27-7F420407A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FF7C5-50A2-4B16-8761-D98DFDF5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A327E-26D0-4EA0-BC7E-EE2FB214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0D6F0-A2EB-4BBE-9EFE-5733926E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53352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FB5F5-655C-4D2E-B7AA-01DF4F12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D336D-5E20-4753-8CE5-DC11671B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5B07F-6DC4-47AE-B291-877D3F5B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8813D-9557-4DAC-8675-90D5F970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D785-B887-44CE-8B1B-72472F8280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0" y="914400"/>
            <a:ext cx="285840" cy="223920"/>
          </a:xfrm>
          <a:prstGeom prst="rect">
            <a:avLst/>
          </a:prstGeom>
          <a:gradFill rotWithShape="0">
            <a:gsLst>
              <a:gs pos="0">
                <a:srgbClr val="f6f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412920" y="971640"/>
            <a:ext cx="8731080" cy="114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409680" y="971640"/>
            <a:ext cx="137880" cy="58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547560" y="914400"/>
            <a:ext cx="139680" cy="57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47560" y="971640"/>
            <a:ext cx="139680" cy="58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274680" y="1028880"/>
            <a:ext cx="136440" cy="58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409680" y="1028880"/>
            <a:ext cx="137880" cy="56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9" name="Rectangle 13"/>
          <p:cNvSpPr/>
          <p:nvPr/>
        </p:nvSpPr>
        <p:spPr>
          <a:xfrm>
            <a:off x="274680" y="1085760"/>
            <a:ext cx="136440" cy="57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503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503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503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13" name="Oval 18"/>
          <p:cNvSpPr/>
          <p:nvPr/>
        </p:nvSpPr>
        <p:spPr>
          <a:xfrm>
            <a:off x="133200" y="952560"/>
            <a:ext cx="152640" cy="152280"/>
          </a:xfrm>
          <a:prstGeom prst="ellipse">
            <a:avLst/>
          </a:prstGeom>
          <a:solidFill>
            <a:srgbClr val="e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tique Olv (W1)"/>
            </a:endParaRPr>
          </a:p>
        </p:txBody>
      </p:sp>
      <p:pic>
        <p:nvPicPr>
          <p:cNvPr id="14" name="Picture 17" descr="HCIL-Round-Logo"/>
          <p:cNvPicPr/>
          <p:nvPr/>
        </p:nvPicPr>
        <p:blipFill>
          <a:blip r:embed="rId2"/>
          <a:srcRect l="7864" t="2300" r="7864" b="4420"/>
          <a:stretch/>
        </p:blipFill>
        <p:spPr>
          <a:xfrm>
            <a:off x="8329680" y="6049800"/>
            <a:ext cx="761760" cy="744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tique Olv (W1)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tique Olv (W1)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ntique Olv (W1)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ntique Olv (W1)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ntique Olv (W1)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ntique Olv (W1)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ntique Olv (W1)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ntique Olv (W1)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ntique Olv (W1)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ntique Olv (W1)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ntique Olv (W1)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ntique Olv (W1)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503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503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503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347C-5072-41E6-97A4-27FD02FCBF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tique Olv (W1)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1219320"/>
            <a:ext cx="9067680" cy="579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igning the User Interface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Edition </a:t>
            </a:r>
            <a:br>
              <a:rPr sz="40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 Shneiderman and Catherine Plaisant</a:t>
            </a:r>
            <a:br>
              <a:rPr sz="2400"/>
            </a:b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{ben,plaisant}@cs.umd.edu</a:t>
            </a:r>
            <a:br>
              <a:rPr sz="3200"/>
            </a:br>
            <a:br>
              <a:rPr sz="2800"/>
            </a:br>
            <a:br>
              <a:rPr sz="3200"/>
            </a:b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Welcome &#10;to the University of Maryland"/>
          <p:cNvPicPr/>
          <p:nvPr/>
        </p:nvPicPr>
        <p:blipFill>
          <a:blip r:embed="rId1"/>
          <a:stretch/>
        </p:blipFill>
        <p:spPr>
          <a:xfrm>
            <a:off x="2057400" y="5778360"/>
            <a:ext cx="4495680" cy="77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ing the User Interface: Trans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2" descr="P1050684cr-DTUI4-Chinese"/>
          <p:cNvPicPr/>
          <p:nvPr/>
        </p:nvPicPr>
        <p:blipFill>
          <a:blip r:embed="rId1"/>
          <a:stretch/>
        </p:blipFill>
        <p:spPr>
          <a:xfrm>
            <a:off x="7010280" y="762120"/>
            <a:ext cx="2291040" cy="3246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P1050680cr-DTUI1-Japanese"/>
          <p:cNvPicPr/>
          <p:nvPr/>
        </p:nvPicPr>
        <p:blipFill>
          <a:blip r:embed="rId2"/>
          <a:stretch/>
        </p:blipFill>
        <p:spPr>
          <a:xfrm>
            <a:off x="0" y="781200"/>
            <a:ext cx="2220840" cy="3066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4" descr="P1050683cr-DTUI4-Portuguese"/>
          <p:cNvPicPr/>
          <p:nvPr/>
        </p:nvPicPr>
        <p:blipFill>
          <a:blip r:embed="rId3"/>
          <a:stretch/>
        </p:blipFill>
        <p:spPr>
          <a:xfrm>
            <a:off x="5715000" y="3657600"/>
            <a:ext cx="2222640" cy="3200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5" descr="P1050682cr-DTUI3-German"/>
          <p:cNvPicPr/>
          <p:nvPr/>
        </p:nvPicPr>
        <p:blipFill>
          <a:blip r:embed="rId4"/>
          <a:stretch/>
        </p:blipFill>
        <p:spPr>
          <a:xfrm>
            <a:off x="3505320" y="762120"/>
            <a:ext cx="2224080" cy="3251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6" descr="P1050681cr-DTUI2-Japanese"/>
          <p:cNvPicPr/>
          <p:nvPr/>
        </p:nvPicPr>
        <p:blipFill>
          <a:blip r:embed="rId5"/>
          <a:stretch/>
        </p:blipFill>
        <p:spPr>
          <a:xfrm>
            <a:off x="1371600" y="3774960"/>
            <a:ext cx="222264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533520" y="1522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TUI5: Getting Started Summer 2008</a:t>
            </a:r>
            <a:endParaRPr b="0" lang="en-US" sz="3200" spc="-1" strike="noStrike">
              <a:solidFill>
                <a:srgbClr val="000000"/>
              </a:solidFill>
              <a:latin typeface="Antique Olv (W1)"/>
            </a:endParaRPr>
          </a:p>
        </p:txBody>
      </p:sp>
      <p:pic>
        <p:nvPicPr>
          <p:cNvPr id="157" name="Picture 3" descr="P1030398cr1"/>
          <p:cNvPicPr/>
          <p:nvPr/>
        </p:nvPicPr>
        <p:blipFill>
          <a:blip r:embed="rId1"/>
          <a:srcRect l="14883" t="7371" r="13489" b="18443"/>
          <a:stretch/>
        </p:blipFill>
        <p:spPr>
          <a:xfrm>
            <a:off x="152280" y="1143000"/>
            <a:ext cx="4648320" cy="30384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120240" y="4419720"/>
            <a:ext cx="5138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tique Olv (W1)"/>
              </a:rPr>
              <a:t>Steven Jacobs, Catherine Plaisant, Ben Shneiderman</a:t>
            </a:r>
            <a:endParaRPr b="0" lang="en-US" sz="1600" spc="-1" strike="noStrike">
              <a:solidFill>
                <a:srgbClr val="000000"/>
              </a:solidFill>
              <a:latin typeface="Antique Olv (W1)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tique Olv (W1)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ntique Olv (W1)"/>
              </a:rPr>
              <a:t>Maxine Cohen</a:t>
            </a:r>
            <a:endParaRPr b="0" lang="en-US" sz="1600" spc="-1" strike="noStrike">
              <a:solidFill>
                <a:srgbClr val="000000"/>
              </a:solidFill>
              <a:latin typeface="Antique Olv (W1)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tique Olv (W1)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v (W1)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ntique Olv (W1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533520" y="1522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TUI5: Launching Party at CHI 2009</a:t>
            </a:r>
            <a:endParaRPr b="0" lang="en-US" sz="3200" spc="-1" strike="noStrike">
              <a:solidFill>
                <a:srgbClr val="000000"/>
              </a:solidFill>
              <a:latin typeface="Antique Olv (W1)"/>
            </a:endParaRPr>
          </a:p>
        </p:txBody>
      </p:sp>
      <p:pic>
        <p:nvPicPr>
          <p:cNvPr id="160" name="Picture 3" descr="P1030398cr1"/>
          <p:cNvPicPr/>
          <p:nvPr/>
        </p:nvPicPr>
        <p:blipFill>
          <a:blip r:embed="rId1"/>
          <a:srcRect l="14883" t="7371" r="13489" b="18443"/>
          <a:stretch/>
        </p:blipFill>
        <p:spPr>
          <a:xfrm>
            <a:off x="152280" y="1143000"/>
            <a:ext cx="4648320" cy="3038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P1050613cr"/>
          <p:cNvPicPr/>
          <p:nvPr/>
        </p:nvPicPr>
        <p:blipFill>
          <a:blip r:embed="rId2"/>
          <a:stretch/>
        </p:blipFill>
        <p:spPr>
          <a:xfrm>
            <a:off x="3276720" y="3479760"/>
            <a:ext cx="579096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533520" y="152280"/>
            <a:ext cx="8610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TUI: Leading textbook  &gt;100,000 copies</a:t>
            </a:r>
            <a:endParaRPr b="0" lang="en-US" sz="3200" spc="-1" strike="noStrike">
              <a:solidFill>
                <a:srgbClr val="000000"/>
              </a:solidFill>
              <a:latin typeface="Antique Olv (W1)"/>
            </a:endParaRPr>
          </a:p>
        </p:txBody>
      </p:sp>
      <p:pic>
        <p:nvPicPr>
          <p:cNvPr id="163" name="Picture 5" descr="P1050623cr"/>
          <p:cNvPicPr/>
          <p:nvPr/>
        </p:nvPicPr>
        <p:blipFill>
          <a:blip r:embed="rId1"/>
          <a:stretch/>
        </p:blipFill>
        <p:spPr>
          <a:xfrm>
            <a:off x="762120" y="1143000"/>
            <a:ext cx="754380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533520" y="1522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ing the User Interface: </a:t>
            </a:r>
            <a:r>
              <a:rPr b="1" lang="en-US" sz="3200" spc="-1" strike="noStrike">
                <a:solidFill>
                  <a:srgbClr val="dc0000"/>
                </a:solidFill>
                <a:latin typeface="Arial"/>
              </a:rPr>
              <a:t>5</a:t>
            </a:r>
            <a:r>
              <a:rPr b="1" lang="en-US" sz="3200" spc="-1" strike="noStrike" baseline="30000">
                <a:solidFill>
                  <a:srgbClr val="dc00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3200" spc="-1" strike="noStrike">
              <a:solidFill>
                <a:srgbClr val="000000"/>
              </a:solidFill>
              <a:latin typeface="Antique Olv (W1)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28600" y="1295280"/>
          <a:ext cx="8686800" cy="4800600"/>
        </p:xfrm>
        <a:graphic>
          <a:graphicData uri="http://schemas.openxmlformats.org/drawingml/2006/table">
            <a:tbl>
              <a:tblPr/>
              <a:tblGrid>
                <a:gridCol w="1600200"/>
                <a:gridCol w="1219320"/>
                <a:gridCol w="1904760"/>
                <a:gridCol w="914400"/>
                <a:gridCol w="304812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tique Olv (W1)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tique Olv (W1)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pt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tique Olv (W1)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 Pag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tique Olv (W1)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 / Contribut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tique Olv (W1)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tique Olv (W1)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tique Olv (W1)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tique Olv (W1)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tique Olv (W1)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ol Wald 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tique Olv (W1)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tique Olv (W1)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tique Olv (W1)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tique Olv (W1)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terwo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tique Olv (W1)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tique Olv (W1)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 Hoffman +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tique Olv (W1)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ll Krement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tique Olv (W1)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tique Olv (W1)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tique Olv (W1)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terwo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tique Olv (W1)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tique Olv (W1)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Kostab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tique Olv (W1)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C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tique Olv (W1)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tique Olv (W1)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terwo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tique Olv (W1)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tique Olv (W1)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nnifer Preece +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tique Olv (W1)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an-Daniel Feke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tique Olv (W1)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C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tique Olv (W1)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tique Olv (W1)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terwo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tique Olv (W1)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tique Olv (W1)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ne Cohen +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tique Olv (W1)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ven Jaco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tique Olv (W1)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9372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signing the User Interface: 1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d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1" descr="DUI1.jpg (40217 bytes)"/>
          <p:cNvPicPr/>
          <p:nvPr/>
        </p:nvPicPr>
        <p:blipFill>
          <a:blip r:embed="rId1"/>
          <a:stretch/>
        </p:blipFill>
        <p:spPr>
          <a:xfrm>
            <a:off x="838080" y="1143000"/>
            <a:ext cx="3440160" cy="50292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2"/>
          <p:cNvSpPr/>
          <p:nvPr/>
        </p:nvSpPr>
        <p:spPr>
          <a:xfrm>
            <a:off x="2041200" y="63244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v (W1)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Antique Olv (W1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9372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signing the User Interface: 1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d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DUI1.jpg (40217 bytes)"/>
          <p:cNvPicPr/>
          <p:nvPr/>
        </p:nvPicPr>
        <p:blipFill>
          <a:blip r:embed="rId1"/>
          <a:stretch/>
        </p:blipFill>
        <p:spPr>
          <a:xfrm>
            <a:off x="838080" y="1143000"/>
            <a:ext cx="3440160" cy="50292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4"/>
          <p:cNvSpPr/>
          <p:nvPr/>
        </p:nvSpPr>
        <p:spPr>
          <a:xfrm>
            <a:off x="2041200" y="63244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v (W1)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Antique Olv (W1)"/>
            </a:endParaRPr>
          </a:p>
        </p:txBody>
      </p:sp>
      <p:pic>
        <p:nvPicPr>
          <p:cNvPr id="121" name="Picture 5" descr="ben-clasp"/>
          <p:cNvPicPr/>
          <p:nvPr/>
        </p:nvPicPr>
        <p:blipFill>
          <a:blip r:embed="rId2"/>
          <a:stretch/>
        </p:blipFill>
        <p:spPr>
          <a:xfrm>
            <a:off x="5452920" y="1447920"/>
            <a:ext cx="2660760" cy="34052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5866560" y="487512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tique Olv (W1)"/>
              </a:rPr>
              <a:t>Photo by Karsh</a:t>
            </a:r>
            <a:endParaRPr b="0" lang="en-US" sz="1800" spc="-1" strike="noStrike">
              <a:solidFill>
                <a:srgbClr val="000000"/>
              </a:solidFill>
              <a:latin typeface="Antique Olv (W1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9372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signing the User Interface: 1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&amp; 2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d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DUI2.jpg (39596 bytes)"/>
          <p:cNvPicPr/>
          <p:nvPr/>
        </p:nvPicPr>
        <p:blipFill>
          <a:blip r:embed="rId1"/>
          <a:stretch/>
        </p:blipFill>
        <p:spPr>
          <a:xfrm>
            <a:off x="4807080" y="1143000"/>
            <a:ext cx="3458880" cy="5029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DUI1.jpg (40217 bytes)"/>
          <p:cNvPicPr/>
          <p:nvPr/>
        </p:nvPicPr>
        <p:blipFill>
          <a:blip r:embed="rId2"/>
          <a:stretch/>
        </p:blipFill>
        <p:spPr>
          <a:xfrm>
            <a:off x="838080" y="1143000"/>
            <a:ext cx="3440160" cy="50292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2041200" y="63244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v (W1)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5923440" y="63244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v (W1)"/>
              </a:rPr>
              <a:t>1992</a:t>
            </a:r>
            <a:endParaRPr b="0" lang="en-US" sz="2400" spc="-1" strike="noStrike">
              <a:solidFill>
                <a:srgbClr val="000000"/>
              </a:solidFill>
              <a:latin typeface="Antique Olv (W1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DTUI-doors2b"/>
          <p:cNvPicPr/>
          <p:nvPr/>
        </p:nvPicPr>
        <p:blipFill>
          <a:blip r:embed="rId1"/>
          <a:srcRect l="0" t="0" r="11080" b="4226"/>
          <a:stretch/>
        </p:blipFill>
        <p:spPr>
          <a:xfrm>
            <a:off x="4305240" y="1066680"/>
            <a:ext cx="4000680" cy="5334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dtui"/>
          <p:cNvPicPr/>
          <p:nvPr/>
        </p:nvPicPr>
        <p:blipFill>
          <a:blip r:embed="rId2"/>
          <a:stretch/>
        </p:blipFill>
        <p:spPr>
          <a:xfrm>
            <a:off x="685800" y="1447920"/>
            <a:ext cx="3273480" cy="48765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8"/>
          <p:cNvSpPr/>
          <p:nvPr/>
        </p:nvSpPr>
        <p:spPr>
          <a:xfrm>
            <a:off x="1877760" y="63244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v (W1)"/>
              </a:rPr>
              <a:t>1998</a:t>
            </a:r>
            <a:endParaRPr b="0" lang="en-US" sz="24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6146640" y="63244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v (W1)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457200" y="152280"/>
            <a:ext cx="9372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signing the User Interface: 3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&amp; 4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dition</a:t>
            </a:r>
            <a:endParaRPr b="0" lang="en-US" sz="3000" spc="-1" strike="noStrike">
              <a:solidFill>
                <a:srgbClr val="000000"/>
              </a:solidFill>
              <a:latin typeface="Antique Olv (W1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ing the User Interface: 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6059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 devices &amp;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boards, point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ces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mani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s, forms, command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6454800" y="504360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awl.com/DTUI</a:t>
            </a:r>
            <a:endParaRPr b="0" lang="en-US" sz="1800" spc="-1" strike="noStrike">
              <a:solidFill>
                <a:srgbClr val="000000"/>
              </a:solidFill>
              <a:latin typeface="Antique Olv (W1)"/>
            </a:endParaRPr>
          </a:p>
        </p:txBody>
      </p:sp>
      <p:pic>
        <p:nvPicPr>
          <p:cNvPr id="136" name="Picture 8" descr="DTUI-doors2b"/>
          <p:cNvPicPr/>
          <p:nvPr/>
        </p:nvPicPr>
        <p:blipFill>
          <a:blip r:embed="rId1"/>
          <a:stretch/>
        </p:blipFill>
        <p:spPr>
          <a:xfrm>
            <a:off x="5715000" y="1219320"/>
            <a:ext cx="3324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ing the User Interface: 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6059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 devices &amp;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boards, point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ces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mani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s, forms, command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devices &amp;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s, windows, color, s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, tables, 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, messages,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6454800" y="504360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awl.com/DTUI</a:t>
            </a:r>
            <a:endParaRPr b="0" lang="en-US" sz="1800" spc="-1" strike="noStrike">
              <a:solidFill>
                <a:srgbClr val="000000"/>
              </a:solidFill>
              <a:latin typeface="Antique Olv (W1)"/>
            </a:endParaRPr>
          </a:p>
        </p:txBody>
      </p:sp>
      <p:pic>
        <p:nvPicPr>
          <p:cNvPr id="140" name="Picture 8" descr="DTUI-doors2b"/>
          <p:cNvPicPr/>
          <p:nvPr/>
        </p:nvPicPr>
        <p:blipFill>
          <a:blip r:embed="rId1"/>
          <a:stretch/>
        </p:blipFill>
        <p:spPr>
          <a:xfrm>
            <a:off x="5715000" y="1219320"/>
            <a:ext cx="3324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ing the User Interface: 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6059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 devices &amp;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boards, point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ces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mani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s, forms, command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devices &amp;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s, windows, color, s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, tables, 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, messages,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, tutorials,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6454800" y="504360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awl.com/DTUI</a:t>
            </a:r>
            <a:endParaRPr b="0" lang="en-US" sz="1800" spc="-1" strike="noStrike">
              <a:solidFill>
                <a:srgbClr val="000000"/>
              </a:solidFill>
              <a:latin typeface="Antique Olv (W1)"/>
            </a:endParaRPr>
          </a:p>
        </p:txBody>
      </p:sp>
      <p:pic>
        <p:nvPicPr>
          <p:cNvPr id="144" name="Picture 8" descr="DTUI-doors2b"/>
          <p:cNvPicPr/>
          <p:nvPr/>
        </p:nvPicPr>
        <p:blipFill>
          <a:blip r:embed="rId1"/>
          <a:stretch/>
        </p:blipFill>
        <p:spPr>
          <a:xfrm>
            <a:off x="5715000" y="1219320"/>
            <a:ext cx="3324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28600" y="1371240"/>
            <a:ext cx="6059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 devices &amp;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boards, point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ces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mani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s, forms, command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devices &amp;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s, windows, color, s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, tables, 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, messages,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on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&amp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ocial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, tutorials,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earch          ● Visu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237720" y="543564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aw.com/DTUI</a:t>
            </a:r>
            <a:endParaRPr b="0" lang="en-US" sz="18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5649120" y="5715000"/>
            <a:ext cx="33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c0000"/>
                </a:solidFill>
                <a:latin typeface="Antique Olv (W1)"/>
              </a:rPr>
              <a:t>Fifth Edition: March 2009</a:t>
            </a:r>
            <a:endParaRPr b="0" lang="en-US" sz="2000" spc="-1" strike="noStrike">
              <a:solidFill>
                <a:srgbClr val="000000"/>
              </a:solidFill>
              <a:latin typeface="Antique Olv (W1)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1"/>
          <a:srcRect l="3137" t="6819" r="4312" b="5682"/>
          <a:stretch/>
        </p:blipFill>
        <p:spPr>
          <a:xfrm>
            <a:off x="5715000" y="1101600"/>
            <a:ext cx="3309840" cy="43196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"/>
          <p:cNvSpPr/>
          <p:nvPr/>
        </p:nvSpPr>
        <p:spPr>
          <a:xfrm>
            <a:off x="533520" y="1522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ing the User Interface: </a:t>
            </a:r>
            <a:r>
              <a:rPr b="1" lang="en-US" sz="3200" spc="-1" strike="noStrike">
                <a:solidFill>
                  <a:srgbClr val="dc0000"/>
                </a:solidFill>
                <a:latin typeface="Arial"/>
              </a:rPr>
              <a:t>5</a:t>
            </a:r>
            <a:r>
              <a:rPr b="1" lang="en-US" sz="3200" spc="-1" strike="noStrike" baseline="30000">
                <a:solidFill>
                  <a:srgbClr val="dc00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3200" spc="-1" strike="noStrike">
              <a:solidFill>
                <a:srgbClr val="000000"/>
              </a:solidFill>
              <a:latin typeface="Antique Olv (W1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20:17:30Z</dcterms:created>
  <dc:creator>Benjamin B. Bederson</dc:creator>
  <dc:description/>
  <dc:language>en-US</dc:language>
  <cp:lastModifiedBy>kiki</cp:lastModifiedBy>
  <dcterms:modified xsi:type="dcterms:W3CDTF">2009-05-20T19:56:41Z</dcterms:modified>
  <cp:revision>215</cp:revision>
  <dc:subject/>
  <dc:title>Voting System Technologies</dc:title>
</cp:coreProperties>
</file>