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28.png" ContentType="image/png"/>
  <Override PartName="/ppt/media/image37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D097-F43C-40A4-BF1E-8385C27E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BADA-7874-49C0-BBD0-790A5C8E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D04C-90D9-4335-AF55-18E09829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parin induced thrombocytopenia data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parin is used for anticoagulation when abnormal blood clotting occurrs in a patien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ever, Heparin induced thrombocytopenia can occur, usually within 4-14 days af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parin administration.  WHC wishes to find how many patients may exhibit these sig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ranked.p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taset is loaded and ranked by the number of platelet "Low or Critical" event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, we notice that many patients have more than 1 administrations of heparin.  We also see th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endipitously, that some patients, after being admitted to trauma center, some patients stayed in the hospital for mont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aligned(all)-ranked-selected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en align by all occurrences of "Heparin Administration", and then select, from the temporal summary, patients who have at le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"Low or Critical" platelet event within 4-14 days after any heparin administration.  We see that there are 1094 patients se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AE4-1F76-4C00-9F1B-01A618DB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02331-0D4B-40E2-90E2-1C0A1C7A97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1E5-2219-41C5-B59D-98B5FC23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uma Admission-hematocrit data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atocrit is the proportion of blood volume that is occupied by red blood cells.  Low or critical levels of hematocrit ind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hemorrhaging.  WHC is interested in what proportion of trauma patients who have low or critical levels of hematocrit within 24 hours trauma ad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defualt.p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 shows the data that is loaded into Lifelines2.  The patients are scattered on the calendar time, forcing users to scan horizontally as well as scrolling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aligned(first)-ranked-sel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ign the data by the first Trauma Admission, and rank the patients by the number hematocrit low or critical ev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ing the most 'severe' patients on top.  Finally, we show the distribution of "HCT Low or Critical", and selec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ho have "HCT Low or Critical" within 24 hours of Trauma Admission.  The blue number 4514 on top shows how many patients satisfy th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D44-4E9B-4421-9123-103E2F6A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17D-1EA0-4FF0-A471-D63D248B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C691-8EC3-49D0-868E-0EC84A3E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90E-1914-403C-B048-47EC9C41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299-6311-4823-AF83-813477F1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st and Creatinine data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some diagnostic radiology procedures, patients are injected contrast material.  However, some patients develop adverse si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s to the contrast material.  One serious side effect is renal failure, which is detected by high creatinine levels in a patient's blood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adverse effect usually occur within two weeks after the radiology contrast.  WHC is interested in finding the propor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patients who exhibit this condition in historical recor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aligned-ranked.p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 align by the 1st occurrence of radiology contrast and rank by the number of creatinine high (CREAT-H) events to br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most severe patients to the top.  We realize two things: (1) some patients have more than 1 "Radiology Contrast" even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(2), some patients have consistently high creatinine readings (chronic kidney failure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-aligned(all)-distribution-selected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 align by all occurrences of raiology contrast, and then show the temporal summary of CREAT-H ev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tients are presented in 4 exclusive sets in the summary: those who have CREAT-H only before alignment, only af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ignment, both before and after, and neither.  We then select from the "only after" summary the patients who hav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least one CREAT-H event within 2 weeks of any "Radiology Contrast" event.  There are 421 pati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9B91-2527-461B-A46A-2C7AF86C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6614-5299-4166-98D4-7DCE761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AACC-FB3B-4C77-885F-77BD3DE2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8624-6C35-4135-936E-97837E07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4FCF-CB47-4CF7-A372-39E45135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AFD9-071A-4D75-9C24-84771AA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1E89-9412-4515-81C5-C4BD1875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0A03-A9BA-4A4C-854E-ECA9B1E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AB4D-F655-4B03-9FE4-E36F058D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570A-FFAA-4BEF-AB8D-A6C9857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CA7C-2D64-4A65-8AF9-0B36205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C29F-5E33-4835-B040-ED994CC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7CC-FD56-4A09-B709-15B604173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6f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3" name="Oval 18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" name="Picture 25" descr="HCIL-Round-Logo"/>
          <p:cNvPicPr/>
          <p:nvPr/>
        </p:nvPicPr>
        <p:blipFill>
          <a:blip r:embed="rId2"/>
          <a:srcRect l="7864" t="2300" r="7864" b="4420"/>
          <a:stretch/>
        </p:blipFill>
        <p:spPr>
          <a:xfrm>
            <a:off x="8329680" y="6049800"/>
            <a:ext cx="761760" cy="74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3.png"/><Relationship Id="rId11" Type="http://schemas.openxmlformats.org/officeDocument/2006/relationships/image" Target="../media/image27.png"/><Relationship Id="rId12" Type="http://schemas.openxmlformats.org/officeDocument/2006/relationships/image" Target="../media/image23.png"/><Relationship Id="rId13" Type="http://schemas.openxmlformats.org/officeDocument/2006/relationships/image" Target="../media/image28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2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oral Data Analysi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Health Records 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Shneiderman, Catherine Plaisant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owei David Wang, Kris Wongsuphasawat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{ben,plaisant,tw7,kristw}@cs.umd.edu</a:t>
            </a:r>
            <a:br>
              <a:rPr sz="32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057400" y="5778360"/>
            <a:ext cx="44956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s2: Heparin-Induced 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1-ranked"/>
          <p:cNvPicPr/>
          <p:nvPr/>
        </p:nvPicPr>
        <p:blipFill>
          <a:blip r:embed="rId1"/>
          <a:stretch/>
        </p:blipFill>
        <p:spPr>
          <a:xfrm>
            <a:off x="533520" y="1143000"/>
            <a:ext cx="7619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2-aligned(all)-ranked-selected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s2: Heparin-Induced 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Similan: Find similar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terms of demograph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, gend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erm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ient hi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44" descr=""/>
          <p:cNvPicPr/>
          <p:nvPr/>
        </p:nvPicPr>
        <p:blipFill>
          <a:blip r:embed="rId1"/>
          <a:stretch/>
        </p:blipFill>
        <p:spPr>
          <a:xfrm>
            <a:off x="523800" y="4853160"/>
            <a:ext cx="7566120" cy="14014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3"/>
          <p:cNvGrpSpPr/>
          <p:nvPr/>
        </p:nvGrpSpPr>
        <p:grpSpPr>
          <a:xfrm>
            <a:off x="3161880" y="4121280"/>
            <a:ext cx="3881160" cy="958680"/>
            <a:chOff x="3161880" y="4121280"/>
            <a:chExt cx="3881160" cy="958680"/>
          </a:xfrm>
        </p:grpSpPr>
        <p:sp>
          <p:nvSpPr>
            <p:cNvPr id="106" name="TextBox 24"/>
            <p:cNvSpPr/>
            <p:nvPr/>
          </p:nvSpPr>
          <p:spPr>
            <a:xfrm>
              <a:off x="4449960" y="4121280"/>
              <a:ext cx="878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nts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07" name="Straight Connector 26"/>
            <p:cNvSpPr/>
            <p:nvPr/>
          </p:nvSpPr>
          <p:spPr>
            <a:xfrm flipH="1">
              <a:off x="3161880" y="4490280"/>
              <a:ext cx="1726200" cy="589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08" name="Straight Connector 28"/>
            <p:cNvSpPr/>
            <p:nvPr/>
          </p:nvSpPr>
          <p:spPr>
            <a:xfrm>
              <a:off x="4887720" y="4490280"/>
              <a:ext cx="635400" cy="557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09" name="Straight Connector 30"/>
            <p:cNvSpPr/>
            <p:nvPr/>
          </p:nvSpPr>
          <p:spPr>
            <a:xfrm>
              <a:off x="4887720" y="4490280"/>
              <a:ext cx="2155320" cy="557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pic>
        <p:nvPicPr>
          <p:cNvPr id="110" name="Picture 29" descr="https://webapps.cs.umd.edu/gradoff/photos/webpics/wongsuphasawat_krist.jpg"/>
          <p:cNvPicPr/>
          <p:nvPr/>
        </p:nvPicPr>
        <p:blipFill>
          <a:blip r:embed="rId2"/>
          <a:srcRect l="32004" t="0" r="13597" b="0"/>
          <a:stretch/>
        </p:blipFill>
        <p:spPr>
          <a:xfrm>
            <a:off x="7458120" y="0"/>
            <a:ext cx="1685880" cy="2057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3"/>
          <p:cNvSpPr/>
          <p:nvPr/>
        </p:nvSpPr>
        <p:spPr>
          <a:xfrm>
            <a:off x="832680" y="50450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</a:rPr>
              <a:t>Patient#1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2347200" y="540720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Stomach Pain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4820760" y="54100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Vomitting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6446520" y="541008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Diarrhea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ilan: Find similar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irs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ranges from 0 to 1. (Most similar =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elect 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rget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097640" y="1992240"/>
            <a:ext cx="1645200" cy="825480"/>
          </a:xfrm>
          <a:prstGeom prst="rect">
            <a:avLst/>
          </a:prstGeom>
          <a:gradFill rotWithShape="0">
            <a:gsLst>
              <a:gs pos="0">
                <a:srgbClr val="6565c9"/>
              </a:gs>
              <a:gs pos="100000">
                <a:srgbClr val="8383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1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(target)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520880" y="1992240"/>
            <a:ext cx="16452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2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520880" y="2743200"/>
            <a:ext cx="16452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3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520880" y="3500280"/>
            <a:ext cx="16452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4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520880" y="4257720"/>
            <a:ext cx="16452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5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6405840" y="1981080"/>
            <a:ext cx="773640" cy="2736720"/>
            <a:chOff x="6405840" y="1981080"/>
            <a:chExt cx="773640" cy="2736720"/>
          </a:xfrm>
        </p:grpSpPr>
        <p:sp>
          <p:nvSpPr>
            <p:cNvPr id="123" name="TextBox 8"/>
            <p:cNvSpPr/>
            <p:nvPr/>
          </p:nvSpPr>
          <p:spPr>
            <a:xfrm>
              <a:off x="6405840" y="1981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80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24" name="TextBox 9"/>
            <p:cNvSpPr/>
            <p:nvPr/>
          </p:nvSpPr>
          <p:spPr>
            <a:xfrm>
              <a:off x="6405840" y="2742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63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25" name="TextBox 10"/>
            <p:cNvSpPr/>
            <p:nvPr/>
          </p:nvSpPr>
          <p:spPr>
            <a:xfrm>
              <a:off x="6405840" y="3500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96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6405840" y="4258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77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2971800" y="2224080"/>
            <a:ext cx="1371960" cy="2348280"/>
            <a:chOff x="2971800" y="2224080"/>
            <a:chExt cx="1371960" cy="2348280"/>
          </a:xfrm>
        </p:grpSpPr>
        <p:cxnSp>
          <p:nvCxnSpPr>
            <p:cNvPr id="128" name="Straight Arrow Connector 13"/>
            <p:cNvCxnSpPr/>
            <p:nvPr/>
          </p:nvCxnSpPr>
          <p:spPr>
            <a:xfrm>
              <a:off x="2971800" y="2224080"/>
              <a:ext cx="137232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9" name="Straight Arrow Connector 17"/>
            <p:cNvCxnSpPr/>
            <p:nvPr/>
          </p:nvCxnSpPr>
          <p:spPr>
            <a:xfrm>
              <a:off x="2971800" y="2225160"/>
              <a:ext cx="1372320" cy="7470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30" name="Straight Arrow Connector 20"/>
            <p:cNvCxnSpPr/>
            <p:nvPr/>
          </p:nvCxnSpPr>
          <p:spPr>
            <a:xfrm>
              <a:off x="2971800" y="2225520"/>
              <a:ext cx="1372320" cy="15091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31" name="Straight Arrow Connector 25"/>
            <p:cNvCxnSpPr/>
            <p:nvPr/>
          </p:nvCxnSpPr>
          <p:spPr>
            <a:xfrm>
              <a:off x="2971800" y="2225520"/>
              <a:ext cx="1372320" cy="2347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132" name="Title 1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ilan: Find similar patients</a:t>
            </a:r>
            <a:endParaRPr b="0" lang="en-US" sz="36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097640" y="1992240"/>
            <a:ext cx="1645200" cy="825480"/>
          </a:xfrm>
          <a:prstGeom prst="rect">
            <a:avLst/>
          </a:prstGeom>
          <a:gradFill rotWithShape="0">
            <a:gsLst>
              <a:gs pos="0">
                <a:srgbClr val="6565c9"/>
              </a:gs>
              <a:gs pos="100000">
                <a:srgbClr val="8383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 #1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(target)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4520880" y="2743200"/>
            <a:ext cx="2658960" cy="470520"/>
            <a:chOff x="4520880" y="2743200"/>
            <a:chExt cx="2658960" cy="470520"/>
          </a:xfrm>
        </p:grpSpPr>
        <p:sp>
          <p:nvSpPr>
            <p:cNvPr id="135" name="TextBox 4"/>
            <p:cNvSpPr/>
            <p:nvPr/>
          </p:nvSpPr>
          <p:spPr>
            <a:xfrm>
              <a:off x="4520880" y="2754000"/>
              <a:ext cx="164520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ranklin Gothic Book"/>
                  <a:ea typeface="ＭＳ Ｐゴシック"/>
                </a:rPr>
                <a:t>Patient #2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36" name="TextBox 8"/>
            <p:cNvSpPr/>
            <p:nvPr/>
          </p:nvSpPr>
          <p:spPr>
            <a:xfrm>
              <a:off x="6406200" y="274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80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37" name="Group 16"/>
          <p:cNvGrpSpPr/>
          <p:nvPr/>
        </p:nvGrpSpPr>
        <p:grpSpPr>
          <a:xfrm>
            <a:off x="4520880" y="4262400"/>
            <a:ext cx="2658960" cy="459720"/>
            <a:chOff x="4520880" y="4262400"/>
            <a:chExt cx="2658960" cy="459720"/>
          </a:xfrm>
        </p:grpSpPr>
        <p:sp>
          <p:nvSpPr>
            <p:cNvPr id="138" name="TextBox 5"/>
            <p:cNvSpPr/>
            <p:nvPr/>
          </p:nvSpPr>
          <p:spPr>
            <a:xfrm>
              <a:off x="4520880" y="4262400"/>
              <a:ext cx="164520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ranklin Gothic Book"/>
                  <a:ea typeface="ＭＳ Ｐゴシック"/>
                </a:rPr>
                <a:t>Patient #3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39" name="TextBox 9"/>
            <p:cNvSpPr/>
            <p:nvPr/>
          </p:nvSpPr>
          <p:spPr>
            <a:xfrm>
              <a:off x="6406200" y="426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63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4520880" y="1981080"/>
            <a:ext cx="2658960" cy="459720"/>
            <a:chOff x="4520880" y="1981080"/>
            <a:chExt cx="2658960" cy="459720"/>
          </a:xfrm>
        </p:grpSpPr>
        <p:sp>
          <p:nvSpPr>
            <p:cNvPr id="141" name="TextBox 6"/>
            <p:cNvSpPr/>
            <p:nvPr/>
          </p:nvSpPr>
          <p:spPr>
            <a:xfrm>
              <a:off x="4520880" y="1981080"/>
              <a:ext cx="164520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ranklin Gothic Book"/>
                  <a:ea typeface="ＭＳ Ｐゴシック"/>
                </a:rPr>
                <a:t>Patient #4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6406200" y="1981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96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4520880" y="3492360"/>
            <a:ext cx="2658960" cy="459720"/>
            <a:chOff x="4520880" y="3492360"/>
            <a:chExt cx="2658960" cy="459720"/>
          </a:xfrm>
        </p:grpSpPr>
        <p:sp>
          <p:nvSpPr>
            <p:cNvPr id="144" name="TextBox 7"/>
            <p:cNvSpPr/>
            <p:nvPr/>
          </p:nvSpPr>
          <p:spPr>
            <a:xfrm>
              <a:off x="4520880" y="3492360"/>
              <a:ext cx="164520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ranklin Gothic Book"/>
                  <a:ea typeface="ＭＳ Ｐゴシック"/>
                </a:rPr>
                <a:t>Patient #5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145" name="TextBox 11"/>
            <p:cNvSpPr/>
            <p:nvPr/>
          </p:nvSpPr>
          <p:spPr>
            <a:xfrm>
              <a:off x="6406200" y="3492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.77</a:t>
              </a:r>
              <a:endParaRPr b="0" lang="en-US" sz="2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46" name="Group 19"/>
          <p:cNvGrpSpPr/>
          <p:nvPr/>
        </p:nvGrpSpPr>
        <p:grpSpPr>
          <a:xfrm>
            <a:off x="3116520" y="1993680"/>
            <a:ext cx="847800" cy="2732040"/>
            <a:chOff x="3116520" y="1993680"/>
            <a:chExt cx="847800" cy="2732040"/>
          </a:xfrm>
        </p:grpSpPr>
        <p:cxnSp>
          <p:nvCxnSpPr>
            <p:cNvPr id="147" name="Straight Arrow Connector 15"/>
            <p:cNvCxnSpPr/>
            <p:nvPr/>
          </p:nvCxnSpPr>
          <p:spPr>
            <a:xfrm flipV="1">
              <a:off x="3962520" y="1993680"/>
              <a:ext cx="2160" cy="27324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8" name="TextBox 18"/>
            <p:cNvSpPr/>
            <p:nvPr/>
          </p:nvSpPr>
          <p:spPr>
            <a:xfrm>
              <a:off x="3116520" y="312300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milar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49" name="Title 1"/>
          <p:cNvSpPr/>
          <p:nvPr/>
        </p:nvSpPr>
        <p:spPr>
          <a:xfrm>
            <a:off x="5335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ilan: Find similar patients</a:t>
            </a:r>
            <a:endParaRPr b="0" lang="en-US" sz="36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ounded Rectangle 28"/>
          <p:cNvGrpSpPr/>
          <p:nvPr/>
        </p:nvGrpSpPr>
        <p:grpSpPr>
          <a:xfrm>
            <a:off x="682560" y="5102280"/>
            <a:ext cx="7553520" cy="1023840"/>
            <a:chOff x="682560" y="5102280"/>
            <a:chExt cx="7553520" cy="1023840"/>
          </a:xfrm>
        </p:grpSpPr>
        <p:pic>
          <p:nvPicPr>
            <p:cNvPr id="151" name="Rounded Rectangle 28" descr=""/>
            <p:cNvPicPr/>
            <p:nvPr/>
          </p:nvPicPr>
          <p:blipFill>
            <a:blip r:embed="rId1"/>
            <a:stretch/>
          </p:blipFill>
          <p:spPr>
            <a:xfrm>
              <a:off x="682560" y="5102280"/>
              <a:ext cx="75535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04960" y="5224320"/>
              <a:ext cx="730548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153" name="Rounded Rectangle 20"/>
          <p:cNvGrpSpPr/>
          <p:nvPr/>
        </p:nvGrpSpPr>
        <p:grpSpPr>
          <a:xfrm>
            <a:off x="676440" y="4078440"/>
            <a:ext cx="7565760" cy="1036440"/>
            <a:chOff x="676440" y="4078440"/>
            <a:chExt cx="7565760" cy="1036440"/>
          </a:xfrm>
        </p:grpSpPr>
        <p:pic>
          <p:nvPicPr>
            <p:cNvPr id="154" name="Rounded Rectangle 20" descr=""/>
            <p:cNvPicPr/>
            <p:nvPr/>
          </p:nvPicPr>
          <p:blipFill>
            <a:blip r:embed="rId2"/>
            <a:stretch/>
          </p:blipFill>
          <p:spPr>
            <a:xfrm>
              <a:off x="676440" y="4078440"/>
              <a:ext cx="75657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04960" y="4205160"/>
              <a:ext cx="730548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417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simila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4114800" y="1417680"/>
            <a:ext cx="449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s o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sers/tasks</a:t>
            </a:r>
            <a:endParaRPr b="0" lang="en-US" sz="3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676440" y="2048040"/>
            <a:ext cx="7565760" cy="1036440"/>
            <a:chOff x="676440" y="2048040"/>
            <a:chExt cx="7565760" cy="1036440"/>
          </a:xfrm>
        </p:grpSpPr>
        <p:pic>
          <p:nvPicPr>
            <p:cNvPr id="16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676440" y="2048040"/>
              <a:ext cx="75657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04960" y="2176560"/>
              <a:ext cx="73054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62" name="TextBox 5"/>
          <p:cNvSpPr/>
          <p:nvPr/>
        </p:nvSpPr>
        <p:spPr>
          <a:xfrm>
            <a:off x="1000800" y="218772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1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(target)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63" name="Isosceles Triangle 6"/>
          <p:cNvGrpSpPr/>
          <p:nvPr/>
        </p:nvGrpSpPr>
        <p:grpSpPr>
          <a:xfrm>
            <a:off x="3041640" y="2189160"/>
            <a:ext cx="555480" cy="547560"/>
            <a:chOff x="3041640" y="2189160"/>
            <a:chExt cx="555480" cy="547560"/>
          </a:xfrm>
        </p:grpSpPr>
        <p:pic>
          <p:nvPicPr>
            <p:cNvPr id="164" name="Isosceles Triangle 6" descr=""/>
            <p:cNvPicPr/>
            <p:nvPr/>
          </p:nvPicPr>
          <p:blipFill>
            <a:blip r:embed="rId4"/>
            <a:stretch/>
          </p:blipFill>
          <p:spPr>
            <a:xfrm>
              <a:off x="3041640" y="2189160"/>
              <a:ext cx="5554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19480" y="2459160"/>
              <a:ext cx="190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66" name="TextBox 7"/>
          <p:cNvSpPr/>
          <p:nvPr/>
        </p:nvSpPr>
        <p:spPr>
          <a:xfrm>
            <a:off x="3163320" y="2622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67" name="Isosceles Triangle 10"/>
          <p:cNvGrpSpPr/>
          <p:nvPr/>
        </p:nvGrpSpPr>
        <p:grpSpPr>
          <a:xfrm>
            <a:off x="6620040" y="2189160"/>
            <a:ext cx="561960" cy="547560"/>
            <a:chOff x="6620040" y="2189160"/>
            <a:chExt cx="561960" cy="547560"/>
          </a:xfrm>
        </p:grpSpPr>
        <p:pic>
          <p:nvPicPr>
            <p:cNvPr id="168" name="Isosceles Triangle 10" descr=""/>
            <p:cNvPicPr/>
            <p:nvPr/>
          </p:nvPicPr>
          <p:blipFill>
            <a:blip r:embed="rId5"/>
            <a:stretch/>
          </p:blipFill>
          <p:spPr>
            <a:xfrm>
              <a:off x="6620040" y="2189160"/>
              <a:ext cx="5619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800760" y="2459160"/>
              <a:ext cx="190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70" name="TextBox 11"/>
          <p:cNvSpPr/>
          <p:nvPr/>
        </p:nvSpPr>
        <p:spPr>
          <a:xfrm>
            <a:off x="6738480" y="26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71" name="Rounded Rectangle 12"/>
          <p:cNvGrpSpPr/>
          <p:nvPr/>
        </p:nvGrpSpPr>
        <p:grpSpPr>
          <a:xfrm>
            <a:off x="676440" y="3041640"/>
            <a:ext cx="7565760" cy="1036800"/>
            <a:chOff x="676440" y="3041640"/>
            <a:chExt cx="7565760" cy="1036800"/>
          </a:xfrm>
        </p:grpSpPr>
        <p:pic>
          <p:nvPicPr>
            <p:cNvPr id="172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676440" y="3041640"/>
              <a:ext cx="75657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4960" y="3166920"/>
              <a:ext cx="730548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74" name="TextBox 13"/>
          <p:cNvSpPr/>
          <p:nvPr/>
        </p:nvSpPr>
        <p:spPr>
          <a:xfrm>
            <a:off x="1000800" y="3260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2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75" name="Isosceles Triangle 14"/>
          <p:cNvGrpSpPr/>
          <p:nvPr/>
        </p:nvGrpSpPr>
        <p:grpSpPr>
          <a:xfrm>
            <a:off x="3041640" y="3206880"/>
            <a:ext cx="555480" cy="547560"/>
            <a:chOff x="3041640" y="3206880"/>
            <a:chExt cx="555480" cy="547560"/>
          </a:xfrm>
        </p:grpSpPr>
        <p:pic>
          <p:nvPicPr>
            <p:cNvPr id="176" name="Isosceles Triangle 14" descr=""/>
            <p:cNvPicPr/>
            <p:nvPr/>
          </p:nvPicPr>
          <p:blipFill>
            <a:blip r:embed="rId7"/>
            <a:stretch/>
          </p:blipFill>
          <p:spPr>
            <a:xfrm>
              <a:off x="3041640" y="3206880"/>
              <a:ext cx="5554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219480" y="3478320"/>
              <a:ext cx="190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78" name="TextBox 15"/>
          <p:cNvSpPr/>
          <p:nvPr/>
        </p:nvSpPr>
        <p:spPr>
          <a:xfrm>
            <a:off x="3163320" y="364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79" name="Isosceles Triangle 16"/>
          <p:cNvGrpSpPr/>
          <p:nvPr/>
        </p:nvGrpSpPr>
        <p:grpSpPr>
          <a:xfrm>
            <a:off x="7169040" y="3151080"/>
            <a:ext cx="596880" cy="579600"/>
            <a:chOff x="7169040" y="3151080"/>
            <a:chExt cx="596880" cy="579600"/>
          </a:xfrm>
        </p:grpSpPr>
        <p:pic>
          <p:nvPicPr>
            <p:cNvPr id="180" name="Isosceles Triangle 16" descr=""/>
            <p:cNvPicPr/>
            <p:nvPr/>
          </p:nvPicPr>
          <p:blipFill>
            <a:blip r:embed="rId8"/>
            <a:stretch/>
          </p:blipFill>
          <p:spPr>
            <a:xfrm>
              <a:off x="7169040" y="3151080"/>
              <a:ext cx="5968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73880" y="3444840"/>
              <a:ext cx="190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82" name="TextBox 17"/>
          <p:cNvSpPr/>
          <p:nvPr/>
        </p:nvSpPr>
        <p:spPr>
          <a:xfrm>
            <a:off x="7317720" y="364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83" name="Isosceles Triangle 18"/>
          <p:cNvGrpSpPr/>
          <p:nvPr/>
        </p:nvGrpSpPr>
        <p:grpSpPr>
          <a:xfrm>
            <a:off x="5705640" y="3176640"/>
            <a:ext cx="555480" cy="541440"/>
            <a:chOff x="5705640" y="3176640"/>
            <a:chExt cx="555480" cy="541440"/>
          </a:xfrm>
        </p:grpSpPr>
        <p:pic>
          <p:nvPicPr>
            <p:cNvPr id="184" name="Isosceles Triangle 18" descr=""/>
            <p:cNvPicPr/>
            <p:nvPr/>
          </p:nvPicPr>
          <p:blipFill>
            <a:blip r:embed="rId9"/>
            <a:stretch/>
          </p:blipFill>
          <p:spPr>
            <a:xfrm>
              <a:off x="5705640" y="3176640"/>
              <a:ext cx="5554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884920" y="3444840"/>
              <a:ext cx="190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86" name="TextBox 19"/>
          <p:cNvSpPr/>
          <p:nvPr/>
        </p:nvSpPr>
        <p:spPr>
          <a:xfrm>
            <a:off x="5824080" y="3649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1000800" y="42721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3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88" name="Isosceles Triangle 22"/>
          <p:cNvGrpSpPr/>
          <p:nvPr/>
        </p:nvGrpSpPr>
        <p:grpSpPr>
          <a:xfrm>
            <a:off x="3041640" y="4218120"/>
            <a:ext cx="555480" cy="549000"/>
            <a:chOff x="3041640" y="4218120"/>
            <a:chExt cx="555480" cy="549000"/>
          </a:xfrm>
        </p:grpSpPr>
        <p:pic>
          <p:nvPicPr>
            <p:cNvPr id="189" name="Isosceles Triangle 22" descr=""/>
            <p:cNvPicPr/>
            <p:nvPr/>
          </p:nvPicPr>
          <p:blipFill>
            <a:blip r:embed="rId10"/>
            <a:stretch/>
          </p:blipFill>
          <p:spPr>
            <a:xfrm>
              <a:off x="3041640" y="4218120"/>
              <a:ext cx="5554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219480" y="4487760"/>
              <a:ext cx="190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91" name="TextBox 23"/>
          <p:cNvSpPr/>
          <p:nvPr/>
        </p:nvSpPr>
        <p:spPr>
          <a:xfrm>
            <a:off x="316332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92" name="Isosceles Triangle 26"/>
          <p:cNvGrpSpPr/>
          <p:nvPr/>
        </p:nvGrpSpPr>
        <p:grpSpPr>
          <a:xfrm>
            <a:off x="6613560" y="4187880"/>
            <a:ext cx="561960" cy="542880"/>
            <a:chOff x="6613560" y="4187880"/>
            <a:chExt cx="561960" cy="542880"/>
          </a:xfrm>
        </p:grpSpPr>
        <p:pic>
          <p:nvPicPr>
            <p:cNvPr id="193" name="Isosceles Triangle 26" descr=""/>
            <p:cNvPicPr/>
            <p:nvPr/>
          </p:nvPicPr>
          <p:blipFill>
            <a:blip r:embed="rId11"/>
            <a:stretch/>
          </p:blipFill>
          <p:spPr>
            <a:xfrm>
              <a:off x="6613560" y="4187880"/>
              <a:ext cx="561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797520" y="4456080"/>
              <a:ext cx="190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195" name="TextBox 27"/>
          <p:cNvSpPr/>
          <p:nvPr/>
        </p:nvSpPr>
        <p:spPr>
          <a:xfrm>
            <a:off x="673848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1000800" y="52894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4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97" name="Isosceles Triangle 30"/>
          <p:cNvGrpSpPr/>
          <p:nvPr/>
        </p:nvGrpSpPr>
        <p:grpSpPr>
          <a:xfrm>
            <a:off x="3041640" y="5237280"/>
            <a:ext cx="555480" cy="547560"/>
            <a:chOff x="3041640" y="5237280"/>
            <a:chExt cx="555480" cy="547560"/>
          </a:xfrm>
        </p:grpSpPr>
        <p:pic>
          <p:nvPicPr>
            <p:cNvPr id="198" name="Isosceles Triangle 30" descr=""/>
            <p:cNvPicPr/>
            <p:nvPr/>
          </p:nvPicPr>
          <p:blipFill>
            <a:blip r:embed="rId12"/>
            <a:stretch/>
          </p:blipFill>
          <p:spPr>
            <a:xfrm>
              <a:off x="3041640" y="5237280"/>
              <a:ext cx="5554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219480" y="5506920"/>
              <a:ext cx="190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00" name="TextBox 31"/>
          <p:cNvSpPr/>
          <p:nvPr/>
        </p:nvSpPr>
        <p:spPr>
          <a:xfrm>
            <a:off x="3163320" y="567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01" name="Isosceles Triangle 32"/>
          <p:cNvGrpSpPr/>
          <p:nvPr/>
        </p:nvGrpSpPr>
        <p:grpSpPr>
          <a:xfrm>
            <a:off x="3548160" y="5211720"/>
            <a:ext cx="603000" cy="585720"/>
            <a:chOff x="3548160" y="5211720"/>
            <a:chExt cx="603000" cy="585720"/>
          </a:xfrm>
        </p:grpSpPr>
        <p:pic>
          <p:nvPicPr>
            <p:cNvPr id="202" name="Isosceles Triangle 32" descr=""/>
            <p:cNvPicPr/>
            <p:nvPr/>
          </p:nvPicPr>
          <p:blipFill>
            <a:blip r:embed="rId13"/>
            <a:stretch/>
          </p:blipFill>
          <p:spPr>
            <a:xfrm>
              <a:off x="3548160" y="5211720"/>
              <a:ext cx="6030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753000" y="5506920"/>
              <a:ext cx="190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04" name="TextBox 33"/>
          <p:cNvSpPr/>
          <p:nvPr/>
        </p:nvSpPr>
        <p:spPr>
          <a:xfrm>
            <a:off x="3680640" y="567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05" name="Isosceles Triangle 34"/>
          <p:cNvGrpSpPr/>
          <p:nvPr/>
        </p:nvGrpSpPr>
        <p:grpSpPr>
          <a:xfrm>
            <a:off x="6613560" y="5205240"/>
            <a:ext cx="561960" cy="543240"/>
            <a:chOff x="6613560" y="5205240"/>
            <a:chExt cx="561960" cy="543240"/>
          </a:xfrm>
        </p:grpSpPr>
        <p:pic>
          <p:nvPicPr>
            <p:cNvPr id="206" name="Isosceles Triangle 34" descr=""/>
            <p:cNvPicPr/>
            <p:nvPr/>
          </p:nvPicPr>
          <p:blipFill>
            <a:blip r:embed="rId14"/>
            <a:stretch/>
          </p:blipFill>
          <p:spPr>
            <a:xfrm>
              <a:off x="6613560" y="5205240"/>
              <a:ext cx="5619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797520" y="5475240"/>
              <a:ext cx="190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08" name="TextBox 35"/>
          <p:cNvSpPr/>
          <p:nvPr/>
        </p:nvSpPr>
        <p:spPr>
          <a:xfrm>
            <a:off x="6738480" y="567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09" name="TextBox 36"/>
          <p:cNvSpPr/>
          <p:nvPr/>
        </p:nvSpPr>
        <p:spPr>
          <a:xfrm>
            <a:off x="2747520" y="604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cxnSp>
        <p:nvCxnSpPr>
          <p:cNvPr id="210" name="Straight Arrow Connector 37"/>
          <p:cNvCxnSpPr/>
          <p:nvPr/>
        </p:nvCxnSpPr>
        <p:spPr>
          <a:xfrm>
            <a:off x="3303360" y="6275520"/>
            <a:ext cx="33375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1" name="Isosceles Triangle 41"/>
          <p:cNvGrpSpPr/>
          <p:nvPr/>
        </p:nvGrpSpPr>
        <p:grpSpPr>
          <a:xfrm>
            <a:off x="5638680" y="2189160"/>
            <a:ext cx="596880" cy="560520"/>
            <a:chOff x="5638680" y="2189160"/>
            <a:chExt cx="596880" cy="560520"/>
          </a:xfrm>
        </p:grpSpPr>
        <p:pic>
          <p:nvPicPr>
            <p:cNvPr id="212" name="Isosceles Triangle 41" descr=""/>
            <p:cNvPicPr/>
            <p:nvPr/>
          </p:nvPicPr>
          <p:blipFill>
            <a:blip r:embed="rId15"/>
            <a:stretch/>
          </p:blipFill>
          <p:spPr>
            <a:xfrm>
              <a:off x="5638680" y="2189160"/>
              <a:ext cx="5968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840280" y="2470320"/>
              <a:ext cx="1908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14" name="TextBox 42"/>
          <p:cNvSpPr/>
          <p:nvPr/>
        </p:nvSpPr>
        <p:spPr>
          <a:xfrm>
            <a:off x="5760360" y="2622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15" name="Group 50"/>
          <p:cNvGrpSpPr/>
          <p:nvPr/>
        </p:nvGrpSpPr>
        <p:grpSpPr>
          <a:xfrm>
            <a:off x="6163560" y="3211560"/>
            <a:ext cx="1142280" cy="446400"/>
            <a:chOff x="6163560" y="3211560"/>
            <a:chExt cx="1142280" cy="446400"/>
          </a:xfrm>
        </p:grpSpPr>
        <p:cxnSp>
          <p:nvCxnSpPr>
            <p:cNvPr id="216" name="Straight Arrow Connector 40"/>
            <p:cNvCxnSpPr/>
            <p:nvPr/>
          </p:nvCxnSpPr>
          <p:spPr>
            <a:xfrm>
              <a:off x="6324120" y="3656160"/>
              <a:ext cx="762840" cy="216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7" name="TextBox 43"/>
            <p:cNvSpPr/>
            <p:nvPr/>
          </p:nvSpPr>
          <p:spPr>
            <a:xfrm>
              <a:off x="6163560" y="321156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swapping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218" name="Group 51"/>
          <p:cNvGrpSpPr/>
          <p:nvPr/>
        </p:nvGrpSpPr>
        <p:grpSpPr>
          <a:xfrm>
            <a:off x="4609080" y="4162320"/>
            <a:ext cx="1715400" cy="858960"/>
            <a:chOff x="4609080" y="4162320"/>
            <a:chExt cx="1715400" cy="858960"/>
          </a:xfrm>
        </p:grpSpPr>
        <p:grpSp>
          <p:nvGrpSpPr>
            <p:cNvPr id="219" name="Isosceles Triangle 8"/>
            <p:cNvGrpSpPr/>
            <p:nvPr/>
          </p:nvGrpSpPr>
          <p:grpSpPr>
            <a:xfrm>
              <a:off x="5663160" y="4163400"/>
              <a:ext cx="603360" cy="579240"/>
              <a:chOff x="5663160" y="4163400"/>
              <a:chExt cx="603360" cy="579240"/>
            </a:xfrm>
          </p:grpSpPr>
          <p:pic>
            <p:nvPicPr>
              <p:cNvPr id="220" name="Isosceles Triangle 8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63160" y="4163400"/>
                <a:ext cx="6033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5870160" y="4455360"/>
                <a:ext cx="19044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</p:grpSp>
        <p:sp>
          <p:nvSpPr>
            <p:cNvPr id="222" name="TextBox 9"/>
            <p:cNvSpPr/>
            <p:nvPr/>
          </p:nvSpPr>
          <p:spPr>
            <a:xfrm>
              <a:off x="5793480" y="4651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23" name="Rectangle 38"/>
            <p:cNvSpPr/>
            <p:nvPr/>
          </p:nvSpPr>
          <p:spPr>
            <a:xfrm>
              <a:off x="5592600" y="4162320"/>
              <a:ext cx="731880" cy="858960"/>
            </a:xfrm>
            <a:prstGeom prst="rect">
              <a:avLst/>
            </a:prstGeom>
            <a:noFill/>
            <a:ln w="316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24" name="TextBox 44"/>
            <p:cNvSpPr/>
            <p:nvPr/>
          </p:nvSpPr>
          <p:spPr>
            <a:xfrm>
              <a:off x="4609080" y="435420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issing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225" name="Group 52"/>
          <p:cNvGrpSpPr/>
          <p:nvPr/>
        </p:nvGrpSpPr>
        <p:grpSpPr>
          <a:xfrm>
            <a:off x="4109400" y="5486400"/>
            <a:ext cx="1753560" cy="368280"/>
            <a:chOff x="4109400" y="5486400"/>
            <a:chExt cx="1753560" cy="368280"/>
          </a:xfrm>
        </p:grpSpPr>
        <p:sp>
          <p:nvSpPr>
            <p:cNvPr id="226" name="Straight Connector 46"/>
            <p:cNvSpPr/>
            <p:nvPr/>
          </p:nvSpPr>
          <p:spPr>
            <a:xfrm>
              <a:off x="4114800" y="5486400"/>
              <a:ext cx="167616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27" name="TextBox 47"/>
            <p:cNvSpPr/>
            <p:nvPr/>
          </p:nvSpPr>
          <p:spPr>
            <a:xfrm>
              <a:off x="4109400" y="548640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Time difference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x&amp;Match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"/>
          <p:cNvGrpSpPr/>
          <p:nvPr/>
        </p:nvGrpSpPr>
        <p:grpSpPr>
          <a:xfrm>
            <a:off x="603360" y="2603520"/>
            <a:ext cx="7559640" cy="1219320"/>
            <a:chOff x="603360" y="2603520"/>
            <a:chExt cx="7559640" cy="1219320"/>
          </a:xfrm>
        </p:grpSpPr>
        <p:pic>
          <p:nvPicPr>
            <p:cNvPr id="230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603360" y="2603520"/>
              <a:ext cx="75596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36560" y="2738520"/>
              <a:ext cx="7290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32" name="TextBox 4"/>
          <p:cNvSpPr/>
          <p:nvPr/>
        </p:nvSpPr>
        <p:spPr>
          <a:xfrm>
            <a:off x="924480" y="274176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1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(target)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33" name="Isosceles Triangle 5"/>
          <p:cNvGrpSpPr/>
          <p:nvPr/>
        </p:nvGrpSpPr>
        <p:grpSpPr>
          <a:xfrm>
            <a:off x="2962440" y="2743200"/>
            <a:ext cx="561960" cy="542880"/>
            <a:chOff x="2962440" y="2743200"/>
            <a:chExt cx="561960" cy="542880"/>
          </a:xfrm>
        </p:grpSpPr>
        <p:pic>
          <p:nvPicPr>
            <p:cNvPr id="234" name="Isosceles Triangle 5" descr=""/>
            <p:cNvPicPr/>
            <p:nvPr/>
          </p:nvPicPr>
          <p:blipFill>
            <a:blip r:embed="rId2"/>
            <a:stretch/>
          </p:blipFill>
          <p:spPr>
            <a:xfrm>
              <a:off x="2962440" y="2743200"/>
              <a:ext cx="561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43160" y="3013200"/>
              <a:ext cx="190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36" name="TextBox 6"/>
          <p:cNvSpPr/>
          <p:nvPr/>
        </p:nvSpPr>
        <p:spPr>
          <a:xfrm>
            <a:off x="3087000" y="31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37" name="Isosceles Triangle 7"/>
          <p:cNvGrpSpPr/>
          <p:nvPr/>
        </p:nvGrpSpPr>
        <p:grpSpPr>
          <a:xfrm>
            <a:off x="5016600" y="2736720"/>
            <a:ext cx="555480" cy="542880"/>
            <a:chOff x="5016600" y="2736720"/>
            <a:chExt cx="555480" cy="542880"/>
          </a:xfrm>
        </p:grpSpPr>
        <p:pic>
          <p:nvPicPr>
            <p:cNvPr id="238" name="Isosceles Triangle 7" descr=""/>
            <p:cNvPicPr/>
            <p:nvPr/>
          </p:nvPicPr>
          <p:blipFill>
            <a:blip r:embed="rId3"/>
            <a:stretch/>
          </p:blipFill>
          <p:spPr>
            <a:xfrm>
              <a:off x="5016600" y="2736720"/>
              <a:ext cx="555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95880" y="3003480"/>
              <a:ext cx="190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40" name="TextBox 8"/>
          <p:cNvSpPr/>
          <p:nvPr/>
        </p:nvSpPr>
        <p:spPr>
          <a:xfrm>
            <a:off x="5132880" y="3174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41" name="Rounded Rectangle 9"/>
          <p:cNvGrpSpPr/>
          <p:nvPr/>
        </p:nvGrpSpPr>
        <p:grpSpPr>
          <a:xfrm>
            <a:off x="603360" y="3876840"/>
            <a:ext cx="7559640" cy="1164960"/>
            <a:chOff x="603360" y="3876840"/>
            <a:chExt cx="7559640" cy="1164960"/>
          </a:xfrm>
        </p:grpSpPr>
        <p:pic>
          <p:nvPicPr>
            <p:cNvPr id="242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603360" y="3876840"/>
              <a:ext cx="755964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33320" y="4010040"/>
              <a:ext cx="72961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44" name="TextBox 10"/>
          <p:cNvSpPr/>
          <p:nvPr/>
        </p:nvSpPr>
        <p:spPr>
          <a:xfrm>
            <a:off x="924480" y="41958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tient#2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45" name="Isosceles Triangle 11"/>
          <p:cNvGrpSpPr/>
          <p:nvPr/>
        </p:nvGrpSpPr>
        <p:grpSpPr>
          <a:xfrm>
            <a:off x="2962440" y="4138560"/>
            <a:ext cx="561960" cy="549360"/>
            <a:chOff x="2962440" y="4138560"/>
            <a:chExt cx="561960" cy="549360"/>
          </a:xfrm>
        </p:grpSpPr>
        <p:pic>
          <p:nvPicPr>
            <p:cNvPr id="246" name="Isosceles Triangle 11" descr=""/>
            <p:cNvPicPr/>
            <p:nvPr/>
          </p:nvPicPr>
          <p:blipFill>
            <a:blip r:embed="rId5"/>
            <a:stretch/>
          </p:blipFill>
          <p:spPr>
            <a:xfrm>
              <a:off x="2962440" y="4138560"/>
              <a:ext cx="5619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143160" y="4411800"/>
              <a:ext cx="190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48" name="TextBox 12"/>
          <p:cNvSpPr/>
          <p:nvPr/>
        </p:nvSpPr>
        <p:spPr>
          <a:xfrm>
            <a:off x="3087000" y="457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49" name="Isosceles Triangle 13"/>
          <p:cNvGrpSpPr/>
          <p:nvPr/>
        </p:nvGrpSpPr>
        <p:grpSpPr>
          <a:xfrm>
            <a:off x="7089840" y="4084560"/>
            <a:ext cx="603360" cy="584280"/>
            <a:chOff x="7089840" y="4084560"/>
            <a:chExt cx="603360" cy="584280"/>
          </a:xfrm>
        </p:grpSpPr>
        <p:pic>
          <p:nvPicPr>
            <p:cNvPr id="250" name="Isosceles Triangle 13" descr=""/>
            <p:cNvPicPr/>
            <p:nvPr/>
          </p:nvPicPr>
          <p:blipFill>
            <a:blip r:embed="rId6"/>
            <a:stretch/>
          </p:blipFill>
          <p:spPr>
            <a:xfrm>
              <a:off x="7089840" y="4084560"/>
              <a:ext cx="603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297560" y="4379760"/>
              <a:ext cx="190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52" name="TextBox 14"/>
          <p:cNvSpPr/>
          <p:nvPr/>
        </p:nvSpPr>
        <p:spPr>
          <a:xfrm>
            <a:off x="7241400" y="457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53" name="Isosceles Triangle 15"/>
          <p:cNvGrpSpPr/>
          <p:nvPr/>
        </p:nvGrpSpPr>
        <p:grpSpPr>
          <a:xfrm>
            <a:off x="5626080" y="4108320"/>
            <a:ext cx="561960" cy="549360"/>
            <a:chOff x="5626080" y="4108320"/>
            <a:chExt cx="561960" cy="549360"/>
          </a:xfrm>
        </p:grpSpPr>
        <p:pic>
          <p:nvPicPr>
            <p:cNvPr id="254" name="Isosceles Triangle 15" descr=""/>
            <p:cNvPicPr/>
            <p:nvPr/>
          </p:nvPicPr>
          <p:blipFill>
            <a:blip r:embed="rId7"/>
            <a:stretch/>
          </p:blipFill>
          <p:spPr>
            <a:xfrm>
              <a:off x="5626080" y="4108320"/>
              <a:ext cx="5619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808600" y="4379760"/>
              <a:ext cx="190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56" name="TextBox 16"/>
          <p:cNvSpPr/>
          <p:nvPr/>
        </p:nvSpPr>
        <p:spPr>
          <a:xfrm>
            <a:off x="5747760" y="458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57" name="Isosceles Triangle 17"/>
          <p:cNvGrpSpPr/>
          <p:nvPr/>
        </p:nvGrpSpPr>
        <p:grpSpPr>
          <a:xfrm>
            <a:off x="5559480" y="2743200"/>
            <a:ext cx="603360" cy="554040"/>
            <a:chOff x="5559480" y="2743200"/>
            <a:chExt cx="603360" cy="554040"/>
          </a:xfrm>
        </p:grpSpPr>
        <p:pic>
          <p:nvPicPr>
            <p:cNvPr id="258" name="Isosceles Triangle 17" descr=""/>
            <p:cNvPicPr/>
            <p:nvPr/>
          </p:nvPicPr>
          <p:blipFill>
            <a:blip r:embed="rId8"/>
            <a:stretch/>
          </p:blipFill>
          <p:spPr>
            <a:xfrm>
              <a:off x="5559480" y="2743200"/>
              <a:ext cx="603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64320" y="3024360"/>
              <a:ext cx="190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60" name="TextBox 18"/>
          <p:cNvSpPr/>
          <p:nvPr/>
        </p:nvSpPr>
        <p:spPr>
          <a:xfrm>
            <a:off x="5684040" y="31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61" name="Isosceles Triangle 22"/>
          <p:cNvGrpSpPr/>
          <p:nvPr/>
        </p:nvGrpSpPr>
        <p:grpSpPr>
          <a:xfrm>
            <a:off x="4767120" y="4114800"/>
            <a:ext cx="603360" cy="566640"/>
            <a:chOff x="4767120" y="4114800"/>
            <a:chExt cx="603360" cy="566640"/>
          </a:xfrm>
        </p:grpSpPr>
        <p:pic>
          <p:nvPicPr>
            <p:cNvPr id="262" name="Isosceles Triangle 22" descr=""/>
            <p:cNvPicPr/>
            <p:nvPr/>
          </p:nvPicPr>
          <p:blipFill>
            <a:blip r:embed="rId9"/>
            <a:stretch/>
          </p:blipFill>
          <p:spPr>
            <a:xfrm>
              <a:off x="4767120" y="4114800"/>
              <a:ext cx="6033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971960" y="4402080"/>
              <a:ext cx="190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64" name="TextBox 23"/>
          <p:cNvSpPr/>
          <p:nvPr/>
        </p:nvSpPr>
        <p:spPr>
          <a:xfrm>
            <a:off x="4922280" y="457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65" name="Isosceles Triangle 24"/>
          <p:cNvGrpSpPr/>
          <p:nvPr/>
        </p:nvGrpSpPr>
        <p:grpSpPr>
          <a:xfrm>
            <a:off x="6870600" y="2736720"/>
            <a:ext cx="554040" cy="542880"/>
            <a:chOff x="6870600" y="2736720"/>
            <a:chExt cx="554040" cy="542880"/>
          </a:xfrm>
        </p:grpSpPr>
        <p:pic>
          <p:nvPicPr>
            <p:cNvPr id="266" name="Isosceles Triangle 24" descr=""/>
            <p:cNvPicPr/>
            <p:nvPr/>
          </p:nvPicPr>
          <p:blipFill>
            <a:blip r:embed="rId10"/>
            <a:stretch/>
          </p:blipFill>
          <p:spPr>
            <a:xfrm>
              <a:off x="6870600" y="2736720"/>
              <a:ext cx="554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050240" y="3005280"/>
              <a:ext cx="190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68" name="TextBox 25"/>
          <p:cNvSpPr/>
          <p:nvPr/>
        </p:nvSpPr>
        <p:spPr>
          <a:xfrm>
            <a:off x="698760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69" name="Group 59"/>
          <p:cNvGrpSpPr/>
          <p:nvPr/>
        </p:nvGrpSpPr>
        <p:grpSpPr>
          <a:xfrm>
            <a:off x="3240000" y="3546000"/>
            <a:ext cx="2615760" cy="649800"/>
            <a:chOff x="3240000" y="3546000"/>
            <a:chExt cx="2615760" cy="649800"/>
          </a:xfrm>
        </p:grpSpPr>
        <p:sp>
          <p:nvSpPr>
            <p:cNvPr id="270" name="Straight Connector 27"/>
            <p:cNvSpPr/>
            <p:nvPr/>
          </p:nvSpPr>
          <p:spPr>
            <a:xfrm flipV="1">
              <a:off x="3240000" y="3546360"/>
              <a:ext cx="0" cy="6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71" name="Straight Connector 31"/>
            <p:cNvSpPr/>
            <p:nvPr/>
          </p:nvSpPr>
          <p:spPr>
            <a:xfrm flipV="1">
              <a:off x="5099760" y="3546000"/>
              <a:ext cx="731520" cy="551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72" name="Straight Connector 33"/>
            <p:cNvSpPr/>
            <p:nvPr/>
          </p:nvSpPr>
          <p:spPr>
            <a:xfrm flipH="1" flipV="1">
              <a:off x="5257080" y="3580920"/>
              <a:ext cx="598680" cy="553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273" name="Group 63"/>
          <p:cNvGrpSpPr/>
          <p:nvPr/>
        </p:nvGrpSpPr>
        <p:grpSpPr>
          <a:xfrm>
            <a:off x="6334560" y="2144880"/>
            <a:ext cx="1600920" cy="1436400"/>
            <a:chOff x="6334560" y="2144880"/>
            <a:chExt cx="1600920" cy="1436400"/>
          </a:xfrm>
        </p:grpSpPr>
        <p:sp>
          <p:nvSpPr>
            <p:cNvPr id="274" name="Rectangle 36"/>
            <p:cNvSpPr/>
            <p:nvPr/>
          </p:nvSpPr>
          <p:spPr>
            <a:xfrm>
              <a:off x="6878520" y="2776680"/>
              <a:ext cx="571680" cy="8046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75" name="TextBox 39"/>
            <p:cNvSpPr/>
            <p:nvPr/>
          </p:nvSpPr>
          <p:spPr>
            <a:xfrm>
              <a:off x="6334560" y="214488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Missing Event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76" name="Straight Connector 41"/>
            <p:cNvSpPr/>
            <p:nvPr/>
          </p:nvSpPr>
          <p:spPr>
            <a:xfrm flipV="1">
              <a:off x="7163640" y="2437920"/>
              <a:ext cx="74520" cy="338040"/>
            </a:xfrm>
            <a:prstGeom prst="line">
              <a:avLst/>
            </a:prstGeom>
            <a:ln w="25560">
              <a:solidFill>
                <a:srgbClr val="e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277" name="Group 62"/>
          <p:cNvGrpSpPr/>
          <p:nvPr/>
        </p:nvGrpSpPr>
        <p:grpSpPr>
          <a:xfrm>
            <a:off x="6859440" y="4097160"/>
            <a:ext cx="1361880" cy="1376640"/>
            <a:chOff x="6859440" y="4097160"/>
            <a:chExt cx="1361880" cy="1376640"/>
          </a:xfrm>
        </p:grpSpPr>
        <p:sp>
          <p:nvSpPr>
            <p:cNvPr id="278" name="Rectangle 37"/>
            <p:cNvSpPr/>
            <p:nvPr/>
          </p:nvSpPr>
          <p:spPr>
            <a:xfrm>
              <a:off x="7124400" y="4097160"/>
              <a:ext cx="571680" cy="804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79" name="TextBox 40"/>
            <p:cNvSpPr/>
            <p:nvPr/>
          </p:nvSpPr>
          <p:spPr>
            <a:xfrm>
              <a:off x="6859440" y="510552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Extra Event</a:t>
              </a:r>
              <a:endParaRPr b="0" lang="en-US" sz="1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  <p:sp>
          <p:nvSpPr>
            <p:cNvPr id="280" name="Straight Connector 43"/>
            <p:cNvSpPr/>
            <p:nvPr/>
          </p:nvSpPr>
          <p:spPr>
            <a:xfrm flipH="1" flipV="1">
              <a:off x="7399080" y="4825800"/>
              <a:ext cx="141120" cy="27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281" name="Group 61"/>
          <p:cNvGrpSpPr/>
          <p:nvPr/>
        </p:nvGrpSpPr>
        <p:grpSpPr>
          <a:xfrm>
            <a:off x="2400120" y="2787480"/>
            <a:ext cx="4000680" cy="2838960"/>
            <a:chOff x="2400120" y="2787480"/>
            <a:chExt cx="4000680" cy="2838960"/>
          </a:xfrm>
        </p:grpSpPr>
        <p:grpSp>
          <p:nvGrpSpPr>
            <p:cNvPr id="282" name="Group 60"/>
            <p:cNvGrpSpPr/>
            <p:nvPr/>
          </p:nvGrpSpPr>
          <p:grpSpPr>
            <a:xfrm>
              <a:off x="2400120" y="2787480"/>
              <a:ext cx="4000680" cy="2838960"/>
              <a:chOff x="2400120" y="2787480"/>
              <a:chExt cx="4000680" cy="2838960"/>
            </a:xfrm>
          </p:grpSpPr>
          <p:sp>
            <p:nvSpPr>
              <p:cNvPr id="283" name="Rectangle 44"/>
              <p:cNvSpPr/>
              <p:nvPr/>
            </p:nvSpPr>
            <p:spPr>
              <a:xfrm flipH="1">
                <a:off x="2743200" y="2787480"/>
                <a:ext cx="3657600" cy="211464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284" name="TextBox 45"/>
              <p:cNvSpPr/>
              <p:nvPr/>
            </p:nvSpPr>
            <p:spPr>
              <a:xfrm>
                <a:off x="2400120" y="5258160"/>
                <a:ext cx="181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atched Events</a:t>
                </a:r>
                <a:endParaRPr b="0" lang="en-US" sz="18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</p:grpSp>
        <p:sp>
          <p:nvSpPr>
            <p:cNvPr id="285" name="Straight Connector 46"/>
            <p:cNvSpPr/>
            <p:nvPr/>
          </p:nvSpPr>
          <p:spPr>
            <a:xfrm flipV="1">
              <a:off x="3307680" y="4890960"/>
              <a:ext cx="425160" cy="36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86" name="TextBox 49"/>
          <p:cNvSpPr/>
          <p:nvPr/>
        </p:nvSpPr>
        <p:spPr>
          <a:xfrm>
            <a:off x="1009800" y="611964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Mismatches  = Missing + Extra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87" name="TextBox 50"/>
          <p:cNvSpPr/>
          <p:nvPr/>
        </p:nvSpPr>
        <p:spPr>
          <a:xfrm>
            <a:off x="1000440" y="579132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 Score = F(∆ time)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88" name="TextBox 55"/>
          <p:cNvSpPr/>
          <p:nvPr/>
        </p:nvSpPr>
        <p:spPr>
          <a:xfrm>
            <a:off x="1009800" y="645804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Swapping*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289" name="Group 66"/>
          <p:cNvGrpSpPr/>
          <p:nvPr/>
        </p:nvGrpSpPr>
        <p:grpSpPr>
          <a:xfrm>
            <a:off x="5832360" y="5629320"/>
            <a:ext cx="2108880" cy="922320"/>
            <a:chOff x="5832360" y="5629320"/>
            <a:chExt cx="2108880" cy="922320"/>
          </a:xfrm>
        </p:grpSpPr>
        <p:grpSp>
          <p:nvGrpSpPr>
            <p:cNvPr id="290" name="Group 64"/>
            <p:cNvGrpSpPr/>
            <p:nvPr/>
          </p:nvGrpSpPr>
          <p:grpSpPr>
            <a:xfrm>
              <a:off x="5832360" y="5629320"/>
              <a:ext cx="2108880" cy="916920"/>
              <a:chOff x="5832360" y="5629320"/>
              <a:chExt cx="2108880" cy="916920"/>
            </a:xfrm>
          </p:grpSpPr>
          <p:sp>
            <p:nvSpPr>
              <p:cNvPr id="291" name="TextBox 51"/>
              <p:cNvSpPr/>
              <p:nvPr/>
            </p:nvSpPr>
            <p:spPr>
              <a:xfrm>
                <a:off x="5832360" y="5629320"/>
                <a:ext cx="415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}</a:t>
                </a:r>
                <a:endParaRPr b="0" lang="en-US" sz="5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  <p:sp>
            <p:nvSpPr>
              <p:cNvPr id="292" name="TextBox 52"/>
              <p:cNvSpPr/>
              <p:nvPr/>
            </p:nvSpPr>
            <p:spPr>
              <a:xfrm>
                <a:off x="6203160" y="5786280"/>
                <a:ext cx="17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Score</a:t>
                </a:r>
                <a:endParaRPr b="0" lang="en-US" sz="2400" spc="-1" strike="noStrike">
                  <a:solidFill>
                    <a:srgbClr val="000000"/>
                  </a:solidFill>
                  <a:latin typeface="Antique Olv (W1)"/>
                </a:endParaRPr>
              </a:p>
            </p:txBody>
          </p:sp>
        </p:grpSp>
        <p:sp>
          <p:nvSpPr>
            <p:cNvPr id="293" name="TextBox 65"/>
            <p:cNvSpPr/>
            <p:nvPr/>
          </p:nvSpPr>
          <p:spPr>
            <a:xfrm>
              <a:off x="6645960" y="6152760"/>
              <a:ext cx="8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 to 1</a:t>
              </a:r>
              <a:endParaRPr b="0" lang="en-US" sz="20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294" name="Content Placeholder 2"/>
          <p:cNvSpPr/>
          <p:nvPr/>
        </p:nvSpPr>
        <p:spPr>
          <a:xfrm>
            <a:off x="380880" y="1143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ustomizable similarity measure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ilan: Find Similar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overview"/>
          <p:cNvPicPr/>
          <p:nvPr/>
        </p:nvPicPr>
        <p:blipFill>
          <a:blip r:embed="rId1"/>
          <a:stretch/>
        </p:blipFill>
        <p:spPr>
          <a:xfrm>
            <a:off x="380880" y="1044720"/>
            <a:ext cx="8163000" cy="6194160"/>
          </a:xfrm>
          <a:prstGeom prst="rect">
            <a:avLst/>
          </a:prstGeom>
          <a:ln w="0">
            <a:noFill/>
          </a:ln>
        </p:spPr>
      </p:pic>
      <p:pic>
        <p:nvPicPr>
          <p:cNvPr id="297" name="TextBox 3" descr=""/>
          <p:cNvPicPr/>
          <p:nvPr/>
        </p:nvPicPr>
        <p:blipFill>
          <a:blip r:embed="rId2"/>
          <a:stretch/>
        </p:blipFill>
        <p:spPr>
          <a:xfrm>
            <a:off x="7089840" y="500040"/>
            <a:ext cx="2060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10520" y="4768920"/>
            <a:ext cx="52358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s for collaboration wi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hington Hospital Center 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lifelines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ww.cs.umd.edu/hcil/simil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e Awa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094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Record &amp; other temporal event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ion is possible for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attern discovery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mparison of groups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similar event records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1066680" y="1085760"/>
            <a:ext cx="6553440" cy="539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76920" y="4194000"/>
            <a:ext cx="2743200" cy="228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835560" y="304920"/>
            <a:ext cx="541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Lines: Patient Histories</a:t>
            </a: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049840" y="649116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lifelines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lines and Improv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1458" r="0" b="3125"/>
          <a:stretch/>
        </p:blipFill>
        <p:spPr>
          <a:xfrm>
            <a:off x="380880" y="1295280"/>
            <a:ext cx="5562720" cy="356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889240" y="12952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Plaisant CHI 96, AMIA 98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21240" y="63244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I2b2 (Murphy AMIA 07)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rcRect l="3449" t="2351" r="5173" b="4755"/>
          <a:stretch/>
        </p:blipFill>
        <p:spPr>
          <a:xfrm>
            <a:off x="1981080" y="2709720"/>
            <a:ext cx="4800600" cy="3576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173160" y="2004840"/>
            <a:ext cx="70308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230960" y="175248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Bade CHI 2004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11458" r="0" b="3125"/>
          <a:stretch/>
        </p:blipFill>
        <p:spPr>
          <a:xfrm>
            <a:off x="380880" y="1295280"/>
            <a:ext cx="5562720" cy="356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889240" y="12952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Plaisant CHI 96, AMIA 98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821240" y="63244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I2b2 (Murphy AMIA 07)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rcRect l="3449" t="2351" r="5173" b="4755"/>
          <a:stretch/>
        </p:blipFill>
        <p:spPr>
          <a:xfrm>
            <a:off x="1981080" y="2709720"/>
            <a:ext cx="4800600" cy="3576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173160" y="2004840"/>
            <a:ext cx="70308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352680" y="2246400"/>
            <a:ext cx="5791320" cy="46116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 and Improve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ation of Temporal Abst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257480"/>
            <a:ext cx="3886200" cy="2442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6134040" y="37004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har 1999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graphicFrame>
        <p:nvGraphicFramePr>
          <p:cNvPr id="81" name="Object 5"/>
          <p:cNvGraphicFramePr/>
          <p:nvPr/>
        </p:nvGraphicFramePr>
        <p:xfrm>
          <a:off x="3809880" y="4572000"/>
          <a:ext cx="5158080" cy="15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0"/>
                    <a:ext cx="51580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6"/>
          <p:cNvSpPr/>
          <p:nvPr/>
        </p:nvSpPr>
        <p:spPr>
          <a:xfrm>
            <a:off x="6043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 2007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62120" y="4495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wsner &amp; Tufte, 1994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480060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ternFinder in Amal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MIAfig1-v2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LifeLines2: Align-Rank-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129528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ntique Olv (W1)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Multiple records simultaneously vi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buClr>
                <a:srgbClr val="000000"/>
              </a:buClr>
              <a:buFont typeface="Antique Olv (W1)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Align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sentinel events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buClr>
                <a:srgbClr val="000000"/>
              </a:buClr>
              <a:buFont typeface="Antique Olv (W1)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Rank 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frequency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buClr>
                <a:srgbClr val="000000"/>
              </a:buClr>
              <a:buFont typeface="Antique Olv (W1)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events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91" name="Picture 1029" descr=""/>
          <p:cNvPicPr/>
          <p:nvPr/>
        </p:nvPicPr>
        <p:blipFill>
          <a:blip r:embed="rId1"/>
          <a:stretch/>
        </p:blipFill>
        <p:spPr>
          <a:xfrm>
            <a:off x="3070080" y="2209680"/>
            <a:ext cx="6150240" cy="464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Taowei D. Wang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2: Contrast+Creat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aligned-ranked"/>
          <p:cNvPicPr/>
          <p:nvPr/>
        </p:nvPicPr>
        <p:blipFill>
          <a:blip r:embed="rId1"/>
          <a:stretch/>
        </p:blipFill>
        <p:spPr>
          <a:xfrm>
            <a:off x="5335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2: Contrast+Creat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2-aligned(all)-distribution-selected"/>
          <p:cNvPicPr/>
          <p:nvPr/>
        </p:nvPicPr>
        <p:blipFill>
          <a:blip r:embed="rId1"/>
          <a:stretch/>
        </p:blipFill>
        <p:spPr>
          <a:xfrm>
            <a:off x="457200" y="1143000"/>
            <a:ext cx="7620120" cy="6324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" descr=""/>
          <p:cNvPicPr/>
          <p:nvPr/>
        </p:nvPicPr>
        <p:blipFill>
          <a:blip r:embed="rId2"/>
          <a:stretch/>
        </p:blipFill>
        <p:spPr>
          <a:xfrm>
            <a:off x="7169040" y="847800"/>
            <a:ext cx="20606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Bederson</cp:lastModifiedBy>
  <dcterms:modified xsi:type="dcterms:W3CDTF">2009-05-26T19:58:28Z</dcterms:modified>
  <cp:revision>219</cp:revision>
  <dc:subject/>
  <dc:title>Voting System Technologies</dc:title>
</cp:coreProperties>
</file>