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7AF6-04EA-45FF-BB58-515727D88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0C59-1664-4873-B004-EE6F8963C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CDA6-38A5-4BA6-9802-3FFFED288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query 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3A1-89D5-48C9-8D2E-F44F2760A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5295-D06F-49D1-ABFD-2C1D1880C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h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ifferently because don’t have persian character (with 3 dots) pronounced “ch” so substitute arab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CEB-B0D9-4A42-AB33-2C5396B1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less uvular –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ahh)h –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dark l = l as in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voiced ve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 = voiced velar fricative (tri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glottal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A151-9B2A-4900-96AB-8F16A3EBB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15D1-F8CD-4066-A215-2FA2511D2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E9B6-1BC0-462E-AE6E-3466573A233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8444-5136-43E5-A439-794DFB19883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133E-B22B-4566-BFDB-39540C5F82C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999C8-47B4-4657-A5C0-3EDECC41976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38DC-9D66-4550-8FCA-19C74FA5EC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0283-46C0-4E42-B314-3BDF26F941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914C-3478-4829-BFF5-6DB3A3B91F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18E6-9E89-481E-B597-33B6025782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64464-36EA-4111-A959-0E4923C7DA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E469-1224-4889-BA89-3EC985221F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9F994-766A-4EE6-803F-7933600C9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8E0C-B7FA-4EC3-AFCC-8E903BA029E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84095-88BB-49C0-95A0-FD01C7F9E40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D2CD3-FE1F-4423-8156-747724C11FE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DA165-44D0-4A3D-A0AB-CB1C39C4B9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B1821D-4F56-4D5D-BA70-CE6A1A23AB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8DA4B-17ED-420A-99DD-C9B14FD6E4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D6E5B-2393-4C8B-9D84-12F0BE1C86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8A50F-00D2-4889-B02A-84A274DE8D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DAD357-B288-4D99-95FA-049EB7CD570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60DCA-70DF-4287-BABE-C6FDAB60CB5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435175-2E52-4B52-80F3-7C1A00314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89DD-4071-4D66-93D5-41AB122E7C2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2E363-EEE8-47DE-A840-ABACA47D85D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FBFB-88E5-4BC6-8E57-6E284686054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D124-B2F9-4E36-85EF-1C07D7FD16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C21F-1B06-4771-81B7-3099E255A8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46D7-E878-4DFB-A558-B4C6E39CE4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CEB6-5C89-403E-A8F0-BD34C96FF8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DA15-6BCE-483C-996E-7BBE0FD03F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B292-1779-43A4-BE68-51AE26287C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1B5B-F0B6-4DB5-ADDE-42BA65BF0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E26F-881C-4383-9D1A-AF8BDE0D94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A0B1-0695-4E3C-B359-1A1EE666EC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8319-C889-402F-9818-763A3A7B5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98CC-12B5-4960-AF04-F4239A9399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5075-1ECA-48D0-ACB0-3EEBAFDABF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42E-531C-48F2-B27E-1DC554B427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397-EE24-4DCA-9D13-2542227D1C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548-EB68-4C19-8CFE-956AA8216C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D9F-590C-4713-AE41-2F125B3139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7D5-83A7-4AF4-944A-48E06A4B5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A37A-CD58-454F-AA59-46F26EBB77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03F-285F-495C-8EA8-32A73FCF88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423-866A-44CF-A03D-1A63935E3A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925-3A04-42F4-B379-F3DE20FB70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91F-7429-44D3-A3DB-24FBBB4472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9AF-EE2F-4B1F-983E-0F2FA52B2F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7BE-4F16-4E62-8A7D-83A51C1CF8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57E-1FC6-41FD-B7FB-426665E483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8390D-391A-4FCD-AC43-B24EC213CA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CB872-4149-4C56-A489-9617E5564F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61EC0-9A8D-4795-8F39-8B65571CF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EAA5-2A58-4CA3-BE93-D01ADA4867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8BDB7-FBE7-4703-85B4-FBBA16FDDF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17578-7F32-4449-B6BD-FC0E3B1860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A10A6-0CC6-44C5-9E51-0D30F32C48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3B6C9-7248-4323-BAD6-1BDD92D640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2B94E-3D49-4AF1-84D7-8D32A04975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7A983-02CC-4CCD-B94F-07F7BFFD6E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BED6A-10D8-4528-A304-5B0BA412E4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C75F4-9D2B-49EC-8578-56DBA1CAD2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466C1-CB44-4B25-8DB0-1E5C56788D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7805-A5FF-47F9-899F-6DF8817E62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AC2C-97D5-4CDE-874E-91C6F0B4F8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0DFB-398E-40A3-BD5D-0572AA4811E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F7DC-F6C7-4D51-8AC7-D0670AC89F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EA73C-F274-4B4B-BB13-EFE88EACF8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D6D30-796D-4D47-9157-4B94C07A0D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DA908-AA56-4236-A016-BF0A7779EC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61E9D-6D51-4FED-8825-82519EA5280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3E7B5-5064-4AFE-8723-758864729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2C31-B521-4CFE-BDF4-51F648B8B37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5FC6D-D832-4BD8-BE6F-C510904BBC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EDD5B-6DBC-4A18-BB26-1722555A05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D42A1-A3A1-4135-8E62-F64EEDC46A7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B9FD5-0456-4613-A857-E35BD9D9EAA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CE194-69A9-4563-B7C8-67FBC11D31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D954D-23B5-4E15-A5CF-160893C1A7C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3E0B4-BE4D-4685-9302-4A4D4901BA6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C1F1-DF00-4141-B34B-75D87F707A2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2C342-257C-4248-9CFC-D55B618DEA8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84A5-25A4-4F55-A1DA-8F0520861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B395-FFBF-4AFD-8E5B-96701C190CF3}" type="slidenum"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1981080" y="6477120"/>
            <a:ext cx="3581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486400" y="5638680"/>
            <a:ext cx="358128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Standard CASL Logo White Background.jpg"/>
          <p:cNvPicPr/>
          <p:nvPr/>
        </p:nvPicPr>
        <p:blipFill>
          <a:blip r:embed="rId3"/>
          <a:stretch/>
        </p:blipFill>
        <p:spPr>
          <a:xfrm>
            <a:off x="6904080" y="5791320"/>
            <a:ext cx="2163600" cy="9903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7"/>
          <p:cNvSpPr/>
          <p:nvPr/>
        </p:nvSpPr>
        <p:spPr>
          <a:xfrm>
            <a:off x="1371600" y="6505560"/>
            <a:ext cx="518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NGUAGE RESEARCH IN SERVICE TO THE 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218960" cy="1074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5069-9462-4EE2-9836-A1ECC0FBB9BC}" type="slidenum"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1"/>
          </p:nvPr>
        </p:nvSpPr>
        <p:spPr>
          <a:xfrm>
            <a:off x="0" y="594324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7A8E-EC7A-4244-96BF-EAE8B3182A90}" type="slidenum">
              <a:rPr b="1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7CC3-BCBF-4BFA-A3EA-B69500DD362D}" type="slidenum"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981080" y="6477120"/>
            <a:ext cx="3581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5486400" y="5638680"/>
            <a:ext cx="358128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Standard CASL Logo White Background.jpg"/>
          <p:cNvPicPr/>
          <p:nvPr/>
        </p:nvPicPr>
        <p:blipFill>
          <a:blip r:embed="rId3"/>
          <a:stretch/>
        </p:blipFill>
        <p:spPr>
          <a:xfrm>
            <a:off x="6904080" y="5791320"/>
            <a:ext cx="2163600" cy="990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1371600" y="6505560"/>
            <a:ext cx="518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NGUAGE RESEARCH IN SERVICE TO THE 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1ADF-A035-4C68-A60C-2908968BCE97}" type="slidenum">
              <a:rPr b="1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5"/>
          </p:nvPr>
        </p:nvSpPr>
        <p:spPr>
          <a:xfrm>
            <a:off x="0" y="594324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6"/>
          </p:nvPr>
        </p:nvSpPr>
        <p:spPr>
          <a:xfrm>
            <a:off x="0" y="594324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8" descr=""/>
          <p:cNvPicPr/>
          <p:nvPr/>
        </p:nvPicPr>
        <p:blipFill>
          <a:blip r:embed="rId3"/>
          <a:stretch/>
        </p:blipFill>
        <p:spPr>
          <a:xfrm>
            <a:off x="7848720" y="144360"/>
            <a:ext cx="1218960" cy="107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7"/>
          </p:nvPr>
        </p:nvSpPr>
        <p:spPr>
          <a:xfrm>
            <a:off x="0" y="594324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981080" y="6477120"/>
            <a:ext cx="3581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486400" y="5638680"/>
            <a:ext cx="358128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Standard CASL Logo White Background.jpg"/>
          <p:cNvPicPr/>
          <p:nvPr/>
        </p:nvPicPr>
        <p:blipFill>
          <a:blip r:embed="rId3"/>
          <a:stretch/>
        </p:blipFill>
        <p:spPr>
          <a:xfrm>
            <a:off x="6904080" y="5791320"/>
            <a:ext cx="2163600" cy="9903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7"/>
          <p:cNvSpPr/>
          <p:nvPr/>
        </p:nvSpPr>
        <p:spPr>
          <a:xfrm>
            <a:off x="1371600" y="6505560"/>
            <a:ext cx="518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NGUAGE RESEARCH IN SERVICE TO THE 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218960" cy="10749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8"/>
          </p:nvPr>
        </p:nvSpPr>
        <p:spPr>
          <a:xfrm>
            <a:off x="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C47C-AD37-4527-A0AB-AAC8AF3C20CA}" type="slidenum"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"/>
          <p:cNvSpPr/>
          <p:nvPr/>
        </p:nvSpPr>
        <p:spPr>
          <a:xfrm>
            <a:off x="1981080" y="6477120"/>
            <a:ext cx="3581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486400" y="5638680"/>
            <a:ext cx="358128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Standard CASL Logo White Background.jpg"/>
          <p:cNvPicPr/>
          <p:nvPr/>
        </p:nvPicPr>
        <p:blipFill>
          <a:blip r:embed="rId3"/>
          <a:stretch/>
        </p:blipFill>
        <p:spPr>
          <a:xfrm>
            <a:off x="6904080" y="5791320"/>
            <a:ext cx="2163600" cy="990360"/>
          </a:xfrm>
          <a:prstGeom prst="rect">
            <a:avLst/>
          </a:prstGeom>
          <a:ln w="0">
            <a:noFill/>
          </a:ln>
        </p:spPr>
      </p:pic>
      <p:sp>
        <p:nvSpPr>
          <p:cNvPr id="325" name="TextBox 7"/>
          <p:cNvSpPr/>
          <p:nvPr/>
        </p:nvSpPr>
        <p:spPr>
          <a:xfrm>
            <a:off x="1371600" y="6505560"/>
            <a:ext cx="518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NGUAGE RESEARCH IN SERVICE TO THE 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218960" cy="1074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9"/>
          </p:nvPr>
        </p:nvSpPr>
        <p:spPr>
          <a:xfrm>
            <a:off x="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5BF9-3458-4A42-9DEC-5324D835A062}" type="slidenum"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swayland@casl.umd.edu" TargetMode="Externa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ing Entries in a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-line Arabic 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95280" y="297144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Ma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HCIL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ah C. Wayland, C. Anton Rytting, David Zajic, Timothy Buckwalter, Jason White, Corey Miller, Jeffrey Carnes, Nathanael Lynn, Paul Rodrigues, Michael Maxwell, Evelyn Bro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phologically Comp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57200" y="1514520"/>
          <a:ext cx="8229600" cy="4114800"/>
        </p:xfrm>
        <a:graphic>
          <a:graphicData uri="http://schemas.openxmlformats.org/drawingml/2006/table">
            <a:tbl>
              <a:tblPr/>
              <a:tblGrid>
                <a:gridCol w="1300320"/>
                <a:gridCol w="2900160"/>
                <a:gridCol w="4029120"/>
              </a:tblGrid>
              <a:tr h="459720">
                <a:tc>
                  <a:txBody>
                    <a:bodyPr lIns="119880" rIns="119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‏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ل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 marL="228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119880" rIns="119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‏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ل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 marL="228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-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-hear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119880" rIns="119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 marL="228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91240">
                <a:tc>
                  <a:txBody>
                    <a:bodyPr lIns="119880" rIns="119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ب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 marL="228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-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-heart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119880" rIns="119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لب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 marL="228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-hear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119880" rIns="119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‏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ب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 marL="228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a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-heart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119880" rIns="119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لب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 marL="228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-heart (to a man)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119880" rIns="119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لب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 marL="228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-heart (to a woman)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119880" rIns="119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ب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 marL="228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9880" rIns="11988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hear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02960" y="-360"/>
            <a:ext cx="814068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990720" y="5791320"/>
            <a:ext cx="4240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(the only forms listed in the diction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Galub_Iraqi_1.mp3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0" name="Alqalb_Iraqi_6.mp3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1" name="GalbiJ_Iraqi_5.mp3" descr=""/>
          <p:cNvPicPr/>
          <p:nvPr/>
        </p:nvPicPr>
        <p:blipFill>
          <a:blip r:embed="rId3"/>
          <a:stretch/>
        </p:blipFill>
        <p:spPr>
          <a:xfrm>
            <a:off x="365760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2" name="wGalbak_Iraqi_3.mp3" descr=""/>
          <p:cNvPicPr/>
          <p:nvPr/>
        </p:nvPicPr>
        <p:blipFill>
          <a:blip r:embed="rId4"/>
          <a:stretch/>
        </p:blipFill>
        <p:spPr>
          <a:xfrm>
            <a:off x="36576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3" name="Guluwb_Gulf_9.mp3" descr=""/>
          <p:cNvPicPr/>
          <p:nvPr/>
        </p:nvPicPr>
        <p:blipFill>
          <a:blip r:embed="rId5"/>
          <a:stretch/>
        </p:blipFill>
        <p:spPr>
          <a:xfrm>
            <a:off x="3643200" y="2521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4" name="AlGuluwb_Iraqi_8.mp3" descr=""/>
          <p:cNvPicPr/>
          <p:nvPr/>
        </p:nvPicPr>
        <p:blipFill>
          <a:blip r:embed="rId6"/>
          <a:stretch/>
        </p:blipFill>
        <p:spPr>
          <a:xfrm>
            <a:off x="3632040" y="2968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5" name="GuluwbnaA_Iraqi_7.mp3" descr=""/>
          <p:cNvPicPr/>
          <p:nvPr/>
        </p:nvPicPr>
        <p:blipFill>
          <a:blip r:embed="rId7"/>
          <a:stretch/>
        </p:blipFill>
        <p:spPr>
          <a:xfrm>
            <a:off x="3643200" y="38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6" name="bGalbiy_Iraqi_4.mp3" descr=""/>
          <p:cNvPicPr/>
          <p:nvPr/>
        </p:nvPicPr>
        <p:blipFill>
          <a:blip r:embed="rId8"/>
          <a:stretch/>
        </p:blipFill>
        <p:spPr>
          <a:xfrm>
            <a:off x="3632040" y="34354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22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903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6038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6273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381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120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98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129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abic keyboard makes difficult-to-detect typos lik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Content Placeholder 3" descr="400px-KB_Arabic_svg.png"/>
          <p:cNvPicPr/>
          <p:nvPr/>
        </p:nvPicPr>
        <p:blipFill>
          <a:blip r:embed="rId1"/>
          <a:stretch/>
        </p:blipFill>
        <p:spPr>
          <a:xfrm>
            <a:off x="1295280" y="1828800"/>
            <a:ext cx="6523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abic keyboard makes difficult-to-detect typos lik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Content Placeholder 3" descr="400px-KB_Arabic_svg.png"/>
          <p:cNvPicPr/>
          <p:nvPr/>
        </p:nvPicPr>
        <p:blipFill>
          <a:blip r:embed="rId1"/>
          <a:stretch/>
        </p:blipFill>
        <p:spPr>
          <a:xfrm>
            <a:off x="1295280" y="1828800"/>
            <a:ext cx="6523200" cy="2185920"/>
          </a:xfrm>
          <a:prstGeom prst="rect">
            <a:avLst/>
          </a:prstGeom>
          <a:ln w="0">
            <a:noFill/>
          </a:ln>
        </p:spPr>
      </p:pic>
      <p:sp>
        <p:nvSpPr>
          <p:cNvPr id="521" name="Rounded Rectangle 4"/>
          <p:cNvSpPr/>
          <p:nvPr/>
        </p:nvSpPr>
        <p:spPr>
          <a:xfrm>
            <a:off x="541008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b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5"/>
          <p:cNvSpPr/>
          <p:nvPr/>
        </p:nvSpPr>
        <p:spPr>
          <a:xfrm>
            <a:off x="586728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b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6"/>
          <p:cNvSpPr/>
          <p:nvPr/>
        </p:nvSpPr>
        <p:spPr>
          <a:xfrm>
            <a:off x="632448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b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ular Callout 8"/>
          <p:cNvSpPr/>
          <p:nvPr/>
        </p:nvSpPr>
        <p:spPr>
          <a:xfrm>
            <a:off x="5410080" y="4114800"/>
            <a:ext cx="2438640" cy="990720"/>
          </a:xfrm>
          <a:prstGeom prst="wedgeRectCallout">
            <a:avLst>
              <a:gd name="adj1" fmla="val -26912"/>
              <a:gd name="adj2" fmla="val -199453"/>
            </a:avLst>
          </a:prstGeom>
          <a:solidFill>
            <a:srgbClr val="00b050">
              <a:alpha val="2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acent letters are often visually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abic keyboard makes difficult-to-detect typos lik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Content Placeholder 3" descr="400px-KB_Arabic_svg.png"/>
          <p:cNvPicPr/>
          <p:nvPr/>
        </p:nvPicPr>
        <p:blipFill>
          <a:blip r:embed="rId1"/>
          <a:stretch/>
        </p:blipFill>
        <p:spPr>
          <a:xfrm>
            <a:off x="1295280" y="1828800"/>
            <a:ext cx="6523200" cy="2185920"/>
          </a:xfrm>
          <a:prstGeom prst="rect">
            <a:avLst/>
          </a:prstGeom>
          <a:ln w="0">
            <a:noFill/>
          </a:ln>
        </p:spPr>
      </p:pic>
      <p:sp>
        <p:nvSpPr>
          <p:cNvPr id="527" name="Rounded Rectangle 4"/>
          <p:cNvSpPr/>
          <p:nvPr/>
        </p:nvSpPr>
        <p:spPr>
          <a:xfrm>
            <a:off x="457200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b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ounded Rectangle 5"/>
          <p:cNvSpPr/>
          <p:nvPr/>
        </p:nvSpPr>
        <p:spPr>
          <a:xfrm>
            <a:off x="411480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b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ular Callout 8"/>
          <p:cNvSpPr/>
          <p:nvPr/>
        </p:nvSpPr>
        <p:spPr>
          <a:xfrm>
            <a:off x="5410080" y="4114800"/>
            <a:ext cx="2438640" cy="990720"/>
          </a:xfrm>
          <a:prstGeom prst="wedgeRectCallout">
            <a:avLst>
              <a:gd name="adj1" fmla="val -88231"/>
              <a:gd name="adj2" fmla="val -198208"/>
            </a:avLst>
          </a:prstGeom>
          <a:solidFill>
            <a:srgbClr val="00b050">
              <a:alpha val="2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acent letters are often visually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abic keyboard makes difficult-to-detect typos lik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Content Placeholder 3" descr="400px-KB_Arabic_svg.png"/>
          <p:cNvPicPr/>
          <p:nvPr/>
        </p:nvPicPr>
        <p:blipFill>
          <a:blip r:embed="rId1"/>
          <a:stretch/>
        </p:blipFill>
        <p:spPr>
          <a:xfrm>
            <a:off x="1295280" y="1828800"/>
            <a:ext cx="6523200" cy="2185920"/>
          </a:xfrm>
          <a:prstGeom prst="rect">
            <a:avLst/>
          </a:prstGeom>
          <a:ln w="0">
            <a:noFill/>
          </a:ln>
        </p:spPr>
      </p:pic>
      <p:sp>
        <p:nvSpPr>
          <p:cNvPr id="532" name="Rounded Rectangle 4"/>
          <p:cNvSpPr/>
          <p:nvPr/>
        </p:nvSpPr>
        <p:spPr>
          <a:xfrm>
            <a:off x="243828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b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ounded Rectangle 5"/>
          <p:cNvSpPr/>
          <p:nvPr/>
        </p:nvSpPr>
        <p:spPr>
          <a:xfrm>
            <a:off x="198108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b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ular Callout 8"/>
          <p:cNvSpPr/>
          <p:nvPr/>
        </p:nvSpPr>
        <p:spPr>
          <a:xfrm>
            <a:off x="5410080" y="4114800"/>
            <a:ext cx="2438640" cy="990720"/>
          </a:xfrm>
          <a:prstGeom prst="wedgeRectCallout">
            <a:avLst>
              <a:gd name="adj1" fmla="val -176912"/>
              <a:gd name="adj2" fmla="val -195712"/>
            </a:avLst>
          </a:prstGeom>
          <a:solidFill>
            <a:srgbClr val="00b050">
              <a:alpha val="2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acent letters are often visually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abic keyboard makes difficult-to-detect typos lik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Content Placeholder 3" descr="400px-KB_Arabic_svg.png"/>
          <p:cNvPicPr/>
          <p:nvPr/>
        </p:nvPicPr>
        <p:blipFill>
          <a:blip r:embed="rId1"/>
          <a:stretch/>
        </p:blipFill>
        <p:spPr>
          <a:xfrm>
            <a:off x="1295280" y="1828800"/>
            <a:ext cx="6523200" cy="2185920"/>
          </a:xfrm>
          <a:prstGeom prst="rect">
            <a:avLst/>
          </a:prstGeom>
          <a:ln w="0">
            <a:noFill/>
          </a:ln>
        </p:spPr>
      </p:pic>
      <p:sp>
        <p:nvSpPr>
          <p:cNvPr id="537" name="Rounded Rectangle 4"/>
          <p:cNvSpPr/>
          <p:nvPr/>
        </p:nvSpPr>
        <p:spPr>
          <a:xfrm>
            <a:off x="541008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ac6c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ular Callout 8"/>
          <p:cNvSpPr/>
          <p:nvPr/>
        </p:nvSpPr>
        <p:spPr>
          <a:xfrm>
            <a:off x="1295280" y="4191120"/>
            <a:ext cx="2438640" cy="1371600"/>
          </a:xfrm>
          <a:prstGeom prst="wedgeRectCallout">
            <a:avLst>
              <a:gd name="adj1" fmla="val 122060"/>
              <a:gd name="adj2" fmla="val -158356"/>
            </a:avLst>
          </a:prstGeom>
          <a:solidFill>
            <a:srgbClr val="8ac6cd">
              <a:alpha val="2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acent letters also often sound similar (with contrasts not found in Engl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7"/>
          <p:cNvSpPr/>
          <p:nvPr/>
        </p:nvSpPr>
        <p:spPr>
          <a:xfrm>
            <a:off x="586728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ac6c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9"/>
          <p:cNvSpPr/>
          <p:nvPr/>
        </p:nvSpPr>
        <p:spPr>
          <a:xfrm>
            <a:off x="5029200" y="24382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ac6c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abic keyboard makes difficult-to-detect typos lik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Content Placeholder 3" descr="400px-KB_Arabic_svg.png"/>
          <p:cNvPicPr/>
          <p:nvPr/>
        </p:nvPicPr>
        <p:blipFill>
          <a:blip r:embed="rId1"/>
          <a:stretch/>
        </p:blipFill>
        <p:spPr>
          <a:xfrm>
            <a:off x="1295280" y="1828800"/>
            <a:ext cx="6523200" cy="2185920"/>
          </a:xfrm>
          <a:prstGeom prst="rect">
            <a:avLst/>
          </a:prstGeom>
          <a:ln w="0">
            <a:noFill/>
          </a:ln>
        </p:spPr>
      </p:pic>
      <p:sp>
        <p:nvSpPr>
          <p:cNvPr id="543" name="Rounded Rectangle 4"/>
          <p:cNvSpPr/>
          <p:nvPr/>
        </p:nvSpPr>
        <p:spPr>
          <a:xfrm>
            <a:off x="5562720" y="28954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ac6c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ular Callout 8"/>
          <p:cNvSpPr/>
          <p:nvPr/>
        </p:nvSpPr>
        <p:spPr>
          <a:xfrm>
            <a:off x="1295280" y="4191120"/>
            <a:ext cx="2362320" cy="1600200"/>
          </a:xfrm>
          <a:prstGeom prst="wedgeRectCallout">
            <a:avLst>
              <a:gd name="adj1" fmla="val 119032"/>
              <a:gd name="adj2" fmla="val -116203"/>
            </a:avLst>
          </a:prstGeom>
          <a:solidFill>
            <a:srgbClr val="8ac6cd">
              <a:alpha val="2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acent letters also often sound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ith contrasts subject to place-assimi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9"/>
          <p:cNvSpPr/>
          <p:nvPr/>
        </p:nvSpPr>
        <p:spPr>
          <a:xfrm>
            <a:off x="5105520" y="28954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ac6c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abic keyboard makes difficult-to-detect typos lik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Content Placeholder 3" descr="400px-KB_Arabic_svg.png"/>
          <p:cNvPicPr/>
          <p:nvPr/>
        </p:nvPicPr>
        <p:blipFill>
          <a:blip r:embed="rId1"/>
          <a:stretch/>
        </p:blipFill>
        <p:spPr>
          <a:xfrm>
            <a:off x="1295280" y="1828800"/>
            <a:ext cx="6523200" cy="2185920"/>
          </a:xfrm>
          <a:prstGeom prst="rect">
            <a:avLst/>
          </a:prstGeom>
          <a:ln w="0">
            <a:noFill/>
          </a:ln>
        </p:spPr>
      </p:pic>
      <p:sp>
        <p:nvSpPr>
          <p:cNvPr id="548" name="Rounded Rectangle 4"/>
          <p:cNvSpPr/>
          <p:nvPr/>
        </p:nvSpPr>
        <p:spPr>
          <a:xfrm>
            <a:off x="6248520" y="33526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ac6c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ular Callout 8"/>
          <p:cNvSpPr/>
          <p:nvPr/>
        </p:nvSpPr>
        <p:spPr>
          <a:xfrm>
            <a:off x="1295280" y="4191120"/>
            <a:ext cx="2438640" cy="1676160"/>
          </a:xfrm>
          <a:prstGeom prst="wedgeRectCallout">
            <a:avLst>
              <a:gd name="adj1" fmla="val 146912"/>
              <a:gd name="adj2" fmla="val -91138"/>
            </a:avLst>
          </a:prstGeom>
          <a:solidFill>
            <a:srgbClr val="8ac6cd">
              <a:alpha val="2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acent letters also often sound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articularly so in some dialect pronunci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9"/>
          <p:cNvSpPr/>
          <p:nvPr/>
        </p:nvSpPr>
        <p:spPr>
          <a:xfrm>
            <a:off x="5715000" y="33526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ac6c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YM…?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440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ry is checked by composing a single-string finite state automaton (FSA) with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keyboard, visual, and sound-based F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ctionary FSA (with weights for dialect vari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best paths yielding unique strings are calculat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rresponding strings are displayed to the u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7"/>
          <p:cNvSpPr/>
          <p:nvPr/>
        </p:nvSpPr>
        <p:spPr>
          <a:xfrm>
            <a:off x="6486480" y="1363680"/>
            <a:ext cx="142920" cy="642600"/>
          </a:xfrm>
          <a:prstGeom prst="rect">
            <a:avLst/>
          </a:prstGeom>
          <a:solidFill>
            <a:srgbClr val="00b05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56"/>
          <p:cNvSpPr/>
          <p:nvPr/>
        </p:nvSpPr>
        <p:spPr>
          <a:xfrm>
            <a:off x="5791320" y="151596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57"/>
          <p:cNvSpPr/>
          <p:nvPr/>
        </p:nvSpPr>
        <p:spPr>
          <a:xfrm>
            <a:off x="6248520" y="151596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58"/>
          <p:cNvSpPr/>
          <p:nvPr/>
        </p:nvSpPr>
        <p:spPr>
          <a:xfrm>
            <a:off x="7238880" y="1515960"/>
            <a:ext cx="30492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Donut 59"/>
          <p:cNvSpPr/>
          <p:nvPr/>
        </p:nvSpPr>
        <p:spPr>
          <a:xfrm>
            <a:off x="7238880" y="151596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52400"/>
                </a:moveTo>
                <a:lnTo>
                  <a:pt x="0" y="152400"/>
                </a:lnTo>
                <a:arcTo wR="152400" hR="152400" stAng="10800000" swAng="5400000"/>
                <a:lnTo>
                  <a:pt x="152400" y="0"/>
                </a:lnTo>
                <a:arcTo wR="152400" hR="152400" stAng="-5400000" swAng="5400000"/>
                <a:lnTo>
                  <a:pt x="304800" y="152400"/>
                </a:lnTo>
                <a:arcTo wR="152400" hR="152400" stAng="0" swAng="5400000"/>
                <a:lnTo>
                  <a:pt x="152400" y="304800"/>
                </a:lnTo>
                <a:arcTo wR="152400" hR="152400" stAng="5400000" swAng="5400000"/>
                <a:close/>
                <a:moveTo>
                  <a:pt x="32464" y="152400"/>
                </a:moveTo>
                <a:lnTo>
                  <a:pt x="32464" y="152400"/>
                </a:lnTo>
                <a:arcTo wR="119936" hR="119936" stAng="10800000" swAng="-5400000"/>
                <a:lnTo>
                  <a:pt x="152400" y="272336"/>
                </a:lnTo>
                <a:arcTo wR="119936" hR="119936" stAng="5400000" swAng="-5400000"/>
                <a:lnTo>
                  <a:pt x="272336" y="152400"/>
                </a:lnTo>
                <a:arcTo wR="119936" hR="119936" stAng="0" swAng="-5400000"/>
                <a:lnTo>
                  <a:pt x="152400" y="32464"/>
                </a:lnTo>
                <a:arcTo wR="119936" hR="119936" stAng="-540000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60"/>
          <p:cNvSpPr/>
          <p:nvPr/>
        </p:nvSpPr>
        <p:spPr>
          <a:xfrm>
            <a:off x="5181480" y="1515960"/>
            <a:ext cx="30492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61"/>
          <p:cNvSpPr/>
          <p:nvPr/>
        </p:nvSpPr>
        <p:spPr>
          <a:xfrm>
            <a:off x="6705720" y="1515960"/>
            <a:ext cx="304560" cy="30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Curved Connector 62"/>
          <p:cNvCxnSpPr>
            <a:stCxn id="558" idx="6"/>
            <a:endCxn id="554" idx="2"/>
          </p:cNvCxnSpPr>
          <p:nvPr/>
        </p:nvCxnSpPr>
        <p:spPr>
          <a:xfrm>
            <a:off x="5486040" y="1668600"/>
            <a:ext cx="30564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61" name="Curved Connector 101"/>
          <p:cNvCxnSpPr>
            <a:stCxn id="562" idx="1"/>
            <a:endCxn id="562" idx="3"/>
          </p:cNvCxnSpPr>
          <p:nvPr/>
        </p:nvCxnSpPr>
        <p:spPr>
          <a:xfrm flipV="1">
            <a:off x="6094800" y="1687320"/>
            <a:ext cx="143640" cy="21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63" name="Curved Connector 64"/>
          <p:cNvCxnSpPr>
            <a:stCxn id="559" idx="6"/>
            <a:endCxn id="556" idx="2"/>
          </p:cNvCxnSpPr>
          <p:nvPr/>
        </p:nvCxnSpPr>
        <p:spPr>
          <a:xfrm>
            <a:off x="7009920" y="1668600"/>
            <a:ext cx="229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64" name="TextBox 33"/>
          <p:cNvSpPr/>
          <p:nvPr/>
        </p:nvSpPr>
        <p:spPr>
          <a:xfrm>
            <a:off x="5562720" y="1363680"/>
            <a:ext cx="142920" cy="642600"/>
          </a:xfrm>
          <a:prstGeom prst="rect">
            <a:avLst/>
          </a:prstGeom>
          <a:solidFill>
            <a:srgbClr val="00b05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6"/>
          <p:cNvSpPr/>
          <p:nvPr/>
        </p:nvSpPr>
        <p:spPr>
          <a:xfrm>
            <a:off x="6095880" y="1363680"/>
            <a:ext cx="142920" cy="642600"/>
          </a:xfrm>
          <a:prstGeom prst="rect">
            <a:avLst/>
          </a:prstGeom>
          <a:solidFill>
            <a:srgbClr val="00b05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8"/>
          <p:cNvSpPr/>
          <p:nvPr/>
        </p:nvSpPr>
        <p:spPr>
          <a:xfrm>
            <a:off x="7020000" y="1363680"/>
            <a:ext cx="142920" cy="642600"/>
          </a:xfrm>
          <a:prstGeom prst="rect">
            <a:avLst/>
          </a:prstGeom>
          <a:solidFill>
            <a:srgbClr val="00b05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IQ" sz="1800" spc="-1" strike="noStrike">
                <a:solidFill>
                  <a:srgbClr val="000000"/>
                </a:solidFill>
                <a:latin typeface="Calibri"/>
              </a:rPr>
              <a:t>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6" name="Curved Connector 63"/>
          <p:cNvCxnSpPr>
            <a:stCxn id="555" idx="6"/>
            <a:endCxn id="559" idx="2"/>
          </p:cNvCxnSpPr>
          <p:nvPr/>
        </p:nvCxnSpPr>
        <p:spPr>
          <a:xfrm>
            <a:off x="6553080" y="1668600"/>
            <a:ext cx="153360" cy="21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grpSp>
        <p:nvGrpSpPr>
          <p:cNvPr id="567" name="Group 57"/>
          <p:cNvGrpSpPr/>
          <p:nvPr/>
        </p:nvGrpSpPr>
        <p:grpSpPr>
          <a:xfrm>
            <a:off x="7467480" y="2535120"/>
            <a:ext cx="990720" cy="657360"/>
            <a:chOff x="7467480" y="2535120"/>
            <a:chExt cx="990720" cy="657360"/>
          </a:xfrm>
        </p:grpSpPr>
        <p:sp>
          <p:nvSpPr>
            <p:cNvPr id="568" name="Oval 70"/>
            <p:cNvSpPr/>
            <p:nvPr/>
          </p:nvSpPr>
          <p:spPr>
            <a:xfrm>
              <a:off x="7812000" y="2909880"/>
              <a:ext cx="264960" cy="2826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9" name="Curved Connector 71"/>
            <p:cNvCxnSpPr>
              <a:stCxn id="568" idx="1"/>
              <a:endCxn id="568" idx="7"/>
            </p:cNvCxnSpPr>
            <p:nvPr/>
          </p:nvCxnSpPr>
          <p:spPr>
            <a:xfrm flipH="1" flipV="1" rot="5400000">
              <a:off x="7944120" y="2856240"/>
              <a:ext cx="2160" cy="187920"/>
            </a:xfrm>
            <a:prstGeom prst="curvedConnector5">
              <a:avLst>
                <a:gd name="adj1" fmla="val 17000000"/>
                <a:gd name="adj2" fmla="val 49904"/>
                <a:gd name="adj3" fmla="val 17000000"/>
              </a:avLst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570" name="TextBox 54"/>
            <p:cNvSpPr/>
            <p:nvPr/>
          </p:nvSpPr>
          <p:spPr>
            <a:xfrm>
              <a:off x="7467480" y="253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ound-b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1" name="Curved Connector 74"/>
          <p:cNvCxnSpPr>
            <a:endCxn id="572" idx="3"/>
          </p:cNvCxnSpPr>
          <p:nvPr/>
        </p:nvCxnSpPr>
        <p:spPr>
          <a:xfrm flipV="1" rot="16200000">
            <a:off x="7938720" y="3025080"/>
            <a:ext cx="13680" cy="248400"/>
          </a:xfrm>
          <a:prstGeom prst="curvedConnector5">
            <a:avLst>
              <a:gd name="adj1" fmla="val -1372972"/>
              <a:gd name="adj2" fmla="val 49927"/>
              <a:gd name="adj3" fmla="val -1372972"/>
            </a:avLst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72" name="Donut 75"/>
          <p:cNvSpPr/>
          <p:nvPr/>
        </p:nvSpPr>
        <p:spPr>
          <a:xfrm>
            <a:off x="7772400" y="2882880"/>
            <a:ext cx="336600" cy="304920"/>
          </a:xfrm>
          <a:custGeom>
            <a:avLst/>
            <a:gdLst>
              <a:gd name="textAreaLeft" fmla="*/ 49320 w 336600"/>
              <a:gd name="textAreaRight" fmla="*/ 287280 w 3366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336550" h="304800">
                <a:moveTo>
                  <a:pt x="0" y="152400"/>
                </a:moveTo>
                <a:lnTo>
                  <a:pt x="0" y="152400"/>
                </a:lnTo>
                <a:arcTo wR="168275" hR="152400" stAng="10800000" swAng="5400000"/>
                <a:lnTo>
                  <a:pt x="168275" y="0"/>
                </a:lnTo>
                <a:arcTo wR="168275" hR="152400" stAng="-5400000" swAng="5400000"/>
                <a:lnTo>
                  <a:pt x="336550" y="152400"/>
                </a:lnTo>
                <a:arcTo wR="168275" hR="152400" stAng="0" swAng="5400000"/>
                <a:lnTo>
                  <a:pt x="168275" y="304800"/>
                </a:lnTo>
                <a:arcTo wR="168275" hR="152400" stAng="5400000" swAng="5400000"/>
                <a:close/>
                <a:moveTo>
                  <a:pt x="32464" y="152400"/>
                </a:moveTo>
                <a:lnTo>
                  <a:pt x="32464" y="152400"/>
                </a:lnTo>
                <a:arcTo wR="135811" hR="119936" stAng="10800000" swAng="-5400000"/>
                <a:lnTo>
                  <a:pt x="168275" y="272336"/>
                </a:lnTo>
                <a:arcTo wR="135811" hR="119936" stAng="5400000" swAng="-5400000"/>
                <a:lnTo>
                  <a:pt x="304086" y="152400"/>
                </a:lnTo>
                <a:arcTo wR="135811" hR="119936" stAng="0" swAng="-5400000"/>
                <a:lnTo>
                  <a:pt x="168275" y="32464"/>
                </a:lnTo>
                <a:arcTo wR="135811" hR="119936" stAng="-540000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57"/>
          <p:cNvGrpSpPr/>
          <p:nvPr/>
        </p:nvGrpSpPr>
        <p:grpSpPr>
          <a:xfrm>
            <a:off x="4419720" y="2506680"/>
            <a:ext cx="990360" cy="662040"/>
            <a:chOff x="4419720" y="2506680"/>
            <a:chExt cx="990360" cy="662040"/>
          </a:xfrm>
        </p:grpSpPr>
        <p:sp>
          <p:nvSpPr>
            <p:cNvPr id="574" name="Oval 98"/>
            <p:cNvSpPr/>
            <p:nvPr/>
          </p:nvSpPr>
          <p:spPr>
            <a:xfrm>
              <a:off x="4764240" y="2886120"/>
              <a:ext cx="264960" cy="2826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5" name="Curved Connector 99"/>
            <p:cNvCxnSpPr>
              <a:stCxn id="574" idx="1"/>
              <a:endCxn id="574" idx="7"/>
            </p:cNvCxnSpPr>
            <p:nvPr/>
          </p:nvCxnSpPr>
          <p:spPr>
            <a:xfrm flipH="1" flipV="1" rot="5400000">
              <a:off x="4896360" y="2832480"/>
              <a:ext cx="2160" cy="187920"/>
            </a:xfrm>
            <a:prstGeom prst="curvedConnector5">
              <a:avLst>
                <a:gd name="adj1" fmla="val 17000000"/>
                <a:gd name="adj2" fmla="val 49904"/>
                <a:gd name="adj3" fmla="val 17000000"/>
              </a:avLst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576" name="TextBox 54"/>
            <p:cNvSpPr/>
            <p:nvPr/>
          </p:nvSpPr>
          <p:spPr>
            <a:xfrm>
              <a:off x="4419720" y="25066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keybo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7" name="Curved Connector 101"/>
          <p:cNvCxnSpPr>
            <a:endCxn id="578" idx="3"/>
          </p:cNvCxnSpPr>
          <p:nvPr/>
        </p:nvCxnSpPr>
        <p:spPr>
          <a:xfrm flipV="1" rot="16200000">
            <a:off x="4891320" y="3028680"/>
            <a:ext cx="11880" cy="248400"/>
          </a:xfrm>
          <a:prstGeom prst="curvedConnector5">
            <a:avLst>
              <a:gd name="adj1" fmla="val -1371875"/>
              <a:gd name="adj2" fmla="val 49927"/>
              <a:gd name="adj3" fmla="val -1371875"/>
            </a:avLst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78" name="Donut 102"/>
          <p:cNvSpPr/>
          <p:nvPr/>
        </p:nvSpPr>
        <p:spPr>
          <a:xfrm>
            <a:off x="4724280" y="2887560"/>
            <a:ext cx="336600" cy="304920"/>
          </a:xfrm>
          <a:custGeom>
            <a:avLst/>
            <a:gdLst>
              <a:gd name="textAreaLeft" fmla="*/ 49320 w 336600"/>
              <a:gd name="textAreaRight" fmla="*/ 287280 w 3366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336550" h="304800">
                <a:moveTo>
                  <a:pt x="0" y="152400"/>
                </a:moveTo>
                <a:lnTo>
                  <a:pt x="0" y="152400"/>
                </a:lnTo>
                <a:arcTo wR="168275" hR="152400" stAng="10800000" swAng="5400000"/>
                <a:lnTo>
                  <a:pt x="168275" y="0"/>
                </a:lnTo>
                <a:arcTo wR="168275" hR="152400" stAng="-5400000" swAng="5400000"/>
                <a:lnTo>
                  <a:pt x="336550" y="152400"/>
                </a:lnTo>
                <a:arcTo wR="168275" hR="152400" stAng="0" swAng="5400000"/>
                <a:lnTo>
                  <a:pt x="168275" y="304800"/>
                </a:lnTo>
                <a:arcTo wR="168275" hR="152400" stAng="5400000" swAng="5400000"/>
                <a:close/>
                <a:moveTo>
                  <a:pt x="32464" y="152400"/>
                </a:moveTo>
                <a:lnTo>
                  <a:pt x="32464" y="152400"/>
                </a:lnTo>
                <a:arcTo wR="135811" hR="119936" stAng="10800000" swAng="-5400000"/>
                <a:lnTo>
                  <a:pt x="168275" y="272336"/>
                </a:lnTo>
                <a:arcTo wR="135811" hR="119936" stAng="5400000" swAng="-5400000"/>
                <a:lnTo>
                  <a:pt x="304086" y="152400"/>
                </a:lnTo>
                <a:arcTo wR="135811" hR="119936" stAng="0" swAng="-5400000"/>
                <a:lnTo>
                  <a:pt x="168275" y="32464"/>
                </a:lnTo>
                <a:arcTo wR="135811" hR="119936" stAng="-540000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onut 117"/>
          <p:cNvSpPr/>
          <p:nvPr/>
        </p:nvSpPr>
        <p:spPr>
          <a:xfrm>
            <a:off x="6400800" y="2201760"/>
            <a:ext cx="152280" cy="15264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152640"/>
              <a:gd name="textAreaBottom" fmla="*/ 130320 h 152640"/>
            </a:gdLst>
            <a:ahLst/>
            <a:rect l="textAreaLeft" t="textAreaTop" r="textAreaRight" b="textAreaBottom"/>
            <a:pathLst>
              <a:path w="152400" h="152400">
                <a:moveTo>
                  <a:pt x="0" y="76200"/>
                </a:moveTo>
                <a:lnTo>
                  <a:pt x="0" y="76200"/>
                </a:lnTo>
                <a:arcTo wR="76200" hR="76200" stAng="10800000" swAng="5400000"/>
                <a:lnTo>
                  <a:pt x="76200" y="0"/>
                </a:lnTo>
                <a:arcTo wR="76200" hR="76200" stAng="-5400000" swAng="5400000"/>
                <a:lnTo>
                  <a:pt x="152400" y="76200"/>
                </a:lnTo>
                <a:arcTo wR="76200" hR="76200" stAng="0" swAng="5400000"/>
                <a:lnTo>
                  <a:pt x="76200" y="152400"/>
                </a:lnTo>
                <a:arcTo wR="76200" hR="76200" stAng="5400000" swAng="5400000"/>
                <a:close/>
                <a:moveTo>
                  <a:pt x="16232" y="76200"/>
                </a:moveTo>
                <a:lnTo>
                  <a:pt x="16232" y="76200"/>
                </a:lnTo>
                <a:arcTo wR="59968" hR="59968" stAng="10800000" swAng="-5400000"/>
                <a:lnTo>
                  <a:pt x="76200" y="136168"/>
                </a:lnTo>
                <a:arcTo wR="59968" hR="59968" stAng="5400000" swAng="-5400000"/>
                <a:lnTo>
                  <a:pt x="136168" y="76200"/>
                </a:lnTo>
                <a:arcTo wR="59968" hR="59968" stAng="0" swAng="-5400000"/>
                <a:lnTo>
                  <a:pt x="76200" y="16232"/>
                </a:lnTo>
                <a:arcTo wR="59968" hR="59968" stAng="-5400000" swAng="-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Donut 118"/>
          <p:cNvSpPr/>
          <p:nvPr/>
        </p:nvSpPr>
        <p:spPr>
          <a:xfrm>
            <a:off x="5257800" y="2963880"/>
            <a:ext cx="152280" cy="15228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152280"/>
              <a:gd name="textAreaBottom" fmla="*/ 12996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76200"/>
                </a:moveTo>
                <a:lnTo>
                  <a:pt x="0" y="76200"/>
                </a:lnTo>
                <a:arcTo wR="76200" hR="76200" stAng="10800000" swAng="5400000"/>
                <a:lnTo>
                  <a:pt x="76200" y="0"/>
                </a:lnTo>
                <a:arcTo wR="76200" hR="76200" stAng="-5400000" swAng="5400000"/>
                <a:lnTo>
                  <a:pt x="152400" y="76200"/>
                </a:lnTo>
                <a:arcTo wR="76200" hR="76200" stAng="0" swAng="5400000"/>
                <a:lnTo>
                  <a:pt x="76200" y="152400"/>
                </a:lnTo>
                <a:arcTo wR="76200" hR="76200" stAng="5400000" swAng="5400000"/>
                <a:close/>
                <a:moveTo>
                  <a:pt x="16232" y="76200"/>
                </a:moveTo>
                <a:lnTo>
                  <a:pt x="16232" y="76200"/>
                </a:lnTo>
                <a:arcTo wR="59968" hR="59968" stAng="10800000" swAng="-5400000"/>
                <a:lnTo>
                  <a:pt x="76200" y="136168"/>
                </a:lnTo>
                <a:arcTo wR="59968" hR="59968" stAng="5400000" swAng="-5400000"/>
                <a:lnTo>
                  <a:pt x="136168" y="76200"/>
                </a:lnTo>
                <a:arcTo wR="59968" hR="59968" stAng="0" swAng="-5400000"/>
                <a:lnTo>
                  <a:pt x="76200" y="16232"/>
                </a:lnTo>
                <a:arcTo wR="59968" hR="59968" stAng="-5400000" swAng="-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onut 119"/>
          <p:cNvSpPr/>
          <p:nvPr/>
        </p:nvSpPr>
        <p:spPr>
          <a:xfrm>
            <a:off x="7391520" y="2963880"/>
            <a:ext cx="152280" cy="15228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152280"/>
              <a:gd name="textAreaBottom" fmla="*/ 12996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76200"/>
                </a:moveTo>
                <a:lnTo>
                  <a:pt x="0" y="76200"/>
                </a:lnTo>
                <a:arcTo wR="76200" hR="76200" stAng="10800000" swAng="5400000"/>
                <a:lnTo>
                  <a:pt x="76200" y="0"/>
                </a:lnTo>
                <a:arcTo wR="76200" hR="76200" stAng="-5400000" swAng="5400000"/>
                <a:lnTo>
                  <a:pt x="152400" y="76200"/>
                </a:lnTo>
                <a:arcTo wR="76200" hR="76200" stAng="0" swAng="5400000"/>
                <a:lnTo>
                  <a:pt x="76200" y="152400"/>
                </a:lnTo>
                <a:arcTo wR="76200" hR="76200" stAng="5400000" swAng="5400000"/>
                <a:close/>
                <a:moveTo>
                  <a:pt x="16232" y="76200"/>
                </a:moveTo>
                <a:lnTo>
                  <a:pt x="16232" y="76200"/>
                </a:lnTo>
                <a:arcTo wR="59968" hR="59968" stAng="10800000" swAng="-5400000"/>
                <a:lnTo>
                  <a:pt x="76200" y="136168"/>
                </a:lnTo>
                <a:arcTo wR="59968" hR="59968" stAng="5400000" swAng="-5400000"/>
                <a:lnTo>
                  <a:pt x="136168" y="76200"/>
                </a:lnTo>
                <a:arcTo wR="59968" hR="59968" stAng="0" swAng="-5400000"/>
                <a:lnTo>
                  <a:pt x="76200" y="16232"/>
                </a:lnTo>
                <a:arcTo wR="59968" hR="59968" stAng="-5400000" swAng="-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onut 120"/>
          <p:cNvSpPr/>
          <p:nvPr/>
        </p:nvSpPr>
        <p:spPr>
          <a:xfrm>
            <a:off x="6408720" y="3497400"/>
            <a:ext cx="144360" cy="152280"/>
          </a:xfrm>
          <a:custGeom>
            <a:avLst/>
            <a:gdLst>
              <a:gd name="textAreaLeft" fmla="*/ 20880 w 144360"/>
              <a:gd name="textAreaRight" fmla="*/ 123480 w 144360"/>
              <a:gd name="textAreaTop" fmla="*/ 22320 h 152280"/>
              <a:gd name="textAreaBottom" fmla="*/ 129960 h 152280"/>
            </a:gdLst>
            <a:ahLst/>
            <a:rect l="textAreaLeft" t="textAreaTop" r="textAreaRight" b="textAreaBottom"/>
            <a:pathLst>
              <a:path w="144462" h="152400">
                <a:moveTo>
                  <a:pt x="0" y="76200"/>
                </a:moveTo>
                <a:lnTo>
                  <a:pt x="0" y="76200"/>
                </a:lnTo>
                <a:arcTo wR="72231" hR="76200" stAng="10800000" swAng="5400000"/>
                <a:lnTo>
                  <a:pt x="72231" y="0"/>
                </a:lnTo>
                <a:arcTo wR="72231" hR="76200" stAng="-5400000" swAng="5400000"/>
                <a:lnTo>
                  <a:pt x="144462" y="76200"/>
                </a:lnTo>
                <a:arcTo wR="72231" hR="76200" stAng="0" swAng="5400000"/>
                <a:lnTo>
                  <a:pt x="72231" y="152400"/>
                </a:lnTo>
                <a:arcTo wR="72231" hR="76200" stAng="5400000" swAng="5400000"/>
                <a:close/>
                <a:moveTo>
                  <a:pt x="15387" y="76200"/>
                </a:moveTo>
                <a:lnTo>
                  <a:pt x="15387" y="76200"/>
                </a:lnTo>
                <a:arcTo wR="56844" hR="60813" stAng="10800000" swAng="-5400000"/>
                <a:lnTo>
                  <a:pt x="72231" y="137013"/>
                </a:lnTo>
                <a:arcTo wR="56844" hR="60813" stAng="5400000" swAng="-5400000"/>
                <a:lnTo>
                  <a:pt x="129075" y="76200"/>
                </a:lnTo>
                <a:arcTo wR="56844" hR="60813" stAng="0" swAng="-5400000"/>
                <a:lnTo>
                  <a:pt x="72231" y="15387"/>
                </a:lnTo>
                <a:arcTo wR="56844" hR="60813" stAng="-5400000" swAng="-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96"/>
          <p:cNvSpPr/>
          <p:nvPr/>
        </p:nvSpPr>
        <p:spPr>
          <a:xfrm>
            <a:off x="2438280" y="56386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RB, ?ARB, OARB, 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57"/>
          <p:cNvGrpSpPr/>
          <p:nvPr/>
        </p:nvGrpSpPr>
        <p:grpSpPr>
          <a:xfrm>
            <a:off x="5791320" y="2612520"/>
            <a:ext cx="1317600" cy="579960"/>
            <a:chOff x="5791320" y="2612520"/>
            <a:chExt cx="1317600" cy="579960"/>
          </a:xfrm>
        </p:grpSpPr>
        <p:sp>
          <p:nvSpPr>
            <p:cNvPr id="585" name="Oval 100"/>
            <p:cNvSpPr/>
            <p:nvPr/>
          </p:nvSpPr>
          <p:spPr>
            <a:xfrm>
              <a:off x="5791320" y="2876400"/>
              <a:ext cx="330120" cy="316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03"/>
            <p:cNvSpPr/>
            <p:nvPr/>
          </p:nvSpPr>
          <p:spPr>
            <a:xfrm>
              <a:off x="6296040" y="2876400"/>
              <a:ext cx="330120" cy="316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04"/>
            <p:cNvSpPr/>
            <p:nvPr/>
          </p:nvSpPr>
          <p:spPr>
            <a:xfrm>
              <a:off x="6780240" y="2876400"/>
              <a:ext cx="328680" cy="316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8" name="Curved Connector 105"/>
            <p:cNvCxnSpPr>
              <a:stCxn id="585" idx="7"/>
              <a:endCxn id="586" idx="1"/>
            </p:cNvCxnSpPr>
            <p:nvPr/>
          </p:nvCxnSpPr>
          <p:spPr>
            <a:xfrm flipH="1" flipV="1" rot="5400000">
              <a:off x="6208560" y="2787120"/>
              <a:ext cx="2160" cy="272160"/>
            </a:xfrm>
            <a:prstGeom prst="curvedConnector5">
              <a:avLst>
                <a:gd name="adj1" fmla="val 17300000"/>
                <a:gd name="adj2" fmla="val 49933"/>
                <a:gd name="adj3" fmla="val 17300000"/>
              </a:avLst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89" name="Curved Connector 106"/>
            <p:cNvCxnSpPr>
              <a:stCxn id="586" idx="7"/>
              <a:endCxn id="590" idx="1"/>
            </p:cNvCxnSpPr>
            <p:nvPr/>
          </p:nvCxnSpPr>
          <p:spPr>
            <a:xfrm flipH="1" flipV="1" rot="5400000">
              <a:off x="6699960" y="2787480"/>
              <a:ext cx="13320" cy="255960"/>
            </a:xfrm>
            <a:prstGeom prst="curvedConnector5">
              <a:avLst>
                <a:gd name="adj1" fmla="val 2369444"/>
                <a:gd name="adj2" fmla="val 50000"/>
                <a:gd name="adj3" fmla="val 2369444"/>
              </a:avLst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1" name="Curved Connector 107"/>
            <p:cNvCxnSpPr>
              <a:stCxn id="586" idx="7"/>
              <a:endCxn id="586" idx="1"/>
            </p:cNvCxnSpPr>
            <p:nvPr/>
          </p:nvCxnSpPr>
          <p:spPr>
            <a:xfrm flipV="1" rot="16200000">
              <a:off x="6460920" y="2805840"/>
              <a:ext cx="2160" cy="234000"/>
            </a:xfrm>
            <a:prstGeom prst="curvedConnector5">
              <a:avLst>
                <a:gd name="adj1" fmla="val 17300000"/>
                <a:gd name="adj2" fmla="val 49922"/>
                <a:gd name="adj3" fmla="val 17300000"/>
              </a:avLst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cxnSp>
        <p:nvCxnSpPr>
          <p:cNvPr id="592" name="Curved Connector 108"/>
          <p:cNvCxnSpPr/>
          <p:nvPr/>
        </p:nvCxnSpPr>
        <p:spPr>
          <a:xfrm flipH="1" rot="16200000">
            <a:off x="6208920" y="3009600"/>
            <a:ext cx="2160" cy="272160"/>
          </a:xfrm>
          <a:prstGeom prst="curvedConnector5">
            <a:avLst>
              <a:gd name="adj1" fmla="val 17300000"/>
              <a:gd name="adj2" fmla="val 49933"/>
              <a:gd name="adj3" fmla="val 17300000"/>
            </a:avLst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93" name="Curved Connector 109"/>
          <p:cNvCxnSpPr>
            <a:endCxn id="590" idx="3"/>
          </p:cNvCxnSpPr>
          <p:nvPr/>
        </p:nvCxnSpPr>
        <p:spPr>
          <a:xfrm flipH="1" flipV="1" rot="5400000">
            <a:off x="6705360" y="3017520"/>
            <a:ext cx="2160" cy="255960"/>
          </a:xfrm>
          <a:prstGeom prst="curvedConnector5">
            <a:avLst>
              <a:gd name="adj1" fmla="val -13120000"/>
              <a:gd name="adj2" fmla="val 50000"/>
              <a:gd name="adj3" fmla="val -13120000"/>
            </a:avLst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90" name="Donut 110"/>
          <p:cNvSpPr/>
          <p:nvPr/>
        </p:nvSpPr>
        <p:spPr>
          <a:xfrm>
            <a:off x="6781680" y="2862360"/>
            <a:ext cx="360360" cy="330120"/>
          </a:xfrm>
          <a:custGeom>
            <a:avLst/>
            <a:gdLst>
              <a:gd name="textAreaLeft" fmla="*/ 52560 w 360360"/>
              <a:gd name="textAreaRight" fmla="*/ 307800 w 360360"/>
              <a:gd name="textAreaTop" fmla="*/ 48240 h 330120"/>
              <a:gd name="textAreaBottom" fmla="*/ 281880 h 330120"/>
            </a:gdLst>
            <a:ahLst/>
            <a:rect l="textAreaLeft" t="textAreaTop" r="textAreaRight" b="textAreaBottom"/>
            <a:pathLst>
              <a:path w="360363" h="330200">
                <a:moveTo>
                  <a:pt x="0" y="165100"/>
                </a:moveTo>
                <a:lnTo>
                  <a:pt x="0" y="165100"/>
                </a:lnTo>
                <a:arcTo wR="180182" hR="165100" stAng="10800000" swAng="5400000"/>
                <a:lnTo>
                  <a:pt x="180182" y="0"/>
                </a:lnTo>
                <a:arcTo wR="180182" hR="165100" stAng="-5400000" swAng="5400000"/>
                <a:lnTo>
                  <a:pt x="360364" y="165100"/>
                </a:lnTo>
                <a:arcTo wR="180182" hR="165100" stAng="0" swAng="5400000"/>
                <a:lnTo>
                  <a:pt x="180182" y="330200"/>
                </a:lnTo>
                <a:arcTo wR="180182" hR="165100" stAng="5400000" swAng="5400000"/>
                <a:close/>
                <a:moveTo>
                  <a:pt x="35170" y="165100"/>
                </a:moveTo>
                <a:lnTo>
                  <a:pt x="35170" y="165100"/>
                </a:lnTo>
                <a:arcTo wR="145012" hR="129930" stAng="10800000" swAng="-5400000"/>
                <a:lnTo>
                  <a:pt x="180182" y="295030"/>
                </a:lnTo>
                <a:arcTo wR="145012" hR="129930" stAng="5400000" swAng="-5400000"/>
                <a:lnTo>
                  <a:pt x="325194" y="165100"/>
                </a:lnTo>
                <a:arcTo wR="145012" hR="129930" stAng="0" swAng="-5400000"/>
                <a:lnTo>
                  <a:pt x="180182" y="35170"/>
                </a:lnTo>
                <a:arcTo wR="145012" hR="129930" stAng="-540000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4"/>
          <p:cNvSpPr/>
          <p:nvPr/>
        </p:nvSpPr>
        <p:spPr>
          <a:xfrm>
            <a:off x="5997600" y="24591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Curved Connector 113"/>
          <p:cNvCxnSpPr/>
          <p:nvPr/>
        </p:nvCxnSpPr>
        <p:spPr>
          <a:xfrm rot="5400000">
            <a:off x="6460560" y="3029040"/>
            <a:ext cx="2160" cy="234000"/>
          </a:xfrm>
          <a:prstGeom prst="curvedConnector5">
            <a:avLst>
              <a:gd name="adj1" fmla="val 17300000"/>
              <a:gd name="adj2" fmla="val 49922"/>
              <a:gd name="adj3" fmla="val 17300000"/>
            </a:avLst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grpSp>
        <p:nvGrpSpPr>
          <p:cNvPr id="596" name="Group 218"/>
          <p:cNvGrpSpPr/>
          <p:nvPr/>
        </p:nvGrpSpPr>
        <p:grpSpPr>
          <a:xfrm>
            <a:off x="5029200" y="3836880"/>
            <a:ext cx="2743200" cy="1792440"/>
            <a:chOff x="5029200" y="3836880"/>
            <a:chExt cx="2743200" cy="1792440"/>
          </a:xfrm>
        </p:grpSpPr>
        <p:sp>
          <p:nvSpPr>
            <p:cNvPr id="597" name="Oval 167"/>
            <p:cNvSpPr/>
            <p:nvPr/>
          </p:nvSpPr>
          <p:spPr>
            <a:xfrm>
              <a:off x="5715000" y="4295520"/>
              <a:ext cx="304560" cy="2667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68"/>
            <p:cNvSpPr/>
            <p:nvPr/>
          </p:nvSpPr>
          <p:spPr>
            <a:xfrm>
              <a:off x="6326280" y="4295520"/>
              <a:ext cx="304560" cy="2667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69"/>
            <p:cNvSpPr/>
            <p:nvPr/>
          </p:nvSpPr>
          <p:spPr>
            <a:xfrm>
              <a:off x="7467840" y="4295520"/>
              <a:ext cx="304560" cy="2667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0" name="Curved Connector 170"/>
            <p:cNvCxnSpPr>
              <a:stCxn id="597" idx="6"/>
              <a:endCxn id="598" idx="2"/>
            </p:cNvCxnSpPr>
            <p:nvPr/>
          </p:nvCxnSpPr>
          <p:spPr>
            <a:xfrm>
              <a:off x="6019560" y="4429080"/>
              <a:ext cx="306720" cy="2160"/>
            </a:xfrm>
            <a:prstGeom prst="curvedConnector5">
              <a:avLst>
                <a:gd name="adj1" fmla="val 49941"/>
                <a:gd name="adj2" fmla="val 40000"/>
                <a:gd name="adj3" fmla="val 49941"/>
              </a:avLst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601" name="Donut 171"/>
            <p:cNvSpPr/>
            <p:nvPr/>
          </p:nvSpPr>
          <p:spPr>
            <a:xfrm>
              <a:off x="7467840" y="4294080"/>
              <a:ext cx="304560" cy="266760"/>
            </a:xfrm>
            <a:custGeom>
              <a:avLst/>
              <a:gdLst>
                <a:gd name="textAreaLeft" fmla="*/ 44640 w 304560"/>
                <a:gd name="textAreaRight" fmla="*/ 259920 w 304560"/>
                <a:gd name="textAreaTop" fmla="*/ 38880 h 266760"/>
                <a:gd name="textAreaBottom" fmla="*/ 227880 h 266760"/>
              </a:gdLst>
              <a:ahLst/>
              <a:rect l="textAreaLeft" t="textAreaTop" r="textAreaRight" b="textAreaBottom"/>
              <a:pathLst>
                <a:path w="304800" h="266700">
                  <a:moveTo>
                    <a:pt x="0" y="133350"/>
                  </a:moveTo>
                  <a:lnTo>
                    <a:pt x="0" y="133350"/>
                  </a:lnTo>
                  <a:arcTo wR="152400" hR="133350" stAng="10800000" swAng="5400000"/>
                  <a:lnTo>
                    <a:pt x="152400" y="0"/>
                  </a:lnTo>
                  <a:arcTo wR="152400" hR="133350" stAng="-5400000" swAng="5400000"/>
                  <a:lnTo>
                    <a:pt x="304800" y="133350"/>
                  </a:lnTo>
                  <a:arcTo wR="152400" hR="133350" stAng="0" swAng="5400000"/>
                  <a:lnTo>
                    <a:pt x="152400" y="266700"/>
                  </a:lnTo>
                  <a:arcTo wR="152400" hR="133350" stAng="5400000" swAng="5400000"/>
                  <a:close/>
                  <a:moveTo>
                    <a:pt x="16455" y="133350"/>
                  </a:moveTo>
                  <a:lnTo>
                    <a:pt x="16455" y="133350"/>
                  </a:lnTo>
                  <a:arcTo wR="135945" hR="116895" stAng="10800000" swAng="-5400000"/>
                  <a:lnTo>
                    <a:pt x="152400" y="250245"/>
                  </a:lnTo>
                  <a:arcTo wR="135945" hR="116895" stAng="5400000" swAng="-5400000"/>
                  <a:lnTo>
                    <a:pt x="288345" y="133350"/>
                  </a:lnTo>
                  <a:arcTo wR="135945" hR="116895" stAng="0" swAng="-5400000"/>
                  <a:lnTo>
                    <a:pt x="152400" y="16455"/>
                  </a:lnTo>
                  <a:arcTo wR="135945" hR="116895" stAng="-540000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2"/>
            <p:cNvSpPr/>
            <p:nvPr/>
          </p:nvSpPr>
          <p:spPr>
            <a:xfrm>
              <a:off x="5029200" y="4294080"/>
              <a:ext cx="304560" cy="2667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3"/>
            <p:cNvSpPr/>
            <p:nvPr/>
          </p:nvSpPr>
          <p:spPr>
            <a:xfrm>
              <a:off x="6858000" y="4295520"/>
              <a:ext cx="304560" cy="2667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4" name="Curved Connector 174"/>
            <p:cNvCxnSpPr>
              <a:stCxn id="602" idx="6"/>
              <a:endCxn id="597" idx="2"/>
            </p:cNvCxnSpPr>
            <p:nvPr/>
          </p:nvCxnSpPr>
          <p:spPr>
            <a:xfrm>
              <a:off x="5333760" y="4427280"/>
              <a:ext cx="381600" cy="2160"/>
            </a:xfrm>
            <a:prstGeom prst="curvedConnector5">
              <a:avLst>
                <a:gd name="adj1" fmla="val 49952"/>
                <a:gd name="adj2" fmla="val 40000"/>
                <a:gd name="adj3" fmla="val 49952"/>
              </a:avLst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605" name="Curved Connector 175"/>
            <p:cNvCxnSpPr>
              <a:stCxn id="598" idx="6"/>
              <a:endCxn id="603" idx="2"/>
            </p:cNvCxnSpPr>
            <p:nvPr/>
          </p:nvCxnSpPr>
          <p:spPr>
            <a:xfrm>
              <a:off x="6630840" y="4429080"/>
              <a:ext cx="227520" cy="2160"/>
            </a:xfrm>
            <a:prstGeom prst="curvedConnector5">
              <a:avLst>
                <a:gd name="adj1" fmla="val 49920"/>
                <a:gd name="adj2" fmla="val 40000"/>
                <a:gd name="adj3" fmla="val 49920"/>
              </a:avLst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606" name="Curved Connector 176"/>
            <p:cNvCxnSpPr>
              <a:stCxn id="603" idx="6"/>
              <a:endCxn id="599" idx="2"/>
            </p:cNvCxnSpPr>
            <p:nvPr/>
          </p:nvCxnSpPr>
          <p:spPr>
            <a:xfrm>
              <a:off x="7162920" y="4429080"/>
              <a:ext cx="305280" cy="2160"/>
            </a:xfrm>
            <a:prstGeom prst="curvedConnector5">
              <a:avLst>
                <a:gd name="adj1" fmla="val 49940"/>
                <a:gd name="adj2" fmla="val 40000"/>
                <a:gd name="adj3" fmla="val 49940"/>
              </a:avLst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607" name="Oval 177"/>
            <p:cNvSpPr/>
            <p:nvPr/>
          </p:nvSpPr>
          <p:spPr>
            <a:xfrm>
              <a:off x="5715000" y="4829040"/>
              <a:ext cx="304560" cy="2649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78"/>
            <p:cNvSpPr/>
            <p:nvPr/>
          </p:nvSpPr>
          <p:spPr>
            <a:xfrm>
              <a:off x="5715000" y="3836880"/>
              <a:ext cx="304560" cy="2667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79"/>
            <p:cNvSpPr/>
            <p:nvPr/>
          </p:nvSpPr>
          <p:spPr>
            <a:xfrm>
              <a:off x="6324480" y="5362560"/>
              <a:ext cx="304560" cy="2649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Straight Arrow Connector 180"/>
            <p:cNvCxnSpPr>
              <a:stCxn id="597" idx="0"/>
              <a:endCxn id="608" idx="4"/>
            </p:cNvCxnSpPr>
            <p:nvPr/>
          </p:nvCxnSpPr>
          <p:spPr>
            <a:xfrm flipV="1">
              <a:off x="5865840" y="4103280"/>
              <a:ext cx="3600" cy="19440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611" name="Curved Connector 32"/>
            <p:cNvCxnSpPr>
              <a:stCxn id="602" idx="0"/>
            </p:cNvCxnSpPr>
            <p:nvPr/>
          </p:nvCxnSpPr>
          <p:spPr>
            <a:xfrm flipV="1">
              <a:off x="5179680" y="3914280"/>
              <a:ext cx="3600" cy="3816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12" name="Curved Connector 32"/>
            <p:cNvCxnSpPr>
              <a:stCxn id="602" idx="7"/>
            </p:cNvCxnSpPr>
            <p:nvPr/>
          </p:nvCxnSpPr>
          <p:spPr>
            <a:xfrm flipV="1">
              <a:off x="5288400" y="4140720"/>
              <a:ext cx="121320" cy="1926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13" name="Curved Connector 32"/>
            <p:cNvCxnSpPr>
              <a:stCxn id="602" idx="4"/>
            </p:cNvCxnSpPr>
            <p:nvPr/>
          </p:nvCxnSpPr>
          <p:spPr>
            <a:xfrm flipH="1">
              <a:off x="5181120" y="4560480"/>
              <a:ext cx="2160" cy="1926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14" name="Curved Connector 32"/>
            <p:cNvCxnSpPr>
              <a:stCxn id="602" idx="5"/>
            </p:cNvCxnSpPr>
            <p:nvPr/>
          </p:nvCxnSpPr>
          <p:spPr>
            <a:xfrm>
              <a:off x="5289480" y="4520880"/>
              <a:ext cx="165600" cy="1926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15" name="Curved Connector 185"/>
            <p:cNvCxnSpPr>
              <a:stCxn id="597" idx="4"/>
              <a:endCxn id="607" idx="0"/>
            </p:cNvCxnSpPr>
            <p:nvPr/>
          </p:nvCxnSpPr>
          <p:spPr>
            <a:xfrm rot="5400000">
              <a:off x="5732640" y="4694760"/>
              <a:ext cx="268920" cy="3600"/>
            </a:xfrm>
            <a:prstGeom prst="curvedConnector5">
              <a:avLst>
                <a:gd name="adj1" fmla="val 50000"/>
                <a:gd name="adj2" fmla="val 44444"/>
                <a:gd name="adj3" fmla="val 50000"/>
              </a:avLst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grpSp>
          <p:nvGrpSpPr>
            <p:cNvPr id="616" name="Group 23"/>
            <p:cNvGrpSpPr/>
            <p:nvPr/>
          </p:nvGrpSpPr>
          <p:grpSpPr>
            <a:xfrm>
              <a:off x="6858000" y="5364360"/>
              <a:ext cx="304560" cy="264960"/>
              <a:chOff x="6858000" y="5364360"/>
              <a:chExt cx="304560" cy="264960"/>
            </a:xfrm>
          </p:grpSpPr>
          <p:sp>
            <p:nvSpPr>
              <p:cNvPr id="617" name="Oval 187"/>
              <p:cNvSpPr/>
              <p:nvPr/>
            </p:nvSpPr>
            <p:spPr>
              <a:xfrm>
                <a:off x="6858000" y="536436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188"/>
              <p:cNvSpPr/>
              <p:nvPr/>
            </p:nvSpPr>
            <p:spPr>
              <a:xfrm>
                <a:off x="6858000" y="536436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Donut 189"/>
              <p:cNvSpPr/>
              <p:nvPr/>
            </p:nvSpPr>
            <p:spPr>
              <a:xfrm>
                <a:off x="6858000" y="5364360"/>
                <a:ext cx="304560" cy="264960"/>
              </a:xfrm>
              <a:custGeom>
                <a:avLst/>
                <a:gdLst>
                  <a:gd name="textAreaLeft" fmla="*/ 44640 w 304560"/>
                  <a:gd name="textAreaRight" fmla="*/ 259920 w 304560"/>
                  <a:gd name="textAreaTop" fmla="*/ 38520 h 264960"/>
                  <a:gd name="textAreaBottom" fmla="*/ 226440 h 264960"/>
                </a:gdLst>
                <a:ahLst/>
                <a:rect l="textAreaLeft" t="textAreaTop" r="textAreaRight" b="textAreaBottom"/>
                <a:pathLst>
                  <a:path w="914400" h="914400">
                    <a:moveTo>
                      <a:pt x="0" y="457200"/>
                    </a:moveTo>
                    <a:lnTo>
                      <a:pt x="0" y="457200"/>
                    </a:lnTo>
                    <a:arcTo wR="457200" hR="457200" stAng="-10799992" swAng="5400000"/>
                    <a:lnTo>
                      <a:pt x="457201" y="1"/>
                    </a:lnTo>
                    <a:arcTo wR="457200" hR="457200" stAng="-5399992" swAng="5400000"/>
                    <a:lnTo>
                      <a:pt x="914400" y="457202"/>
                    </a:lnTo>
                    <a:arcTo wR="457200" hR="457200" stAng="0" swAng="5400000"/>
                    <a:lnTo>
                      <a:pt x="457200" y="914402"/>
                    </a:lnTo>
                    <a:arcTo wR="457200" hR="457200" stAng="5400000" swAng="5400008"/>
                    <a:close/>
                    <a:moveTo>
                      <a:pt x="56418" y="457200"/>
                    </a:moveTo>
                    <a:lnTo>
                      <a:pt x="56418" y="457200"/>
                    </a:lnTo>
                    <a:arcTo wR="400782" hR="400782" stAng="10800000" swAng="-5400000"/>
                    <a:lnTo>
                      <a:pt x="457200" y="857982"/>
                    </a:lnTo>
                    <a:arcTo wR="400782" hR="400782" stAng="5400000" swAng="-5400000"/>
                    <a:lnTo>
                      <a:pt x="857982" y="457200"/>
                    </a:lnTo>
                    <a:arcTo wR="400782" hR="400782" stAng="0" swAng="-5400000"/>
                    <a:lnTo>
                      <a:pt x="457200" y="56418"/>
                    </a:lnTo>
                    <a:arcTo wR="400782" hR="400782" stAng="-540000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9a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27"/>
            <p:cNvGrpSpPr/>
            <p:nvPr/>
          </p:nvGrpSpPr>
          <p:grpSpPr>
            <a:xfrm>
              <a:off x="7467840" y="5364360"/>
              <a:ext cx="304560" cy="264960"/>
              <a:chOff x="7467840" y="5364360"/>
              <a:chExt cx="304560" cy="264960"/>
            </a:xfrm>
          </p:grpSpPr>
          <p:sp>
            <p:nvSpPr>
              <p:cNvPr id="621" name="Oval 191"/>
              <p:cNvSpPr/>
              <p:nvPr/>
            </p:nvSpPr>
            <p:spPr>
              <a:xfrm>
                <a:off x="7467840" y="536436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192"/>
              <p:cNvSpPr/>
              <p:nvPr/>
            </p:nvSpPr>
            <p:spPr>
              <a:xfrm>
                <a:off x="7467840" y="536436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Donut 193"/>
              <p:cNvSpPr/>
              <p:nvPr/>
            </p:nvSpPr>
            <p:spPr>
              <a:xfrm>
                <a:off x="7467840" y="5364360"/>
                <a:ext cx="304560" cy="264960"/>
              </a:xfrm>
              <a:custGeom>
                <a:avLst/>
                <a:gdLst>
                  <a:gd name="textAreaLeft" fmla="*/ 44640 w 304560"/>
                  <a:gd name="textAreaRight" fmla="*/ 259920 w 304560"/>
                  <a:gd name="textAreaTop" fmla="*/ 38520 h 264960"/>
                  <a:gd name="textAreaBottom" fmla="*/ 226440 h 264960"/>
                </a:gdLst>
                <a:ahLst/>
                <a:rect l="textAreaLeft" t="textAreaTop" r="textAreaRight" b="textAreaBottom"/>
                <a:pathLst>
                  <a:path w="914400" h="914400">
                    <a:moveTo>
                      <a:pt x="0" y="457200"/>
                    </a:moveTo>
                    <a:lnTo>
                      <a:pt x="0" y="457200"/>
                    </a:lnTo>
                    <a:arcTo wR="457200" hR="457200" stAng="-10799992" swAng="5400000"/>
                    <a:lnTo>
                      <a:pt x="457201" y="1"/>
                    </a:lnTo>
                    <a:arcTo wR="457200" hR="457200" stAng="-5399992" swAng="5400000"/>
                    <a:lnTo>
                      <a:pt x="914400" y="457202"/>
                    </a:lnTo>
                    <a:arcTo wR="457200" hR="457200" stAng="0" swAng="5400000"/>
                    <a:lnTo>
                      <a:pt x="457200" y="914402"/>
                    </a:lnTo>
                    <a:arcTo wR="457200" hR="457200" stAng="5400000" swAng="5400008"/>
                    <a:close/>
                    <a:moveTo>
                      <a:pt x="56418" y="457200"/>
                    </a:moveTo>
                    <a:lnTo>
                      <a:pt x="56418" y="457200"/>
                    </a:lnTo>
                    <a:arcTo wR="400782" hR="400782" stAng="10800000" swAng="-5400000"/>
                    <a:lnTo>
                      <a:pt x="457200" y="857982"/>
                    </a:lnTo>
                    <a:arcTo wR="400782" hR="400782" stAng="5400000" swAng="-5400000"/>
                    <a:lnTo>
                      <a:pt x="857982" y="457200"/>
                    </a:lnTo>
                    <a:arcTo wR="400782" hR="400782" stAng="0" swAng="-5400000"/>
                    <a:lnTo>
                      <a:pt x="457200" y="56418"/>
                    </a:lnTo>
                    <a:arcTo wR="400782" hR="400782" stAng="-540000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9a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31"/>
            <p:cNvGrpSpPr/>
            <p:nvPr/>
          </p:nvGrpSpPr>
          <p:grpSpPr>
            <a:xfrm>
              <a:off x="7467840" y="4829040"/>
              <a:ext cx="304560" cy="264960"/>
              <a:chOff x="7467840" y="4829040"/>
              <a:chExt cx="304560" cy="264960"/>
            </a:xfrm>
          </p:grpSpPr>
          <p:sp>
            <p:nvSpPr>
              <p:cNvPr id="625" name="Oval 195"/>
              <p:cNvSpPr/>
              <p:nvPr/>
            </p:nvSpPr>
            <p:spPr>
              <a:xfrm>
                <a:off x="7467840" y="482904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196"/>
              <p:cNvSpPr/>
              <p:nvPr/>
            </p:nvSpPr>
            <p:spPr>
              <a:xfrm>
                <a:off x="7467840" y="482904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Donut 197"/>
              <p:cNvSpPr/>
              <p:nvPr/>
            </p:nvSpPr>
            <p:spPr>
              <a:xfrm>
                <a:off x="7467840" y="4829040"/>
                <a:ext cx="304560" cy="264960"/>
              </a:xfrm>
              <a:custGeom>
                <a:avLst/>
                <a:gdLst>
                  <a:gd name="textAreaLeft" fmla="*/ 44640 w 304560"/>
                  <a:gd name="textAreaRight" fmla="*/ 259920 w 304560"/>
                  <a:gd name="textAreaTop" fmla="*/ 38520 h 264960"/>
                  <a:gd name="textAreaBottom" fmla="*/ 226440 h 264960"/>
                </a:gdLst>
                <a:ahLst/>
                <a:rect l="textAreaLeft" t="textAreaTop" r="textAreaRight" b="textAreaBottom"/>
                <a:pathLst>
                  <a:path w="914400" h="914400">
                    <a:moveTo>
                      <a:pt x="0" y="457200"/>
                    </a:moveTo>
                    <a:lnTo>
                      <a:pt x="0" y="457200"/>
                    </a:lnTo>
                    <a:arcTo wR="457200" hR="457200" stAng="-10799992" swAng="5400000"/>
                    <a:lnTo>
                      <a:pt x="457201" y="1"/>
                    </a:lnTo>
                    <a:arcTo wR="457200" hR="457200" stAng="-5399992" swAng="5400000"/>
                    <a:lnTo>
                      <a:pt x="914400" y="457202"/>
                    </a:lnTo>
                    <a:arcTo wR="457200" hR="457200" stAng="0" swAng="5400000"/>
                    <a:lnTo>
                      <a:pt x="457200" y="914402"/>
                    </a:lnTo>
                    <a:arcTo wR="457200" hR="457200" stAng="5400000" swAng="5400008"/>
                    <a:close/>
                    <a:moveTo>
                      <a:pt x="56418" y="457200"/>
                    </a:moveTo>
                    <a:lnTo>
                      <a:pt x="56418" y="457200"/>
                    </a:lnTo>
                    <a:arcTo wR="400782" hR="400782" stAng="10800000" swAng="-5400000"/>
                    <a:lnTo>
                      <a:pt x="457200" y="857982"/>
                    </a:lnTo>
                    <a:arcTo wR="400782" hR="400782" stAng="5400000" swAng="-5400000"/>
                    <a:lnTo>
                      <a:pt x="857982" y="457200"/>
                    </a:lnTo>
                    <a:arcTo wR="400782" hR="400782" stAng="0" swAng="-5400000"/>
                    <a:lnTo>
                      <a:pt x="457200" y="56418"/>
                    </a:lnTo>
                    <a:arcTo wR="400782" hR="400782" stAng="-540000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9a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28" name="Curved Connector 63"/>
            <p:cNvCxnSpPr>
              <a:stCxn id="607" idx="5"/>
              <a:endCxn id="609" idx="1"/>
            </p:cNvCxnSpPr>
            <p:nvPr/>
          </p:nvCxnSpPr>
          <p:spPr>
            <a:xfrm>
              <a:off x="5974200" y="5055840"/>
              <a:ext cx="394200" cy="34668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629" name="Curved Connector 63"/>
            <p:cNvCxnSpPr>
              <a:stCxn id="609" idx="6"/>
            </p:cNvCxnSpPr>
            <p:nvPr/>
          </p:nvCxnSpPr>
          <p:spPr>
            <a:xfrm>
              <a:off x="6629040" y="5495760"/>
              <a:ext cx="229320" cy="108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630" name="Curved Connector 63"/>
            <p:cNvCxnSpPr>
              <a:stCxn id="598" idx="4"/>
              <a:endCxn id="631" idx="0"/>
            </p:cNvCxnSpPr>
            <p:nvPr/>
          </p:nvCxnSpPr>
          <p:spPr>
            <a:xfrm flipH="1">
              <a:off x="6476760" y="4561920"/>
              <a:ext cx="2160" cy="26892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631" name="Oval 201"/>
            <p:cNvSpPr/>
            <p:nvPr/>
          </p:nvSpPr>
          <p:spPr>
            <a:xfrm>
              <a:off x="6326280" y="4829040"/>
              <a:ext cx="304560" cy="2649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Curved Connector 63"/>
            <p:cNvCxnSpPr>
              <a:stCxn id="631" idx="6"/>
              <a:endCxn id="633" idx="2"/>
            </p:cNvCxnSpPr>
            <p:nvPr/>
          </p:nvCxnSpPr>
          <p:spPr>
            <a:xfrm>
              <a:off x="6630840" y="4962600"/>
              <a:ext cx="227520" cy="216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633" name="Oval 203"/>
            <p:cNvSpPr/>
            <p:nvPr/>
          </p:nvSpPr>
          <p:spPr>
            <a:xfrm>
              <a:off x="6858000" y="4829040"/>
              <a:ext cx="304560" cy="2649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Curved Connector 63"/>
            <p:cNvCxnSpPr>
              <a:stCxn id="633" idx="6"/>
            </p:cNvCxnSpPr>
            <p:nvPr/>
          </p:nvCxnSpPr>
          <p:spPr>
            <a:xfrm>
              <a:off x="7162920" y="4962600"/>
              <a:ext cx="305280" cy="216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635" name="Oval 205"/>
            <p:cNvSpPr/>
            <p:nvPr/>
          </p:nvSpPr>
          <p:spPr>
            <a:xfrm>
              <a:off x="6324480" y="3836880"/>
              <a:ext cx="304560" cy="2667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6" name="Curved Connector 63"/>
            <p:cNvCxnSpPr>
              <a:stCxn id="635" idx="6"/>
              <a:endCxn id="637" idx="2"/>
            </p:cNvCxnSpPr>
            <p:nvPr/>
          </p:nvCxnSpPr>
          <p:spPr>
            <a:xfrm>
              <a:off x="6629040" y="3970080"/>
              <a:ext cx="229320" cy="216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638" name="Oval 207"/>
            <p:cNvSpPr/>
            <p:nvPr/>
          </p:nvSpPr>
          <p:spPr>
            <a:xfrm>
              <a:off x="6858000" y="3836880"/>
              <a:ext cx="304560" cy="2667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9" name="Curved Connector 63"/>
            <p:cNvCxnSpPr>
              <a:stCxn id="608" idx="6"/>
              <a:endCxn id="635" idx="2"/>
            </p:cNvCxnSpPr>
            <p:nvPr/>
          </p:nvCxnSpPr>
          <p:spPr>
            <a:xfrm>
              <a:off x="6019920" y="3969720"/>
              <a:ext cx="305280" cy="108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640" name="Curved Connector 63"/>
            <p:cNvCxnSpPr>
              <a:stCxn id="631" idx="5"/>
            </p:cNvCxnSpPr>
            <p:nvPr/>
          </p:nvCxnSpPr>
          <p:spPr>
            <a:xfrm>
              <a:off x="6584040" y="5055840"/>
              <a:ext cx="927720" cy="34668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637" name="Donut 210"/>
            <p:cNvSpPr/>
            <p:nvPr/>
          </p:nvSpPr>
          <p:spPr>
            <a:xfrm>
              <a:off x="6858000" y="3836880"/>
              <a:ext cx="304560" cy="266760"/>
            </a:xfrm>
            <a:custGeom>
              <a:avLst/>
              <a:gdLst>
                <a:gd name="textAreaLeft" fmla="*/ 44640 w 304560"/>
                <a:gd name="textAreaRight" fmla="*/ 259920 w 304560"/>
                <a:gd name="textAreaTop" fmla="*/ 38880 h 266760"/>
                <a:gd name="textAreaBottom" fmla="*/ 227880 h 266760"/>
              </a:gdLst>
              <a:ahLst/>
              <a:rect l="textAreaLeft" t="textAreaTop" r="textAreaRight" b="textAreaBottom"/>
              <a:pathLst>
                <a:path w="304800" h="266700">
                  <a:moveTo>
                    <a:pt x="0" y="133350"/>
                  </a:moveTo>
                  <a:lnTo>
                    <a:pt x="0" y="133350"/>
                  </a:lnTo>
                  <a:arcTo wR="152400" hR="133350" stAng="10800000" swAng="5400000"/>
                  <a:lnTo>
                    <a:pt x="152400" y="0"/>
                  </a:lnTo>
                  <a:arcTo wR="152400" hR="133350" stAng="-5400000" swAng="5400000"/>
                  <a:lnTo>
                    <a:pt x="304800" y="133350"/>
                  </a:lnTo>
                  <a:arcTo wR="152400" hR="133350" stAng="0" swAng="5400000"/>
                  <a:lnTo>
                    <a:pt x="152400" y="266700"/>
                  </a:lnTo>
                  <a:arcTo wR="152400" hR="133350" stAng="5400000" swAng="5400000"/>
                  <a:close/>
                  <a:moveTo>
                    <a:pt x="16455" y="133350"/>
                  </a:moveTo>
                  <a:lnTo>
                    <a:pt x="16455" y="133350"/>
                  </a:lnTo>
                  <a:arcTo wR="135945" hR="116895" stAng="10800000" swAng="-5400000"/>
                  <a:lnTo>
                    <a:pt x="152400" y="250245"/>
                  </a:lnTo>
                  <a:arcTo wR="135945" hR="116895" stAng="5400000" swAng="-5400000"/>
                  <a:lnTo>
                    <a:pt x="288345" y="133350"/>
                  </a:lnTo>
                  <a:arcTo wR="135945" hR="116895" stAng="0" swAng="-5400000"/>
                  <a:lnTo>
                    <a:pt x="152400" y="16455"/>
                  </a:lnTo>
                  <a:arcTo wR="135945" hR="116895" stAng="-540000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Curved Connector 32"/>
            <p:cNvCxnSpPr>
              <a:stCxn id="603" idx="7"/>
            </p:cNvCxnSpPr>
            <p:nvPr/>
          </p:nvCxnSpPr>
          <p:spPr>
            <a:xfrm flipV="1">
              <a:off x="7118280" y="4064760"/>
              <a:ext cx="197280" cy="27036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42" name="Curved Connector 32"/>
            <p:cNvCxnSpPr>
              <a:stCxn id="598" idx="7"/>
            </p:cNvCxnSpPr>
            <p:nvPr/>
          </p:nvCxnSpPr>
          <p:spPr>
            <a:xfrm flipV="1">
              <a:off x="6585120" y="4141080"/>
              <a:ext cx="197280" cy="1944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43" name="Curved Connector 32"/>
            <p:cNvCxnSpPr>
              <a:stCxn id="597" idx="5"/>
            </p:cNvCxnSpPr>
            <p:nvPr/>
          </p:nvCxnSpPr>
          <p:spPr>
            <a:xfrm>
              <a:off x="5975280" y="4522320"/>
              <a:ext cx="273240" cy="26712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44" name="Curved Connector 32"/>
            <p:cNvCxnSpPr>
              <a:stCxn id="597" idx="7"/>
            </p:cNvCxnSpPr>
            <p:nvPr/>
          </p:nvCxnSpPr>
          <p:spPr>
            <a:xfrm flipV="1">
              <a:off x="5975280" y="4141080"/>
              <a:ext cx="197280" cy="1944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45" name="Curved Connector 32"/>
            <p:cNvCxnSpPr>
              <a:stCxn id="598" idx="5"/>
            </p:cNvCxnSpPr>
            <p:nvPr/>
          </p:nvCxnSpPr>
          <p:spPr>
            <a:xfrm>
              <a:off x="6585120" y="4522320"/>
              <a:ext cx="275040" cy="19116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46" name="Curved Connector 32"/>
            <p:cNvCxnSpPr>
              <a:stCxn id="607" idx="4"/>
            </p:cNvCxnSpPr>
            <p:nvPr/>
          </p:nvCxnSpPr>
          <p:spPr>
            <a:xfrm flipH="1">
              <a:off x="5866920" y="5095800"/>
              <a:ext cx="2160" cy="34344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47" name="Curved Connector 32"/>
            <p:cNvCxnSpPr>
              <a:stCxn id="603" idx="5"/>
            </p:cNvCxnSpPr>
            <p:nvPr/>
          </p:nvCxnSpPr>
          <p:spPr>
            <a:xfrm>
              <a:off x="7118280" y="4522320"/>
              <a:ext cx="197280" cy="19116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arrow" w="med"/>
            </a:ln>
          </p:spPr>
        </p:cxnSp>
      </p:grpSp>
      <p:grpSp>
        <p:nvGrpSpPr>
          <p:cNvPr id="648" name="Group 270"/>
          <p:cNvGrpSpPr/>
          <p:nvPr/>
        </p:nvGrpSpPr>
        <p:grpSpPr>
          <a:xfrm>
            <a:off x="5029200" y="3841920"/>
            <a:ext cx="2743200" cy="1792080"/>
            <a:chOff x="5029200" y="3841920"/>
            <a:chExt cx="2743200" cy="1792080"/>
          </a:xfrm>
        </p:grpSpPr>
        <p:sp>
          <p:nvSpPr>
            <p:cNvPr id="649" name="Oval 219"/>
            <p:cNvSpPr/>
            <p:nvPr/>
          </p:nvSpPr>
          <p:spPr>
            <a:xfrm>
              <a:off x="5715000" y="4300560"/>
              <a:ext cx="304560" cy="2664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220"/>
            <p:cNvSpPr/>
            <p:nvPr/>
          </p:nvSpPr>
          <p:spPr>
            <a:xfrm>
              <a:off x="6326280" y="4300560"/>
              <a:ext cx="304560" cy="2664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221"/>
            <p:cNvSpPr/>
            <p:nvPr/>
          </p:nvSpPr>
          <p:spPr>
            <a:xfrm>
              <a:off x="7467840" y="4300560"/>
              <a:ext cx="304560" cy="2664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Curved Connector 222"/>
            <p:cNvCxnSpPr>
              <a:stCxn id="649" idx="6"/>
              <a:endCxn id="650" idx="2"/>
            </p:cNvCxnSpPr>
            <p:nvPr/>
          </p:nvCxnSpPr>
          <p:spPr>
            <a:xfrm>
              <a:off x="6019560" y="4433760"/>
              <a:ext cx="306720" cy="2160"/>
            </a:xfrm>
            <a:prstGeom prst="curvedConnector5">
              <a:avLst>
                <a:gd name="adj1" fmla="val 49941"/>
                <a:gd name="adj2" fmla="val 40000"/>
                <a:gd name="adj3" fmla="val 49941"/>
              </a:avLst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53" name="Donut 223"/>
            <p:cNvSpPr/>
            <p:nvPr/>
          </p:nvSpPr>
          <p:spPr>
            <a:xfrm>
              <a:off x="7467840" y="4299120"/>
              <a:ext cx="304560" cy="266400"/>
            </a:xfrm>
            <a:custGeom>
              <a:avLst/>
              <a:gdLst>
                <a:gd name="textAreaLeft" fmla="*/ 44640 w 304560"/>
                <a:gd name="textAreaRight" fmla="*/ 259920 w 304560"/>
                <a:gd name="textAreaTop" fmla="*/ 38880 h 266400"/>
                <a:gd name="textAreaBottom" fmla="*/ 227520 h 266400"/>
              </a:gdLst>
              <a:ahLst/>
              <a:rect l="textAreaLeft" t="textAreaTop" r="textAreaRight" b="textAreaBottom"/>
              <a:pathLst>
                <a:path w="304800" h="266700">
                  <a:moveTo>
                    <a:pt x="0" y="133350"/>
                  </a:moveTo>
                  <a:lnTo>
                    <a:pt x="0" y="133350"/>
                  </a:lnTo>
                  <a:arcTo wR="152400" hR="133350" stAng="10800000" swAng="5400000"/>
                  <a:lnTo>
                    <a:pt x="152400" y="0"/>
                  </a:lnTo>
                  <a:arcTo wR="152400" hR="133350" stAng="-5400000" swAng="5400000"/>
                  <a:lnTo>
                    <a:pt x="304800" y="133350"/>
                  </a:lnTo>
                  <a:arcTo wR="152400" hR="133350" stAng="0" swAng="5400000"/>
                  <a:lnTo>
                    <a:pt x="152400" y="266700"/>
                  </a:lnTo>
                  <a:arcTo wR="152400" hR="133350" stAng="5400000" swAng="5400000"/>
                  <a:close/>
                  <a:moveTo>
                    <a:pt x="16455" y="133350"/>
                  </a:moveTo>
                  <a:lnTo>
                    <a:pt x="16455" y="133350"/>
                  </a:lnTo>
                  <a:arcTo wR="135945" hR="116895" stAng="10800000" swAng="-5400000"/>
                  <a:lnTo>
                    <a:pt x="152400" y="250245"/>
                  </a:lnTo>
                  <a:arcTo wR="135945" hR="116895" stAng="5400000" swAng="-5400000"/>
                  <a:lnTo>
                    <a:pt x="288345" y="133350"/>
                  </a:lnTo>
                  <a:arcTo wR="135945" hR="116895" stAng="0" swAng="-5400000"/>
                  <a:lnTo>
                    <a:pt x="152400" y="16455"/>
                  </a:lnTo>
                  <a:arcTo wR="135945" hR="116895" stAng="-540000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224"/>
            <p:cNvSpPr/>
            <p:nvPr/>
          </p:nvSpPr>
          <p:spPr>
            <a:xfrm>
              <a:off x="5029200" y="4299120"/>
              <a:ext cx="304560" cy="2664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225"/>
            <p:cNvSpPr/>
            <p:nvPr/>
          </p:nvSpPr>
          <p:spPr>
            <a:xfrm>
              <a:off x="6858000" y="4300560"/>
              <a:ext cx="304560" cy="2664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6" name="Curved Connector 226"/>
            <p:cNvCxnSpPr>
              <a:stCxn id="654" idx="6"/>
              <a:endCxn id="649" idx="2"/>
            </p:cNvCxnSpPr>
            <p:nvPr/>
          </p:nvCxnSpPr>
          <p:spPr>
            <a:xfrm>
              <a:off x="5333760" y="4432320"/>
              <a:ext cx="381600" cy="2160"/>
            </a:xfrm>
            <a:prstGeom prst="curvedConnector5">
              <a:avLst>
                <a:gd name="adj1" fmla="val 49952"/>
                <a:gd name="adj2" fmla="val 40000"/>
                <a:gd name="adj3" fmla="val 49952"/>
              </a:avLst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657" name="Curved Connector 227"/>
            <p:cNvCxnSpPr>
              <a:stCxn id="650" idx="6"/>
              <a:endCxn id="655" idx="2"/>
            </p:cNvCxnSpPr>
            <p:nvPr/>
          </p:nvCxnSpPr>
          <p:spPr>
            <a:xfrm>
              <a:off x="6630840" y="4433760"/>
              <a:ext cx="227520" cy="2160"/>
            </a:xfrm>
            <a:prstGeom prst="curvedConnector5">
              <a:avLst>
                <a:gd name="adj1" fmla="val 49920"/>
                <a:gd name="adj2" fmla="val 40000"/>
                <a:gd name="adj3" fmla="val 49920"/>
              </a:avLst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658" name="Curved Connector 228"/>
            <p:cNvCxnSpPr>
              <a:stCxn id="655" idx="6"/>
              <a:endCxn id="651" idx="2"/>
            </p:cNvCxnSpPr>
            <p:nvPr/>
          </p:nvCxnSpPr>
          <p:spPr>
            <a:xfrm>
              <a:off x="7162920" y="4433760"/>
              <a:ext cx="305280" cy="2160"/>
            </a:xfrm>
            <a:prstGeom prst="curvedConnector5">
              <a:avLst>
                <a:gd name="adj1" fmla="val 49940"/>
                <a:gd name="adj2" fmla="val 40000"/>
                <a:gd name="adj3" fmla="val 49940"/>
              </a:avLst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59" name="Oval 229"/>
            <p:cNvSpPr/>
            <p:nvPr/>
          </p:nvSpPr>
          <p:spPr>
            <a:xfrm>
              <a:off x="5715000" y="4834080"/>
              <a:ext cx="304560" cy="2649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30"/>
            <p:cNvSpPr/>
            <p:nvPr/>
          </p:nvSpPr>
          <p:spPr>
            <a:xfrm>
              <a:off x="5715000" y="3841920"/>
              <a:ext cx="304560" cy="2664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31"/>
            <p:cNvSpPr/>
            <p:nvPr/>
          </p:nvSpPr>
          <p:spPr>
            <a:xfrm>
              <a:off x="6324480" y="5367600"/>
              <a:ext cx="304560" cy="2649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2" name="Straight Arrow Connector 232"/>
            <p:cNvCxnSpPr>
              <a:stCxn id="649" idx="0"/>
              <a:endCxn id="660" idx="4"/>
            </p:cNvCxnSpPr>
            <p:nvPr/>
          </p:nvCxnSpPr>
          <p:spPr>
            <a:xfrm flipV="1">
              <a:off x="5865840" y="4107960"/>
              <a:ext cx="3600" cy="19440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663" name="Curved Connector 32"/>
            <p:cNvCxnSpPr>
              <a:stCxn id="654" idx="0"/>
            </p:cNvCxnSpPr>
            <p:nvPr/>
          </p:nvCxnSpPr>
          <p:spPr>
            <a:xfrm flipV="1">
              <a:off x="5179680" y="3919320"/>
              <a:ext cx="3600" cy="3816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4" name="Curved Connector 32"/>
            <p:cNvCxnSpPr>
              <a:stCxn id="654" idx="7"/>
            </p:cNvCxnSpPr>
            <p:nvPr/>
          </p:nvCxnSpPr>
          <p:spPr>
            <a:xfrm flipV="1">
              <a:off x="5288400" y="4145760"/>
              <a:ext cx="121320" cy="1926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5" name="Curved Connector 32"/>
            <p:cNvCxnSpPr>
              <a:stCxn id="654" idx="4"/>
            </p:cNvCxnSpPr>
            <p:nvPr/>
          </p:nvCxnSpPr>
          <p:spPr>
            <a:xfrm flipH="1">
              <a:off x="5181120" y="4565520"/>
              <a:ext cx="2160" cy="1926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6" name="Curved Connector 32"/>
            <p:cNvCxnSpPr>
              <a:stCxn id="654" idx="5"/>
            </p:cNvCxnSpPr>
            <p:nvPr/>
          </p:nvCxnSpPr>
          <p:spPr>
            <a:xfrm>
              <a:off x="5289480" y="4525560"/>
              <a:ext cx="165600" cy="1926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7" name="Curved Connector 237"/>
            <p:cNvCxnSpPr>
              <a:stCxn id="649" idx="4"/>
              <a:endCxn id="659" idx="0"/>
            </p:cNvCxnSpPr>
            <p:nvPr/>
          </p:nvCxnSpPr>
          <p:spPr>
            <a:xfrm rot="5400000">
              <a:off x="5732640" y="4699800"/>
              <a:ext cx="268920" cy="3600"/>
            </a:xfrm>
            <a:prstGeom prst="curvedConnector5">
              <a:avLst>
                <a:gd name="adj1" fmla="val 50000"/>
                <a:gd name="adj2" fmla="val 44444"/>
                <a:gd name="adj3" fmla="val 50000"/>
              </a:avLst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grpSp>
          <p:nvGrpSpPr>
            <p:cNvPr id="668" name="Group 23"/>
            <p:cNvGrpSpPr/>
            <p:nvPr/>
          </p:nvGrpSpPr>
          <p:grpSpPr>
            <a:xfrm>
              <a:off x="6858000" y="5369040"/>
              <a:ext cx="304560" cy="264960"/>
              <a:chOff x="6858000" y="5369040"/>
              <a:chExt cx="304560" cy="264960"/>
            </a:xfrm>
          </p:grpSpPr>
          <p:sp>
            <p:nvSpPr>
              <p:cNvPr id="669" name="Oval 239"/>
              <p:cNvSpPr/>
              <p:nvPr/>
            </p:nvSpPr>
            <p:spPr>
              <a:xfrm>
                <a:off x="6858000" y="536904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240"/>
              <p:cNvSpPr/>
              <p:nvPr/>
            </p:nvSpPr>
            <p:spPr>
              <a:xfrm>
                <a:off x="6858000" y="536904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Donut 241"/>
              <p:cNvSpPr/>
              <p:nvPr/>
            </p:nvSpPr>
            <p:spPr>
              <a:xfrm>
                <a:off x="6858000" y="5369040"/>
                <a:ext cx="304560" cy="264960"/>
              </a:xfrm>
              <a:custGeom>
                <a:avLst/>
                <a:gdLst>
                  <a:gd name="textAreaLeft" fmla="*/ 44640 w 304560"/>
                  <a:gd name="textAreaRight" fmla="*/ 259920 w 304560"/>
                  <a:gd name="textAreaTop" fmla="*/ 38520 h 264960"/>
                  <a:gd name="textAreaBottom" fmla="*/ 226440 h 264960"/>
                </a:gdLst>
                <a:ahLst/>
                <a:rect l="textAreaLeft" t="textAreaTop" r="textAreaRight" b="textAreaBottom"/>
                <a:pathLst>
                  <a:path w="914400" h="914403">
                    <a:moveTo>
                      <a:pt x="0" y="457202"/>
                    </a:moveTo>
                    <a:lnTo>
                      <a:pt x="0" y="457202"/>
                    </a:lnTo>
                    <a:arcTo wR="457200" hR="457202" stAng="-10799992" swAng="5400000"/>
                    <a:lnTo>
                      <a:pt x="457201" y="1"/>
                    </a:lnTo>
                    <a:arcTo wR="457200" hR="457202" stAng="-5399992" swAng="5400000"/>
                    <a:lnTo>
                      <a:pt x="914400" y="457204"/>
                    </a:lnTo>
                    <a:arcTo wR="457200" hR="457202" stAng="0" swAng="5400000"/>
                    <a:lnTo>
                      <a:pt x="457200" y="914406"/>
                    </a:lnTo>
                    <a:arcTo wR="457200" hR="457202" stAng="5400000" swAng="5400008"/>
                    <a:close/>
                    <a:moveTo>
                      <a:pt x="56418" y="457202"/>
                    </a:moveTo>
                    <a:lnTo>
                      <a:pt x="56418" y="457202"/>
                    </a:lnTo>
                    <a:arcTo wR="400782" hR="400783" stAng="10800000" swAng="-5400000"/>
                    <a:lnTo>
                      <a:pt x="457200" y="857985"/>
                    </a:lnTo>
                    <a:arcTo wR="400782" hR="400783" stAng="5400000" swAng="-5400000"/>
                    <a:lnTo>
                      <a:pt x="857982" y="457202"/>
                    </a:lnTo>
                    <a:arcTo wR="400782" hR="400783" stAng="0" swAng="-5400000"/>
                    <a:lnTo>
                      <a:pt x="457200" y="56419"/>
                    </a:lnTo>
                    <a:arcTo wR="400782" hR="400783" stAng="-540000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9a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27"/>
            <p:cNvGrpSpPr/>
            <p:nvPr/>
          </p:nvGrpSpPr>
          <p:grpSpPr>
            <a:xfrm>
              <a:off x="7467840" y="5369040"/>
              <a:ext cx="304560" cy="264960"/>
              <a:chOff x="7467840" y="5369040"/>
              <a:chExt cx="304560" cy="264960"/>
            </a:xfrm>
          </p:grpSpPr>
          <p:sp>
            <p:nvSpPr>
              <p:cNvPr id="673" name="Oval 243"/>
              <p:cNvSpPr/>
              <p:nvPr/>
            </p:nvSpPr>
            <p:spPr>
              <a:xfrm>
                <a:off x="7467840" y="536904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244"/>
              <p:cNvSpPr/>
              <p:nvPr/>
            </p:nvSpPr>
            <p:spPr>
              <a:xfrm>
                <a:off x="7467840" y="536904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Donut 245"/>
              <p:cNvSpPr/>
              <p:nvPr/>
            </p:nvSpPr>
            <p:spPr>
              <a:xfrm>
                <a:off x="7467840" y="5369040"/>
                <a:ext cx="304560" cy="264960"/>
              </a:xfrm>
              <a:custGeom>
                <a:avLst/>
                <a:gdLst>
                  <a:gd name="textAreaLeft" fmla="*/ 44640 w 304560"/>
                  <a:gd name="textAreaRight" fmla="*/ 259920 w 304560"/>
                  <a:gd name="textAreaTop" fmla="*/ 38520 h 264960"/>
                  <a:gd name="textAreaBottom" fmla="*/ 226440 h 264960"/>
                </a:gdLst>
                <a:ahLst/>
                <a:rect l="textAreaLeft" t="textAreaTop" r="textAreaRight" b="textAreaBottom"/>
                <a:pathLst>
                  <a:path w="914400" h="914403">
                    <a:moveTo>
                      <a:pt x="0" y="457202"/>
                    </a:moveTo>
                    <a:lnTo>
                      <a:pt x="0" y="457202"/>
                    </a:lnTo>
                    <a:arcTo wR="457200" hR="457202" stAng="-10799992" swAng="5400000"/>
                    <a:lnTo>
                      <a:pt x="457201" y="1"/>
                    </a:lnTo>
                    <a:arcTo wR="457200" hR="457202" stAng="-5399992" swAng="5400000"/>
                    <a:lnTo>
                      <a:pt x="914400" y="457204"/>
                    </a:lnTo>
                    <a:arcTo wR="457200" hR="457202" stAng="0" swAng="5400000"/>
                    <a:lnTo>
                      <a:pt x="457200" y="914406"/>
                    </a:lnTo>
                    <a:arcTo wR="457200" hR="457202" stAng="5400000" swAng="5400008"/>
                    <a:close/>
                    <a:moveTo>
                      <a:pt x="56418" y="457202"/>
                    </a:moveTo>
                    <a:lnTo>
                      <a:pt x="56418" y="457202"/>
                    </a:lnTo>
                    <a:arcTo wR="400782" hR="400783" stAng="10800000" swAng="-5400000"/>
                    <a:lnTo>
                      <a:pt x="457200" y="857985"/>
                    </a:lnTo>
                    <a:arcTo wR="400782" hR="400783" stAng="5400000" swAng="-5400000"/>
                    <a:lnTo>
                      <a:pt x="857982" y="457202"/>
                    </a:lnTo>
                    <a:arcTo wR="400782" hR="400783" stAng="0" swAng="-5400000"/>
                    <a:lnTo>
                      <a:pt x="457200" y="56419"/>
                    </a:lnTo>
                    <a:arcTo wR="400782" hR="400783" stAng="-540000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9a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1"/>
            <p:cNvGrpSpPr/>
            <p:nvPr/>
          </p:nvGrpSpPr>
          <p:grpSpPr>
            <a:xfrm>
              <a:off x="7467840" y="4834080"/>
              <a:ext cx="304560" cy="264960"/>
              <a:chOff x="7467840" y="4834080"/>
              <a:chExt cx="304560" cy="264960"/>
            </a:xfrm>
          </p:grpSpPr>
          <p:sp>
            <p:nvSpPr>
              <p:cNvPr id="677" name="Oval 247"/>
              <p:cNvSpPr/>
              <p:nvPr/>
            </p:nvSpPr>
            <p:spPr>
              <a:xfrm>
                <a:off x="7467840" y="483408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248"/>
              <p:cNvSpPr/>
              <p:nvPr/>
            </p:nvSpPr>
            <p:spPr>
              <a:xfrm>
                <a:off x="7467840" y="4834080"/>
                <a:ext cx="304560" cy="2649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Donut 249"/>
              <p:cNvSpPr/>
              <p:nvPr/>
            </p:nvSpPr>
            <p:spPr>
              <a:xfrm>
                <a:off x="7467840" y="4834080"/>
                <a:ext cx="304560" cy="264960"/>
              </a:xfrm>
              <a:custGeom>
                <a:avLst/>
                <a:gdLst>
                  <a:gd name="textAreaLeft" fmla="*/ 44640 w 304560"/>
                  <a:gd name="textAreaRight" fmla="*/ 259920 w 304560"/>
                  <a:gd name="textAreaTop" fmla="*/ 38520 h 264960"/>
                  <a:gd name="textAreaBottom" fmla="*/ 226440 h 264960"/>
                </a:gdLst>
                <a:ahLst/>
                <a:rect l="textAreaLeft" t="textAreaTop" r="textAreaRight" b="textAreaBottom"/>
                <a:pathLst>
                  <a:path w="914400" h="914397">
                    <a:moveTo>
                      <a:pt x="0" y="457199"/>
                    </a:moveTo>
                    <a:lnTo>
                      <a:pt x="0" y="457199"/>
                    </a:lnTo>
                    <a:arcTo wR="457200" hR="457199" stAng="-10799992" swAng="5400000"/>
                    <a:lnTo>
                      <a:pt x="457201" y="1"/>
                    </a:lnTo>
                    <a:arcTo wR="457200" hR="457199" stAng="-5399992" swAng="5400000"/>
                    <a:lnTo>
                      <a:pt x="914400" y="457201"/>
                    </a:lnTo>
                    <a:arcTo wR="457200" hR="457199" stAng="0" swAng="5400000"/>
                    <a:lnTo>
                      <a:pt x="457200" y="914400"/>
                    </a:lnTo>
                    <a:arcTo wR="457200" hR="457199" stAng="5400000" swAng="5400008"/>
                    <a:close/>
                    <a:moveTo>
                      <a:pt x="56418" y="457199"/>
                    </a:moveTo>
                    <a:lnTo>
                      <a:pt x="56418" y="457199"/>
                    </a:lnTo>
                    <a:arcTo wR="400782" hR="400780" stAng="10800000" swAng="-5400000"/>
                    <a:lnTo>
                      <a:pt x="457200" y="857979"/>
                    </a:lnTo>
                    <a:arcTo wR="400782" hR="400780" stAng="5400000" swAng="-5400000"/>
                    <a:lnTo>
                      <a:pt x="857982" y="457199"/>
                    </a:lnTo>
                    <a:arcTo wR="400782" hR="400780" stAng="0" swAng="-5400000"/>
                    <a:lnTo>
                      <a:pt x="457200" y="56419"/>
                    </a:lnTo>
                    <a:arcTo wR="400782" hR="400780" stAng="-540000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9a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80" name="Curved Connector 63"/>
            <p:cNvCxnSpPr>
              <a:stCxn id="659" idx="5"/>
              <a:endCxn id="661" idx="1"/>
            </p:cNvCxnSpPr>
            <p:nvPr/>
          </p:nvCxnSpPr>
          <p:spPr>
            <a:xfrm>
              <a:off x="5974200" y="5060520"/>
              <a:ext cx="394200" cy="34668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681" name="Curved Connector 63"/>
            <p:cNvCxnSpPr>
              <a:stCxn id="661" idx="6"/>
            </p:cNvCxnSpPr>
            <p:nvPr/>
          </p:nvCxnSpPr>
          <p:spPr>
            <a:xfrm>
              <a:off x="6629040" y="5500440"/>
              <a:ext cx="229320" cy="108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682" name="Curved Connector 63"/>
            <p:cNvCxnSpPr>
              <a:stCxn id="650" idx="4"/>
              <a:endCxn id="683" idx="0"/>
            </p:cNvCxnSpPr>
            <p:nvPr/>
          </p:nvCxnSpPr>
          <p:spPr>
            <a:xfrm flipH="1">
              <a:off x="6476760" y="4566960"/>
              <a:ext cx="2160" cy="26892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683" name="Oval 253"/>
            <p:cNvSpPr/>
            <p:nvPr/>
          </p:nvSpPr>
          <p:spPr>
            <a:xfrm>
              <a:off x="6326280" y="4834080"/>
              <a:ext cx="304560" cy="2649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4" name="Curved Connector 63"/>
            <p:cNvCxnSpPr>
              <a:stCxn id="683" idx="6"/>
              <a:endCxn id="685" idx="2"/>
            </p:cNvCxnSpPr>
            <p:nvPr/>
          </p:nvCxnSpPr>
          <p:spPr>
            <a:xfrm>
              <a:off x="6630840" y="4967280"/>
              <a:ext cx="227520" cy="216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685" name="Oval 255"/>
            <p:cNvSpPr/>
            <p:nvPr/>
          </p:nvSpPr>
          <p:spPr>
            <a:xfrm>
              <a:off x="6858000" y="4834080"/>
              <a:ext cx="304560" cy="2649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6" name="Curved Connector 63"/>
            <p:cNvCxnSpPr>
              <a:stCxn id="685" idx="6"/>
            </p:cNvCxnSpPr>
            <p:nvPr/>
          </p:nvCxnSpPr>
          <p:spPr>
            <a:xfrm>
              <a:off x="7162920" y="4967280"/>
              <a:ext cx="305280" cy="216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687" name="Oval 257"/>
            <p:cNvSpPr/>
            <p:nvPr/>
          </p:nvSpPr>
          <p:spPr>
            <a:xfrm>
              <a:off x="6324480" y="3841920"/>
              <a:ext cx="304560" cy="2664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8" name="Curved Connector 63"/>
            <p:cNvCxnSpPr>
              <a:stCxn id="687" idx="6"/>
              <a:endCxn id="689" idx="2"/>
            </p:cNvCxnSpPr>
            <p:nvPr/>
          </p:nvCxnSpPr>
          <p:spPr>
            <a:xfrm>
              <a:off x="6629040" y="3975120"/>
              <a:ext cx="229320" cy="216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690" name="Oval 259"/>
            <p:cNvSpPr/>
            <p:nvPr/>
          </p:nvSpPr>
          <p:spPr>
            <a:xfrm>
              <a:off x="6858000" y="3841920"/>
              <a:ext cx="304560" cy="2664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1" name="Curved Connector 63"/>
            <p:cNvCxnSpPr>
              <a:stCxn id="660" idx="6"/>
              <a:endCxn id="687" idx="2"/>
            </p:cNvCxnSpPr>
            <p:nvPr/>
          </p:nvCxnSpPr>
          <p:spPr>
            <a:xfrm>
              <a:off x="6019920" y="3974760"/>
              <a:ext cx="305280" cy="108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692" name="Curved Connector 63"/>
            <p:cNvCxnSpPr>
              <a:stCxn id="683" idx="5"/>
            </p:cNvCxnSpPr>
            <p:nvPr/>
          </p:nvCxnSpPr>
          <p:spPr>
            <a:xfrm>
              <a:off x="6584040" y="5060520"/>
              <a:ext cx="927720" cy="346680"/>
            </a:xfrm>
            <a:prstGeom prst="straightConnector1">
              <a:avLst/>
            </a:prstGeom>
            <a:ln w="93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689" name="Donut 262"/>
            <p:cNvSpPr/>
            <p:nvPr/>
          </p:nvSpPr>
          <p:spPr>
            <a:xfrm>
              <a:off x="6858000" y="3841920"/>
              <a:ext cx="304560" cy="266400"/>
            </a:xfrm>
            <a:custGeom>
              <a:avLst/>
              <a:gdLst>
                <a:gd name="textAreaLeft" fmla="*/ 44640 w 304560"/>
                <a:gd name="textAreaRight" fmla="*/ 259920 w 304560"/>
                <a:gd name="textAreaTop" fmla="*/ 38880 h 266400"/>
                <a:gd name="textAreaBottom" fmla="*/ 227520 h 266400"/>
              </a:gdLst>
              <a:ahLst/>
              <a:rect l="textAreaLeft" t="textAreaTop" r="textAreaRight" b="textAreaBottom"/>
              <a:pathLst>
                <a:path w="304800" h="266700">
                  <a:moveTo>
                    <a:pt x="0" y="133350"/>
                  </a:moveTo>
                  <a:lnTo>
                    <a:pt x="0" y="133350"/>
                  </a:lnTo>
                  <a:arcTo wR="152400" hR="133350" stAng="10800000" swAng="5400000"/>
                  <a:lnTo>
                    <a:pt x="152400" y="0"/>
                  </a:lnTo>
                  <a:arcTo wR="152400" hR="133350" stAng="-5400000" swAng="5400000"/>
                  <a:lnTo>
                    <a:pt x="304800" y="133350"/>
                  </a:lnTo>
                  <a:arcTo wR="152400" hR="133350" stAng="0" swAng="5400000"/>
                  <a:lnTo>
                    <a:pt x="152400" y="266700"/>
                  </a:lnTo>
                  <a:arcTo wR="152400" hR="133350" stAng="5400000" swAng="5400000"/>
                  <a:close/>
                  <a:moveTo>
                    <a:pt x="16455" y="133350"/>
                  </a:moveTo>
                  <a:lnTo>
                    <a:pt x="16455" y="133350"/>
                  </a:lnTo>
                  <a:arcTo wR="135945" hR="116895" stAng="10800000" swAng="-5400000"/>
                  <a:lnTo>
                    <a:pt x="152400" y="250245"/>
                  </a:lnTo>
                  <a:arcTo wR="135945" hR="116895" stAng="5400000" swAng="-5400000"/>
                  <a:lnTo>
                    <a:pt x="288345" y="133350"/>
                  </a:lnTo>
                  <a:arcTo wR="135945" hR="116895" stAng="0" swAng="-5400000"/>
                  <a:lnTo>
                    <a:pt x="152400" y="16455"/>
                  </a:lnTo>
                  <a:arcTo wR="135945" hR="116895" stAng="-540000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3" name="Curved Connector 32"/>
            <p:cNvCxnSpPr>
              <a:stCxn id="655" idx="7"/>
            </p:cNvCxnSpPr>
            <p:nvPr/>
          </p:nvCxnSpPr>
          <p:spPr>
            <a:xfrm flipV="1">
              <a:off x="7118280" y="4069800"/>
              <a:ext cx="197280" cy="27036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94" name="Curved Connector 32"/>
            <p:cNvCxnSpPr>
              <a:stCxn id="650" idx="7"/>
            </p:cNvCxnSpPr>
            <p:nvPr/>
          </p:nvCxnSpPr>
          <p:spPr>
            <a:xfrm flipV="1">
              <a:off x="6585120" y="4146120"/>
              <a:ext cx="197280" cy="1944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95" name="Curved Connector 32"/>
            <p:cNvCxnSpPr>
              <a:stCxn id="649" idx="5"/>
            </p:cNvCxnSpPr>
            <p:nvPr/>
          </p:nvCxnSpPr>
          <p:spPr>
            <a:xfrm>
              <a:off x="5975280" y="4527720"/>
              <a:ext cx="273240" cy="26712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96" name="Curved Connector 32"/>
            <p:cNvCxnSpPr>
              <a:stCxn id="649" idx="7"/>
            </p:cNvCxnSpPr>
            <p:nvPr/>
          </p:nvCxnSpPr>
          <p:spPr>
            <a:xfrm flipV="1">
              <a:off x="5975280" y="4146120"/>
              <a:ext cx="197280" cy="19440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97" name="Curved Connector 32"/>
            <p:cNvCxnSpPr>
              <a:stCxn id="650" idx="5"/>
            </p:cNvCxnSpPr>
            <p:nvPr/>
          </p:nvCxnSpPr>
          <p:spPr>
            <a:xfrm>
              <a:off x="6585120" y="4527360"/>
              <a:ext cx="275040" cy="19116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98" name="Curved Connector 32"/>
            <p:cNvCxnSpPr>
              <a:stCxn id="659" idx="4"/>
            </p:cNvCxnSpPr>
            <p:nvPr/>
          </p:nvCxnSpPr>
          <p:spPr>
            <a:xfrm flipH="1">
              <a:off x="5866920" y="5100840"/>
              <a:ext cx="2160" cy="34344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99" name="Curved Connector 32"/>
            <p:cNvCxnSpPr>
              <a:stCxn id="655" idx="5"/>
            </p:cNvCxnSpPr>
            <p:nvPr/>
          </p:nvCxnSpPr>
          <p:spPr>
            <a:xfrm>
              <a:off x="7118280" y="4527360"/>
              <a:ext cx="197280" cy="191160"/>
            </a:xfrm>
            <a:prstGeom prst="straightConnector1">
              <a:avLst/>
            </a:prstGeom>
            <a:ln w="93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700" name="Donut 150"/>
          <p:cNvSpPr/>
          <p:nvPr/>
        </p:nvSpPr>
        <p:spPr>
          <a:xfrm>
            <a:off x="7467480" y="4295880"/>
            <a:ext cx="304920" cy="276120"/>
          </a:xfrm>
          <a:custGeom>
            <a:avLst/>
            <a:gdLst>
              <a:gd name="textAreaLeft" fmla="*/ 44640 w 304920"/>
              <a:gd name="textAreaRight" fmla="*/ 260280 w 304920"/>
              <a:gd name="textAreaTop" fmla="*/ 40320 h 276120"/>
              <a:gd name="textAreaBottom" fmla="*/ 235800 h 276120"/>
            </a:gdLst>
            <a:ahLst/>
            <a:rect l="textAreaLeft" t="textAreaTop" r="textAreaRight" b="textAreaBottom"/>
            <a:pathLst>
              <a:path w="304800" h="276225">
                <a:moveTo>
                  <a:pt x="0" y="138113"/>
                </a:moveTo>
                <a:lnTo>
                  <a:pt x="0" y="138113"/>
                </a:lnTo>
                <a:arcTo wR="152400" hR="138113" stAng="10800000" swAng="5400000"/>
                <a:lnTo>
                  <a:pt x="152400" y="0"/>
                </a:lnTo>
                <a:arcTo wR="152400" hR="138113" stAng="-5400000" swAng="5400000"/>
                <a:lnTo>
                  <a:pt x="304800" y="138113"/>
                </a:lnTo>
                <a:arcTo wR="152400" hR="138113" stAng="0" swAng="5400000"/>
                <a:lnTo>
                  <a:pt x="152400" y="276226"/>
                </a:lnTo>
                <a:arcTo wR="152400" hR="138113" stAng="5400000" swAng="5400000"/>
                <a:close/>
                <a:moveTo>
                  <a:pt x="29421" y="138113"/>
                </a:moveTo>
                <a:lnTo>
                  <a:pt x="29421" y="138113"/>
                </a:lnTo>
                <a:arcTo wR="122979" hR="108692" stAng="10800000" swAng="-5400000"/>
                <a:lnTo>
                  <a:pt x="152400" y="246805"/>
                </a:lnTo>
                <a:arcTo wR="122979" hR="108692" stAng="5400000" swAng="-5400000"/>
                <a:lnTo>
                  <a:pt x="275379" y="138113"/>
                </a:lnTo>
                <a:arcTo wR="122979" hR="108692" stAng="0" swAng="-5400000"/>
                <a:lnTo>
                  <a:pt x="152400" y="29421"/>
                </a:lnTo>
                <a:arcTo wR="122979" hR="108692" stAng="-540000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Donut 151"/>
          <p:cNvSpPr/>
          <p:nvPr/>
        </p:nvSpPr>
        <p:spPr>
          <a:xfrm>
            <a:off x="6858000" y="3838680"/>
            <a:ext cx="304920" cy="276120"/>
          </a:xfrm>
          <a:custGeom>
            <a:avLst/>
            <a:gdLst>
              <a:gd name="textAreaLeft" fmla="*/ 44640 w 304920"/>
              <a:gd name="textAreaRight" fmla="*/ 260280 w 304920"/>
              <a:gd name="textAreaTop" fmla="*/ 40320 h 276120"/>
              <a:gd name="textAreaBottom" fmla="*/ 235800 h 276120"/>
            </a:gdLst>
            <a:ahLst/>
            <a:rect l="textAreaLeft" t="textAreaTop" r="textAreaRight" b="textAreaBottom"/>
            <a:pathLst>
              <a:path w="304800" h="276225">
                <a:moveTo>
                  <a:pt x="0" y="138113"/>
                </a:moveTo>
                <a:lnTo>
                  <a:pt x="0" y="138113"/>
                </a:lnTo>
                <a:arcTo wR="152400" hR="138113" stAng="10800000" swAng="5400000"/>
                <a:lnTo>
                  <a:pt x="152400" y="0"/>
                </a:lnTo>
                <a:arcTo wR="152400" hR="138113" stAng="-5400000" swAng="5400000"/>
                <a:lnTo>
                  <a:pt x="304800" y="138113"/>
                </a:lnTo>
                <a:arcTo wR="152400" hR="138113" stAng="0" swAng="5400000"/>
                <a:lnTo>
                  <a:pt x="152400" y="276226"/>
                </a:lnTo>
                <a:arcTo wR="152400" hR="138113" stAng="5400000" swAng="5400000"/>
                <a:close/>
                <a:moveTo>
                  <a:pt x="29421" y="138113"/>
                </a:moveTo>
                <a:lnTo>
                  <a:pt x="29421" y="138113"/>
                </a:lnTo>
                <a:arcTo wR="122979" hR="108692" stAng="10800000" swAng="-5400000"/>
                <a:lnTo>
                  <a:pt x="152400" y="246805"/>
                </a:lnTo>
                <a:arcTo wR="122979" hR="108692" stAng="5400000" swAng="-5400000"/>
                <a:lnTo>
                  <a:pt x="275379" y="138113"/>
                </a:lnTo>
                <a:arcTo wR="122979" hR="108692" stAng="0" swAng="-5400000"/>
                <a:lnTo>
                  <a:pt x="152400" y="29421"/>
                </a:lnTo>
                <a:arcTo wR="122979" hR="108692" stAng="-540000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onut 152"/>
          <p:cNvSpPr/>
          <p:nvPr/>
        </p:nvSpPr>
        <p:spPr>
          <a:xfrm>
            <a:off x="7467480" y="4829040"/>
            <a:ext cx="304920" cy="276480"/>
          </a:xfrm>
          <a:custGeom>
            <a:avLst/>
            <a:gdLst>
              <a:gd name="textAreaLeft" fmla="*/ 44640 w 304920"/>
              <a:gd name="textAreaRight" fmla="*/ 260280 w 304920"/>
              <a:gd name="textAreaTop" fmla="*/ 40320 h 276480"/>
              <a:gd name="textAreaBottom" fmla="*/ 236160 h 276480"/>
            </a:gdLst>
            <a:ahLst/>
            <a:rect l="textAreaLeft" t="textAreaTop" r="textAreaRight" b="textAreaBottom"/>
            <a:pathLst>
              <a:path w="304800" h="276225">
                <a:moveTo>
                  <a:pt x="0" y="138113"/>
                </a:moveTo>
                <a:lnTo>
                  <a:pt x="0" y="138113"/>
                </a:lnTo>
                <a:arcTo wR="152400" hR="138113" stAng="10800000" swAng="5400000"/>
                <a:lnTo>
                  <a:pt x="152400" y="0"/>
                </a:lnTo>
                <a:arcTo wR="152400" hR="138113" stAng="-5400000" swAng="5400000"/>
                <a:lnTo>
                  <a:pt x="304800" y="138113"/>
                </a:lnTo>
                <a:arcTo wR="152400" hR="138113" stAng="0" swAng="5400000"/>
                <a:lnTo>
                  <a:pt x="152400" y="276226"/>
                </a:lnTo>
                <a:arcTo wR="152400" hR="138113" stAng="5400000" swAng="5400000"/>
                <a:close/>
                <a:moveTo>
                  <a:pt x="29421" y="138113"/>
                </a:moveTo>
                <a:lnTo>
                  <a:pt x="29421" y="138113"/>
                </a:lnTo>
                <a:arcTo wR="122979" hR="108692" stAng="10800000" swAng="-5400000"/>
                <a:lnTo>
                  <a:pt x="152400" y="246805"/>
                </a:lnTo>
                <a:arcTo wR="122979" hR="108692" stAng="5400000" swAng="-5400000"/>
                <a:lnTo>
                  <a:pt x="275379" y="138113"/>
                </a:lnTo>
                <a:arcTo wR="122979" hR="108692" stAng="0" swAng="-5400000"/>
                <a:lnTo>
                  <a:pt x="152400" y="29421"/>
                </a:lnTo>
                <a:arcTo wR="122979" hR="108692" stAng="-540000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Donut 153"/>
          <p:cNvSpPr/>
          <p:nvPr/>
        </p:nvSpPr>
        <p:spPr>
          <a:xfrm>
            <a:off x="7467480" y="5362560"/>
            <a:ext cx="304920" cy="276120"/>
          </a:xfrm>
          <a:custGeom>
            <a:avLst/>
            <a:gdLst>
              <a:gd name="textAreaLeft" fmla="*/ 44640 w 304920"/>
              <a:gd name="textAreaRight" fmla="*/ 260280 w 304920"/>
              <a:gd name="textAreaTop" fmla="*/ 40320 h 276120"/>
              <a:gd name="textAreaBottom" fmla="*/ 235800 h 276120"/>
            </a:gdLst>
            <a:ahLst/>
            <a:rect l="textAreaLeft" t="textAreaTop" r="textAreaRight" b="textAreaBottom"/>
            <a:pathLst>
              <a:path w="304800" h="276225">
                <a:moveTo>
                  <a:pt x="0" y="138113"/>
                </a:moveTo>
                <a:lnTo>
                  <a:pt x="0" y="138113"/>
                </a:lnTo>
                <a:arcTo wR="152400" hR="138113" stAng="10800000" swAng="5400000"/>
                <a:lnTo>
                  <a:pt x="152400" y="0"/>
                </a:lnTo>
                <a:arcTo wR="152400" hR="138113" stAng="-5400000" swAng="5400000"/>
                <a:lnTo>
                  <a:pt x="304800" y="138113"/>
                </a:lnTo>
                <a:arcTo wR="152400" hR="138113" stAng="0" swAng="5400000"/>
                <a:lnTo>
                  <a:pt x="152400" y="276226"/>
                </a:lnTo>
                <a:arcTo wR="152400" hR="138113" stAng="5400000" swAng="5400000"/>
                <a:close/>
                <a:moveTo>
                  <a:pt x="29421" y="138113"/>
                </a:moveTo>
                <a:lnTo>
                  <a:pt x="29421" y="138113"/>
                </a:lnTo>
                <a:arcTo wR="122979" hR="108692" stAng="10800000" swAng="-5400000"/>
                <a:lnTo>
                  <a:pt x="152400" y="246805"/>
                </a:lnTo>
                <a:arcTo wR="122979" hR="108692" stAng="5400000" swAng="-5400000"/>
                <a:lnTo>
                  <a:pt x="275379" y="138113"/>
                </a:lnTo>
                <a:arcTo wR="122979" hR="108692" stAng="0" swAng="-5400000"/>
                <a:lnTo>
                  <a:pt x="152400" y="29421"/>
                </a:lnTo>
                <a:arcTo wR="122979" hR="108692" stAng="-540000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Donut 154"/>
          <p:cNvSpPr/>
          <p:nvPr/>
        </p:nvSpPr>
        <p:spPr>
          <a:xfrm>
            <a:off x="6858000" y="5362560"/>
            <a:ext cx="304920" cy="276120"/>
          </a:xfrm>
          <a:custGeom>
            <a:avLst/>
            <a:gdLst>
              <a:gd name="textAreaLeft" fmla="*/ 44640 w 304920"/>
              <a:gd name="textAreaRight" fmla="*/ 260280 w 304920"/>
              <a:gd name="textAreaTop" fmla="*/ 40320 h 276120"/>
              <a:gd name="textAreaBottom" fmla="*/ 235800 h 276120"/>
            </a:gdLst>
            <a:ahLst/>
            <a:rect l="textAreaLeft" t="textAreaTop" r="textAreaRight" b="textAreaBottom"/>
            <a:pathLst>
              <a:path w="304800" h="276225">
                <a:moveTo>
                  <a:pt x="0" y="138113"/>
                </a:moveTo>
                <a:lnTo>
                  <a:pt x="0" y="138113"/>
                </a:lnTo>
                <a:arcTo wR="152400" hR="138113" stAng="10800000" swAng="5400000"/>
                <a:lnTo>
                  <a:pt x="152400" y="0"/>
                </a:lnTo>
                <a:arcTo wR="152400" hR="138113" stAng="-5400000" swAng="5400000"/>
                <a:lnTo>
                  <a:pt x="304800" y="138113"/>
                </a:lnTo>
                <a:arcTo wR="152400" hR="138113" stAng="0" swAng="5400000"/>
                <a:lnTo>
                  <a:pt x="152400" y="276226"/>
                </a:lnTo>
                <a:arcTo wR="152400" hR="138113" stAng="5400000" swAng="5400000"/>
                <a:close/>
                <a:moveTo>
                  <a:pt x="29421" y="138113"/>
                </a:moveTo>
                <a:lnTo>
                  <a:pt x="29421" y="138113"/>
                </a:lnTo>
                <a:arcTo wR="122979" hR="108692" stAng="10800000" swAng="-5400000"/>
                <a:lnTo>
                  <a:pt x="152400" y="246805"/>
                </a:lnTo>
                <a:arcTo wR="122979" hR="108692" stAng="5400000" swAng="-5400000"/>
                <a:lnTo>
                  <a:pt x="275379" y="138113"/>
                </a:lnTo>
                <a:arcTo wR="122979" hR="108692" stAng="0" swAng="-5400000"/>
                <a:lnTo>
                  <a:pt x="152400" y="29421"/>
                </a:lnTo>
                <a:arcTo wR="122979" hR="108692" stAng="-540000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BEBC-0351-427F-BF9C-8EC400111728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5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8291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abic is not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ounds (e.g., voiceless uvular /q/, retroflex /l/, voiced velar fricative /gh/, glottal stop / ‘ /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etter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باري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orphology (templatic vs. affix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form doesn’t reflect spoken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 has different layout/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4396-3631-4C3F-87C2-1F4692EA2896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4324-8A14-478D-B624-39A5CF5D001D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777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AA93-6F69-42CE-B7E4-34943D957C71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777520" cy="67816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5"/>
          <p:cNvSpPr/>
          <p:nvPr/>
        </p:nvSpPr>
        <p:spPr>
          <a:xfrm>
            <a:off x="4038480" y="2971800"/>
            <a:ext cx="205740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aight Connector 17"/>
          <p:cNvSpPr/>
          <p:nvPr/>
        </p:nvSpPr>
        <p:spPr>
          <a:xfrm flipV="1">
            <a:off x="6095160" y="1294920"/>
            <a:ext cx="83844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7"/>
          <p:cNvSpPr/>
          <p:nvPr/>
        </p:nvSpPr>
        <p:spPr>
          <a:xfrm flipV="1">
            <a:off x="6095880" y="2819160"/>
            <a:ext cx="83844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10"/>
          <p:cNvSpPr/>
          <p:nvPr/>
        </p:nvSpPr>
        <p:spPr>
          <a:xfrm flipH="1" flipV="1">
            <a:off x="1599840" y="2819160"/>
            <a:ext cx="243828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19"/>
          <p:cNvSpPr/>
          <p:nvPr/>
        </p:nvSpPr>
        <p:spPr>
          <a:xfrm flipH="1" flipV="1">
            <a:off x="1599840" y="1294920"/>
            <a:ext cx="243828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3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5327640" cy="146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5645-0F2B-4275-918A-99994DA88BC7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777520" cy="678168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5334120" y="2971800"/>
            <a:ext cx="31240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7"/>
          <p:cNvSpPr/>
          <p:nvPr/>
        </p:nvSpPr>
        <p:spPr>
          <a:xfrm flipV="1">
            <a:off x="8458200" y="2895480"/>
            <a:ext cx="38088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0"/>
          <p:cNvSpPr/>
          <p:nvPr/>
        </p:nvSpPr>
        <p:spPr>
          <a:xfrm flipH="1" flipV="1">
            <a:off x="1066680" y="2895480"/>
            <a:ext cx="42674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9"/>
          <p:cNvSpPr/>
          <p:nvPr/>
        </p:nvSpPr>
        <p:spPr>
          <a:xfrm flipH="1" flipV="1">
            <a:off x="1066680" y="380520"/>
            <a:ext cx="426744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23"/>
          <p:cNvSpPr/>
          <p:nvPr/>
        </p:nvSpPr>
        <p:spPr>
          <a:xfrm flipV="1">
            <a:off x="8457480" y="1447560"/>
            <a:ext cx="30492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"/>
          <p:cNvPicPr/>
          <p:nvPr/>
        </p:nvPicPr>
        <p:blipFill>
          <a:blip r:embed="rId2"/>
          <a:stretch/>
        </p:blipFill>
        <p:spPr>
          <a:xfrm>
            <a:off x="1057320" y="380880"/>
            <a:ext cx="7738920" cy="2476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3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5B22-6E37-4359-9834-33EFABA7DEED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777520" cy="67816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5"/>
          <p:cNvSpPr/>
          <p:nvPr/>
        </p:nvSpPr>
        <p:spPr>
          <a:xfrm>
            <a:off x="838080" y="2133720"/>
            <a:ext cx="320040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traight Connector 7"/>
          <p:cNvSpPr/>
          <p:nvPr/>
        </p:nvSpPr>
        <p:spPr>
          <a:xfrm>
            <a:off x="4038480" y="2133720"/>
            <a:ext cx="472464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10"/>
          <p:cNvSpPr/>
          <p:nvPr/>
        </p:nvSpPr>
        <p:spPr>
          <a:xfrm flipH="1" flipV="1">
            <a:off x="837720" y="2133720"/>
            <a:ext cx="12193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19"/>
          <p:cNvSpPr/>
          <p:nvPr/>
        </p:nvSpPr>
        <p:spPr>
          <a:xfrm flipH="1" flipV="1">
            <a:off x="837720" y="3048120"/>
            <a:ext cx="121932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6710400" cy="2438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3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26F4-2612-4009-954B-9DFBE8BB7BA2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777520" cy="678168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5"/>
          <p:cNvSpPr/>
          <p:nvPr/>
        </p:nvSpPr>
        <p:spPr>
          <a:xfrm>
            <a:off x="838080" y="2133720"/>
            <a:ext cx="320040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7"/>
          <p:cNvSpPr/>
          <p:nvPr/>
        </p:nvSpPr>
        <p:spPr>
          <a:xfrm>
            <a:off x="4038480" y="2133720"/>
            <a:ext cx="472464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traight Connector 10"/>
          <p:cNvSpPr/>
          <p:nvPr/>
        </p:nvSpPr>
        <p:spPr>
          <a:xfrm flipH="1" flipV="1">
            <a:off x="837720" y="2133720"/>
            <a:ext cx="12193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9"/>
          <p:cNvSpPr/>
          <p:nvPr/>
        </p:nvSpPr>
        <p:spPr>
          <a:xfrm flipH="1" flipV="1">
            <a:off x="837720" y="3048120"/>
            <a:ext cx="121932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6710400" cy="2438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DA2A-39E4-4870-BE74-CB0512948125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777520" cy="678168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5"/>
          <p:cNvSpPr/>
          <p:nvPr/>
        </p:nvSpPr>
        <p:spPr>
          <a:xfrm>
            <a:off x="762120" y="1752480"/>
            <a:ext cx="24382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7"/>
          <p:cNvSpPr/>
          <p:nvPr/>
        </p:nvSpPr>
        <p:spPr>
          <a:xfrm>
            <a:off x="3200400" y="1752480"/>
            <a:ext cx="403848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10"/>
          <p:cNvSpPr/>
          <p:nvPr/>
        </p:nvSpPr>
        <p:spPr>
          <a:xfrm flipH="1" flipV="1">
            <a:off x="762120" y="1752120"/>
            <a:ext cx="9144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traight Connector 19"/>
          <p:cNvSpPr/>
          <p:nvPr/>
        </p:nvSpPr>
        <p:spPr>
          <a:xfrm flipH="1" flipV="1">
            <a:off x="762120" y="2133720"/>
            <a:ext cx="91440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13"/>
          <p:cNvSpPr/>
          <p:nvPr/>
        </p:nvSpPr>
        <p:spPr>
          <a:xfrm>
            <a:off x="3200400" y="2133720"/>
            <a:ext cx="403848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2" descr=""/>
          <p:cNvPicPr/>
          <p:nvPr/>
        </p:nvPicPr>
        <p:blipFill>
          <a:blip r:embed="rId2"/>
          <a:stretch/>
        </p:blipFill>
        <p:spPr>
          <a:xfrm>
            <a:off x="1676520" y="2519280"/>
            <a:ext cx="5568840" cy="75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7" name="Rectangle 25"/>
          <p:cNvSpPr/>
          <p:nvPr/>
        </p:nvSpPr>
        <p:spPr>
          <a:xfrm>
            <a:off x="2362320" y="2743200"/>
            <a:ext cx="1676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6"/>
          <p:cNvSpPr/>
          <p:nvPr/>
        </p:nvSpPr>
        <p:spPr>
          <a:xfrm>
            <a:off x="4800600" y="2666880"/>
            <a:ext cx="2209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27"/>
          <p:cNvSpPr/>
          <p:nvPr/>
        </p:nvSpPr>
        <p:spPr>
          <a:xfrm>
            <a:off x="2209680" y="266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28"/>
          <p:cNvSpPr/>
          <p:nvPr/>
        </p:nvSpPr>
        <p:spPr>
          <a:xfrm>
            <a:off x="4724280" y="2657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non-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3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342B-8664-477F-8538-538570B7D8BD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777520" cy="67816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5"/>
          <p:cNvSpPr/>
          <p:nvPr/>
        </p:nvSpPr>
        <p:spPr>
          <a:xfrm>
            <a:off x="7162920" y="1295280"/>
            <a:ext cx="160020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7"/>
          <p:cNvSpPr/>
          <p:nvPr/>
        </p:nvSpPr>
        <p:spPr>
          <a:xfrm flipH="1">
            <a:off x="7009920" y="1751760"/>
            <a:ext cx="175284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traight Connector 10"/>
          <p:cNvSpPr/>
          <p:nvPr/>
        </p:nvSpPr>
        <p:spPr>
          <a:xfrm flipV="1">
            <a:off x="3352680" y="1295280"/>
            <a:ext cx="381024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9"/>
          <p:cNvSpPr/>
          <p:nvPr/>
        </p:nvSpPr>
        <p:spPr>
          <a:xfrm flipV="1">
            <a:off x="3352680" y="1752120"/>
            <a:ext cx="381024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3"/>
          <p:cNvSpPr/>
          <p:nvPr/>
        </p:nvSpPr>
        <p:spPr>
          <a:xfrm flipV="1">
            <a:off x="7010280" y="1295280"/>
            <a:ext cx="175284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361332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9" name="Rectangle 23"/>
          <p:cNvSpPr/>
          <p:nvPr/>
        </p:nvSpPr>
        <p:spPr>
          <a:xfrm>
            <a:off x="3886200" y="2209680"/>
            <a:ext cx="25146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22"/>
          <p:cNvSpPr/>
          <p:nvPr/>
        </p:nvSpPr>
        <p:spPr>
          <a:xfrm>
            <a:off x="37339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wnloa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ACD9-6D49-4444-B70F-024CD0BA4EE6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777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abic is not Englis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572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user interface for all languages will no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customize the user interface to take into account the unique structure of each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2"/>
          <p:cNvSpPr/>
          <p:nvPr/>
        </p:nvSpPr>
        <p:spPr>
          <a:xfrm>
            <a:off x="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3EA5-ACEC-4B83-850E-035AC7CCCFDA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rah C. Way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1295280" y="297144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wayland@casl.umd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1-226-89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y informal texts diverge from Modern Standard Arabi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Content Placeholder 17" descr="Dialect_Web_shot2.bmp"/>
          <p:cNvPicPr/>
          <p:nvPr/>
        </p:nvPicPr>
        <p:blipFill>
          <a:blip r:embed="rId1"/>
          <a:stretch/>
        </p:blipFill>
        <p:spPr>
          <a:xfrm>
            <a:off x="228600" y="1447920"/>
            <a:ext cx="6238800" cy="52434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6172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s differ from classroom Arabic  in orthography, morphology, and lexical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y informal texts diverge from Modern Standard Arabi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Content Placeholder 17" descr="Dialect_Web_shot2.bmp"/>
          <p:cNvPicPr/>
          <p:nvPr/>
        </p:nvPicPr>
        <p:blipFill>
          <a:blip r:embed="rId1"/>
          <a:stretch/>
        </p:blipFill>
        <p:spPr>
          <a:xfrm>
            <a:off x="228600" y="1461960"/>
            <a:ext cx="6238800" cy="52437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6172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s differ from classroom Arabic  in </a:t>
            </a: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orthograph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morphology, and lexical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Orthograph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erences are  based on dialect pronunciations, typographical errors, and ... “styl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ounded Rectangle 18"/>
          <p:cNvSpPr/>
          <p:nvPr/>
        </p:nvSpPr>
        <p:spPr>
          <a:xfrm>
            <a:off x="2895480" y="4648320"/>
            <a:ext cx="91440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ounded Rectangle 19"/>
          <p:cNvSpPr/>
          <p:nvPr/>
        </p:nvSpPr>
        <p:spPr>
          <a:xfrm>
            <a:off x="2209680" y="59436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ounded Rectangle 20"/>
          <p:cNvSpPr/>
          <p:nvPr/>
        </p:nvSpPr>
        <p:spPr>
          <a:xfrm>
            <a:off x="3048120" y="54864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ounded Rectangle 21"/>
          <p:cNvSpPr/>
          <p:nvPr/>
        </p:nvSpPr>
        <p:spPr>
          <a:xfrm>
            <a:off x="3733920" y="5943600"/>
            <a:ext cx="38088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ounded Rectangle 22"/>
          <p:cNvSpPr/>
          <p:nvPr/>
        </p:nvSpPr>
        <p:spPr>
          <a:xfrm>
            <a:off x="1905120" y="6400800"/>
            <a:ext cx="25560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raphic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2209680"/>
          <a:ext cx="6583320" cy="3121200"/>
        </p:xfrm>
        <a:graphic>
          <a:graphicData uri="http://schemas.openxmlformats.org/drawingml/2006/table">
            <a:tbl>
              <a:tblPr/>
              <a:tblGrid>
                <a:gridCol w="2679840"/>
                <a:gridCol w="1952640"/>
                <a:gridCol w="1950840"/>
              </a:tblGrid>
              <a:tr h="703800">
                <a:tc>
                  <a:txBody>
                    <a:bodyPr lIns="111600" rIns="1116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l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0" marR="111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1600" rIns="1116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T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vow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0" marR="11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1600" rIns="1116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vow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0" marR="11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11600" rIns="1116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Modern Standard Arab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0" marR="111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1600" rIns="1116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1600" rIns="1116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ك</a:t>
                      </a: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ب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111600" rIns="1116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with Persian charac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0" marR="111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1600" rIns="1116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#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1600" rIns="1116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</a:t>
                      </a: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چ</a:t>
                      </a: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11600" rIns="1116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with MSA charac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1600" marR="111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1600" rIns="1116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1600" rIns="1116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ج</a:t>
                      </a: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ب‏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02960" y="1523520"/>
            <a:ext cx="814068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alects use non-standard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y informal texts diverge from Modern Standard Arabi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Content Placeholder 17" descr="Dialect_Web_shot2.bmp"/>
          <p:cNvPicPr/>
          <p:nvPr/>
        </p:nvPicPr>
        <p:blipFill>
          <a:blip r:embed="rId1"/>
          <a:stretch/>
        </p:blipFill>
        <p:spPr>
          <a:xfrm>
            <a:off x="228600" y="1461960"/>
            <a:ext cx="6238800" cy="5243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6172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s differ from classroom Arabic  in </a:t>
            </a: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orthograph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morphology, and lexical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Orthograph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erences are  based on </a:t>
            </a:r>
            <a:r>
              <a:rPr b="0" lang="en-US" sz="2200" spc="-1" strike="noStrike">
                <a:solidFill>
                  <a:srgbClr val="72bfc5"/>
                </a:solidFill>
                <a:latin typeface="Arial"/>
              </a:rPr>
              <a:t>dialect pronunci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ypographical errors, and ... “styl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ounded Rectangle 18"/>
          <p:cNvSpPr/>
          <p:nvPr/>
        </p:nvSpPr>
        <p:spPr>
          <a:xfrm>
            <a:off x="2895480" y="4648320"/>
            <a:ext cx="91440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ounded Rectangle 19"/>
          <p:cNvSpPr/>
          <p:nvPr/>
        </p:nvSpPr>
        <p:spPr>
          <a:xfrm>
            <a:off x="2209680" y="59436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20"/>
          <p:cNvSpPr/>
          <p:nvPr/>
        </p:nvSpPr>
        <p:spPr>
          <a:xfrm>
            <a:off x="3048120" y="54864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21"/>
          <p:cNvSpPr/>
          <p:nvPr/>
        </p:nvSpPr>
        <p:spPr>
          <a:xfrm>
            <a:off x="3733920" y="5943600"/>
            <a:ext cx="38088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ounded Rectangle 22"/>
          <p:cNvSpPr/>
          <p:nvPr/>
        </p:nvSpPr>
        <p:spPr>
          <a:xfrm>
            <a:off x="1905120" y="6400800"/>
            <a:ext cx="25560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Straight Arrow Connector 10"/>
          <p:cNvCxnSpPr/>
          <p:nvPr/>
        </p:nvCxnSpPr>
        <p:spPr>
          <a:xfrm flipH="1">
            <a:off x="2209320" y="4648320"/>
            <a:ext cx="4343760" cy="1753200"/>
          </a:xfrm>
          <a:prstGeom prst="straightConnector1">
            <a:avLst/>
          </a:prstGeom>
          <a:ln w="19080">
            <a:solidFill>
              <a:srgbClr val="b6dcdf">
                <a:alpha val="43000"/>
              </a:srgbClr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y informal texts diverge from Modern Standard Arabi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Content Placeholder 17" descr="Dialect_Web_shot2.bmp"/>
          <p:cNvPicPr/>
          <p:nvPr/>
        </p:nvPicPr>
        <p:blipFill>
          <a:blip r:embed="rId1"/>
          <a:stretch/>
        </p:blipFill>
        <p:spPr>
          <a:xfrm>
            <a:off x="228600" y="1461960"/>
            <a:ext cx="6238800" cy="52437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6172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s differ from classroom Arabic  in </a:t>
            </a: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orthograph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morphology, and lexical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Orthograph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erences are  based on </a:t>
            </a:r>
            <a:r>
              <a:rPr b="0" lang="en-US" sz="2200" spc="-1" strike="noStrike">
                <a:solidFill>
                  <a:srgbClr val="72bfc5"/>
                </a:solidFill>
                <a:latin typeface="Arial"/>
              </a:rPr>
              <a:t>dialect pronunci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92d050"/>
                </a:solidFill>
                <a:latin typeface="Arial"/>
              </a:rPr>
              <a:t>typographical errors</a:t>
            </a:r>
            <a:r>
              <a:rPr b="0" lang="en-US" sz="2200" spc="-1" strike="noStrike">
                <a:solidFill>
                  <a:srgbClr val="8ac6cd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... “styl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18"/>
          <p:cNvSpPr/>
          <p:nvPr/>
        </p:nvSpPr>
        <p:spPr>
          <a:xfrm>
            <a:off x="2895480" y="4648320"/>
            <a:ext cx="91440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9"/>
          <p:cNvSpPr/>
          <p:nvPr/>
        </p:nvSpPr>
        <p:spPr>
          <a:xfrm>
            <a:off x="2209680" y="59436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20"/>
          <p:cNvSpPr/>
          <p:nvPr/>
        </p:nvSpPr>
        <p:spPr>
          <a:xfrm>
            <a:off x="3048120" y="54864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21"/>
          <p:cNvSpPr/>
          <p:nvPr/>
        </p:nvSpPr>
        <p:spPr>
          <a:xfrm>
            <a:off x="3733920" y="5943600"/>
            <a:ext cx="38088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ounded Rectangle 22"/>
          <p:cNvSpPr/>
          <p:nvPr/>
        </p:nvSpPr>
        <p:spPr>
          <a:xfrm>
            <a:off x="1905120" y="6400800"/>
            <a:ext cx="25560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Straight Arrow Connector 10"/>
          <p:cNvCxnSpPr/>
          <p:nvPr/>
        </p:nvCxnSpPr>
        <p:spPr>
          <a:xfrm flipH="1">
            <a:off x="4114080" y="5029200"/>
            <a:ext cx="2439000" cy="838800"/>
          </a:xfrm>
          <a:prstGeom prst="straightConnector1">
            <a:avLst/>
          </a:prstGeom>
          <a:ln w="19080">
            <a:solidFill>
              <a:srgbClr val="92d050">
                <a:alpha val="25000"/>
              </a:srgbClr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y informal texts diverge from Modern Standard Arabi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Content Placeholder 17" descr="Dialect_Web_shot2.bmp"/>
          <p:cNvPicPr/>
          <p:nvPr/>
        </p:nvPicPr>
        <p:blipFill>
          <a:blip r:embed="rId1"/>
          <a:stretch/>
        </p:blipFill>
        <p:spPr>
          <a:xfrm>
            <a:off x="228600" y="1461960"/>
            <a:ext cx="6238800" cy="5243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6172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s differ from classroom Arabic  in </a:t>
            </a: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orthograph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morphology, and lexical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Orthograph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erences are  based on </a:t>
            </a:r>
            <a:r>
              <a:rPr b="0" lang="en-US" sz="2200" spc="-1" strike="noStrike">
                <a:solidFill>
                  <a:srgbClr val="72bfc5"/>
                </a:solidFill>
                <a:latin typeface="Arial"/>
              </a:rPr>
              <a:t>dialect pronunci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92d050"/>
                </a:solidFill>
                <a:latin typeface="Arial"/>
              </a:rPr>
              <a:t>typographical err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8ac6c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... </a:t>
            </a:r>
            <a:r>
              <a:rPr b="0" lang="en-US" sz="2200" spc="-1" strike="noStrike">
                <a:solidFill>
                  <a:srgbClr val="7f7f7f"/>
                </a:solidFill>
                <a:latin typeface="Arial"/>
              </a:rPr>
              <a:t>“styl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ounded Rectangle 18"/>
          <p:cNvSpPr/>
          <p:nvPr/>
        </p:nvSpPr>
        <p:spPr>
          <a:xfrm>
            <a:off x="2895480" y="4648320"/>
            <a:ext cx="91440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ounded Rectangle 19"/>
          <p:cNvSpPr/>
          <p:nvPr/>
        </p:nvSpPr>
        <p:spPr>
          <a:xfrm>
            <a:off x="2209680" y="59436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ounded Rectangle 20"/>
          <p:cNvSpPr/>
          <p:nvPr/>
        </p:nvSpPr>
        <p:spPr>
          <a:xfrm>
            <a:off x="3048120" y="54864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ounded Rectangle 21"/>
          <p:cNvSpPr/>
          <p:nvPr/>
        </p:nvSpPr>
        <p:spPr>
          <a:xfrm>
            <a:off x="3733920" y="5943600"/>
            <a:ext cx="38088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ounded Rectangle 22"/>
          <p:cNvSpPr/>
          <p:nvPr/>
        </p:nvSpPr>
        <p:spPr>
          <a:xfrm>
            <a:off x="1905120" y="6400800"/>
            <a:ext cx="255600" cy="152280"/>
          </a:xfrm>
          <a:prstGeom prst="roundRect">
            <a:avLst>
              <a:gd name="adj" fmla="val 16667"/>
            </a:avLst>
          </a:prstGeom>
          <a:solidFill>
            <a:srgbClr val="00b0f0">
              <a:alpha val="20000"/>
            </a:srgbClr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Straight Arrow Connector 10"/>
          <p:cNvCxnSpPr>
            <a:endCxn id="496" idx="3"/>
          </p:cNvCxnSpPr>
          <p:nvPr/>
        </p:nvCxnSpPr>
        <p:spPr>
          <a:xfrm flipH="1" flipV="1">
            <a:off x="3809520" y="4723560"/>
            <a:ext cx="2743920" cy="839160"/>
          </a:xfrm>
          <a:prstGeom prst="straightConnector1">
            <a:avLst/>
          </a:prstGeom>
          <a:ln w="19080">
            <a:solidFill>
              <a:srgbClr val="7f7f7f">
                <a:alpha val="25000"/>
              </a:srgbClr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tic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838080" y="2209680"/>
          <a:ext cx="7348680" cy="3048120"/>
        </p:xfrm>
        <a:graphic>
          <a:graphicData uri="http://schemas.openxmlformats.org/drawingml/2006/table">
            <a:tbl>
              <a:tblPr/>
              <a:tblGrid>
                <a:gridCol w="898560"/>
                <a:gridCol w="2886120"/>
                <a:gridCol w="1301760"/>
                <a:gridCol w="917640"/>
                <a:gridCol w="1344600"/>
              </a:tblGrid>
              <a:tr h="1434600">
                <a:tc>
                  <a:txBody>
                    <a:bodyPr lIns="107280" rIns="10728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ed Urban (MS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‏</a:t>
                      </a: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ق</a:t>
                      </a: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ب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qalb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107280" rIns="10728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گ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</a:t>
                      </a: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گ</a:t>
                      </a: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ب‏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gaLub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107280" rIns="10728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</a:t>
                      </a: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غ</a:t>
                      </a: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ب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ghaLib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107280" rIns="10728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أ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i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 algn="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‏</a:t>
                      </a:r>
                      <a:r>
                        <a:rPr b="0" lang="ar-SA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أ</a:t>
                      </a: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ب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’alb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02960" y="1523520"/>
            <a:ext cx="814068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nants sometimes vary across dia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21:04:42Z</dcterms:created>
  <dc:creator>pmorse</dc:creator>
  <dc:description/>
  <dc:language>en-US</dc:language>
  <cp:lastModifiedBy>Sarah C Wayland</cp:lastModifiedBy>
  <dcterms:modified xsi:type="dcterms:W3CDTF">2010-05-24T22:02:53Z</dcterms:modified>
  <cp:revision>79</cp:revision>
  <dc:subject/>
  <dc:title>UI for Arabic Spell Corr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rder">
    <vt:lpwstr>51300.0000000000</vt:lpwstr>
  </property>
  <property fmtid="{D5CDD505-2E9C-101B-9397-08002B2CF9AE}" pid="4" name="TemplateUrl">
    <vt:lpwstr/>
  </property>
  <property fmtid="{D5CDD505-2E9C-101B-9397-08002B2CF9AE}" pid="5" name="_CopySource">
    <vt:lpwstr>https://portal.casl.umd.edu/SiteDirectory/TTO3312/Research/Presentations/2010-03-13_GURT_DYM.ppt</vt:lpwstr>
  </property>
  <property fmtid="{D5CDD505-2E9C-101B-9397-08002B2CF9AE}" pid="6" name="_SourceUrl">
    <vt:lpwstr/>
  </property>
  <property fmtid="{D5CDD505-2E9C-101B-9397-08002B2CF9AE}" pid="7" name="xd_ProgID">
    <vt:lpwstr/>
  </property>
</Properties>
</file>