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23.png" ContentType="image/png"/>
  <Override PartName="/ppt/media/image22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C71-D3EE-462E-A26E-BA63854B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775-0105-4F84-B16D-BADE7FA01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B1E-25F9-467A-AF82-EB27A3A1CB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262-B69E-4242-9043-E6225B5AA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335-33DC-4812-A7B3-4BAE36B66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0452-F7E8-46CD-9648-742C535A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B4E2-A16B-4704-BEC0-2B079332B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DED-1C78-4FA9-88C7-458C0BC7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F976-31AA-456C-9B39-4EC07F9F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647-FC67-4C76-BD6B-BC1667E5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884-D3A0-43BD-9537-0F8EB4B1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d Beamer – United 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75B-6AFB-4B1D-9D14-52F6BF32B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77C3-A194-4EED-B05D-96D71E7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DEE9-5BB3-47DB-A7DA-9BBEB1DE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95E8-03AB-4BCF-9D21-5ED386D7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74FD-6358-4A53-B014-EEB86712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8956-FE6A-469D-B7BE-3163ED2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CD24-0AE8-47E1-ABAB-C5A780D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5158-C796-4068-80DA-3926697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4E64-689C-422D-9BAE-DA87454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C3CA-FE4A-421B-A801-C176A9E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8140-62FF-4707-BEA4-37E84F70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26F0-9434-4D47-82D9-1464E9F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1C1B-C9A4-49EB-AB69-8099A77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415-BAD0-48CB-82E8-BC9BD38DD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6f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3" name="Oval 18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4" name="Picture 17" descr=""/>
          <p:cNvPicPr/>
          <p:nvPr/>
        </p:nvPicPr>
        <p:blipFill>
          <a:blip r:embed="rId2"/>
          <a:stretch/>
        </p:blipFill>
        <p:spPr>
          <a:xfrm>
            <a:off x="8381880" y="6094440"/>
            <a:ext cx="6858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81240" y="1219320"/>
            <a:ext cx="97534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chnology-Mediated Social Participation</a:t>
            </a:r>
            <a:br>
              <a:rPr sz="3200"/>
            </a:b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nnifer Preec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reece@umd.edu)</a:t>
            </a:r>
            <a:br>
              <a:rPr sz="1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 of Information Studies – iSchoo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Shneiderm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ben@cs.umd.edu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. of Computer Science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Welcome &#10;to the University of Maryland"/>
          <p:cNvPicPr/>
          <p:nvPr/>
        </p:nvPicPr>
        <p:blipFill>
          <a:blip r:embed="rId1"/>
          <a:stretch/>
        </p:blipFill>
        <p:spPr>
          <a:xfrm>
            <a:off x="3048120" y="6107040"/>
            <a:ext cx="3476520" cy="5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XL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Overview for Discovery &amp; Exploration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57680" y="613584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odeplex.com/nodexl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ci.umd.edu/NodeXL_Teaching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79640" y="1143000"/>
            <a:ext cx="684504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51242" t="39527" r="1251" b="5185"/>
          <a:stretch/>
        </p:blipFill>
        <p:spPr>
          <a:xfrm>
            <a:off x="4573440" y="3124080"/>
            <a:ext cx="32576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63160"/>
            <a:ext cx="97520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alyzing Social Media Networks with NodeX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Triangle 6"/>
          <p:cNvSpPr/>
          <p:nvPr/>
        </p:nvSpPr>
        <p:spPr>
          <a:xfrm rot="5244000">
            <a:off x="2062080" y="1337040"/>
            <a:ext cx="1101960" cy="1065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7" name="Right Triangle 7"/>
          <p:cNvSpPr/>
          <p:nvPr/>
        </p:nvSpPr>
        <p:spPr>
          <a:xfrm>
            <a:off x="1670040" y="4157640"/>
            <a:ext cx="996840" cy="1176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0880" y="1143000"/>
            <a:ext cx="57913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tique Olv (W1)"/>
              </a:rPr>
              <a:t>I. Getting Started with Analyzing Social Media Networks</a:t>
            </a: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1. Introduction to Social Media and Social Network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2. Social media: New Technologies of Collabo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3. Social Network Analysi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ntique Olv (W1)"/>
              </a:rPr>
              <a:t>II. NodeXL Tutorial: Learning by Doing</a:t>
            </a: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4. Layout, Visual Design &amp; Labe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5. Calculating &amp; Visualizing Network Metrics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6. Preparing Data &amp; Filte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7. Clustering &amp;Group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ntique Olv (W1)"/>
              </a:rPr>
              <a:t>III Social Media Network Analysis Case Studies</a:t>
            </a: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8. E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  9. Threaded Network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0. Twi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1. Facebook 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2. WW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3. Flick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4. YouTube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  15. Wiki Networks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-838080" y="6400800"/>
            <a:ext cx="101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elsevier.com/wps/find/bookdescription.cws_home/723354/description</a:t>
            </a:r>
            <a:endParaRPr b="0" lang="en-US" sz="14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20" name="Picture 7" descr="C:\Users\ben\AppData\Local\Microsoft\Windows\Temporary Internet Files\Content.Outlook\XJAVMK8M\Hansen6_8.jpg"/>
          <p:cNvPicPr/>
          <p:nvPr/>
        </p:nvPicPr>
        <p:blipFill>
          <a:blip r:embed="rId1"/>
          <a:stretch/>
        </p:blipFill>
        <p:spPr>
          <a:xfrm>
            <a:off x="5767560" y="160020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 of Neighbors website: Art Ha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1568" t="14769" r="2721" b="3340"/>
          <a:stretch/>
        </p:blipFill>
        <p:spPr>
          <a:xfrm>
            <a:off x="612720" y="1143000"/>
            <a:ext cx="76932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 Report: Promotes Community Saf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2099" t="17512" r="3057" b="3295"/>
          <a:stretch/>
        </p:blipFill>
        <p:spPr>
          <a:xfrm>
            <a:off x="0" y="1219320"/>
            <a:ext cx="640404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6217200" y="1454040"/>
            <a:ext cx="3094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Break-In/Burglary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Theft-Other Than from Home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Vandalism/Graffiti/Destruction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Suspicious Activity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Threat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Assault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Accident-Motor Vehicle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Drug Activity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Public Nuisance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Reckless Endangerment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Animal Problem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ATV Complaint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Litter/Garbage Dumping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Quality of Life Issue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  <a:ea typeface="MS PGothic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 Forums: How to motiv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60" t="17855" r="5443" b="3863"/>
          <a:stretch/>
        </p:blipFill>
        <p:spPr>
          <a:xfrm>
            <a:off x="457200" y="1235160"/>
            <a:ext cx="54100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38160">
            <a:solidFill>
              <a:srgbClr val="0c7f0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7f03"/>
                </a:solidFill>
                <a:latin typeface="Arial"/>
              </a:rPr>
              <a:t>BioTracker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538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biotracker logo 17.png"/>
          <p:cNvPicPr/>
          <p:nvPr/>
        </p:nvPicPr>
        <p:blipFill>
          <a:blip r:embed="rId1"/>
          <a:srcRect l="3422" t="4752" r="78159" b="12707"/>
          <a:stretch/>
        </p:blipFill>
        <p:spPr>
          <a:xfrm>
            <a:off x="7696080" y="3049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teamPhoto.jpg"/>
          <p:cNvPicPr/>
          <p:nvPr/>
        </p:nvPicPr>
        <p:blipFill>
          <a:blip r:embed="rId2"/>
          <a:srcRect l="0" t="10152" r="0" b="0"/>
          <a:stretch/>
        </p:blipFill>
        <p:spPr>
          <a:xfrm>
            <a:off x="1219320" y="1219320"/>
            <a:ext cx="6400800" cy="3435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57200" y="47196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Arijit Biswas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CS, PhD student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Anne Bowser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iSchool, MS student); </a:t>
            </a:r>
            <a:br>
              <a:rPr sz="1600"/>
            </a:b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Jen Hammock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EOL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Derek Hansen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iSchool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David Jacobs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CS, UMIACS); </a:t>
            </a:r>
            <a:br>
              <a:rPr sz="1600"/>
            </a:b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Darcy Lewis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iSchool, PhD student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Cyndy Parr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 (EOL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Jenny Preece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 (iSchool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Dana Rotman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 (iSchool, PhD student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Erin Stewart 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(iSchool MS student); </a:t>
            </a:r>
            <a:r>
              <a:rPr b="1" lang="en-US" sz="1600" spc="-1" strike="noStrike">
                <a:solidFill>
                  <a:srgbClr val="3a3e16"/>
                </a:solidFill>
                <a:latin typeface="Antique Olv (W1)"/>
              </a:rPr>
              <a:t>Eric</a:t>
            </a:r>
            <a:r>
              <a:rPr b="0" lang="en-US" sz="1600" spc="-1" strike="noStrike">
                <a:solidFill>
                  <a:srgbClr val="3a3e16"/>
                </a:solidFill>
                <a:latin typeface="Antique Olv (W1)"/>
              </a:rPr>
              <a:t> (CS, Undergrad)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133" name="Picture 8" descr="EOL logo.jpg"/>
          <p:cNvPicPr/>
          <p:nvPr/>
        </p:nvPicPr>
        <p:blipFill>
          <a:blip r:embed="rId3"/>
          <a:stretch/>
        </p:blipFill>
        <p:spPr>
          <a:xfrm>
            <a:off x="533520" y="6095880"/>
            <a:ext cx="1128600" cy="70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school-umd-LOGO.png"/>
          <p:cNvPicPr/>
          <p:nvPr/>
        </p:nvPicPr>
        <p:blipFill>
          <a:blip r:embed="rId4"/>
          <a:stretch/>
        </p:blipFill>
        <p:spPr>
          <a:xfrm>
            <a:off x="2209680" y="6053040"/>
            <a:ext cx="2743200" cy="5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I.jpg"/>
          <p:cNvPicPr/>
          <p:nvPr/>
        </p:nvPicPr>
        <p:blipFill>
          <a:blip r:embed="rId5"/>
          <a:stretch/>
        </p:blipFill>
        <p:spPr>
          <a:xfrm>
            <a:off x="7391520" y="5986440"/>
            <a:ext cx="718920" cy="871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5257800" y="6019920"/>
            <a:ext cx="1666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38160">
            <a:solidFill>
              <a:srgbClr val="0c7f0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7f03"/>
                </a:solidFill>
                <a:latin typeface="Arial"/>
              </a:rPr>
              <a:t>Research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3e16"/>
                </a:solidFill>
                <a:latin typeface="Arial"/>
              </a:rPr>
              <a:t>Q1 How can a socially intelligent system be used to direct human effort and expertise to the most valuable collection and classification tas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3e1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3e16"/>
                </a:solidFill>
                <a:latin typeface="Arial"/>
              </a:rPr>
              <a:t>Q2 What are the most effective strategies for motivating enthusiasts and experts to voluntarily contribute and collabo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iotracker logo 17.png"/>
          <p:cNvPicPr/>
          <p:nvPr/>
        </p:nvPicPr>
        <p:blipFill>
          <a:blip r:embed="rId1"/>
          <a:srcRect l="3422" t="4752" r="78159" b="12707"/>
          <a:stretch/>
        </p:blipFill>
        <p:spPr>
          <a:xfrm>
            <a:off x="7696080" y="304920"/>
            <a:ext cx="914400" cy="990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9"/>
          <p:cNvSpPr/>
          <p:nvPr/>
        </p:nvSpPr>
        <p:spPr>
          <a:xfrm>
            <a:off x="3290400" y="6164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otrackers.net 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38160">
            <a:solidFill>
              <a:srgbClr val="0c7f0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7f03"/>
                </a:solidFill>
                <a:latin typeface="Arial"/>
              </a:rPr>
              <a:t>BioTracker system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biotracker logo 17.png"/>
          <p:cNvPicPr/>
          <p:nvPr/>
        </p:nvPicPr>
        <p:blipFill>
          <a:blip r:embed="rId1"/>
          <a:srcRect l="3422" t="4752" r="78159" b="12707"/>
          <a:stretch/>
        </p:blipFill>
        <p:spPr>
          <a:xfrm>
            <a:off x="7696080" y="3049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figure2"/>
          <p:cNvPicPr/>
          <p:nvPr/>
        </p:nvPicPr>
        <p:blipFill>
          <a:blip r:embed="rId2"/>
          <a:stretch/>
        </p:blipFill>
        <p:spPr>
          <a:xfrm>
            <a:off x="474840" y="2057400"/>
            <a:ext cx="8364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38160">
            <a:solidFill>
              <a:srgbClr val="0c7f0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7f03"/>
                </a:solidFill>
                <a:latin typeface="Arial"/>
              </a:rPr>
              <a:t>Encyclopedia of Life (EOL.or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iotracker logo 17.png"/>
          <p:cNvPicPr/>
          <p:nvPr/>
        </p:nvPicPr>
        <p:blipFill>
          <a:blip r:embed="rId1"/>
          <a:srcRect l="3422" t="4752" r="78159" b="12707"/>
          <a:stretch/>
        </p:blipFill>
        <p:spPr>
          <a:xfrm>
            <a:off x="7696080" y="3049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rcRect l="1537" t="15449" r="3849" b="3487"/>
          <a:stretch/>
        </p:blipFill>
        <p:spPr>
          <a:xfrm>
            <a:off x="76320" y="1295280"/>
            <a:ext cx="676116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4"/>
          <a:srcRect l="3332" t="13706" r="43335" b="3171"/>
          <a:stretch/>
        </p:blipFill>
        <p:spPr>
          <a:xfrm>
            <a:off x="5562720" y="1752480"/>
            <a:ext cx="3657600" cy="541044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Awa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61048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mbitious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nsensus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other 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out to journalists &amp;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industry &amp;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to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urses &amp; degre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rsday morning tal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ation of Neighbors: Understanding users and their moti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ncyclopedia of Life: Motivating public enthusiasts and expert scientists to document the world's spe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ing Online Games to Integrate Human and Computer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Transform society with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ste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&amp;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038480" y="1600200"/>
            <a:ext cx="8763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&amp; climate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 science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health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afety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&amp; development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ivic involvement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er Social WebShop, August 23-26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1135022: WebShop 3.0: Technology-Mediated Social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F Social Computational Systems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-0968546: BioTracker: Melding Human &amp; Machine Intellige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o Create Large-Scale Collaborativ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-0968521: Supporting a Nation of Neighbors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ommunity Analysis Visualization Environments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XL Project Continues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Microsof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Media Research Found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 (&amp; Thanks to N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2863440" y="5791320"/>
            <a:ext cx="298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otrackers.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s.umd.edu/hcil/NON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xl.codeplex.com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smrfoundation.org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57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Malicious atta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Failure to b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Unreliable when need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Misus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Terrorists &amp;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Promoters of racial hat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ngsuh"/>
              </a:rPr>
              <a:t>Political oppr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 &amp; Da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9688" t="8306" r="11241" b="4399"/>
          <a:stretch/>
        </p:blipFill>
        <p:spPr>
          <a:xfrm>
            <a:off x="5164200" y="304920"/>
            <a:ext cx="3827520" cy="5029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4828320" y="541008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iparticipate.wikispaces.com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39840" y="1143000"/>
            <a:ext cx="829440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 Gather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ge Park, MD, April 2009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c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March 2009</a:t>
            </a: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rcRect l="6603" t="9248" r="7592" b="33220"/>
          <a:stretch/>
        </p:blipFill>
        <p:spPr>
          <a:xfrm>
            <a:off x="152280" y="2971800"/>
            <a:ext cx="4562640" cy="3930480"/>
          </a:xfrm>
          <a:prstGeom prst="rect">
            <a:avLst/>
          </a:prstGeom>
          <a:ln cap="sq" w="22320">
            <a:solidFill>
              <a:srgbClr val="0000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258840" y="429084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73160" y="4282920"/>
            <a:ext cx="114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tique Olv (W1)"/>
              </a:rPr>
              <a:t>BEN SHNEIDERMAN</a:t>
            </a:r>
            <a:endParaRPr b="0" lang="en-US" sz="8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497960" y="624852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ique Olv (W1)"/>
              </a:rPr>
              <a:t>NSF Grant IIS-0956571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tmsp.umd.e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ntique Olv (W1)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2756" t="14043" r="3936" b="27634"/>
          <a:stretch/>
        </p:blipFill>
        <p:spPr>
          <a:xfrm>
            <a:off x="1523880" y="1143000"/>
            <a:ext cx="601992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rcRect l="2251" t="41938" r="4315" b="16133"/>
          <a:stretch/>
        </p:blipFill>
        <p:spPr>
          <a:xfrm>
            <a:off x="1515960" y="5318280"/>
            <a:ext cx="5943600" cy="930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9480" y="27936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ops: Dec 2009 &amp; April 20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ntique Olv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657600" y="1523520"/>
            <a:ext cx="922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ientific Foundatio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dvancing Design of Social Participation Syste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sions of What is Possible With Shar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ocio-­technical Infrastruc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ticipating in Health 2.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ducational Prioriti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echnology Mediated Social Particip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ngaging the Public in Open Governmen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ocial Media Technology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olicy for Government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berinfrastructure for Social Action on National Pri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rcRect l="0" t="0" r="67053" b="40370"/>
          <a:stretch/>
        </p:blipFill>
        <p:spPr>
          <a:xfrm>
            <a:off x="65160" y="1447920"/>
            <a:ext cx="3592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Focus on National Priorities &amp;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, disaster response,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culture &amp; diversi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Develop Theories of Social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ocial media networks evol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participation be incr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Provide Technolog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, reliable, universal, mana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privacy, stop attacks, resolve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on: Social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8"/>
          <p:cNvSpPr/>
          <p:nvPr/>
        </p:nvSpPr>
        <p:spPr>
          <a:xfrm>
            <a:off x="156600" y="76320"/>
            <a:ext cx="89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From Reader to Leade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Motivating Technology-Mediated Social Participation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831600" y="5867280"/>
            <a:ext cx="70491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Preece &amp; Shneiderman, </a:t>
            </a:r>
            <a:r>
              <a:rPr b="0" i="1" lang="en-US" sz="1600" spc="-1" strike="noStrike">
                <a:solidFill>
                  <a:srgbClr val="000000"/>
                </a:solidFill>
                <a:latin typeface="Antique Olv (W1)"/>
              </a:rPr>
              <a:t>AIS Trans. Human-Computer Interaction1</a:t>
            </a:r>
            <a:r>
              <a:rPr b="0" lang="en-US" sz="1600" spc="-1" strike="noStrike">
                <a:solidFill>
                  <a:srgbClr val="000000"/>
                </a:solidFill>
                <a:latin typeface="Antique Olv (W1)"/>
              </a:rPr>
              <a:t> (1), 2009</a:t>
            </a:r>
            <a:endParaRPr b="0" lang="en-US" sz="16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sel.aisnet.org/thci/vol1/iss1/5/ </a:t>
            </a:r>
            <a:endParaRPr b="0" lang="en-US" sz="18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ntique Olv (W1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83" name="Oval 2"/>
          <p:cNvGrpSpPr/>
          <p:nvPr/>
        </p:nvGrpSpPr>
        <p:grpSpPr>
          <a:xfrm>
            <a:off x="2189160" y="2535120"/>
            <a:ext cx="1968480" cy="2060640"/>
            <a:chOff x="2189160" y="2535120"/>
            <a:chExt cx="1968480" cy="2060640"/>
          </a:xfrm>
        </p:grpSpPr>
        <p:pic>
          <p:nvPicPr>
            <p:cNvPr id="84" name="Oval 2" descr=""/>
            <p:cNvPicPr/>
            <p:nvPr/>
          </p:nvPicPr>
          <p:blipFill>
            <a:blip r:embed="rId1"/>
            <a:stretch/>
          </p:blipFill>
          <p:spPr>
            <a:xfrm>
              <a:off x="2189160" y="2535120"/>
              <a:ext cx="19684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02000" y="2857680"/>
              <a:ext cx="129204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ader</a:t>
              </a:r>
              <a:br>
                <a:rPr sz="28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00M</a:t>
              </a:r>
              <a:endParaRPr b="0" lang="en-US" sz="12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86" name="Rounded Rectangle 3"/>
          <p:cNvGrpSpPr/>
          <p:nvPr/>
        </p:nvGrpSpPr>
        <p:grpSpPr>
          <a:xfrm>
            <a:off x="4486320" y="2925720"/>
            <a:ext cx="1560600" cy="1219320"/>
            <a:chOff x="4486320" y="2925720"/>
            <a:chExt cx="1560600" cy="1219320"/>
          </a:xfrm>
        </p:grpSpPr>
        <p:pic>
          <p:nvPicPr>
            <p:cNvPr id="87" name="Rounded Rectangle 3" descr=""/>
            <p:cNvPicPr/>
            <p:nvPr/>
          </p:nvPicPr>
          <p:blipFill>
            <a:blip r:embed="rId2"/>
            <a:stretch/>
          </p:blipFill>
          <p:spPr>
            <a:xfrm>
              <a:off x="4486320" y="2925720"/>
              <a:ext cx="1560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48320" y="3024360"/>
              <a:ext cx="11905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ibutor</a:t>
              </a:r>
              <a:br>
                <a:rPr sz="18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500K</a:t>
              </a:r>
              <a:endParaRPr b="0" lang="en-US" sz="10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grpSp>
        <p:nvGrpSpPr>
          <p:cNvPr id="89" name="Rectangle 4"/>
          <p:cNvGrpSpPr/>
          <p:nvPr/>
        </p:nvGrpSpPr>
        <p:grpSpPr>
          <a:xfrm>
            <a:off x="6357960" y="3114720"/>
            <a:ext cx="1317600" cy="744480"/>
            <a:chOff x="6357960" y="3114720"/>
            <a:chExt cx="1317600" cy="744480"/>
          </a:xfrm>
        </p:grpSpPr>
        <p:pic>
          <p:nvPicPr>
            <p:cNvPr id="90" name="Rectangle 4" descr=""/>
            <p:cNvPicPr/>
            <p:nvPr/>
          </p:nvPicPr>
          <p:blipFill>
            <a:blip r:embed="rId3"/>
            <a:stretch/>
          </p:blipFill>
          <p:spPr>
            <a:xfrm>
              <a:off x="6357960" y="3114720"/>
              <a:ext cx="13176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424560" y="3178080"/>
              <a:ext cx="11271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laborator</a:t>
              </a:r>
              <a:endParaRPr b="0" lang="en-US" sz="14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  <p:sp>
        <p:nvSpPr>
          <p:cNvPr id="92" name="Right Arrow 6"/>
          <p:cNvSpPr/>
          <p:nvPr/>
        </p:nvSpPr>
        <p:spPr>
          <a:xfrm>
            <a:off x="4138560" y="3178080"/>
            <a:ext cx="380880" cy="711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7e75a"/>
          </a:solidFill>
          <a:ln w="2556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6019920" y="3316320"/>
            <a:ext cx="328320" cy="434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7e75a"/>
          </a:solidFill>
          <a:ln w="2556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4" name="Right Arrow 9"/>
          <p:cNvSpPr/>
          <p:nvPr/>
        </p:nvSpPr>
        <p:spPr>
          <a:xfrm>
            <a:off x="7672320" y="3394080"/>
            <a:ext cx="200160" cy="277920"/>
          </a:xfrm>
          <a:prstGeom prst="rightArrow">
            <a:avLst>
              <a:gd name="adj1" fmla="val 30787"/>
              <a:gd name="adj2" fmla="val 50000"/>
            </a:avLst>
          </a:prstGeom>
          <a:solidFill>
            <a:srgbClr val="57e75a"/>
          </a:solidFill>
          <a:ln w="2556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5" name="Curved Down Arrow 10"/>
          <p:cNvSpPr/>
          <p:nvPr/>
        </p:nvSpPr>
        <p:spPr>
          <a:xfrm>
            <a:off x="3213000" y="1890720"/>
            <a:ext cx="3821040" cy="482760"/>
          </a:xfrm>
          <a:custGeom>
            <a:avLst/>
            <a:gdLst>
              <a:gd name="textAreaLeft" fmla="*/ 910080 w 3821040"/>
              <a:gd name="textAreaRight" fmla="*/ 2850840 w 3821040"/>
              <a:gd name="textAreaTop" fmla="*/ 64440 h 482760"/>
              <a:gd name="textAreaBottom" fmla="*/ 4183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89" hR="21600" stAng="10800000" swAng="5400000"/>
                <a:lnTo>
                  <a:pt x="10971" y="0"/>
                </a:lnTo>
                <a:arcTo wR="10289" hR="21600" stAng="-5400000" swAng="3692350"/>
                <a:lnTo>
                  <a:pt x="21273" y="16200"/>
                </a:lnTo>
                <a:lnTo>
                  <a:pt x="20918" y="21600"/>
                </a:lnTo>
                <a:lnTo>
                  <a:pt x="19909" y="16200"/>
                </a:lnTo>
                <a:lnTo>
                  <a:pt x="20250" y="16200"/>
                </a:lnTo>
                <a:arcTo wR="10289" hR="21600" stAng="-1707650" swAng="-3638053"/>
                <a:lnTo>
                  <a:pt x="10630" y="12"/>
                </a:lnTo>
                <a:arcTo wR="10289" hR="21600" stAng="-5454297" swAng="-5345703"/>
                <a:close/>
              </a:path>
              <a:path fill="darkenLess" w="21600" h="21600">
                <a:moveTo>
                  <a:pt x="0" y="21600"/>
                </a:moveTo>
                <a:arcTo wR="10289" hR="21600" stAng="10800000" swAng="5400000"/>
                <a:lnTo>
                  <a:pt x="10289" y="0"/>
                </a:lnTo>
                <a:arcTo wR="10289" hR="21600" stAng="-5400000" swAng="54297"/>
                <a:lnTo>
                  <a:pt x="10630" y="12"/>
                </a:lnTo>
                <a:arcTo wR="10289" hR="21600" stAng="-5454297" swAng="-5345703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6" name="Curved Down Arrow 11"/>
          <p:cNvSpPr/>
          <p:nvPr/>
        </p:nvSpPr>
        <p:spPr>
          <a:xfrm>
            <a:off x="2995560" y="1600200"/>
            <a:ext cx="5638680" cy="773280"/>
          </a:xfrm>
          <a:custGeom>
            <a:avLst/>
            <a:gdLst>
              <a:gd name="textAreaLeft" fmla="*/ 1348560 w 5638680"/>
              <a:gd name="textAreaRight" fmla="*/ 4185720 w 5638680"/>
              <a:gd name="textAreaTop" fmla="*/ 103320 h 773280"/>
              <a:gd name="textAreaBottom" fmla="*/ 669960 h 77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33" hR="21600" stAng="10800000" swAng="5400000"/>
                <a:lnTo>
                  <a:pt x="10867" y="0"/>
                </a:lnTo>
                <a:arcTo wR="10333" hR="21600" stAng="-5400000" swAng="3396472"/>
                <a:lnTo>
                  <a:pt x="21122" y="15104"/>
                </a:lnTo>
                <a:lnTo>
                  <a:pt x="20933" y="21600"/>
                </a:lnTo>
                <a:lnTo>
                  <a:pt x="19788" y="15104"/>
                </a:lnTo>
                <a:lnTo>
                  <a:pt x="20188" y="15104"/>
                </a:lnTo>
                <a:arcTo wR="10333" hR="21600" stAng="-2003528" swAng="-3353965"/>
                <a:lnTo>
                  <a:pt x="10600" y="7"/>
                </a:lnTo>
                <a:arcTo wR="10333" hR="21600" stAng="-5442506" swAng="-5357494"/>
                <a:close/>
              </a:path>
              <a:path fill="darkenLess" w="21600" h="21600">
                <a:moveTo>
                  <a:pt x="0" y="21600"/>
                </a:moveTo>
                <a:arcTo wR="10333" hR="21600" stAng="10800000" swAng="5400000"/>
                <a:lnTo>
                  <a:pt x="10333" y="0"/>
                </a:lnTo>
                <a:arcTo wR="10333" hR="21600" stAng="-5400000" swAng="42506"/>
                <a:lnTo>
                  <a:pt x="10600" y="7"/>
                </a:lnTo>
                <a:arcTo wR="10333" hR="21600" stAng="-5442506" swAng="-5357494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7" name="Curved Down Arrow 12"/>
          <p:cNvSpPr/>
          <p:nvPr/>
        </p:nvSpPr>
        <p:spPr>
          <a:xfrm flipH="1" flipV="1">
            <a:off x="2766960" y="4691880"/>
            <a:ext cx="5943600" cy="870120"/>
          </a:xfrm>
          <a:custGeom>
            <a:avLst/>
            <a:gdLst>
              <a:gd name="textAreaLeft" fmla="*/ 1409760 w 5943600"/>
              <a:gd name="textAreaRight" fmla="*/ 4403520 w 5943600"/>
              <a:gd name="textAreaTop" fmla="*/ 116280 h 870120"/>
              <a:gd name="textAreaBottom" fmla="*/ 753840 h 87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47" hR="21600" stAng="10800000" swAng="5400000"/>
                <a:lnTo>
                  <a:pt x="10880" y="0"/>
                </a:lnTo>
                <a:arcTo wR="10247" hR="21600" stAng="-5400000" swAng="4195062"/>
                <a:lnTo>
                  <a:pt x="21449" y="17909"/>
                </a:lnTo>
                <a:lnTo>
                  <a:pt x="20810" y="21600"/>
                </a:lnTo>
                <a:lnTo>
                  <a:pt x="19868" y="17909"/>
                </a:lnTo>
                <a:lnTo>
                  <a:pt x="20342" y="17909"/>
                </a:lnTo>
                <a:arcTo wR="10247" hR="21600" stAng="-1204938" swAng="-4144669"/>
                <a:lnTo>
                  <a:pt x="10563" y="10"/>
                </a:lnTo>
                <a:arcTo wR="10247" hR="21600" stAng="-5450393" swAng="-5349607"/>
                <a:close/>
              </a:path>
              <a:path fill="darkenLess" w="21600" h="21600">
                <a:moveTo>
                  <a:pt x="0" y="21600"/>
                </a:moveTo>
                <a:arcTo wR="10247" hR="21600" stAng="10800000" swAng="5400000"/>
                <a:lnTo>
                  <a:pt x="10247" y="0"/>
                </a:lnTo>
                <a:arcTo wR="10247" hR="21600" stAng="-5400000" swAng="50393"/>
                <a:lnTo>
                  <a:pt x="10563" y="10"/>
                </a:lnTo>
                <a:arcTo wR="10247" hR="21600" stAng="-5450393" swAng="-5349607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8" name="Curved Down Arrow 13"/>
          <p:cNvSpPr/>
          <p:nvPr/>
        </p:nvSpPr>
        <p:spPr>
          <a:xfrm flipH="1" flipV="1">
            <a:off x="3110040" y="4692600"/>
            <a:ext cx="3924000" cy="579600"/>
          </a:xfrm>
          <a:custGeom>
            <a:avLst/>
            <a:gdLst>
              <a:gd name="textAreaLeft" fmla="*/ 927000 w 3924000"/>
              <a:gd name="textAreaRight" fmla="*/ 2925360 w 3924000"/>
              <a:gd name="textAreaTop" fmla="*/ 77400 h 579600"/>
              <a:gd name="textAreaBottom" fmla="*/ 502200 h 579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02" hR="21600" stAng="10800000" swAng="5400000"/>
                <a:lnTo>
                  <a:pt x="10999" y="0"/>
                </a:lnTo>
                <a:arcTo wR="10202" hR="21600" stAng="-5400000" swAng="3680162"/>
                <a:lnTo>
                  <a:pt x="21276" y="16200"/>
                </a:lnTo>
                <a:lnTo>
                  <a:pt x="20803" y="21600"/>
                </a:lnTo>
                <a:lnTo>
                  <a:pt x="19681" y="16200"/>
                </a:lnTo>
                <a:lnTo>
                  <a:pt x="20080" y="16200"/>
                </a:lnTo>
                <a:arcTo wR="10202" hR="21600" stAng="-1719838" swAng="-3616697"/>
                <a:lnTo>
                  <a:pt x="10601" y="16"/>
                </a:lnTo>
                <a:arcTo wR="10202" hR="21600" stAng="-5463464" swAng="-5336536"/>
                <a:close/>
              </a:path>
              <a:path fill="darkenLess" w="21600" h="21600">
                <a:moveTo>
                  <a:pt x="0" y="21600"/>
                </a:moveTo>
                <a:arcTo wR="10202" hR="21600" stAng="10800000" swAng="5400000"/>
                <a:lnTo>
                  <a:pt x="10202" y="0"/>
                </a:lnTo>
                <a:arcTo wR="10202" hR="21600" stAng="-5400000" swAng="63464"/>
                <a:lnTo>
                  <a:pt x="10601" y="16"/>
                </a:lnTo>
                <a:arcTo wR="10202" hR="21600" stAng="-5463464" swAng="-5336536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99" name="Curved Down Arrow 14"/>
          <p:cNvSpPr/>
          <p:nvPr/>
        </p:nvSpPr>
        <p:spPr>
          <a:xfrm flipH="1" flipV="1">
            <a:off x="3375720" y="4691880"/>
            <a:ext cx="1676520" cy="290520"/>
          </a:xfrm>
          <a:custGeom>
            <a:avLst/>
            <a:gdLst>
              <a:gd name="textAreaLeft" fmla="*/ 391320 w 1676520"/>
              <a:gd name="textAreaRight" fmla="*/ 1248120 w 167652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98" hR="21600" stAng="10800000" swAng="5400000"/>
                <a:lnTo>
                  <a:pt x="11034" y="0"/>
                </a:lnTo>
                <a:arcTo wR="10098" hR="21600" stAng="-5400000" swAng="3665295"/>
                <a:lnTo>
                  <a:pt x="21279" y="16200"/>
                </a:lnTo>
                <a:lnTo>
                  <a:pt x="20664" y="21600"/>
                </a:lnTo>
                <a:lnTo>
                  <a:pt x="19407" y="16200"/>
                </a:lnTo>
                <a:lnTo>
                  <a:pt x="19875" y="16200"/>
                </a:lnTo>
                <a:arcTo wR="10098" hR="21600" stAng="-1734705" swAng="-3590742"/>
                <a:lnTo>
                  <a:pt x="10566" y="23"/>
                </a:lnTo>
                <a:arcTo wR="10098" hR="21600" stAng="-5474553" swAng="-5325447"/>
                <a:close/>
              </a:path>
              <a:path fill="darkenLess" w="21600" h="21600">
                <a:moveTo>
                  <a:pt x="0" y="21600"/>
                </a:moveTo>
                <a:arcTo wR="10098" hR="21600" stAng="10800000" swAng="5400000"/>
                <a:lnTo>
                  <a:pt x="10098" y="0"/>
                </a:lnTo>
                <a:arcTo wR="10098" hR="21600" stAng="-5400000" swAng="74553"/>
                <a:lnTo>
                  <a:pt x="10566" y="23"/>
                </a:lnTo>
                <a:arcTo wR="10098" hR="21600" stAng="-5474553" swAng="-5325447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0" name="Right Arrow 16"/>
          <p:cNvSpPr/>
          <p:nvPr/>
        </p:nvSpPr>
        <p:spPr>
          <a:xfrm>
            <a:off x="1547640" y="2905200"/>
            <a:ext cx="609840" cy="1255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7e75a"/>
          </a:solidFill>
          <a:ln w="2556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1" name="Cloud 17"/>
          <p:cNvSpPr/>
          <p:nvPr/>
        </p:nvSpPr>
        <p:spPr>
          <a:xfrm>
            <a:off x="152280" y="1884240"/>
            <a:ext cx="1214640" cy="3575160"/>
          </a:xfrm>
          <a:prstGeom prst="pie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br>
              <a:rPr sz="20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2" name="Curved Down Arrow 20"/>
          <p:cNvSpPr/>
          <p:nvPr/>
        </p:nvSpPr>
        <p:spPr>
          <a:xfrm flipH="1" flipV="1">
            <a:off x="5510160" y="4691880"/>
            <a:ext cx="1263600" cy="290520"/>
          </a:xfrm>
          <a:custGeom>
            <a:avLst/>
            <a:gdLst>
              <a:gd name="textAreaLeft" fmla="*/ 289080 w 1263600"/>
              <a:gd name="textAreaRight" fmla="*/ 938880 w 126360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69" hR="21600" stAng="10800000" swAng="5400000"/>
                <a:lnTo>
                  <a:pt x="11110" y="0"/>
                </a:lnTo>
                <a:arcTo wR="9869" hR="21600" stAng="-5400000" swAng="3631720"/>
                <a:lnTo>
                  <a:pt x="21287" y="16200"/>
                </a:lnTo>
                <a:lnTo>
                  <a:pt x="20359" y="21600"/>
                </a:lnTo>
                <a:lnTo>
                  <a:pt x="18804" y="16200"/>
                </a:lnTo>
                <a:lnTo>
                  <a:pt x="19425" y="16200"/>
                </a:lnTo>
                <a:arcTo wR="9869" hR="21600" stAng="-1768280" swAng="-3532796"/>
                <a:lnTo>
                  <a:pt x="10490" y="43"/>
                </a:lnTo>
                <a:arcTo wR="9869" hR="21600" stAng="-5498924" swAng="-5301076"/>
                <a:close/>
              </a:path>
              <a:path fill="darkenLess" w="21600" h="21600">
                <a:moveTo>
                  <a:pt x="0" y="21600"/>
                </a:moveTo>
                <a:arcTo wR="9869" hR="21600" stAng="10800000" swAng="5400000"/>
                <a:lnTo>
                  <a:pt x="9869" y="0"/>
                </a:lnTo>
                <a:arcTo wR="9869" hR="21600" stAng="-5400000" swAng="98924"/>
                <a:lnTo>
                  <a:pt x="10490" y="43"/>
                </a:lnTo>
                <a:arcTo wR="9869" hR="21600" stAng="-5498924" swAng="-5301076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3" name="Curved Down Arrow 21"/>
          <p:cNvSpPr/>
          <p:nvPr/>
        </p:nvSpPr>
        <p:spPr>
          <a:xfrm flipH="1" flipV="1">
            <a:off x="7109640" y="4691880"/>
            <a:ext cx="1066680" cy="290520"/>
          </a:xfrm>
          <a:custGeom>
            <a:avLst/>
            <a:gdLst>
              <a:gd name="textAreaLeft" fmla="*/ 239040 w 1066680"/>
              <a:gd name="textAreaRight" fmla="*/ 790560 w 10666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7" hR="21600" stAng="10800000" swAng="5400000"/>
                <a:lnTo>
                  <a:pt x="11168" y="0"/>
                </a:lnTo>
                <a:arcTo wR="9697" hR="21600" stAng="-5400000" swAng="3605714"/>
                <a:lnTo>
                  <a:pt x="21292" y="16200"/>
                </a:lnTo>
                <a:lnTo>
                  <a:pt x="20130" y="21600"/>
                </a:lnTo>
                <a:lnTo>
                  <a:pt x="18351" y="16200"/>
                </a:lnTo>
                <a:lnTo>
                  <a:pt x="19086" y="16200"/>
                </a:lnTo>
                <a:arcTo wR="9697" hR="21600" stAng="-1794286" swAng="-3488363"/>
                <a:lnTo>
                  <a:pt x="10433" y="62"/>
                </a:lnTo>
                <a:arcTo wR="9697" hR="21600" stAng="-5517351" swAng="-5282649"/>
                <a:close/>
              </a:path>
              <a:path fill="darkenLess" w="21600" h="21600">
                <a:moveTo>
                  <a:pt x="0" y="21600"/>
                </a:moveTo>
                <a:arcTo wR="9697" hR="21600" stAng="10800000" swAng="5400000"/>
                <a:lnTo>
                  <a:pt x="9697" y="0"/>
                </a:lnTo>
                <a:arcTo wR="9697" hR="21600" stAng="-5400000" swAng="117351"/>
                <a:lnTo>
                  <a:pt x="10433" y="62"/>
                </a:lnTo>
                <a:arcTo wR="9697" hR="21600" stAng="-5517351" swAng="-5282649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4" name="Curved Down Arrow 22"/>
          <p:cNvSpPr/>
          <p:nvPr/>
        </p:nvSpPr>
        <p:spPr>
          <a:xfrm flipH="1" flipV="1">
            <a:off x="5128560" y="4692600"/>
            <a:ext cx="3276360" cy="579600"/>
          </a:xfrm>
          <a:custGeom>
            <a:avLst/>
            <a:gdLst>
              <a:gd name="textAreaLeft" fmla="*/ 764640 w 3276360"/>
              <a:gd name="textAreaRight" fmla="*/ 2439000 w 3276360"/>
              <a:gd name="textAreaTop" fmla="*/ 77400 h 579600"/>
              <a:gd name="textAreaBottom" fmla="*/ 502200 h 579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84" hR="21600" stAng="10800000" swAng="5400000"/>
                <a:lnTo>
                  <a:pt x="11038" y="0"/>
                </a:lnTo>
                <a:arcTo wR="10084" hR="21600" stAng="-5400000" swAng="3663276"/>
                <a:lnTo>
                  <a:pt x="21280" y="16200"/>
                </a:lnTo>
                <a:lnTo>
                  <a:pt x="20645" y="21600"/>
                </a:lnTo>
                <a:lnTo>
                  <a:pt x="19370" y="16200"/>
                </a:lnTo>
                <a:lnTo>
                  <a:pt x="19848" y="16200"/>
                </a:lnTo>
                <a:arcTo wR="10084" hR="21600" stAng="-1736724" swAng="-3587287"/>
                <a:lnTo>
                  <a:pt x="10561" y="24"/>
                </a:lnTo>
                <a:arcTo wR="10084" hR="21600" stAng="-5475990" swAng="-5324010"/>
                <a:close/>
              </a:path>
              <a:path fill="darkenLess" w="21600" h="21600">
                <a:moveTo>
                  <a:pt x="0" y="21600"/>
                </a:moveTo>
                <a:arcTo wR="10084" hR="21600" stAng="10800000" swAng="5400000"/>
                <a:lnTo>
                  <a:pt x="10084" y="0"/>
                </a:lnTo>
                <a:arcTo wR="10084" hR="21600" stAng="-5400000" swAng="75990"/>
                <a:lnTo>
                  <a:pt x="10561" y="24"/>
                </a:lnTo>
                <a:arcTo wR="10084" hR="21600" stAng="-5475990" swAng="-5324010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sp>
        <p:nvSpPr>
          <p:cNvPr id="105" name="Curved Down Arrow 23"/>
          <p:cNvSpPr/>
          <p:nvPr/>
        </p:nvSpPr>
        <p:spPr>
          <a:xfrm>
            <a:off x="5052960" y="1959120"/>
            <a:ext cx="3124080" cy="482400"/>
          </a:xfrm>
          <a:custGeom>
            <a:avLst/>
            <a:gdLst>
              <a:gd name="textAreaLeft" fmla="*/ 735840 w 3124080"/>
              <a:gd name="textAreaRight" fmla="*/ 2328120 w 3124080"/>
              <a:gd name="textAreaTop" fmla="*/ 64440 h 482400"/>
              <a:gd name="textAreaBottom" fmla="*/ 4179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75" hR="21600" stAng="10800000" swAng="5400000"/>
                <a:lnTo>
                  <a:pt x="11009" y="0"/>
                </a:lnTo>
                <a:arcTo wR="10175" hR="21600" stAng="-5400000" swAng="3676254"/>
                <a:lnTo>
                  <a:pt x="21277" y="16200"/>
                </a:lnTo>
                <a:lnTo>
                  <a:pt x="20766" y="21600"/>
                </a:lnTo>
                <a:lnTo>
                  <a:pt x="19609" y="16200"/>
                </a:lnTo>
                <a:lnTo>
                  <a:pt x="20026" y="16200"/>
                </a:lnTo>
                <a:arcTo wR="10175" hR="21600" stAng="-1723746" swAng="-3609838"/>
                <a:lnTo>
                  <a:pt x="10592" y="18"/>
                </a:lnTo>
                <a:arcTo wR="10175" hR="21600" stAng="-5466415" swAng="-5333585"/>
                <a:close/>
              </a:path>
              <a:path fill="darkenLess" w="21600" h="21600">
                <a:moveTo>
                  <a:pt x="0" y="21600"/>
                </a:moveTo>
                <a:arcTo wR="10175" hR="21600" stAng="10800000" swAng="5400000"/>
                <a:lnTo>
                  <a:pt x="10175" y="0"/>
                </a:lnTo>
                <a:arcTo wR="10175" hR="21600" stAng="-5400000" swAng="66415"/>
                <a:lnTo>
                  <a:pt x="10592" y="18"/>
                </a:lnTo>
                <a:arcTo wR="10175" hR="21600" stAng="-5466415" swAng="-5333585"/>
                <a:close/>
              </a:path>
            </a:pathLst>
          </a:custGeom>
          <a:solidFill>
            <a:srgbClr val="dbef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ique Olv (W1)"/>
            </a:endParaRPr>
          </a:p>
        </p:txBody>
      </p:sp>
      <p:grpSp>
        <p:nvGrpSpPr>
          <p:cNvPr id="106" name="Hexagon 26"/>
          <p:cNvGrpSpPr/>
          <p:nvPr/>
        </p:nvGrpSpPr>
        <p:grpSpPr>
          <a:xfrm>
            <a:off x="7815240" y="3133800"/>
            <a:ext cx="1285920" cy="718920"/>
            <a:chOff x="7815240" y="3133800"/>
            <a:chExt cx="1285920" cy="718920"/>
          </a:xfrm>
        </p:grpSpPr>
        <p:pic>
          <p:nvPicPr>
            <p:cNvPr id="107" name="Hexagon 26" descr=""/>
            <p:cNvPicPr/>
            <p:nvPr/>
          </p:nvPicPr>
          <p:blipFill>
            <a:blip r:embed="rId4"/>
            <a:stretch/>
          </p:blipFill>
          <p:spPr>
            <a:xfrm>
              <a:off x="7815240" y="3133800"/>
              <a:ext cx="1285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107200" y="3357720"/>
              <a:ext cx="7020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0" lang="en-US" sz="1200" spc="-1" strike="noStrike">
                <a:solidFill>
                  <a:srgbClr val="000000"/>
                </a:solidFill>
                <a:latin typeface="Antique Olv (W1)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Focus on National Priorities &amp;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, disaster response,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culture &amp; diversi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Develop Theories of Social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ocial media networks evol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participation be incr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Provide Technolog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, reliable, universal, mana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privacy, stop attacks, resolve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on: Social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</cp:lastModifiedBy>
  <cp:lastPrinted>2010-12-01T19:17:51Z</cp:lastPrinted>
  <dcterms:modified xsi:type="dcterms:W3CDTF">2011-05-23T13:30:44Z</dcterms:modified>
  <cp:revision>330</cp:revision>
  <dc:subject/>
  <dc:title>Voting System Technologies</dc:title>
</cp:coreProperties>
</file>