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0CDD-527C-4D46-86BC-0BAF6AC0B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5080-2197-45AD-82A8-FBCB30434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, My name is Earl J. Wagner and I’m a postdoctoral researcher here at the University of Maryland’s College of Information Studies, its i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lk I’m about to share with you is about the activity of news reading and a few topics around 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first, it's abou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pecifically, how people read news online and often find it difficult to learn about the context of a news 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econd, it's abou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pecifically, a software system that helps the news reader by pro-actively filling in the gaps to provide this con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hird, it's abou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arc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computer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hat guided the development of the software and is likely to lead to richer and more intelligent user interf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'll begin with the people, in particular 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ternational set of young adult news reader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viewed and observed by the Associated Press in an ethnographic study it published in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3744-189B-473B-B711-0D3D3BDA0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looked at how members of this group accesses news online and found they ran into som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fficul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wo of those in particular involve learning about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x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vered news 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first, they had trouble finding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ckground or back stor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he relevant events that preced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News is "here and now. If you want background, it's up to you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etting a "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ig pictu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 view of what was happ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details about this particular 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"Breaking news ...is kind of annoying sometimes.  I don't like to get bits and pieces of information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 “[do] not want to be fed bits. I want to know all the details at onc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aders “try to ascertain whole news stories but they regularly and repeatedly were left unsatisfie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ers liked story genres lik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orts and entertainme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a clear progression of st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e took this as 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A4B-CFFB-4840-8BDD-AEE036DA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 study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clud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articulating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he news “audience is looking to be transported to relevant information no matter its source. Where online consumers once surfed and bookmarked news sites, users now wonder why a logical trail through the news can't simply unfold, link by link, across a multitude of source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emphasized that phrase, “logical trail through the news”, because it’s 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ey poi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also inspired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concerns of those news readers in mind, we developed a softwar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hat helps with the two problems of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x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ckgrou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ig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y providing the kind of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ogical trai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by tha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oftware called Brussell runs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ckgrou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wnload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d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articles 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o that it can explain, through 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igh-level vie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in the Firefox web browser,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istor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news 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11FA-0818-4E26-BA4D-1D514537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C0B5-11F8-4743-8017-8B491C168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s news readers hav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pectati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ow sports and entertainment news events progres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ussell reads with expectations in the form of what we call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ws situ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stereotypical sequences of related events in the ne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rganiz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and present it in the form of 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igh-leve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t’s within this high-level view that it allows readers to instantly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vigat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ckground covera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news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cros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ario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F23-14E5-41F0-B8E3-8A645B7C3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'll touch briefly upon how it works then move to the growing body of research from which it origin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ussell runs everyday, downloading news articles from news sites through their RSS f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t reads the articles about the situations it is able to fo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n reading each article, it looks for instances of generic phrases, such as X offered Y for 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trac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ormation 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t saw each 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ssembling that information into the records that support the interface we s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, i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k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users web browser to answer question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hat happened here? who’s invo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46A-2372-41D1-807A-75D9ECE75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's that process of what is calle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formation extra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I want to turn to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ork in the area began in the 1970s on this topic of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ding and summarizing ne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80s and 90s it shifted to focus 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dividual even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iti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ing people and organiz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fill in templates with the information from a single document, all to answer concrete questions about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ct Structured Records: Raise Offer 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cquirer participant:  “Oracle”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cquiree participant: “PeopleSoft”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Date: November 1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New Amount: $24/sh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past decade, that work has matured to point that you can see news articles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ith entities that have been automatically annotated with links to web pages providing more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n contrast to this work, Brussell reads about multiple events, in multiple documents to assemble its storyline for a news situ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d that begins to answer some of the less concrete and more abstract questions that are the focus of another area of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B495-BF12-41F1-B876-49DEEC3D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ea of Artificial Intelligence called Story Underst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lthough work in this area started around the same time, the 1970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n contrast to information extraction, this area isn't as mature and it's still undergoing a lot of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in this area create software to read and explain stories or events in potentially various media such as news, email, blogs and t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n order to answer high-level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nvolving inference abou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us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cluding what happened in between events, or why did an event hap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asoning abou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ypothetica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hat else could have happened inst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d eve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ory of mi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soning about the thoughts of oth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why did he do that? what did she expect might happ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research in this area beyond Brussell involves reading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ny different stori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same type, for example many acquisition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 learn the patterns of how they unf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ow they might go one way or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iven one story, such as a partially complete corporate acquisition, infer how it is likely to proc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ture work may be able to lear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re sophisticat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y structures, such as a betray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E3BB-7B97-48EB-B896-D7ED82A1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ture work along these lines will continue in the areas HCI and Artificial Intelli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not just the events but also the motivations of the people involved in thos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 discover the additional types of questions people have about the news they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d, given the capabilities and potential of the algo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hich can be anticipated by software that then acts pro-actively and automatically to answer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d finally looping back to see if this approach does indeed work to answer news readers'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ook back, we started talking about the problems of a group of people, news rea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d saw a software system, Brussell, that goes part of the way to filling in the gaps in news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 answer their questions about the context of news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orward, we're likely to see that research in story understanding will enable even richer user interf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le to answer even more sophisticated ques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out stories in the news and emails and even blogs and t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interact with these types of media in future, think for yourself how software can intelligently and pro-actively answer find answers to high-level questions like the ones we s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6C28-D205-4967-955E-5E61B48DE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F92-97D5-4E43-B5D1-87A031C3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37E-BCDD-49D0-8760-6681A4A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0F036-00F4-448D-A415-D726342C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5AA02-DA3F-455E-86AB-4E4475E2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270E5-9A46-460A-A37E-E4E328C9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EA07E-C8BF-4BBC-AAA1-2027A71D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B0EB3-E345-4DC1-854B-0B4A5F96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40AB8-DE99-4012-8503-426949AA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B7FB7-8E0C-44A7-9DB7-09019694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60D89-F591-4656-B40C-83F1C4F7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A36D3-56BA-49E6-B4FF-1FE367AC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64304-860C-45A9-B16F-F397B467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3AE-C390-4E20-8B23-8DF7533A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F9D91-0261-4E34-BF82-2E293170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374A5-4103-4FFE-B1CB-BCB6B9CD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1E7BA-5745-4E4A-8A7B-CA9AAE38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20354-A3C8-415E-868C-604BF5CC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3E922-DF73-4106-A8E8-972AEC7F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B5F10-F5EE-4A16-9865-58F7656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09E99-F403-4BB4-8B9C-E25B9173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A1405-3D20-46D7-BA04-59098C5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55318-89B4-477F-A85F-C3D3A26A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3DD18-AB5C-4934-9763-54CD66A6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D86-47A6-42CB-8B7C-3D19ADAA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8B9F2-825D-4694-B6F4-DBEDFAD5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F5BF3-CC24-46C3-9BB6-5F9A9076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DCBF1-B506-453E-82AA-24C89D1E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CDD83-0DDF-44EA-9744-F508E8C7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419B8-6A96-45DF-82AB-1DF4DFD7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77AE3-F655-49A4-BDD5-D592E147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1555A-8C04-450E-8929-09212034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7A876-05F3-4EC9-BC93-A3B5A4E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9E922-FD46-4947-A391-0D158D3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440C1-F21A-4B76-A052-3E5C7287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3460-B443-4F77-BBD6-ACF5B559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6D206-ADD7-4C5B-B55E-C60550AD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C2AA7-4933-4F95-8E4F-ADD9E360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29FD5-AD22-4FBF-A7E2-CA4AA8F0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95B61-2242-4D91-B203-31451C88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B3852-A528-4D93-A9C3-1D26A47B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06AB6-EA38-4F53-9E2C-F0169659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8FD48-FBB3-44E7-9E04-87285011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F69D5-FF13-418C-A818-31CA9EE3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83930-1C59-46B8-BB17-EA5112A0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FA9E5-70FB-47EA-9968-6DA3BFE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EC9E-7C13-4052-B2A3-4E566DD0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5BE99-5CDF-4C64-9347-F62EC1B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CB9DD-AF35-4C77-AA0C-5C1299F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535FA-5581-4573-A6D7-2904446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5F0CC-E5A8-453F-AB0B-E8908159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1685A-087D-468B-8D71-CCC152A9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7D64-D15E-4960-B997-57A463E3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FB90-5B96-499F-8F15-7AF415D3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0D41-A5DE-4F31-B57C-427F50FE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5994-716E-4617-8614-B8892D71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9435-F81A-4294-98ED-C21C76D5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CD8-EC02-403E-B966-20E564B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DB16-46E8-4584-87C2-7055E73B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D62D-012B-4488-90FE-CB3BF11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820E-3CE4-43DC-BC5D-BA3C770D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AC40-9394-453D-A90C-DF7604E7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2D50-0D4A-4B17-B0CE-4509F3E7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55A7-271E-4DD1-9990-315595DD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E474-24F7-4AAA-A01F-6CA4C392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54C3-A733-43BD-B8C9-09CC185C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35C8-631B-4F23-BECE-BFF181A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E171-7854-450D-8DF3-7B22D82D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EF1-FC33-480B-808C-E2FB007A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6A54-A58F-4A94-B600-714047D6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FEF2-1454-458B-A13B-3836D471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3DD3-C92A-496C-A7FC-B4E0D38D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E325-931F-4468-A835-83D8DE9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D7EA1-DB6C-4399-B563-CA60468B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C10E-A9D0-4297-B62A-DAB1EEB6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209D-A7A0-4C69-9C6B-6C2A0176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13AD-E6E8-4B7E-9B8D-796378ED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0C27-9B7D-4884-8912-3F5A8F8C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E34A-A440-4398-8700-690CA14B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6B1-453E-4B7D-A1C0-866D36F9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BB2C7-F05D-48E9-90A4-695318F2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12D6-C9A2-4C69-8C3B-CE4D2343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007D-C7FE-416A-92C9-CEE57B62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8FA5-ADFF-4047-A2D0-17375D14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17EF-2411-46C0-9674-581E6DF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6246-5000-4D21-99BF-FF916514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B9A61-A345-4A70-B22B-B0AF3BBF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C0101-6ED3-4B1F-AEEF-7909A815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0CEE-7E01-4109-BA13-578E40DD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95B9-EEAF-46E1-A71D-DCB01FA6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096-B8A3-4BEE-85D9-A1204AC5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37F1-01B6-420B-B8DE-1027B520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5E83E-4D6C-42E1-9C9B-08DE0866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668EE-4734-4DB9-B5D2-F37211C5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B3098-105B-4447-877C-8B7478B3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8AFBA-982C-4B3F-A8D6-50326755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F0C18-2A11-40C8-B9B6-33E5169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00543-4E14-450A-B938-C818911D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21A75-6AB6-48E2-A7D0-01D2F572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D595-D127-4C6C-9B00-A37C29E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1751-FBDD-4B1C-9A29-B52BBA97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F9F-6551-475E-A4F2-0604B66E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C395-CADA-4389-B07E-76D215E7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064A-9EF2-4D6D-BE1E-4450F892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A9B56-E070-44A5-B1A8-0410675A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BD27D-E183-459C-B068-6594F62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33C37-13A1-45CA-9865-BD7BEB19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51954-DE0A-469B-8489-72F4F398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6DA0-AA02-4BA5-9B33-2DD18217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2BF97-1754-4BCE-8EF8-B55E907A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9F46C-4D63-45BB-922A-A6C8A8CB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A4CF-5C06-434E-A15A-0360067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FA3-C092-4417-9D9A-AEE6632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A709A-BA7D-47CA-A1D2-41372B3A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18FE7-D7D2-4F94-B8DC-B695746E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A0B81-18B2-4BBB-9979-6DA41F9C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99FD2-AB10-454C-929F-D7F2CED5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64A18-C5B0-41BA-8313-5B8BD131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E69D2-EF49-4F76-9327-7A859C02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9702E-F45D-4FAB-823D-B2ECC87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D0096-7E54-40F1-A632-4452F3E6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276E3-2976-4DFB-8CAB-872864F8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B127F-4E8E-4021-B634-58A6E06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F8D-7CE6-496D-8400-C2A832FC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71A8F-44B0-49AC-A4D5-CE875457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3127-1AC0-4FF6-AFD8-15B05DA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A9B2C-6722-4C52-849B-C1392A07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B4DAC-A6C8-4E39-A097-E445A887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44B5-7944-4DB3-B7BC-9FEA18F6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3FC34-A568-45E7-BA38-4CCF41D8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78BE-B112-438F-906D-C5D3D758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681D7-8DED-4039-89CB-B3BF5F6F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8EF4E-DC54-4E55-BB09-101B1781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73FAF-8002-431D-BCFE-B12A412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BE1-C1A7-49F2-9B4A-ACAC43AE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1FCC7-72B9-4D83-A97B-0A213C1F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EA4BC-40BE-4380-8359-E11F8FC0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22B26-1784-4174-B302-007A9534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DFD07-3EDB-4E0E-BAAF-2DE1B16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4E4B2-7659-4A0C-BF2C-5AE5F466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E5A3C-E91C-46A7-AA38-288D3230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B6890-8A12-43BF-AF17-2EF383ED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007BF-8273-4020-86EC-7FC45A7C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E8CB8-3BE1-462D-8B78-342BF676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ADDC4-36F9-495C-9693-3AFEBA96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53AE-A70C-4E67-A0FF-6C11A3A3AD87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236A-9803-4208-94FF-C9D6C361218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9BFC-B723-403E-8939-92B67082DF14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7224-BBC4-44FF-A1D3-8090D4982CA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091-8FB7-465A-ACFA-44C8821045C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D481-1605-446F-9167-E24F6382DED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3F11-30A7-4313-B000-5438107BFAA8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A8B7-6189-42C9-B59E-80D80FC7488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9101-BF43-44E4-9DEE-8684808DC2BA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8851-EE4C-41EC-B1B5-1CBFD777E35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C4E0-8573-4CD7-9261-DE50A42149C2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F187-FE9E-43D0-A8F4-23CF554357C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CBE0-2623-41B9-B5A7-3E3339AAF14E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911D-DD68-4B83-8606-77B290B2237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1D41-46A0-49FE-9011-8946BB73E72B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A691-BEA0-424F-BCD6-A0D751D4FC5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338-9C9C-4D0D-ABFB-1A8FFDDC0A3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3EF5-4539-4A10-9A24-FB892D9DEDA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2E84-EFA2-40B8-911E-A16A1E01B129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5A92-2327-4B7A-ACB4-D42E289E680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58F8-E687-4B19-B73C-EA079983CFA3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CA5F-A14F-4A8C-999A-152CA3EFEA7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7F5F-9831-4632-AB9C-B14E2438C9D8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DB72-53A1-4539-A93A-982F33B156D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Interfaces for Reading News and News Coverage of Even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Earl J. Wagner (ewagner@umiacs.umd.edu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University of Maryland College of Information Studies (iSchool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1"/>
          <a:stretch/>
        </p:blipFill>
        <p:spPr>
          <a:xfrm>
            <a:off x="6980400" y="703440"/>
            <a:ext cx="125856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Bookman Old Style"/>
              </a:rPr>
              <a:t>Associated Press Study of News Readers (2008)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ack Sto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ews is “here and now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you want background, it's up to you.”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ig Pict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"Breaking news... is kind of annoying sometimes.  I don't like to get bits and pieces of information."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 “[do] not want to be fed bits. I want to know all the details at once”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ory Resolu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ports and entertainment news preferred because they offer “a beginning, middle and end, or clear next steps”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5973840" y="1380960"/>
            <a:ext cx="2712960" cy="6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Associated Press Study Concluding Visi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news “audience is looking to be transported to relevant information no matter its source. Where online consumers once surfed and bookmarked news sites, users now wonder why a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ogical trail through the new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't simply unfold, link by link, across a multitude of sources.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russell Dem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russell Featur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ad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cting to find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News Situa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tereotypical sequences of related events in the new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rganize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ws situation inform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pports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navigatio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background covera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pans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ariou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ws sour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7" name="Picture 6" descr=""/>
          <p:cNvPicPr/>
          <p:nvPr/>
        </p:nvPicPr>
        <p:blipFill>
          <a:blip r:embed="rId1"/>
          <a:stretch/>
        </p:blipFill>
        <p:spPr>
          <a:xfrm>
            <a:off x="4946760" y="1219320"/>
            <a:ext cx="3201840" cy="2400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"/>
          <p:cNvPicPr/>
          <p:nvPr/>
        </p:nvPicPr>
        <p:blipFill>
          <a:blip r:embed="rId2"/>
          <a:stretch/>
        </p:blipFill>
        <p:spPr>
          <a:xfrm>
            <a:off x="5303880" y="3808440"/>
            <a:ext cx="31258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ow Brussell Work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trieve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ws articles daily via RSS fee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tract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nts and facts from text with patter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.g. “X raises its bid for Y to Z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Notes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ews and article sour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Creates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cord for even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Merges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o set of all tracked situations and participan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ink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user’s news rea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nswer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user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Extra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ure technology tod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s news to answer ques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Oct 31 2004:  “Oracle Raises Its Bid for PeopleSoft by $3,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to $24 a Share”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What happened?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Who was involved?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553" name="Picture 7" descr=""/>
          <p:cNvPicPr/>
          <p:nvPr/>
        </p:nvPicPr>
        <p:blipFill>
          <a:blip r:embed="rId1"/>
          <a:stretch/>
        </p:blipFill>
        <p:spPr>
          <a:xfrm>
            <a:off x="1147680" y="4006800"/>
            <a:ext cx="6878880" cy="19461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8"/>
          <p:cNvSpPr/>
          <p:nvPr/>
        </p:nvSpPr>
        <p:spPr>
          <a:xfrm>
            <a:off x="3791520" y="5952960"/>
            <a:ext cx="39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net News: http://news.cnet.com/8301-27076_3-20065720-248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ory Understan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ill developing research are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swer in-dept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 happened in between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y did that happen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 else could have happened instead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y did he do that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 did she expect might happen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rn story type patter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6515280" y="3016080"/>
            <a:ext cx="217152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ture Wor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rn motivations of people in sto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cover types of answers, visualizations useful to news read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 questions can be answered automatically by software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pported by National Science Foundation grant IIS-0325315/004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rl J. Wagn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mail: ewagner@umiacs.umd.ed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ebsite: www.umiacs.umd.edu/~ewagne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4:02:39Z</dcterms:created>
  <dc:creator>Earl Wagner</dc:creator>
  <dc:description/>
  <dc:language>en-US</dc:language>
  <cp:lastModifiedBy>charley lewittes</cp:lastModifiedBy>
  <cp:lastPrinted>2011-05-25T16:54:13Z</cp:lastPrinted>
  <dcterms:modified xsi:type="dcterms:W3CDTF">2011-06-06T14:23:26Z</dcterms:modified>
  <cp:revision>141</cp:revision>
  <dc:subject/>
  <dc:title>Interfaces for Reading News and News Coverage of Events</dc:title>
</cp:coreProperties>
</file>