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32918400" cy="2633345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309320" y="691920"/>
            <a:ext cx="4327560" cy="34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8100" spc="-1" strike="noStrike">
                <a:solidFill>
                  <a:srgbClr val="006586"/>
                </a:solidFill>
                <a:latin typeface="Geneva"/>
              </a:rPr>
              <a:t>Click to move the slide</a:t>
            </a: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FF27-82EB-4CAE-B5E3-38305AD5E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93552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3514-D03D-4DB9-A2BD-C642EDEB3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09680" y="692280"/>
            <a:ext cx="4327560" cy="34621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93552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0EB6-82A5-4B4D-A1E5-D7B8E5D20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09680" y="692280"/>
            <a:ext cx="4327560" cy="34621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3552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2187-CE2D-4712-8ADC-D646B9746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09680" y="692280"/>
            <a:ext cx="4327560" cy="346212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93552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E8F6-E464-4946-BC27-C84EB6BE2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09680" y="692280"/>
            <a:ext cx="4327560" cy="3462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93552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92E8-0CCD-4E0D-8DCC-2BBA70751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09680" y="692280"/>
            <a:ext cx="4327560" cy="34621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3552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DA16-130A-4E77-B482-12432108E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09680" y="692280"/>
            <a:ext cx="4327560" cy="34621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9FB-212C-4E01-B381-562244FD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2798136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68520" y="15861960"/>
            <a:ext cx="2798136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A1F-3287-4A79-A5E7-C8ECC947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80660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68520" y="15861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806600" y="15861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831-C5EB-4AAB-BC4A-95A906C5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928960" y="7608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389760" y="7608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68520" y="15861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1928960" y="15861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1389760" y="15861960"/>
            <a:ext cx="900972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73F-B0B8-4682-B7E9-EEB1E7AF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68520" y="7608960"/>
            <a:ext cx="27981360" cy="158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4C6-1B4C-4BB1-A118-65462D1E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2798136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60B-8973-4B5B-8784-656C7CBE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1365480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6806600" y="7608960"/>
            <a:ext cx="1365480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72B-46FB-4794-9CA9-C6FFFBBB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F0D-1C36-407D-975B-1F361B54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67080" y="1128240"/>
            <a:ext cx="27981360" cy="20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CCA-03C9-4C09-90CC-A29C346B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6806600" y="7608960"/>
            <a:ext cx="1365480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68520" y="15861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77D-5163-431A-80B8-841D175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1365480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680660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806600" y="15861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49E-3949-4946-9A50-CA111E26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6852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806600" y="7608960"/>
            <a:ext cx="1365480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68520" y="15861960"/>
            <a:ext cx="27981360" cy="7536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D80-C093-4E02-B356-5DD35144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8100" spc="-1" strike="noStrike">
                <a:solidFill>
                  <a:srgbClr val="006586"/>
                </a:solidFill>
                <a:latin typeface="Geneva"/>
              </a:rPr>
              <a:t>Click to edit the title text format</a:t>
            </a:r>
            <a:endParaRPr b="0" lang="en-US" sz="181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68520" y="7608960"/>
            <a:ext cx="27981360" cy="1580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 fontScale="91000"/>
          </a:bodyPr>
          <a:p>
            <a:pPr marL="1284120" indent="-1284120">
              <a:spcBef>
                <a:spcPts val="3300"/>
              </a:spcBef>
              <a:buClr>
                <a:srgbClr val="006586"/>
              </a:buClr>
              <a:buFont typeface="Geneva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Click to edit the outline text format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1" marL="2780640" indent="-1070280">
              <a:spcBef>
                <a:spcPts val="3300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Second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2" marL="4280400" indent="-857880">
              <a:spcBef>
                <a:spcPts val="3300"/>
              </a:spcBef>
              <a:buClr>
                <a:srgbClr val="006586"/>
              </a:buClr>
              <a:buFont typeface="Geneva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Third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3" marL="5990760" indent="-856440">
              <a:spcBef>
                <a:spcPts val="3300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Fourth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4" marL="7702560" indent="-855360">
              <a:spcBef>
                <a:spcPts val="3300"/>
              </a:spcBef>
              <a:buClr>
                <a:srgbClr val="006586"/>
              </a:buClr>
              <a:buFont typeface="Geneva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Fifth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5" marL="7702560" indent="-855360">
              <a:spcBef>
                <a:spcPts val="3300"/>
              </a:spcBef>
              <a:buClr>
                <a:srgbClr val="000000"/>
              </a:buClr>
              <a:buFont typeface="Geneva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Sixth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  <a:p>
            <a:pPr lvl="6" marL="7702560" indent="-855360">
              <a:spcBef>
                <a:spcPts val="3300"/>
              </a:spcBef>
              <a:buClr>
                <a:srgbClr val="000000"/>
              </a:buClr>
              <a:buFont typeface="Geneva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6586"/>
                </a:solidFill>
                <a:latin typeface="Geneva"/>
              </a:rPr>
              <a:t>Seventh Outline Level</a:t>
            </a: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68520" y="23993280"/>
            <a:ext cx="6858000" cy="1757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23993280"/>
            <a:ext cx="10423440" cy="1757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23993280"/>
            <a:ext cx="6858000" cy="1757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5600" spc="-1" strike="noStrike">
                <a:solidFill>
                  <a:srgbClr val="006586"/>
                </a:solidFill>
                <a:latin typeface="Genev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5E39-497B-490D-801F-C71AD7646137}" type="slidenum">
              <a:rPr b="0" lang="ko-KR" sz="5600" spc="-1" strike="noStrike">
                <a:solidFill>
                  <a:srgbClr val="006586"/>
                </a:solidFill>
                <a:latin typeface="Geneva"/>
                <a:ea typeface="굴림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7" descr=""/>
          <p:cNvPicPr/>
          <p:nvPr/>
        </p:nvPicPr>
        <p:blipFill>
          <a:blip r:embed="rId2"/>
          <a:stretch/>
        </p:blipFill>
        <p:spPr>
          <a:xfrm>
            <a:off x="0" y="0"/>
            <a:ext cx="32918400" cy="380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5" descr="HCIL_logo_small_no border"/>
          <p:cNvPicPr/>
          <p:nvPr/>
        </p:nvPicPr>
        <p:blipFill>
          <a:blip r:embed="rId3"/>
          <a:stretch/>
        </p:blipFill>
        <p:spPr>
          <a:xfrm>
            <a:off x="457200" y="824040"/>
            <a:ext cx="3581280" cy="35622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bottom.png"/>
          <p:cNvPicPr/>
          <p:nvPr/>
        </p:nvPicPr>
        <p:blipFill>
          <a:blip r:embed="rId4"/>
          <a:stretch/>
        </p:blipFill>
        <p:spPr>
          <a:xfrm>
            <a:off x="0" y="18504000"/>
            <a:ext cx="32918400" cy="783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1.png"/>
          <p:cNvPicPr/>
          <p:nvPr/>
        </p:nvPicPr>
        <p:blipFill>
          <a:blip r:embed="rId1"/>
          <a:stretch/>
        </p:blipFill>
        <p:spPr>
          <a:xfrm>
            <a:off x="0" y="8199360"/>
            <a:ext cx="33248520" cy="18135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8215200" y="1738440"/>
            <a:ext cx="18682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006586"/>
                </a:solidFill>
                <a:latin typeface="Geneva CY"/>
                <a:ea typeface="Geneva CY"/>
              </a:rPr>
              <a:t>Welcome!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0"/>
            <a:ext cx="541008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752480" y="0"/>
            <a:ext cx="31165920" cy="10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9"/>
          <p:cNvSpPr/>
          <p:nvPr/>
        </p:nvSpPr>
        <p:spPr>
          <a:xfrm>
            <a:off x="24163200" y="4100400"/>
            <a:ext cx="185760" cy="15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717120" y="6234120"/>
            <a:ext cx="32530680" cy="70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71600" indent="-1371600">
              <a:lnSpc>
                <a:spcPct val="100000"/>
              </a:lnSpc>
              <a:spcAft>
                <a:spcPts val="499"/>
              </a:spcAft>
              <a:buClr>
                <a:srgbClr val="0065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6586"/>
                </a:solidFill>
                <a:latin typeface="Geneva"/>
                <a:ea typeface="Geneva"/>
              </a:rPr>
              <a:t>Wireless Info- back of name tag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Aft>
                <a:spcPts val="499"/>
              </a:spcAft>
              <a:buClr>
                <a:srgbClr val="0065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6586"/>
                </a:solidFill>
                <a:latin typeface="Geneva"/>
                <a:ea typeface="Geneva"/>
              </a:rPr>
              <a:t>tweet #HCI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Aft>
                <a:spcPts val="499"/>
              </a:spcAft>
              <a:buClr>
                <a:srgbClr val="0065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2600" spc="-1" strike="noStrike">
                <a:solidFill>
                  <a:srgbClr val="006586"/>
                </a:solidFill>
                <a:latin typeface="Geneva"/>
              </a:rPr>
              <a:t>Thanks to our </a:t>
            </a:r>
            <a:br>
              <a:rPr sz="12600"/>
            </a:br>
            <a:r>
              <a:rPr b="0" lang="en-US" sz="12600" spc="-1" strike="noStrike">
                <a:solidFill>
                  <a:srgbClr val="006586"/>
                </a:solidFill>
                <a:latin typeface="Geneva"/>
              </a:rPr>
              <a:t>Champion Level Sponsors</a:t>
            </a:r>
            <a:endParaRPr b="0" lang="en-US" sz="12600" spc="-1" strike="noStrike">
              <a:solidFill>
                <a:srgbClr val="006586"/>
              </a:solidFill>
              <a:latin typeface="Geneva"/>
            </a:endParaRPr>
          </a:p>
        </p:txBody>
      </p:sp>
      <p:pic>
        <p:nvPicPr>
          <p:cNvPr id="58" name="Picture 22" descr="logo1.png"/>
          <p:cNvPicPr/>
          <p:nvPr/>
        </p:nvPicPr>
        <p:blipFill>
          <a:blip r:embed="rId1"/>
          <a:stretch/>
        </p:blipFill>
        <p:spPr>
          <a:xfrm>
            <a:off x="4114800" y="6461280"/>
            <a:ext cx="26338320" cy="1262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495680" y="975960"/>
            <a:ext cx="27981360" cy="176022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 fontScale="86000"/>
          </a:bodyPr>
          <a:p>
            <a:pPr marL="1213560" indent="-1213560">
              <a:spcBef>
                <a:spcPts val="275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1" lang="en-US" sz="11000" spc="-1" strike="noStrike">
                <a:solidFill>
                  <a:srgbClr val="006586"/>
                </a:solidFill>
                <a:latin typeface="Geneva"/>
              </a:rPr>
              <a:t>Our Leader Sponsors</a:t>
            </a:r>
            <a:endParaRPr b="0" lang="en-US" sz="11000" spc="-1" strike="noStrike">
              <a:solidFill>
                <a:srgbClr val="006586"/>
              </a:solidFill>
              <a:latin typeface="Geneva"/>
            </a:endParaRPr>
          </a:p>
          <a:p>
            <a:pPr lvl="1" marL="2628000" indent="-1011600">
              <a:spcBef>
                <a:spcPts val="2401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Geneva"/>
              </a:rPr>
              <a:t>Centrifuge</a:t>
            </a: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lvl="1" marL="2628000" indent="-1011600">
              <a:spcBef>
                <a:spcPts val="2401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Geneva"/>
              </a:rPr>
              <a:t>Microstrategy</a:t>
            </a: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marL="1213560" indent="-1213560">
              <a:spcBef>
                <a:spcPts val="2750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1" lang="en-US" sz="11000" spc="-1" strike="noStrike">
                <a:solidFill>
                  <a:srgbClr val="006586"/>
                </a:solidFill>
                <a:latin typeface="Geneva"/>
              </a:rPr>
              <a:t>Our Symposium Sponsors</a:t>
            </a:r>
            <a:endParaRPr b="0" lang="en-US" sz="11000" spc="-1" strike="noStrike">
              <a:solidFill>
                <a:srgbClr val="006586"/>
              </a:solidFill>
              <a:latin typeface="Geneva"/>
            </a:endParaRPr>
          </a:p>
          <a:p>
            <a:pPr lvl="1" marL="2628000" indent="-1011600">
              <a:spcBef>
                <a:spcPts val="2401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Geneva"/>
              </a:rPr>
              <a:t>Elsevier</a:t>
            </a:r>
            <a:r>
              <a:rPr b="0" lang="en-US" sz="9600" spc="-1" strike="noStrike">
                <a:solidFill>
                  <a:srgbClr val="006586"/>
                </a:solidFill>
                <a:latin typeface="Geneva"/>
              </a:rPr>
              <a:t>	</a:t>
            </a:r>
            <a:r>
              <a:rPr b="0" lang="en-US" sz="9600" spc="-1" strike="noStrike">
                <a:solidFill>
                  <a:srgbClr val="006586"/>
                </a:solidFill>
                <a:latin typeface="Geneva"/>
              </a:rPr>
              <a:t>	</a:t>
            </a:r>
            <a:r>
              <a:rPr b="0" lang="en-US" sz="9600" spc="-1" strike="noStrike">
                <a:solidFill>
                  <a:srgbClr val="006586"/>
                </a:solidFill>
                <a:latin typeface="Geneva"/>
              </a:rPr>
              <a:t>	</a:t>
            </a:r>
            <a:r>
              <a:rPr b="0" lang="en-US" sz="9600" spc="-1" strike="noStrike">
                <a:solidFill>
                  <a:srgbClr val="006586"/>
                </a:solidFill>
                <a:latin typeface="Geneva"/>
              </a:rPr>
              <a:t>- The Hive Group</a:t>
            </a: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lvl="1" marL="2628000" indent="-1011600">
              <a:spcBef>
                <a:spcPts val="2401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Geneva"/>
              </a:rPr>
              <a:t>IBM Research</a:t>
            </a:r>
            <a:r>
              <a:rPr b="0" lang="en-US" sz="9600" spc="-1" strike="noStrike">
                <a:solidFill>
                  <a:srgbClr val="006586"/>
                </a:solidFill>
                <a:latin typeface="Geneva"/>
              </a:rPr>
              <a:t>	</a:t>
            </a:r>
            <a:r>
              <a:rPr b="0" lang="en-US" sz="9600" spc="-1" strike="noStrike">
                <a:solidFill>
                  <a:srgbClr val="006586"/>
                </a:solidFill>
                <a:latin typeface="Geneva"/>
              </a:rPr>
              <a:t>	</a:t>
            </a:r>
            <a:r>
              <a:rPr b="0" lang="en-US" sz="9600" spc="-1" strike="noStrike">
                <a:solidFill>
                  <a:srgbClr val="006586"/>
                </a:solidFill>
                <a:latin typeface="Geneva"/>
              </a:rPr>
              <a:t>- Google</a:t>
            </a: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marL="1213560" indent="-1213560">
              <a:spcBef>
                <a:spcPts val="3175"/>
              </a:spcBef>
              <a:tabLst>
                <a:tab algn="l" pos="0"/>
                <a:tab algn="l" pos="3760920"/>
                <a:tab algn="l" pos="7521480"/>
              </a:tabLst>
            </a:pPr>
            <a:r>
              <a:rPr b="1" lang="en-US" sz="12700" spc="-1" strike="noStrike">
                <a:solidFill>
                  <a:srgbClr val="006586"/>
                </a:solidFill>
                <a:latin typeface="Geneva"/>
              </a:rPr>
              <a:t>And Our Media Sponsors</a:t>
            </a:r>
            <a:endParaRPr b="0" lang="en-US" sz="12700" spc="-1" strike="noStrike">
              <a:solidFill>
                <a:srgbClr val="006586"/>
              </a:solidFill>
              <a:latin typeface="Geneva"/>
            </a:endParaRPr>
          </a:p>
          <a:p>
            <a:pPr lvl="1" marL="2628000" indent="-1011600">
              <a:spcBef>
                <a:spcPts val="2324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9300" spc="-1" strike="noStrike">
                <a:solidFill>
                  <a:srgbClr val="006586"/>
                </a:solidFill>
                <a:latin typeface="Geneva"/>
              </a:rPr>
              <a:t>AOL Government</a:t>
            </a:r>
            <a:endParaRPr b="0" lang="en-US" sz="9300" spc="-1" strike="noStrike">
              <a:solidFill>
                <a:srgbClr val="006586"/>
              </a:solidFill>
              <a:latin typeface="Geneva"/>
            </a:endParaRPr>
          </a:p>
          <a:p>
            <a:pPr lvl="1" marL="2628000" indent="-1011600">
              <a:spcBef>
                <a:spcPts val="2324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9300" spc="-1" strike="noStrike">
                <a:solidFill>
                  <a:srgbClr val="006586"/>
                </a:solidFill>
                <a:latin typeface="Geneva"/>
              </a:rPr>
              <a:t>Interaction-Design.org</a:t>
            </a:r>
            <a:endParaRPr b="0" lang="en-US" sz="9300" spc="-1" strike="noStrike">
              <a:solidFill>
                <a:srgbClr val="006586"/>
              </a:solidFill>
              <a:latin typeface="Geneva"/>
            </a:endParaRPr>
          </a:p>
          <a:p>
            <a:pPr lvl="1" marL="2628000" indent="-1011600">
              <a:spcBef>
                <a:spcPts val="2324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9300" spc="-1" strike="noStrike">
                <a:solidFill>
                  <a:srgbClr val="006586"/>
                </a:solidFill>
                <a:latin typeface="Geneva"/>
              </a:rPr>
              <a:t>Interactions Magazine</a:t>
            </a:r>
            <a:endParaRPr b="0" lang="en-US" sz="9300" spc="-1" strike="noStrike">
              <a:solidFill>
                <a:srgbClr val="006586"/>
              </a:solidFill>
              <a:latin typeface="Geneva"/>
            </a:endParaRPr>
          </a:p>
          <a:p>
            <a:pPr lvl="1" marL="2628000" indent="-1011600">
              <a:spcBef>
                <a:spcPts val="2324"/>
              </a:spcBef>
              <a:buClr>
                <a:srgbClr val="006586"/>
              </a:buClr>
              <a:buFont typeface="Geneva"/>
              <a:buChar char="–"/>
              <a:tabLst>
                <a:tab algn="l" pos="3760920"/>
                <a:tab algn="l" pos="7521480"/>
              </a:tabLst>
            </a:pPr>
            <a:r>
              <a:rPr b="0" lang="en-US" sz="9300" spc="-1" strike="noStrike">
                <a:solidFill>
                  <a:srgbClr val="006586"/>
                </a:solidFill>
                <a:latin typeface="Geneva"/>
              </a:rPr>
              <a:t>iStrategy Labs</a:t>
            </a:r>
            <a:r>
              <a:rPr b="0" lang="en-US" sz="9300" spc="-1" strike="noStrike">
                <a:solidFill>
                  <a:srgbClr val="006586"/>
                </a:solidFill>
                <a:latin typeface="Geneva"/>
              </a:rPr>
              <a:t>	</a:t>
            </a:r>
            <a:endParaRPr b="0" lang="en-US" sz="93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0" name="Rectangle 43"/>
          <p:cNvSpPr/>
          <p:nvPr/>
        </p:nvSpPr>
        <p:spPr>
          <a:xfrm>
            <a:off x="22555080" y="1585800"/>
            <a:ext cx="9068040" cy="2667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6586"/>
                </a:solidFill>
                <a:latin typeface="Geneva"/>
                <a:ea typeface="Geneva"/>
              </a:rPr>
              <a:t>Thanks!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07" descr=""/>
          <p:cNvPicPr/>
          <p:nvPr/>
        </p:nvPicPr>
        <p:blipFill>
          <a:blip r:embed="rId1"/>
          <a:stretch/>
        </p:blipFill>
        <p:spPr>
          <a:xfrm>
            <a:off x="0" y="0"/>
            <a:ext cx="32918400" cy="380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67080" y="1128240"/>
            <a:ext cx="27981360" cy="43880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0500" spc="-1" strike="noStrike">
                <a:solidFill>
                  <a:srgbClr val="006586"/>
                </a:solidFill>
                <a:latin typeface="Geneva"/>
              </a:rPr>
              <a:t>Special Thanks to our University Sponsors</a:t>
            </a:r>
            <a:br>
              <a:rPr sz="10500"/>
            </a:br>
            <a:endParaRPr b="0" lang="en-US" sz="105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5243040"/>
            <a:ext cx="31927680" cy="18165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 fontScale="96000"/>
          </a:bodyPr>
          <a:p>
            <a:pPr marL="1354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Arial"/>
              </a:rPr>
              <a:t>Center for the Advanced Study of Language</a:t>
            </a: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marL="1354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3760920"/>
                <a:tab algn="l" pos="7521480"/>
              </a:tabLst>
            </a:pPr>
            <a:endParaRPr b="0" lang="en-US" sz="5000" spc="-1" strike="noStrike">
              <a:solidFill>
                <a:srgbClr val="006586"/>
              </a:solidFill>
              <a:latin typeface="Geneva"/>
            </a:endParaRPr>
          </a:p>
          <a:p>
            <a:pPr marL="1354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Arial"/>
              </a:rPr>
              <a:t>College of Computer, Mathematical and Natural Sciences</a:t>
            </a:r>
            <a:br>
              <a:rPr sz="9600"/>
            </a:b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marL="1354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Arial"/>
              </a:rPr>
              <a:t>College of Information Studies – Maryland’s iSchool</a:t>
            </a:r>
            <a:br>
              <a:rPr sz="9600"/>
            </a:b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marL="1354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Arial"/>
              </a:rPr>
              <a:t>Dingman Center for Entrepreneurship</a:t>
            </a:r>
            <a:br>
              <a:rPr sz="9600"/>
            </a:b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marL="1354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3760920"/>
                <a:tab algn="l" pos="7521480"/>
              </a:tabLst>
            </a:pPr>
            <a:r>
              <a:rPr b="0" lang="en-US" sz="9600" spc="-1" strike="noStrike">
                <a:solidFill>
                  <a:srgbClr val="006586"/>
                </a:solidFill>
                <a:latin typeface="Arial"/>
              </a:rPr>
              <a:t>University of Maryland Institute for Advanced Computer Studies</a:t>
            </a: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006586"/>
              </a:solidFill>
              <a:latin typeface="Geneva"/>
            </a:endParaRPr>
          </a:p>
          <a:p>
            <a:pPr marL="1354680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6586"/>
              </a:solidFill>
              <a:latin typeface="Genev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07" descr=""/>
          <p:cNvPicPr/>
          <p:nvPr/>
        </p:nvPicPr>
        <p:blipFill>
          <a:blip r:embed="rId1"/>
          <a:stretch/>
        </p:blipFill>
        <p:spPr>
          <a:xfrm>
            <a:off x="0" y="0"/>
            <a:ext cx="32918400" cy="380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0"/>
          <p:cNvSpPr/>
          <p:nvPr/>
        </p:nvSpPr>
        <p:spPr>
          <a:xfrm>
            <a:off x="16078320" y="5973840"/>
            <a:ext cx="556236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676880" y="747720"/>
            <a:ext cx="34671240" cy="3168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1500" spc="-1" strike="noStrike">
                <a:solidFill>
                  <a:srgbClr val="006586"/>
                </a:solidFill>
                <a:latin typeface="Geneva"/>
              </a:rPr>
              <a:t>Continued Thanks to our Lab Sponsors</a:t>
            </a:r>
            <a:endParaRPr b="0" lang="en-US" sz="115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09720" y="3642840"/>
            <a:ext cx="26441640" cy="19461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Agency for Healthcare Research and Quality (AHRQ)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Army Research Lab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Barrie School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Bruhn-Morris Family Foundation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Carnegie Hall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Center for Advanced Transportation Technologies Laboratory (CATT Lab)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Center for Integrated Transportation Systems Management (USDOT-RITA)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Computing Research Association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Department of Defense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Department of Education (DOE)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Fullbright International Science and Technology Scholarship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Google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International Children’s Digital Library Foundation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Microsoft Research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National Center for Health Statistics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National Institutes of Health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National Conference of State Legislatures (NCSL)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National Geospatial Intelligence Agency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National Park Service (NPS)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National Science Foundation (NSF)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Nickelodeon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Nokia Research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Office of the National Coordinator for Health Information Technology (ONC)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Oracle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Pacific Northwest National Laboratory (PNNL)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Twitter 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  <a:p>
            <a:pPr marL="1411200" indent="-1411200"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6586"/>
                </a:solidFill>
                <a:latin typeface="Geneva"/>
              </a:rPr>
              <a:t>Washington Hospital Center</a:t>
            </a:r>
            <a:endParaRPr b="0" lang="en-US" sz="4400" spc="-1" strike="noStrike">
              <a:solidFill>
                <a:srgbClr val="006586"/>
              </a:solidFill>
              <a:latin typeface="Genev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880" y="11034720"/>
            <a:ext cx="27981360" cy="52308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5000" spc="-1" strike="noStrike">
                <a:solidFill>
                  <a:srgbClr val="006586"/>
                </a:solidFill>
                <a:latin typeface="Geneva"/>
              </a:rPr>
              <a:t>HCIL HERO AWARD</a:t>
            </a:r>
            <a:endParaRPr b="0" lang="en-US" sz="150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1960" y="5319720"/>
            <a:ext cx="27981000" cy="57592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b">
            <a:normAutofit/>
          </a:bodyPr>
          <a:p>
            <a:pPr indent="0">
              <a:spcBef>
                <a:spcPts val="75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30000" spc="-1" strike="noStrike">
                <a:solidFill>
                  <a:srgbClr val="006586"/>
                </a:solidFill>
                <a:latin typeface="Geneva"/>
              </a:rPr>
              <a:t>Awards</a:t>
            </a:r>
            <a:endParaRPr b="0" lang="en-US" sz="30000" spc="-1" strike="noStrike">
              <a:solidFill>
                <a:srgbClr val="006586"/>
              </a:solidFill>
              <a:latin typeface="Genev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920" y="11034720"/>
            <a:ext cx="33299280" cy="52308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4000" spc="-1" strike="noStrike">
                <a:solidFill>
                  <a:srgbClr val="006586"/>
                </a:solidFill>
                <a:latin typeface="Geneva"/>
              </a:rPr>
              <a:t>HCIL GOOGLE </a:t>
            </a:r>
            <a:br>
              <a:rPr sz="14000"/>
            </a:br>
            <a:r>
              <a:rPr b="1" lang="en-US" sz="14000" spc="-1" strike="noStrike">
                <a:solidFill>
                  <a:srgbClr val="006586"/>
                </a:solidFill>
                <a:latin typeface="Geneva"/>
              </a:rPr>
              <a:t>BEST STUDENT RESEARCH AWARD</a:t>
            </a:r>
            <a:endParaRPr b="0" lang="en-US" sz="14000" spc="-1" strike="noStrike">
              <a:solidFill>
                <a:srgbClr val="006586"/>
              </a:solidFill>
              <a:latin typeface="Gene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5319720"/>
            <a:ext cx="27981000" cy="57592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b">
            <a:normAutofit/>
          </a:bodyPr>
          <a:p>
            <a:pPr indent="0">
              <a:spcBef>
                <a:spcPts val="75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30000" spc="-1" strike="noStrike">
                <a:solidFill>
                  <a:srgbClr val="006586"/>
                </a:solidFill>
                <a:latin typeface="Geneva"/>
              </a:rPr>
              <a:t>Awards</a:t>
            </a:r>
            <a:endParaRPr b="0" lang="en-US" sz="30000" spc="-1" strike="noStrike">
              <a:solidFill>
                <a:srgbClr val="006586"/>
              </a:solidFill>
              <a:latin typeface="Genev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20:11:19Z</dcterms:created>
  <dc:creator>Eric Schurr</dc:creator>
  <dc:description/>
  <dc:language>en-US</dc:language>
  <cp:lastModifiedBy>Jennifer Golbeck</cp:lastModifiedBy>
  <dcterms:modified xsi:type="dcterms:W3CDTF">2012-05-22T01:14:51Z</dcterms:modified>
  <cp:revision>340</cp:revision>
  <dc:subject/>
  <dc:title>No Slide Title</dc:title>
</cp:coreProperties>
</file>