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32918400" cy="2633345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309320" y="691920"/>
            <a:ext cx="4327560" cy="34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0" lang="en-US" sz="18100" spc="-1" strike="noStrike">
                <a:solidFill>
                  <a:srgbClr val="006586"/>
                </a:solidFill>
                <a:latin typeface="Geneva"/>
              </a:rPr>
              <a:t>Click to move the slide</a:t>
            </a:r>
            <a:endParaRPr b="0" lang="en-US" sz="181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6E8F-FAA0-49C3-8C92-409829823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93552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858C-3AF2-4750-BA83-D0BBE157D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09680" y="692280"/>
            <a:ext cx="4327560" cy="34621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93552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0B52-E158-4D25-B2D2-4A3FB9E12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09680" y="692280"/>
            <a:ext cx="4327560" cy="34621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93552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2CB6-A1FA-4B6A-86AF-23A59F5D6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09680" y="692280"/>
            <a:ext cx="4327560" cy="34621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93552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D4D3-AFF0-4880-BD1A-937EB9039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309680" y="692280"/>
            <a:ext cx="4327560" cy="346212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AFA1-1B7D-43DD-BEEA-C3E9F739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67080" y="1128240"/>
            <a:ext cx="27981360" cy="43880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68520" y="7608960"/>
            <a:ext cx="2798136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68520" y="15861960"/>
            <a:ext cx="2798136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CDCB-82EF-491C-8A15-1CF26CC6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67080" y="1128240"/>
            <a:ext cx="27981360" cy="43880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68520" y="7608960"/>
            <a:ext cx="1365480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6806600" y="7608960"/>
            <a:ext cx="1365480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68520" y="15861960"/>
            <a:ext cx="1365480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6806600" y="15861960"/>
            <a:ext cx="1365480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E6E9-EABD-446F-96D0-B9440482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67080" y="1128240"/>
            <a:ext cx="27981360" cy="43880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68520" y="7608960"/>
            <a:ext cx="900972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1928960" y="7608960"/>
            <a:ext cx="900972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1389760" y="7608960"/>
            <a:ext cx="900972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68520" y="15861960"/>
            <a:ext cx="900972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1928960" y="15861960"/>
            <a:ext cx="900972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21389760" y="15861960"/>
            <a:ext cx="900972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3990-69B8-4E9C-A921-C4751239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67080" y="1128240"/>
            <a:ext cx="27981360" cy="43880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68520" y="7608960"/>
            <a:ext cx="27981360" cy="158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C388-839E-4280-993E-1698E694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67080" y="1128240"/>
            <a:ext cx="27981360" cy="43880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68520" y="7608960"/>
            <a:ext cx="27981360" cy="15800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AF9F-58D9-46B3-A3E1-92211299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67080" y="1128240"/>
            <a:ext cx="27981360" cy="43880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68520" y="7608960"/>
            <a:ext cx="13654800" cy="15800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16806600" y="7608960"/>
            <a:ext cx="13654800" cy="15800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391C-9D0B-4EC3-A0AE-7A6C40DA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67080" y="1128240"/>
            <a:ext cx="27981360" cy="43880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40EA-5497-4682-8F37-ED489120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67080" y="1128240"/>
            <a:ext cx="27981360" cy="20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C3FF-0E1C-42DB-A9FE-C30D76F7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67080" y="1128240"/>
            <a:ext cx="27981360" cy="43880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68520" y="7608960"/>
            <a:ext cx="1365480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6806600" y="7608960"/>
            <a:ext cx="13654800" cy="15800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68520" y="15861960"/>
            <a:ext cx="1365480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4BF0-8293-4FCB-A6B1-D7E6A26F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67080" y="1128240"/>
            <a:ext cx="27981360" cy="43880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68520" y="7608960"/>
            <a:ext cx="13654800" cy="15800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6806600" y="7608960"/>
            <a:ext cx="1365480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806600" y="15861960"/>
            <a:ext cx="1365480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BB4-2DA9-4254-9D1F-E5801D29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67080" y="1128240"/>
            <a:ext cx="27981360" cy="43880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68520" y="7608960"/>
            <a:ext cx="1365480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6806600" y="7608960"/>
            <a:ext cx="1365480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68520" y="15861960"/>
            <a:ext cx="2798136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AC06-074D-4BA2-B2DE-545844AD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67080" y="1128240"/>
            <a:ext cx="27981360" cy="43880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0" lang="en-US" sz="18100" spc="-1" strike="noStrike">
                <a:solidFill>
                  <a:srgbClr val="006586"/>
                </a:solidFill>
                <a:latin typeface="Geneva"/>
              </a:rPr>
              <a:t>Click to edit the title text format</a:t>
            </a:r>
            <a:endParaRPr b="0" lang="en-US" sz="181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68520" y="7608960"/>
            <a:ext cx="27981360" cy="15800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 fontScale="91000"/>
          </a:bodyPr>
          <a:p>
            <a:pPr marL="1284120" indent="-1284120">
              <a:spcBef>
                <a:spcPts val="3300"/>
              </a:spcBef>
              <a:buClr>
                <a:srgbClr val="006586"/>
              </a:buClr>
              <a:buFont typeface="Geneva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6586"/>
                </a:solidFill>
                <a:latin typeface="Geneva"/>
              </a:rPr>
              <a:t>Click to edit the outline text format</a:t>
            </a: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  <a:p>
            <a:pPr lvl="1" marL="2780640" indent="-1070280">
              <a:spcBef>
                <a:spcPts val="3300"/>
              </a:spcBef>
              <a:buClr>
                <a:srgbClr val="006586"/>
              </a:buClr>
              <a:buFont typeface="Geneva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6586"/>
                </a:solidFill>
                <a:latin typeface="Geneva"/>
              </a:rPr>
              <a:t>Second Outline Level</a:t>
            </a: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  <a:p>
            <a:pPr lvl="2" marL="4280400" indent="-857880">
              <a:spcBef>
                <a:spcPts val="3300"/>
              </a:spcBef>
              <a:buClr>
                <a:srgbClr val="006586"/>
              </a:buClr>
              <a:buFont typeface="Geneva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6586"/>
                </a:solidFill>
                <a:latin typeface="Geneva"/>
              </a:rPr>
              <a:t>Third Outline Level</a:t>
            </a: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  <a:p>
            <a:pPr lvl="3" marL="5990760" indent="-856440">
              <a:spcBef>
                <a:spcPts val="3300"/>
              </a:spcBef>
              <a:buClr>
                <a:srgbClr val="006586"/>
              </a:buClr>
              <a:buFont typeface="Geneva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6586"/>
                </a:solidFill>
                <a:latin typeface="Geneva"/>
              </a:rPr>
              <a:t>Fourth Outline Level</a:t>
            </a: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  <a:p>
            <a:pPr lvl="4" marL="7702560" indent="-855360">
              <a:spcBef>
                <a:spcPts val="3300"/>
              </a:spcBef>
              <a:buClr>
                <a:srgbClr val="006586"/>
              </a:buClr>
              <a:buFont typeface="Geneva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6586"/>
                </a:solidFill>
                <a:latin typeface="Geneva"/>
              </a:rPr>
              <a:t>Fifth Outline Level</a:t>
            </a: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  <a:p>
            <a:pPr lvl="5" marL="7702560" indent="-855360">
              <a:spcBef>
                <a:spcPts val="3300"/>
              </a:spcBef>
              <a:buClr>
                <a:srgbClr val="000000"/>
              </a:buClr>
              <a:buFont typeface="Geneva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6586"/>
                </a:solidFill>
                <a:latin typeface="Geneva"/>
              </a:rPr>
              <a:t>Sixth Outline Level</a:t>
            </a: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  <a:p>
            <a:pPr lvl="6" marL="7702560" indent="-855360">
              <a:spcBef>
                <a:spcPts val="3300"/>
              </a:spcBef>
              <a:buClr>
                <a:srgbClr val="000000"/>
              </a:buClr>
              <a:buFont typeface="Geneva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6586"/>
                </a:solidFill>
                <a:latin typeface="Geneva"/>
              </a:rPr>
              <a:t>Seventh Outline Level</a:t>
            </a: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68520" y="23993280"/>
            <a:ext cx="6858000" cy="17571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7480" y="23993280"/>
            <a:ext cx="10423440" cy="17571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1880" y="23993280"/>
            <a:ext cx="6858000" cy="17571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5600" spc="-1" strike="noStrike">
                <a:solidFill>
                  <a:srgbClr val="006586"/>
                </a:solidFill>
                <a:latin typeface="Genev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CFFE-3DAC-46A7-A955-4D9F5C042706}" type="slidenum">
              <a:rPr b="0" lang="ko-KR" sz="5600" spc="-1" strike="noStrike">
                <a:solidFill>
                  <a:srgbClr val="006586"/>
                </a:solidFill>
                <a:latin typeface="Geneva"/>
                <a:ea typeface="굴림"/>
              </a:rPr>
              <a:t>&lt;number&gt;</a:t>
            </a:fld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07" descr=""/>
          <p:cNvPicPr/>
          <p:nvPr/>
        </p:nvPicPr>
        <p:blipFill>
          <a:blip r:embed="rId2"/>
          <a:stretch/>
        </p:blipFill>
        <p:spPr>
          <a:xfrm>
            <a:off x="0" y="0"/>
            <a:ext cx="32918400" cy="380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35" descr="HCIL_logo_small_no border"/>
          <p:cNvPicPr/>
          <p:nvPr/>
        </p:nvPicPr>
        <p:blipFill>
          <a:blip r:embed="rId3"/>
          <a:stretch/>
        </p:blipFill>
        <p:spPr>
          <a:xfrm>
            <a:off x="457200" y="824040"/>
            <a:ext cx="3581280" cy="35622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bottom.png"/>
          <p:cNvPicPr/>
          <p:nvPr/>
        </p:nvPicPr>
        <p:blipFill>
          <a:blip r:embed="rId4"/>
          <a:stretch/>
        </p:blipFill>
        <p:spPr>
          <a:xfrm>
            <a:off x="0" y="18504000"/>
            <a:ext cx="32918400" cy="783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68520" y="8179920"/>
            <a:ext cx="27981360" cy="56451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0" lang="en-US" sz="18100" spc="-1" strike="noStrike">
                <a:solidFill>
                  <a:srgbClr val="006586"/>
                </a:solidFill>
                <a:latin typeface="Geneva"/>
              </a:rPr>
              <a:t>WELCOME!</a:t>
            </a:r>
            <a:endParaRPr b="0" lang="en-US" sz="181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37040" y="14922360"/>
            <a:ext cx="23044320" cy="67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9"/>
          <p:cNvSpPr/>
          <p:nvPr/>
        </p:nvSpPr>
        <p:spPr>
          <a:xfrm>
            <a:off x="24163200" y="4100400"/>
            <a:ext cx="185760" cy="156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717120" y="6234120"/>
            <a:ext cx="32530680" cy="70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71600" indent="-1371600">
              <a:lnSpc>
                <a:spcPct val="100000"/>
              </a:lnSpc>
              <a:spcAft>
                <a:spcPts val="499"/>
              </a:spcAft>
              <a:buClr>
                <a:srgbClr val="0065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6586"/>
                </a:solidFill>
                <a:latin typeface="Geneva"/>
                <a:ea typeface="Geneva"/>
              </a:rPr>
              <a:t>Wireless Info- back of name tag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  <a:p>
            <a:pPr marL="1371600" indent="-1371600">
              <a:lnSpc>
                <a:spcPct val="100000"/>
              </a:lnSpc>
              <a:spcAft>
                <a:spcPts val="499"/>
              </a:spcAft>
              <a:buClr>
                <a:srgbClr val="0065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6586"/>
                </a:solidFill>
                <a:latin typeface="Geneva"/>
                <a:ea typeface="Geneva"/>
              </a:rPr>
              <a:t>tweet #HCI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  <a:p>
            <a:pPr marL="1371600" indent="-1371600">
              <a:lnSpc>
                <a:spcPct val="100000"/>
              </a:lnSpc>
              <a:spcAft>
                <a:spcPts val="499"/>
              </a:spcAft>
              <a:buClr>
                <a:srgbClr val="0065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67080" y="1128240"/>
            <a:ext cx="27981360" cy="43880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0" lang="en-US" sz="12600" spc="-1" strike="noStrike">
                <a:solidFill>
                  <a:srgbClr val="006586"/>
                </a:solidFill>
                <a:latin typeface="Geneva"/>
              </a:rPr>
              <a:t>Thanks to our </a:t>
            </a:r>
            <a:br>
              <a:rPr sz="12600"/>
            </a:br>
            <a:r>
              <a:rPr b="0" lang="en-US" sz="12600" spc="-1" strike="noStrike">
                <a:solidFill>
                  <a:srgbClr val="006586"/>
                </a:solidFill>
                <a:latin typeface="Geneva"/>
              </a:rPr>
              <a:t>Corporate Sponsors</a:t>
            </a:r>
            <a:endParaRPr b="0" lang="en-US" sz="12600" spc="-1" strike="noStrike">
              <a:solidFill>
                <a:srgbClr val="006586"/>
              </a:solidFill>
              <a:latin typeface="Geneva"/>
            </a:endParaRPr>
          </a:p>
        </p:txBody>
      </p:sp>
      <p:pic>
        <p:nvPicPr>
          <p:cNvPr id="56" name="Picture 1" descr="Screen Shot 2014-05-29 at 7.14.27 AM.png"/>
          <p:cNvPicPr/>
          <p:nvPr/>
        </p:nvPicPr>
        <p:blipFill>
          <a:blip r:embed="rId1"/>
          <a:stretch/>
        </p:blipFill>
        <p:spPr>
          <a:xfrm>
            <a:off x="2590920" y="5624640"/>
            <a:ext cx="18087840" cy="1523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07" descr=""/>
          <p:cNvPicPr/>
          <p:nvPr/>
        </p:nvPicPr>
        <p:blipFill>
          <a:blip r:embed="rId1"/>
          <a:stretch/>
        </p:blipFill>
        <p:spPr>
          <a:xfrm>
            <a:off x="0" y="0"/>
            <a:ext cx="32918400" cy="380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67080" y="1128240"/>
            <a:ext cx="27981360" cy="43880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1" lang="en-US" sz="10500" spc="-1" strike="noStrike">
                <a:solidFill>
                  <a:srgbClr val="006586"/>
                </a:solidFill>
                <a:latin typeface="Geneva"/>
              </a:rPr>
              <a:t>Special Thanks to our University Sponsors</a:t>
            </a:r>
            <a:br>
              <a:rPr sz="10500"/>
            </a:br>
            <a:endParaRPr b="0" lang="en-US" sz="105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5243040"/>
            <a:ext cx="31927680" cy="18165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marL="1411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3760920"/>
                <a:tab algn="l" pos="7521480"/>
              </a:tabLst>
            </a:pPr>
            <a:endParaRPr b="0" lang="en-US" sz="5000" spc="-1" strike="noStrike">
              <a:solidFill>
                <a:srgbClr val="006586"/>
              </a:solidFill>
              <a:latin typeface="Geneva"/>
            </a:endParaRPr>
          </a:p>
          <a:p>
            <a:pPr marL="1411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3760920"/>
                <a:tab algn="l" pos="7521480"/>
              </a:tabLst>
            </a:pPr>
            <a:r>
              <a:rPr b="0" lang="en-US" sz="9600" spc="-1" strike="noStrike">
                <a:solidFill>
                  <a:srgbClr val="006586"/>
                </a:solidFill>
                <a:latin typeface="Arial"/>
              </a:rPr>
              <a:t>College of Computer, Mathematical and Natural Sciences</a:t>
            </a:r>
            <a:br>
              <a:rPr sz="9600"/>
            </a:br>
            <a:endParaRPr b="0" lang="en-US" sz="9600" spc="-1" strike="noStrike">
              <a:solidFill>
                <a:srgbClr val="006586"/>
              </a:solidFill>
              <a:latin typeface="Geneva"/>
            </a:endParaRPr>
          </a:p>
          <a:p>
            <a:pPr marL="1411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3760920"/>
                <a:tab algn="l" pos="7521480"/>
              </a:tabLst>
            </a:pPr>
            <a:r>
              <a:rPr b="0" lang="en-US" sz="9600" spc="-1" strike="noStrike">
                <a:solidFill>
                  <a:srgbClr val="006586"/>
                </a:solidFill>
                <a:latin typeface="Arial"/>
              </a:rPr>
              <a:t>College of Information Studies – Maryland</a:t>
            </a:r>
            <a:r>
              <a:rPr b="0" lang="ja-JP" sz="9600" spc="-1" strike="noStrike">
                <a:solidFill>
                  <a:srgbClr val="006586"/>
                </a:solidFill>
                <a:latin typeface="Arial"/>
              </a:rPr>
              <a:t>’</a:t>
            </a:r>
            <a:r>
              <a:rPr b="0" lang="en-US" sz="9600" spc="-1" strike="noStrike">
                <a:solidFill>
                  <a:srgbClr val="006586"/>
                </a:solidFill>
                <a:latin typeface="Arial"/>
              </a:rPr>
              <a:t>s iSchool</a:t>
            </a:r>
            <a:br>
              <a:rPr sz="9600"/>
            </a:br>
            <a:endParaRPr b="0" lang="en-US" sz="9600" spc="-1" strike="noStrike">
              <a:solidFill>
                <a:srgbClr val="006586"/>
              </a:solidFill>
              <a:latin typeface="Geneva"/>
            </a:endParaRPr>
          </a:p>
          <a:p>
            <a:pPr marL="1411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3760920"/>
                <a:tab algn="l" pos="7521480"/>
              </a:tabLst>
            </a:pPr>
            <a:r>
              <a:rPr b="0" lang="en-US" sz="9600" spc="-1" strike="noStrike">
                <a:solidFill>
                  <a:srgbClr val="006586"/>
                </a:solidFill>
                <a:latin typeface="Arial"/>
              </a:rPr>
              <a:t>University of Maryland Institute for Advanced Computer Studies</a:t>
            </a:r>
            <a:br>
              <a:rPr sz="9600"/>
            </a:br>
            <a:br>
              <a:rPr sz="9600"/>
            </a:br>
            <a:endParaRPr b="0" lang="en-US" sz="9600" spc="-1" strike="noStrike">
              <a:solidFill>
                <a:srgbClr val="006586"/>
              </a:solidFill>
              <a:latin typeface="Geneva"/>
            </a:endParaRPr>
          </a:p>
          <a:p>
            <a:pPr marL="1411200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07" descr=""/>
          <p:cNvPicPr/>
          <p:nvPr/>
        </p:nvPicPr>
        <p:blipFill>
          <a:blip r:embed="rId1"/>
          <a:stretch/>
        </p:blipFill>
        <p:spPr>
          <a:xfrm>
            <a:off x="0" y="0"/>
            <a:ext cx="32918400" cy="380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0"/>
          <p:cNvSpPr/>
          <p:nvPr/>
        </p:nvSpPr>
        <p:spPr>
          <a:xfrm>
            <a:off x="16078320" y="5973840"/>
            <a:ext cx="556236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676880" y="747720"/>
            <a:ext cx="34671240" cy="3168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r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1" lang="en-US" sz="11500" spc="-1" strike="noStrike">
                <a:solidFill>
                  <a:srgbClr val="006586"/>
                </a:solidFill>
                <a:latin typeface="Geneva"/>
              </a:rPr>
              <a:t>Thanks to our Research Sponsors</a:t>
            </a:r>
            <a:endParaRPr b="0" lang="en-US" sz="115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294920" y="5548320"/>
            <a:ext cx="26441640" cy="194594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3760920"/>
                <a:tab algn="l" pos="7521480"/>
              </a:tabLst>
            </a:pPr>
            <a:r>
              <a:rPr b="0" lang="en-US" sz="6000" spc="-1" strike="noStrike">
                <a:solidFill>
                  <a:srgbClr val="7878de"/>
                </a:solidFill>
                <a:latin typeface="Geneva"/>
              </a:rPr>
              <a:t>Army Research Lab</a:t>
            </a:r>
            <a:endParaRPr b="0" lang="en-US" sz="6000" spc="-1" strike="noStrike">
              <a:solidFill>
                <a:srgbClr val="006586"/>
              </a:solidFill>
              <a:latin typeface="Genev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760920"/>
                <a:tab algn="l" pos="7521480"/>
              </a:tabLst>
            </a:pPr>
            <a:r>
              <a:rPr b="0" lang="en-US" sz="6000" spc="-1" strike="noStrike">
                <a:solidFill>
                  <a:srgbClr val="7878de"/>
                </a:solidFill>
                <a:latin typeface="Geneva"/>
              </a:rPr>
              <a:t>Bruhn-Morris Family Foundation</a:t>
            </a:r>
            <a:br>
              <a:rPr sz="6000"/>
            </a:br>
            <a:r>
              <a:rPr b="0" lang="en-US" sz="6000" spc="-1" strike="noStrike">
                <a:solidFill>
                  <a:srgbClr val="7878de"/>
                </a:solidFill>
                <a:latin typeface="Geneva"/>
              </a:rPr>
              <a:t>California Health Care Foundation</a:t>
            </a:r>
            <a:endParaRPr b="0" lang="en-US" sz="6000" spc="-1" strike="noStrike">
              <a:solidFill>
                <a:srgbClr val="006586"/>
              </a:solidFill>
              <a:latin typeface="Genev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760920"/>
                <a:tab algn="l" pos="7521480"/>
              </a:tabLst>
            </a:pPr>
            <a:r>
              <a:rPr b="0" lang="en-US" sz="6000" spc="-1" strike="noStrike">
                <a:solidFill>
                  <a:srgbClr val="7878de"/>
                </a:solidFill>
                <a:latin typeface="Geneva"/>
              </a:rPr>
              <a:t>Center for Integrated Transportation Systems </a:t>
            </a:r>
            <a:endParaRPr b="0" lang="en-US" sz="6000" spc="-1" strike="noStrike">
              <a:solidFill>
                <a:srgbClr val="006586"/>
              </a:solidFill>
              <a:latin typeface="Genev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760920"/>
                <a:tab algn="l" pos="7521480"/>
              </a:tabLst>
            </a:pPr>
            <a:r>
              <a:rPr b="0" lang="en-US" sz="6000" spc="-1" strike="noStrike">
                <a:solidFill>
                  <a:srgbClr val="7878de"/>
                </a:solidFill>
                <a:latin typeface="Geneva"/>
              </a:rPr>
              <a:t>Children’s National Medical Center</a:t>
            </a:r>
            <a:endParaRPr b="0" lang="en-US" sz="6000" spc="-1" strike="noStrike">
              <a:solidFill>
                <a:srgbClr val="006586"/>
              </a:solidFill>
              <a:latin typeface="Genev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760920"/>
                <a:tab algn="l" pos="7521480"/>
              </a:tabLst>
            </a:pPr>
            <a:r>
              <a:rPr b="0" lang="en-US" sz="6000" spc="-1" strike="noStrike">
                <a:solidFill>
                  <a:srgbClr val="7878de"/>
                </a:solidFill>
                <a:latin typeface="Geneva"/>
              </a:rPr>
              <a:t>Department of Defense </a:t>
            </a:r>
            <a:endParaRPr b="0" lang="en-US" sz="6000" spc="-1" strike="noStrike">
              <a:solidFill>
                <a:srgbClr val="006586"/>
              </a:solidFill>
              <a:latin typeface="Genev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760920"/>
                <a:tab algn="l" pos="7521480"/>
              </a:tabLst>
            </a:pPr>
            <a:r>
              <a:rPr b="0" lang="en-US" sz="6000" spc="-1" strike="noStrike">
                <a:solidFill>
                  <a:srgbClr val="7878de"/>
                </a:solidFill>
                <a:latin typeface="Geneva"/>
              </a:rPr>
              <a:t>Department of Education (DOE) </a:t>
            </a:r>
            <a:endParaRPr b="0" lang="en-US" sz="6000" spc="-1" strike="noStrike">
              <a:solidFill>
                <a:srgbClr val="006586"/>
              </a:solidFill>
              <a:latin typeface="Genev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760920"/>
                <a:tab algn="l" pos="7521480"/>
              </a:tabLst>
            </a:pPr>
            <a:r>
              <a:rPr b="0" lang="en-US" sz="6000" spc="-1" strike="noStrike">
                <a:solidFill>
                  <a:srgbClr val="7878de"/>
                </a:solidFill>
                <a:latin typeface="Geneva"/>
              </a:rPr>
              <a:t>Google </a:t>
            </a:r>
            <a:endParaRPr b="0" lang="en-US" sz="6000" spc="-1" strike="noStrike">
              <a:solidFill>
                <a:srgbClr val="006586"/>
              </a:solidFill>
              <a:latin typeface="Genev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760920"/>
                <a:tab algn="l" pos="7521480"/>
              </a:tabLst>
            </a:pPr>
            <a:r>
              <a:rPr b="0" lang="en-US" sz="6000" spc="-1" strike="noStrike">
                <a:solidFill>
                  <a:srgbClr val="7878de"/>
                </a:solidFill>
                <a:latin typeface="Geneva"/>
              </a:rPr>
              <a:t>Huawei</a:t>
            </a:r>
            <a:endParaRPr b="0" lang="en-US" sz="6000" spc="-1" strike="noStrike">
              <a:solidFill>
                <a:srgbClr val="006586"/>
              </a:solidFill>
              <a:latin typeface="Genev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760920"/>
                <a:tab algn="l" pos="7521480"/>
              </a:tabLst>
            </a:pPr>
            <a:r>
              <a:rPr b="0" lang="en-US" sz="6000" spc="-1" strike="noStrike">
                <a:solidFill>
                  <a:srgbClr val="7878de"/>
                </a:solidFill>
                <a:latin typeface="Geneva"/>
              </a:rPr>
              <a:t>National Science Foundation (NSF) </a:t>
            </a:r>
            <a:endParaRPr b="0" lang="en-US" sz="6000" spc="-1" strike="noStrike">
              <a:solidFill>
                <a:srgbClr val="006586"/>
              </a:solidFill>
              <a:latin typeface="Genev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760920"/>
                <a:tab algn="l" pos="7521480"/>
              </a:tabLst>
            </a:pPr>
            <a:r>
              <a:rPr b="0" lang="en-US" sz="6000" spc="-1" strike="noStrike">
                <a:solidFill>
                  <a:srgbClr val="7878de"/>
                </a:solidFill>
                <a:latin typeface="Geneva"/>
              </a:rPr>
              <a:t>Nickelodeon</a:t>
            </a:r>
            <a:br>
              <a:rPr sz="6000"/>
            </a:br>
            <a:r>
              <a:rPr b="0" lang="en-US" sz="6000" spc="-1" strike="noStrike">
                <a:solidFill>
                  <a:srgbClr val="7878de"/>
                </a:solidFill>
                <a:latin typeface="Geneva"/>
              </a:rPr>
              <a:t>Nokia Research</a:t>
            </a:r>
            <a:br>
              <a:rPr sz="6000"/>
            </a:br>
            <a:r>
              <a:rPr b="0" lang="en-US" sz="6000" spc="-1" strike="noStrike">
                <a:solidFill>
                  <a:srgbClr val="7878de"/>
                </a:solidFill>
                <a:latin typeface="Geneva"/>
              </a:rPr>
              <a:t>Office of the National Coordinator for </a:t>
            </a:r>
            <a:br>
              <a:rPr sz="6000"/>
            </a:br>
            <a:r>
              <a:rPr b="0" lang="en-US" sz="6000" spc="-1" strike="noStrike">
                <a:solidFill>
                  <a:srgbClr val="7878de"/>
                </a:solidFill>
                <a:latin typeface="Geneva"/>
              </a:rPr>
              <a:t>      Health Information Technology</a:t>
            </a:r>
            <a:endParaRPr b="0" lang="en-US" sz="60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19126080" y="5548320"/>
            <a:ext cx="164592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585e0"/>
                </a:solidFill>
                <a:latin typeface="Geneva"/>
              </a:rPr>
              <a:t>Oracl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585e0"/>
                </a:solidFill>
                <a:latin typeface="Geneva"/>
              </a:rPr>
              <a:t>3M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585e0"/>
                </a:solidFill>
                <a:latin typeface="Geneva"/>
              </a:rPr>
              <a:t>play-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585e0"/>
                </a:solidFill>
                <a:latin typeface="Geneva"/>
              </a:rPr>
              <a:t>Twit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585e0"/>
                </a:solidFill>
                <a:latin typeface="Geneva"/>
              </a:rPr>
              <a:t>Pulse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585e0"/>
                </a:solidFill>
                <a:latin typeface="Geneva"/>
              </a:rPr>
              <a:t>Robert W. Deutsch Found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585e0"/>
                </a:solidFill>
                <a:latin typeface="Geneva"/>
              </a:rPr>
              <a:t>Samsu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585e0"/>
                </a:solidFill>
                <a:latin typeface="Geneva"/>
              </a:rPr>
              <a:t>Sloan Found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585e0"/>
                </a:solidFill>
                <a:latin typeface="Geneva"/>
              </a:rPr>
              <a:t>SparkFu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20:11:19Z</dcterms:created>
  <dc:creator>Eric Schurr</dc:creator>
  <dc:description/>
  <dc:language>en-US</dc:language>
  <cp:lastModifiedBy>Jennifer Golbeck</cp:lastModifiedBy>
  <dcterms:modified xsi:type="dcterms:W3CDTF">2014-05-29T12:25:34Z</dcterms:modified>
  <cp:revision>345</cp:revision>
  <dc:subject/>
  <dc:title>No Slide Title</dc:title>
</cp:coreProperties>
</file>