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72F-D5F6-41BD-BA98-B31F8400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099-53D2-4503-88D0-548CA3AB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256-5266-4086-9DEE-0C0CF39A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538-A20E-44CF-AE52-A3719D3C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C48-182A-4762-A66E-D3ED0D1E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ADD-3A5D-4553-8A5C-E446928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0B8-2C4C-4DBB-B7B3-685C24C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4D3-10B9-4E57-BA7D-7A471E02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ECE-F0CE-4CE0-987F-2C90AD6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233-FAB8-46CA-8C12-E081DDF9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7B4-3CBD-4E1D-A977-E1F7ABF7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0EA-2D7A-4061-B42C-0FAE286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49F6-2175-4EC7-B66F-20E7CAF441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D67A-3AFB-458A-B833-28E4120CB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Network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22860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 A. Becker, S.G. Eick, A.R. Wi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96252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Kules and Nada Gol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MSC 838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Mani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focusing parameters while continuously provide visual feedback and update display (fast computer respon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: highlight, color,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map parameter control: line thickness, length, color legend, time slider,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ada3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235584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nada2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2355840" cy="1911600"/>
          </a:xfrm>
          <a:prstGeom prst="rect">
            <a:avLst/>
          </a:prstGeom>
          <a:ln w="0">
            <a:noFill/>
          </a:ln>
        </p:spPr>
      </p:pic>
      <p:pic>
        <p:nvPicPr>
          <p:cNvPr id="67" name="nada4" descr=""/>
          <p:cNvPicPr/>
          <p:nvPr/>
        </p:nvPicPr>
        <p:blipFill>
          <a:blip r:embed="rId3"/>
          <a:stretch/>
        </p:blipFill>
        <p:spPr>
          <a:xfrm>
            <a:off x="5943600" y="4267080"/>
            <a:ext cx="235584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976-EBC1-4DDE-949C-FA70DFBD79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F3F0C-9392-4779-B5AB-28201B86F6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Direct Manipulation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display parameter control: drag-and-drop action, row/column reord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map parameter control: symbol size,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tion: analysis of time-vary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ing and Bird’s Eye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ing: filtering, setting background variables and displaying foreground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0E3-F7A5-49FF-81A2-F6DF2AEAB0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0CADB-801D-4F5C-A12C-9202EAA2E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nada6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nada5" descr=""/>
          <p:cNvPicPr/>
          <p:nvPr/>
        </p:nvPicPr>
        <p:blipFill>
          <a:blip r:embed="rId2"/>
          <a:stretch/>
        </p:blipFill>
        <p:spPr>
          <a:xfrm>
            <a:off x="4800600" y="1419120"/>
            <a:ext cx="3962520" cy="321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5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876920"/>
            <a:ext cx="374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artment Email Communication Patterns. Each node corresponds to a user, and links encode the number of electronic mail messages sent between the us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61080" y="4862520"/>
            <a:ext cx="4282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ldwide Internet Traffic.  Traffic on the Internet, square root of packets transmitted from  country to country across the NSFNET backbone during the first week of February 199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D08-C801-4A4C-97FB-4362EABC2E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3B50-387F-440C-8AFA-C77A9956EE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goal is to understand the data and not the networks themselves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5D5-B7E2-40D2-8C62-8169EE0F96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CB96A-9ABB-4015-ACCD-6A047EDAE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techniques in on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ng cl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use of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overview of related work: paper presentation is clear and well positioned in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448-AA98-474E-9F42-869AAD7B25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9F4C7-3CC6-44F2-A493-53AE388E42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is tailored for dat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position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Jers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work as well for e-mail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ice vs. pow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 tedious to adjust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use it to fin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B0F-C28F-413F-8E57-86BF52A80B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6438B-4358-4C71-9613-FA2FAFE3FB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better ways of achieving our obj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we already know what we just lear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edictive or insight val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ould use the tool? Network engine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identification of interesting parameters, but could be limited beyond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dox of graph visua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nodes are seen as more related, but long links are visually 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explore structure - Fairchi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explore statistics - Be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FD6-228E-4C2F-B8D1-614FCCDE01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906F8-1681-4728-AB8E-8BF2CB404B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753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of the Art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Visualizatio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mana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management and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statistics, traff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/program performance (e.g. TCP/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tools is available from CAIDA (SDSC) http://www.caida.org/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4C4-5DDA-4372-B74B-B2B85B41F4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CABAA-D469-4D07-9DF0-644DF4ABD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Ro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1BC-51BA-4C66-81A4-A35E62D74A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14325-D660-48F0-93F3-CED7732855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 in visualizing larg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work: knowledge bases (Fairchil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for Se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Net project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31C-75BF-412A-B171-68CC56E894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14796-7A52-4C0B-A500-812344159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Net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network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, telephone network, wireless net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Wide Web, Email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ation network/ Road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 between objects in a data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/module dependency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33D-4363-4CA5-81B7-FC2AB6746B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A807F-8B1E-4CCD-B336-6ACDCB324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in Visualizing Large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link/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ion/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sp-ss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42900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wired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96252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82120" y="587844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yout of Internet routes and IP addresses from data collect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tember 1998, appeared in Wired Magazine December 1998 iss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9E1-2A2C-44DC-96AE-A7B1AE5390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691E1-533E-46D6-BF41-8099E98844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Work - Fairchild (198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knowledge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among objects are represented as directed graphs in 3D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requir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of individu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position of an element within a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lationships between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s investigated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ing, coping with large bases (Fisheye views), navigation and browsing, dynamic execution of knowledge 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D01-FB97-4961-94B7-A0C3EA7808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91BBA-5787-490D-AC9C-CAFFC8699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41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Se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Net is a monitoring and visualization tool to display and analyze large volumes of network data and statistics (AT&amp;T long distance network traffi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come the display clutter problem associated with large networ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raditional methods such as aggregation, averaging, and threshol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5D2-98B7-4CCD-B5A9-BE4F46D2D4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4825A-BFCD-44D7-A372-47E002CB7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Net Project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Net is designed to address the display clutter problem. It consists of a collection of graphical tools that include techniqu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AF1-6524-4BFE-ABA4-004B4967FC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639CB-11ED-457A-8F64-7C6396802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Network Displa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complex resulting in display clutter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maps (glyph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ntains information/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s with details information about particular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/from nodes are assigned row/columns and matrix cells are associated with lin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s visual prominence and overplott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up geograph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 of rows/columns may b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C35-D364-4098-9682-893681A0BD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BBCAD-6186-41E4-B8D3-DE0B03F0C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network display characteristics and provides dynamic parameter adjustment. Parameter values and classe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, levels (probing, brush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y/ topology (z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(averaging), aggregation, size and co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roblem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range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arameters lead to confusing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s are sensitive to particular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izing Network D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4E9-F065-42BD-A61E-06D13AA7BA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621F5-81BA-4A35-99A0-13162AA9F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8T17:31:16Z</dcterms:created>
  <dc:creator>Nada Golmie</dc:creator>
  <dc:description/>
  <dc:language>en-US</dc:language>
  <cp:lastModifiedBy>Nada Golmie</cp:lastModifiedBy>
  <cp:lastPrinted>1999-09-21T15:31:35Z</cp:lastPrinted>
  <dcterms:modified xsi:type="dcterms:W3CDTF">1999-09-22T21:10:20Z</dcterms:modified>
  <cp:revision>24</cp:revision>
  <dc:subject/>
  <dc:title>Protocol Verification via Projections</dc:title>
</cp:coreProperties>
</file>