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781-14B3-4F6B-974E-DE37F200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4C1-546F-46AB-90ED-49355753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3AD-15F8-4543-A570-1C3FDC45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477-273E-4385-B96B-C14020AF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52C-0672-463B-9080-79D4C7F4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80A-28C5-4303-90B3-EB20B65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D64-66D3-4941-9522-6EA1BE77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904-3790-43F0-8962-941A1284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AFE-6872-4630-8F22-9FEF8EAD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197-FF5D-4D25-8B9A-C9CCB11E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FC5-8C0C-4718-8ED5-D95E6D8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A26-8838-4E1A-AEDA-DD607C62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2420-29AC-45A0-9953-1B928E17C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9144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s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 Information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. Bert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ary Brow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 Ca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SC 8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9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tter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ble to ordered and reorderabl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ly when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 case: n &gt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graphic constr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orderable matrix : permutable in x and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-file : permutable i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of curves :  permutable i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useful graphic constr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catt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25592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87640" y="304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o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ase: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red, Ordered, and Topographical repres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converted to dat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Synop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ring can lead to discovery of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ating from suggested construction leads to loss of information and requires jus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ing between a map and a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Usable Taxonomy for static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ptic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rpt from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dated for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scheme for 2D graphical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applications e.g. Mackin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ing more than 3 characteristics is 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wrong tool can lead to information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Paper:                   DeFanti - 1987 NSF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ientific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representations of scientific dat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the term “visualization” in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ed funding the development and use of new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on and extension of Bertin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to overcome “impassable barri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as it g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to 3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ed into Dynamic Visualiz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 Film Finder, Spot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istics is not the sum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s with two characteristic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objects that are described by n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way to visually represent tha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1, 2, 3 are special cases (eas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&gt; 3 - “impassable barri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w data is transformed i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axis - objec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mo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-axis - characteristic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rating,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 -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Types (x-axi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ograph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 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 Types (y-axi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 Movie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 Movie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 Movi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able --&gt; Graphic Constr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choice depends on object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“Synoptic” to cho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25592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7640" y="304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o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y case: 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rabl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orderable matrix (bar grap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-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of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ographical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5:04:31Z</dcterms:created>
  <dc:creator>HCIL</dc:creator>
  <dc:description/>
  <dc:language>en-US</dc:language>
  <cp:lastModifiedBy>Jeff Carver</cp:lastModifiedBy>
  <cp:lastPrinted>1999-09-08T21:34:37Z</cp:lastPrinted>
  <dcterms:modified xsi:type="dcterms:W3CDTF">1999-09-08T22:57:18Z</dcterms:modified>
  <cp:revision>20</cp:revision>
  <dc:subject/>
  <dc:title>No Slide Title</dc:title>
</cp:coreProperties>
</file>