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08B-ADDA-4B1B-B19C-5FDFBA30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AE7-829B-4366-8F01-D9E0E85A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6ED-00B4-426A-A017-E50D5F98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0E0-C925-4F32-A02C-3002DDA0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5E3-1D79-4422-9E6C-983F068B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05D-FCA4-44F2-912C-AF8EB79A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2A4-604B-4E9B-8F1D-C42528EF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024-35F0-4648-8FFD-D4CD0005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79E-BDFC-4FB7-B34F-89AFFCF1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365-2F5C-49DC-855A-D198BD6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800-C740-4088-9AF9-E770C6D2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161-F0C6-4D01-A9A0-F3812D26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B527-7AC1-4BAB-815C-8BD3E1315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ve Dynamic Manipulation of Visual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ah, Roth, Mattis, Kolojejch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Feedback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Temporal Conti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se animation to allow the user to see what has happened without having to think too hard abou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relationship between selected set and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 scale of the differences on screen, fo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objects easily to be returned to their original 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Us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tell selected set apart by color or 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view occluded objects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ing them (Fig 9) - los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l other objects invisible - los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l other objects of height 0 (Fig 10) - los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ll other objects very thin (Fig 11) - still partially hi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other objects trans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vorite Sen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physics” provided by SDM is not limited to real world manipulations; users can also elevate, compress, and perform other operations upon objects that wouldn’t be possible with actual physical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use it?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ifferent data sets, can use different 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so that data sets with much greater or lesser values do not do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nteractively make and visualize new classe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lot better than having to update the entire databas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Us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problem of comparing things at different distances, sets of data can be brought to the front and compared in two dimensions (Fig 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a more precise, quantitative comparison betwee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es relationships between focus objects and rest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 is kept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ortions and occlusions of 3D are over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it is pretty c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nly view limited part of the data set: the rest may be “in the distance” (possibly add ro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till get occlusion problem if focus set is d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ddress multimedia, UI, how to decide on represent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Eff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e research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M’s “physicalization” of the abstract space is combined with automated visualization tools, multimedia and UI stuff to create an entir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izing Abstract Mathemat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eedie, Spence, Dawkes,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models are important in many dom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often quite complex, not having an obvious physical visual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of an obvious one would be a flow model might into a network or a p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visualize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3D techniques for interactive visualizations of multidimensional data.  We w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ve: A high degree of user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: Interactions all occur in real time, with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ipulation: Users can directly move and transform objects in the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system is called S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Visualization Artifacts (IV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visualizing the raw data, we visualize precalculated data as 2 kind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scription of the physical nature of an artifact, call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scription of the results we can expect from an artifact, called performance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evelop different IVAs to handle any given problem - we describ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ght Bu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parameters: filament width, filament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criteria: cost, brightness, life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re ar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s with Light Bul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create a light bulb given the performance data: but there is no way to get the parameters given the performance data (except trial and error - ugh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in manufacturing mean that any set of parameters can only be guaranteed to be in a range of values - but not exac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 with Light Bul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, you also have to maximize some other objective, like manufacturing y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A One: The Influence Explor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ecalculate the data and display histograms based on it [Fig 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lb design is represented once for each parameter and criterion: the design goes in the appropriat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pper and lower limits on the sliders can represent the desired limits (Red passes all performance requirements, and black to white indicates it has failed s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fluence Explor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also want to chart performance and parameters, we can do so as in Fig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s correct for 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means it fails some performance requirement (thus will reduce yield, but can still be m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, gray or white means it has failed one or more performance and/or parameter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ce Explor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lor coding shows how altering the criteria will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playing around until yield (which is computed and shown) is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A 2: The Prosection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 scatterplot for each possible pair of parameters [Fig 13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2D PROjection of a SECTION of n-dimensional parameter sp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ection Matrix, c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are chosen at random to be projected on the scatterplot from the performance requirements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djust the sliders to determine the acceptable performanc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bounding box in the section to determine ranges of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ably effectively maps multivariable data into 2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ransform a complicated problem into a much simpler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e Explorer is partially analogous to parallel co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intuitions from that repres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ata sets have too much information to be on screen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clutter and occlusion (hidden data) in dense se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give a sense of scale: some objects may be completely dwarfed by others (green objects in Fig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se problems can reasonably be automated (hill climbing algorithms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ction matrix makes you reduce problems to pairs of crit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intuitive projection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not effectively handle large numbers of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3n + 2) /2 prosection matrices is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rrier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ble to classify data into sets and save those class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ble to compare quantities which are not near each other (difficult to compare heights, for example, if they are at different distances from the user [Fig 3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s believe SDM deals with thes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is relief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 centers are cyl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s between them are dark lines on the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lters where supplies are needed are rectangular b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s of cylinders and bars indicate supplies available or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nged in a network, like Becker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D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centered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lected set is made up of objects instead of a spati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lick on desired objects or use our old friend the constraint sl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create them, you can save and nam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D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uses a “physical” handle to manipulate the data (Fig.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a handle to an object, and push or pull on it: causes the object, or a set of objects, to grow, shrink or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ntrol one or more parameters with single han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pers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M maintains a relation between the set being manipulated and the original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wide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can move or scale one object in a focus set, you can move or scale 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M must clearly identify the selected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know what objects will change if we take an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M must maintain scene con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change something, a “shell” of the original value is left in its original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5T18:46:01Z</dcterms:created>
  <dc:creator>Jeremy Manson</dc:creator>
  <dc:description/>
  <dc:language>en-US</dc:language>
  <cp:lastModifiedBy>Teaching Technologies, aITs</cp:lastModifiedBy>
  <dcterms:modified xsi:type="dcterms:W3CDTF">1999-09-30T16:37:41Z</dcterms:modified>
  <cp:revision>15</cp:revision>
  <dc:subject/>
  <dc:title>Selective Dynamic Manipulation of Visualizations</dc:title>
</cp:coreProperties>
</file>